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0BC-36C5-4AD9-A3D5-697C4207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5C4-BA47-4046-80D2-BD36A3DA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2D4-05D3-4EA2-9B18-59E5D438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1B8-D14B-4F9A-AD3D-23B6472B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D22-CC8F-485C-988A-40E67306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5A4-6A5D-43D4-BAC8-E3622A7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EE2-ACAC-477F-B7A6-405DC53C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2DF-0BDB-4D5D-87A7-7EE0AE6C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CA3-9609-495C-B85C-67476843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F03-7CFC-4709-92A1-E51D18C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A9A-7212-47F6-A9CB-69447F1C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D37-9108-470C-8C7C-CB0564A7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E6FC-4C69-48AE-B80E-FBD89DF763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2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7440" y="2422440"/>
            <a:ext cx="3384720" cy="2519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197080" y="1992240"/>
            <a:ext cx="4606920" cy="28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5849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楷体"/>
              </a:rPr>
              <a:t>钟表店里的争吵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楷体"/>
              <a:ea typeface="楷体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1929600" y="4714920"/>
            <a:ext cx="890640" cy="757080"/>
            <a:chOff x="1929600" y="4714920"/>
            <a:chExt cx="890640" cy="757080"/>
          </a:xfrm>
        </p:grpSpPr>
        <p:sp>
          <p:nvSpPr>
            <p:cNvPr id="44" name="AutoShape 6"/>
            <p:cNvSpPr/>
            <p:nvPr/>
          </p:nvSpPr>
          <p:spPr>
            <a:xfrm rot="720000">
              <a:off x="1983960" y="4789440"/>
              <a:ext cx="781200" cy="60804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7">
              <a:hlinkClick r:id="rId2" action="ppaction://hlinksldjump"/>
            </p:cNvPr>
            <p:cNvSpPr/>
            <p:nvPr/>
          </p:nvSpPr>
          <p:spPr>
            <a:xfrm rot="720000">
              <a:off x="2004480" y="4808520"/>
              <a:ext cx="737280" cy="5576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预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3429000" y="4786920"/>
            <a:ext cx="813240" cy="692640"/>
            <a:chOff x="3429000" y="4786920"/>
            <a:chExt cx="813240" cy="692640"/>
          </a:xfrm>
        </p:grpSpPr>
        <p:sp>
          <p:nvSpPr>
            <p:cNvPr id="47" name="AutoShape 9"/>
            <p:cNvSpPr/>
            <p:nvPr/>
          </p:nvSpPr>
          <p:spPr>
            <a:xfrm rot="120000">
              <a:off x="3440160" y="4800240"/>
              <a:ext cx="790560" cy="66528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0">
              <a:hlinkClick r:id="rId3" action="ppaction://hlinksldjump"/>
            </p:cNvPr>
            <p:cNvSpPr/>
            <p:nvPr/>
          </p:nvSpPr>
          <p:spPr>
            <a:xfrm rot="120000">
              <a:off x="3459600" y="4821840"/>
              <a:ext cx="746280" cy="6098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Arial"/>
                  <a:ea typeface="华文新魏"/>
                </a:rPr>
                <a:t>详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6637320" y="4624560"/>
            <a:ext cx="870120" cy="668160"/>
            <a:chOff x="6637320" y="4624560"/>
            <a:chExt cx="870120" cy="668160"/>
          </a:xfrm>
        </p:grpSpPr>
        <p:sp>
          <p:nvSpPr>
            <p:cNvPr id="50" name="AutoShape 12"/>
            <p:cNvSpPr/>
            <p:nvPr/>
          </p:nvSpPr>
          <p:spPr>
            <a:xfrm rot="21060000">
              <a:off x="6675480" y="4683240"/>
              <a:ext cx="793800" cy="550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3">
              <a:hlinkClick r:id="rId4" action="ppaction://hlinksldjump"/>
            </p:cNvPr>
            <p:cNvSpPr/>
            <p:nvPr/>
          </p:nvSpPr>
          <p:spPr>
            <a:xfrm rot="21060000">
              <a:off x="6693840" y="4701600"/>
              <a:ext cx="749160" cy="50508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4922280" y="4665960"/>
            <a:ext cx="953640" cy="840600"/>
            <a:chOff x="4922280" y="4665960"/>
            <a:chExt cx="953640" cy="840600"/>
          </a:xfrm>
        </p:grpSpPr>
        <p:sp>
          <p:nvSpPr>
            <p:cNvPr id="53" name="AutoShape 15">
              <a:hlinkClick r:id="rId5" action="ppaction://hlinksldjump"/>
            </p:cNvPr>
            <p:cNvSpPr/>
            <p:nvPr/>
          </p:nvSpPr>
          <p:spPr>
            <a:xfrm rot="20220000">
              <a:off x="5003640" y="4797360"/>
              <a:ext cx="790560" cy="577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6">
              <a:hlinkClick r:id="rId6" action="ppaction://hlinksldjump"/>
            </p:cNvPr>
            <p:cNvSpPr/>
            <p:nvPr/>
          </p:nvSpPr>
          <p:spPr>
            <a:xfrm rot="20220000">
              <a:off x="5021280" y="4817520"/>
              <a:ext cx="746280" cy="52992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790E-B98A-4C0B-A6A8-696B2E7C490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714920" y="2344680"/>
            <a:ext cx="4689360" cy="26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作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业务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Noname2"/>
          <p:cNvPicPr/>
          <p:nvPr/>
        </p:nvPicPr>
        <p:blipFill>
          <a:blip r:embed="rId2"/>
          <a:stretch/>
        </p:blipFill>
        <p:spPr>
          <a:xfrm>
            <a:off x="810252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1044720" y="1628640"/>
            <a:ext cx="23810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Next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9022-8D22-41B2-A832-7696A73F722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714920" y="2344680"/>
            <a:ext cx="4689360" cy="286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木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画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Noname2"/>
          <p:cNvPicPr/>
          <p:nvPr/>
        </p:nvPicPr>
        <p:blipFill>
          <a:blip r:embed="rId2"/>
          <a:stretch/>
        </p:blipFill>
        <p:spPr>
          <a:xfrm>
            <a:off x="810252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1403280" y="1628640"/>
            <a:ext cx="2400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evt="onNext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F460-0D1D-4D3B-A3F0-0235C942CBE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714920" y="2344680"/>
            <a:ext cx="4689360" cy="26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衡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平衡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Noname2"/>
          <p:cNvPicPr/>
          <p:nvPr/>
        </p:nvPicPr>
        <p:blipFill>
          <a:blip r:embed="rId2"/>
          <a:stretch/>
        </p:blipFill>
        <p:spPr>
          <a:xfrm>
            <a:off x="810252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1332000" y="1701720"/>
            <a:ext cx="242892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evt="onNext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1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预习</a:t>
            </a: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55640" y="2419200"/>
            <a:ext cx="8569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争吵   钟摆   附和  竟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嘟囔   衡 量  慢吞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细声细气   粗声粗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6713-5FC1-4A32-B9B5-82B15F20B20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12760" y="1174680"/>
            <a:ext cx="82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通过预习，你能回答下面的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7669080" y="5445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837"/>
                </a:moveTo>
                <a:lnTo>
                  <a:pt x="16611" y="6448"/>
                </a:ln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lnTo>
                  <a:pt x="20998" y="10800"/>
                </a:lnTo>
                <a:lnTo>
                  <a:pt x="19344" y="10800"/>
                </a:lnTo>
                <a:lnTo>
                  <a:pt x="19344" y="17989"/>
                </a:lnTo>
                <a:lnTo>
                  <a:pt x="8726" y="17989"/>
                </a:lnTo>
                <a:lnTo>
                  <a:pt x="8726" y="10800"/>
                </a:lnTo>
                <a:lnTo>
                  <a:pt x="7072" y="10800"/>
                </a:lnTo>
                <a:close/>
              </a:path>
              <a:path fill="darkenLess" w="28070" h="21600">
                <a:moveTo>
                  <a:pt x="16611" y="6448"/>
                </a:move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close/>
              </a:path>
              <a:path fill="darkenLess" w="28070" h="21600">
                <a:moveTo>
                  <a:pt x="13113" y="14299"/>
                </a:moveTo>
                <a:lnTo>
                  <a:pt x="14958" y="14299"/>
                </a:lnTo>
                <a:lnTo>
                  <a:pt x="14958" y="17989"/>
                </a:lnTo>
                <a:lnTo>
                  <a:pt x="19344" y="17989"/>
                </a:lnTo>
                <a:lnTo>
                  <a:pt x="19344" y="10800"/>
                </a:lnTo>
                <a:lnTo>
                  <a:pt x="8726" y="10800"/>
                </a:lnTo>
                <a:lnTo>
                  <a:pt x="8726" y="17989"/>
                </a:lnTo>
                <a:lnTo>
                  <a:pt x="13113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55640" y="2494080"/>
            <a:ext cx="9572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楷体"/>
                <a:ea typeface="楷体"/>
              </a:rPr>
              <a:t>谁在争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楷体"/>
                <a:ea typeface="楷体"/>
              </a:rPr>
              <a:t>他们为了什么事而争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36800" y="4336920"/>
            <a:ext cx="30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课文解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52360" y="198900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《钟表店里的争吵》是一篇科普童话故事，内容通俗易懂，语言生动幽默。主要讲了钟表店里来了一位怪物，也就是最新式手表，它的到来引起了钟表店里挂钟、手表、闹钟的争吵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410-B5F8-4F46-9759-76F69B7043B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2"/>
          <p:cNvSpPr/>
          <p:nvPr/>
        </p:nvSpPr>
        <p:spPr>
          <a:xfrm>
            <a:off x="3276720" y="981000"/>
            <a:ext cx="22129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结构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1280" y="1844640"/>
            <a:ext cx="9072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2c11"/>
                </a:solidFill>
                <a:latin typeface="Arial"/>
              </a:rPr>
              <a:t>第一部分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钟表店里的钟表们听惯了“滴答”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2c11"/>
                </a:solidFill>
                <a:latin typeface="Arial"/>
              </a:rPr>
              <a:t>第二部分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2—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）店里新来一个不发出“滴答”声的电子手表，钟表们都攻击它，认为是怪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2c11"/>
                </a:solidFill>
                <a:latin typeface="Arial"/>
              </a:rPr>
              <a:t>第三部分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11--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）顾客买走了这只最新式的电子表，钟表们仍然看不起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2c11"/>
                </a:solidFill>
                <a:latin typeface="Arial"/>
              </a:rPr>
              <a:t>第三部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点明中心：要懂得去发现和欣赏新事物的优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主题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55640" y="2781360"/>
            <a:ext cx="763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《钟表店里的争吵》这个童话故事告诉我们要懂得去发现和欣赏新事物的优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C7D4-4685-4BF3-B5E1-E4DC8711190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写法点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60360" y="1851120"/>
            <a:ext cx="6588000" cy="3421080"/>
          </a:xfrm>
          <a:prstGeom prst="rect">
            <a:avLst/>
          </a:prstGeom>
          <a:solidFill>
            <a:srgbClr val="cc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钟表们摆头晃脑，谁都不相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挂钟吊着长长的钟摆，</a:t>
            </a:r>
            <a:r>
              <a:rPr b="1" lang="zh-CN" sz="2400" spc="-1" strike="noStrike">
                <a:solidFill>
                  <a:srgbClr val="fb2c11"/>
                </a:solidFill>
                <a:latin typeface="楷体"/>
                <a:ea typeface="楷体"/>
              </a:rPr>
              <a:t>慢吞吞地说道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“哪有不发出‘滴答’声的表？它不是表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手表</a:t>
            </a:r>
            <a:r>
              <a:rPr b="1" lang="zh-CN" sz="2400" spc="-1" strike="noStrike">
                <a:solidFill>
                  <a:srgbClr val="fb2c11"/>
                </a:solidFill>
                <a:latin typeface="楷体"/>
                <a:ea typeface="楷体"/>
              </a:rPr>
              <a:t>细声细气地附和道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“哪一只表没有指针？它不是表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闹钟发出“丁零、丁零”的大叫声，</a:t>
            </a:r>
            <a:r>
              <a:rPr b="1" lang="zh-CN" sz="2400" spc="-1" strike="noStrike">
                <a:solidFill>
                  <a:srgbClr val="fb2c11"/>
                </a:solidFill>
                <a:latin typeface="楷体"/>
                <a:ea typeface="楷体"/>
              </a:rPr>
              <a:t>粗声粗气地喊道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“哪有钟表不用上发条的？哪有钟表一年只差几秒钟的？它吹牛，它撒谎，它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表！把它轰出去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308720" y="1268280"/>
            <a:ext cx="1295640" cy="360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69" y="685"/>
                </a:moveTo>
                <a:lnTo>
                  <a:pt x="22869" y="685"/>
                </a:lnTo>
                <a:lnTo>
                  <a:pt x="22869" y="18656"/>
                </a:lnTo>
                <a:lnTo>
                  <a:pt x="-6548" y="23523"/>
                </a:lnTo>
              </a:path>
              <a:path w="21600" h="21600">
                <a:moveTo>
                  <a:pt x="22869" y="0"/>
                </a:moveTo>
                <a:lnTo>
                  <a:pt x="22869" y="216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些提示语让我们马上能想象出当时挂钟、手表、闹钟说话时的神态，太棒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4C71-93BD-4C52-AAA0-52BBAB8DD79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3560" y="1201680"/>
            <a:ext cx="5829480" cy="1886400"/>
          </a:xfrm>
          <a:prstGeom prst="rect">
            <a:avLst/>
          </a:prstGeom>
          <a:solidFill>
            <a:srgbClr val="cc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“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它不是表！”</a:t>
            </a:r>
            <a:r>
              <a:rPr b="1" lang="zh-CN" sz="2800" spc="-1" strike="noStrike">
                <a:solidFill>
                  <a:srgbClr val="fb2c11"/>
                </a:solidFill>
                <a:latin typeface="楷体"/>
                <a:ea typeface="楷体"/>
              </a:rPr>
              <a:t>挂钟还在嘟囔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“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它不是表！”</a:t>
            </a:r>
            <a:r>
              <a:rPr b="1" lang="zh-CN" sz="2800" spc="-1" strike="noStrike">
                <a:solidFill>
                  <a:srgbClr val="fb2c11"/>
                </a:solidFill>
                <a:latin typeface="楷体"/>
                <a:ea typeface="楷体"/>
              </a:rPr>
              <a:t>手表还在生气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“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它不是表！”</a:t>
            </a:r>
            <a:r>
              <a:rPr b="1" lang="zh-CN" sz="2800" spc="-1" strike="noStrike">
                <a:solidFill>
                  <a:srgbClr val="fb2c11"/>
                </a:solidFill>
                <a:latin typeface="楷体"/>
                <a:ea typeface="楷体"/>
              </a:rPr>
              <a:t>闹钟还在叫喊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55640" y="3427560"/>
            <a:ext cx="5832360" cy="1757880"/>
          </a:xfrm>
          <a:prstGeom prst="rect">
            <a:avLst/>
          </a:prstGeom>
          <a:solidFill>
            <a:srgbClr val="99cc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挂钟还在嘟囔：“它不是表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手表还在生气：“它不是表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闹钟还在叫喊：“它不是表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6661080" y="1054080"/>
            <a:ext cx="1150920" cy="30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29" y="797"/>
                </a:moveTo>
                <a:lnTo>
                  <a:pt x="31305" y="797"/>
                </a:lnTo>
                <a:lnTo>
                  <a:pt x="31305" y="20528"/>
                </a:lnTo>
                <a:lnTo>
                  <a:pt x="-8657" y="25879"/>
                </a:lnTo>
              </a:path>
              <a:path w="21600" h="21600">
                <a:moveTo>
                  <a:pt x="23029" y="0"/>
                </a:moveTo>
                <a:lnTo>
                  <a:pt x="23029" y="216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，这两种表达有什么不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55640" y="5445000"/>
            <a:ext cx="75596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2c11"/>
                </a:solidFill>
                <a:latin typeface="楷体"/>
                <a:ea typeface="楷体"/>
              </a:rPr>
              <a:t>提示语位置不同，表达的侧重点也不同，提示语在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2c11"/>
                </a:solidFill>
                <a:latin typeface="楷体"/>
                <a:ea typeface="楷体"/>
              </a:rPr>
              <a:t>一般强调提示语，提示语在后一般强调所说的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14440" y="99972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8989"/>
                </a:solidFill>
                <a:latin typeface="方正卡通简体"/>
                <a:ea typeface="方正卡通简体"/>
              </a:rPr>
              <a:t>资料宝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924360" y="3495600"/>
            <a:ext cx="511344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781440" y="2062080"/>
            <a:ext cx="4959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叶永烈，男，汉族人，笔名萧勇、久远、叶杨、叶艇，浙江温州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毕业于北京大学化学系，曾任中国科学协会委员、中国科普创作协会常务理事、世界科幻小说协会理事，香港海外文联名誉主席。现职是上海作家协会一级作家、教授、科普文艺作家、报告文学作家。以儿童文学、科幻、科普文学及纪实文学为主要创作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81080" y="2781360"/>
            <a:ext cx="3227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89080" y="299736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钟表店里接下来会上演什么故事呢？拿起手中的笔，充分发挥想象力，你也来当一回童话作家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拓展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心灵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52360" y="1989000"/>
            <a:ext cx="8640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楷体"/>
                <a:ea typeface="楷体"/>
              </a:rPr>
              <a:t>其实，各种钟表都有自己的优点：有的美观好看，有的经久耐用，有的使用方便。顾客们都根据自己的爱好和需要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"/>
                <a:ea typeface="楷体"/>
              </a:rPr>
              <a:t>买。课文中的那些钟表们却不懂这些，它们看不起使用方便、报时准确的新式手表——电子手表，它们用旧框框去衡量新事物。同学们，我们在日常生活中要懂得去发现和欣赏新事物的优点，有满足人们各种需要的新用途、新事物的出现，才会改变人们的生活方式，促进社会的发展，推动社会的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812000" y="5661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837"/>
                </a:moveTo>
                <a:lnTo>
                  <a:pt x="16611" y="6448"/>
                </a:ln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lnTo>
                  <a:pt x="20998" y="10800"/>
                </a:lnTo>
                <a:lnTo>
                  <a:pt x="19344" y="10800"/>
                </a:lnTo>
                <a:lnTo>
                  <a:pt x="19344" y="17989"/>
                </a:lnTo>
                <a:lnTo>
                  <a:pt x="8726" y="17989"/>
                </a:lnTo>
                <a:lnTo>
                  <a:pt x="8726" y="10800"/>
                </a:lnTo>
                <a:lnTo>
                  <a:pt x="7072" y="10800"/>
                </a:lnTo>
                <a:close/>
              </a:path>
              <a:path fill="darkenLess" w="28070" h="21600">
                <a:moveTo>
                  <a:pt x="16611" y="6448"/>
                </a:move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close/>
              </a:path>
              <a:path fill="darkenLess" w="28070" h="21600">
                <a:moveTo>
                  <a:pt x="13113" y="14299"/>
                </a:moveTo>
                <a:lnTo>
                  <a:pt x="14958" y="14299"/>
                </a:lnTo>
                <a:lnTo>
                  <a:pt x="14958" y="17989"/>
                </a:lnTo>
                <a:lnTo>
                  <a:pt x="19344" y="17989"/>
                </a:lnTo>
                <a:lnTo>
                  <a:pt x="19344" y="10800"/>
                </a:lnTo>
                <a:lnTo>
                  <a:pt x="8726" y="10800"/>
                </a:lnTo>
                <a:lnTo>
                  <a:pt x="8726" y="17989"/>
                </a:lnTo>
                <a:lnTo>
                  <a:pt x="13113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8871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Calibri"/>
                <a:ea typeface="楷体"/>
              </a:rPr>
              <a:t>是啊！那些用旧框框衡量新事物的人们，怎么会懂得新事物的优点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B337-884A-4000-8B9A-D7059007E3A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内容占位符 2"/>
          <p:cNvSpPr/>
          <p:nvPr/>
        </p:nvSpPr>
        <p:spPr>
          <a:xfrm>
            <a:off x="3203640" y="98100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080" y="3016080"/>
            <a:ext cx="73454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旧框框”在课文里面指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新事物”在课文里面指的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人们”在课文里面指的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新事物的优点”有那些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433D-2FC6-45C1-958C-C207F9A2054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74880" y="1200240"/>
            <a:ext cx="6976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旧框框”在课文里面指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答：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要发出“滴答”声；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要有指针 ；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要上发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          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 不太准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事物”在课文里面指的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答：最新式的手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们”在课文里面指的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答：钟表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事物的优点”有那些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答：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没有“滴答”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没有指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不用上发条；       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非常准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7812000" y="5445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837"/>
                </a:moveTo>
                <a:lnTo>
                  <a:pt x="16611" y="6448"/>
                </a:ln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lnTo>
                  <a:pt x="20998" y="10800"/>
                </a:lnTo>
                <a:lnTo>
                  <a:pt x="19344" y="10800"/>
                </a:lnTo>
                <a:lnTo>
                  <a:pt x="19344" y="17989"/>
                </a:lnTo>
                <a:lnTo>
                  <a:pt x="8726" y="17989"/>
                </a:lnTo>
                <a:lnTo>
                  <a:pt x="8726" y="10800"/>
                </a:lnTo>
                <a:lnTo>
                  <a:pt x="7072" y="10800"/>
                </a:lnTo>
                <a:close/>
              </a:path>
              <a:path fill="darkenLess" w="28070" h="21600">
                <a:moveTo>
                  <a:pt x="16611" y="6448"/>
                </a:move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close/>
              </a:path>
              <a:path fill="darkenLess" w="28070" h="21600">
                <a:moveTo>
                  <a:pt x="13113" y="14299"/>
                </a:moveTo>
                <a:lnTo>
                  <a:pt x="14958" y="14299"/>
                </a:lnTo>
                <a:lnTo>
                  <a:pt x="14958" y="17989"/>
                </a:lnTo>
                <a:lnTo>
                  <a:pt x="19344" y="17989"/>
                </a:lnTo>
                <a:lnTo>
                  <a:pt x="19344" y="10800"/>
                </a:lnTo>
                <a:lnTo>
                  <a:pt x="8726" y="10800"/>
                </a:lnTo>
                <a:lnTo>
                  <a:pt x="8726" y="17989"/>
                </a:lnTo>
                <a:lnTo>
                  <a:pt x="13113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14440" y="99972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8989"/>
                </a:solidFill>
                <a:latin typeface="方正卡通简体"/>
                <a:ea typeface="方正卡通简体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2560" y="2352600"/>
            <a:ext cx="873288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1" action="ppaction://hlinksldjump"/>
              </a:rPr>
              <a:t>惯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 action="ppaction://hlinksldjump"/>
              </a:rPr>
              <a:t>纽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3" action="ppaction://hlinksldjump"/>
              </a:rPr>
              <a:t>秒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4" action="ppaction://hlinksldjump"/>
              </a:rPr>
              <a:t>摆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5" action="ppaction://hlinksldjump"/>
              </a:rPr>
              <a:t>吊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6" action="ppaction://hlinksldjump"/>
              </a:rPr>
              <a:t>谎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7" action="ppaction://hlinksldjump"/>
              </a:rPr>
              <a:t>业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8" action="ppaction://hlinksldjump"/>
              </a:rPr>
              <a:t>框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9" action="ppaction://hlinksldjump"/>
              </a:rPr>
              <a:t>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rId10" action="ppaction://hlinksldjump"/>
          </p:cNvPr>
          <p:cNvSpPr/>
          <p:nvPr/>
        </p:nvSpPr>
        <p:spPr>
          <a:xfrm>
            <a:off x="7883640" y="5805360"/>
            <a:ext cx="865080" cy="505080"/>
          </a:xfrm>
          <a:custGeom>
            <a:avLst/>
            <a:gdLst>
              <a:gd name="textAreaLeft" fmla="*/ 32760 w 865080"/>
              <a:gd name="textAreaRight" fmla="*/ 832680 w 86508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6985" h="21600">
                <a:moveTo>
                  <a:pt x="0" y="0"/>
                </a:moveTo>
                <a:lnTo>
                  <a:pt x="36985" y="0"/>
                </a:lnTo>
                <a:lnTo>
                  <a:pt x="36985" y="21600"/>
                </a:lnTo>
                <a:lnTo>
                  <a:pt x="0" y="21600"/>
                </a:lnTo>
                <a:close/>
              </a:path>
              <a:path fill="lightenLess" w="36985" h="21600">
                <a:moveTo>
                  <a:pt x="0" y="0"/>
                </a:moveTo>
                <a:lnTo>
                  <a:pt x="36985" y="0"/>
                </a:lnTo>
                <a:lnTo>
                  <a:pt x="35585" y="1400"/>
                </a:lnTo>
                <a:lnTo>
                  <a:pt x="1400" y="1400"/>
                </a:lnTo>
                <a:close/>
              </a:path>
              <a:path fill="darken" w="36985" h="21600">
                <a:moveTo>
                  <a:pt x="36985" y="0"/>
                </a:moveTo>
                <a:lnTo>
                  <a:pt x="36985" y="21600"/>
                </a:lnTo>
                <a:lnTo>
                  <a:pt x="35585" y="20200"/>
                </a:lnTo>
                <a:lnTo>
                  <a:pt x="35585" y="1400"/>
                </a:lnTo>
                <a:close/>
              </a:path>
              <a:path fill="darkenLess" w="36985" h="21600">
                <a:moveTo>
                  <a:pt x="36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85" y="20200"/>
                </a:lnTo>
                <a:close/>
              </a:path>
              <a:path fill="lighten" w="36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85" h="21600">
                <a:moveTo>
                  <a:pt x="11486" y="7493"/>
                </a:moveTo>
                <a:lnTo>
                  <a:pt x="14993" y="7493"/>
                </a:lnTo>
                <a:lnTo>
                  <a:pt x="14993" y="12828"/>
                </a:lnTo>
                <a:cubicBezTo>
                  <a:pt x="14993" y="13751"/>
                  <a:pt x="15794" y="14482"/>
                  <a:pt x="16830" y="14482"/>
                </a:cubicBezTo>
                <a:lnTo>
                  <a:pt x="18492" y="14482"/>
                </a:lnTo>
                <a:cubicBezTo>
                  <a:pt x="19528" y="14482"/>
                  <a:pt x="20329" y="13751"/>
                  <a:pt x="20329" y="12828"/>
                </a:cubicBezTo>
                <a:lnTo>
                  <a:pt x="20329" y="7493"/>
                </a:lnTo>
                <a:lnTo>
                  <a:pt x="18492" y="7493"/>
                </a:lnTo>
                <a:lnTo>
                  <a:pt x="22000" y="3985"/>
                </a:lnTo>
                <a:lnTo>
                  <a:pt x="25673" y="7493"/>
                </a:lnTo>
                <a:lnTo>
                  <a:pt x="23836" y="7493"/>
                </a:lnTo>
                <a:lnTo>
                  <a:pt x="23836" y="12828"/>
                </a:lnTo>
                <a:cubicBezTo>
                  <a:pt x="23836" y="15596"/>
                  <a:pt x="21260" y="18155"/>
                  <a:pt x="18492" y="18155"/>
                </a:cubicBezTo>
                <a:lnTo>
                  <a:pt x="16830" y="18155"/>
                </a:lnTo>
                <a:cubicBezTo>
                  <a:pt x="14062" y="18155"/>
                  <a:pt x="11486" y="15596"/>
                  <a:pt x="1148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9867-5A3F-4A82-A372-39641F6E06F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788000" y="2205000"/>
            <a:ext cx="3581280" cy="286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习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惯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Noname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99280" y="575460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1260360" y="1413000"/>
            <a:ext cx="23529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Next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176-4449-487D-99D5-B2591B8D53A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076720" y="2276640"/>
            <a:ext cx="3581640" cy="321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纽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纽约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Noname2"/>
          <p:cNvPicPr/>
          <p:nvPr/>
        </p:nvPicPr>
        <p:blipFill>
          <a:blip r:embed="rId2"/>
          <a:stretch/>
        </p:blipFill>
        <p:spPr>
          <a:xfrm>
            <a:off x="8170920" y="5826240"/>
            <a:ext cx="685800" cy="601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187280" y="1773360"/>
            <a:ext cx="236232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evt="onNext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8F3B-C382-4340-8232-5B7F5F4E46F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572000" y="2128680"/>
            <a:ext cx="4114800" cy="26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秒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分秒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Noname2"/>
          <p:cNvPicPr/>
          <p:nvPr/>
        </p:nvPicPr>
        <p:blipFill>
          <a:blip r:embed="rId2"/>
          <a:stretch/>
        </p:blipFill>
        <p:spPr>
          <a:xfrm>
            <a:off x="817416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1044720" y="1557360"/>
            <a:ext cx="2305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Next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F03D-209C-45DC-A8EC-BFC31F314BC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30600" y="2489040"/>
            <a:ext cx="4219560" cy="26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摆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摆头晃脑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oname2"/>
          <p:cNvPicPr/>
          <p:nvPr/>
        </p:nvPicPr>
        <p:blipFill>
          <a:blip r:embed="rId2"/>
          <a:stretch/>
        </p:blipFill>
        <p:spPr>
          <a:xfrm>
            <a:off x="8028000" y="575460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23241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Next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0BEA-48C2-4207-910E-65AE73493CE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714920" y="2344680"/>
            <a:ext cx="4689360" cy="26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吊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吊起来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Noname2"/>
          <p:cNvPicPr/>
          <p:nvPr/>
        </p:nvPicPr>
        <p:blipFill>
          <a:blip r:embed="rId2"/>
          <a:stretch/>
        </p:blipFill>
        <p:spPr>
          <a:xfrm>
            <a:off x="810252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332000" y="1773360"/>
            <a:ext cx="2343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evt="onNext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932E-FDE4-4371-BE71-20C3C110352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714920" y="2344680"/>
            <a:ext cx="4689360" cy="26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谎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说谎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Noname2"/>
          <p:cNvPicPr/>
          <p:nvPr/>
        </p:nvPicPr>
        <p:blipFill>
          <a:blip r:embed="rId2"/>
          <a:stretch/>
        </p:blipFill>
        <p:spPr>
          <a:xfrm>
            <a:off x="810252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1187280" y="1773360"/>
            <a:ext cx="23911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Next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6:15:49Z</dcterms:created>
  <dc:creator>Administrator</dc:creator>
  <dc:description/>
  <cp:keywords/>
  <dc:language>en-US</dc:language>
  <cp:lastModifiedBy>Administrator</cp:lastModifiedBy>
  <dcterms:modified xsi:type="dcterms:W3CDTF">2017-03-09T02:44:43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