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8BF-9E44-43C7-8C90-B854AA01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7FF4-868B-477D-8E43-84BE8440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3864-3F67-4CD7-A5D4-AF17B208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555-BBE4-4D88-BD62-61922F2B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0865-6828-4B2F-BE2B-30039D99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9501-7483-435F-92D7-D4CD41F0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39AE-4DAA-4DF4-B3D4-0D9BBE6F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27D5-31F6-4B2D-B15A-D63CF0D4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CA3D-B064-4B5D-BBA3-0B6B64BE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34B5-EFE2-4357-A978-C6196341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D083-F7BA-4387-BA6A-3497CA95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BAC-5805-434D-B0F2-E87A3F1F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E57A-7AFE-4804-AB43-11DC3E47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B1D8-F14D-49A5-B71E-6F4BFF3A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BD37-F6B6-4419-84B8-0B7029EE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8B77-4478-4EFE-8A5D-2523998B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3DF4-7609-46FB-904E-78D19ED8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A75-3F6F-47E6-8849-F34F95A9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84AE-5DD4-4684-9AC8-4DFF30BA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0B4-3281-46F4-96F1-3B6196D7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9C5B-424F-4D6F-AE4B-BAFBA63C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85C7-BD01-46AC-8E28-E3538AAE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EE2-CD10-4280-A570-980EF323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6D3-5DF0-4035-BF5E-721BA460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AC27-05DB-45CC-8D4B-4FE6526618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E142-4A89-47C5-9AD4-81A93750A82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8397-1DBF-4CB0-A78B-BC6AC3AA1ED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" Target="slide26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195640" y="1846440"/>
            <a:ext cx="4606920" cy="285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15849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楷体"/>
              </a:rPr>
              <a:t>扁鹊治病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楷体"/>
              <a:ea typeface="楷体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1929600" y="4714920"/>
            <a:ext cx="890640" cy="757080"/>
            <a:chOff x="1929600" y="4714920"/>
            <a:chExt cx="890640" cy="757080"/>
          </a:xfrm>
        </p:grpSpPr>
        <p:sp>
          <p:nvSpPr>
            <p:cNvPr id="84" name="AutoShape 6"/>
            <p:cNvSpPr/>
            <p:nvPr/>
          </p:nvSpPr>
          <p:spPr>
            <a:xfrm rot="720000">
              <a:off x="1983960" y="4789440"/>
              <a:ext cx="781200" cy="60804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7">
              <a:hlinkClick r:id="rId1" action="ppaction://hlinksldjump"/>
            </p:cNvPr>
            <p:cNvSpPr/>
            <p:nvPr/>
          </p:nvSpPr>
          <p:spPr>
            <a:xfrm rot="720000">
              <a:off x="2004480" y="4808520"/>
              <a:ext cx="737280" cy="55764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预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3429000" y="4786920"/>
            <a:ext cx="813240" cy="692640"/>
            <a:chOff x="3429000" y="4786920"/>
            <a:chExt cx="813240" cy="692640"/>
          </a:xfrm>
        </p:grpSpPr>
        <p:sp>
          <p:nvSpPr>
            <p:cNvPr id="87" name="AutoShape 9"/>
            <p:cNvSpPr/>
            <p:nvPr/>
          </p:nvSpPr>
          <p:spPr>
            <a:xfrm rot="120000">
              <a:off x="3440160" y="4800240"/>
              <a:ext cx="790560" cy="66528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0">
              <a:hlinkClick r:id="rId2" action="ppaction://hlinksldjump"/>
            </p:cNvPr>
            <p:cNvSpPr/>
            <p:nvPr/>
          </p:nvSpPr>
          <p:spPr>
            <a:xfrm rot="120000">
              <a:off x="3459600" y="4821840"/>
              <a:ext cx="746280" cy="60984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000"/>
                  </a:solidFill>
                  <a:latin typeface="Arial"/>
                  <a:ea typeface="华文新魏"/>
                </a:rPr>
                <a:t>详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6637320" y="4624560"/>
            <a:ext cx="870120" cy="668160"/>
            <a:chOff x="6637320" y="4624560"/>
            <a:chExt cx="870120" cy="668160"/>
          </a:xfrm>
        </p:grpSpPr>
        <p:sp>
          <p:nvSpPr>
            <p:cNvPr id="90" name="AutoShape 12"/>
            <p:cNvSpPr/>
            <p:nvPr/>
          </p:nvSpPr>
          <p:spPr>
            <a:xfrm rot="21060000">
              <a:off x="6675480" y="4683240"/>
              <a:ext cx="793800" cy="55080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13">
              <a:hlinkClick r:id="rId3" action="ppaction://hlinksldjump"/>
            </p:cNvPr>
            <p:cNvSpPr/>
            <p:nvPr/>
          </p:nvSpPr>
          <p:spPr>
            <a:xfrm rot="21060000">
              <a:off x="6693840" y="4701600"/>
              <a:ext cx="749160" cy="50508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练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4"/>
          <p:cNvGrpSpPr/>
          <p:nvPr/>
        </p:nvGrpSpPr>
        <p:grpSpPr>
          <a:xfrm>
            <a:off x="4922280" y="4665960"/>
            <a:ext cx="953640" cy="840600"/>
            <a:chOff x="4922280" y="4665960"/>
            <a:chExt cx="953640" cy="840600"/>
          </a:xfrm>
        </p:grpSpPr>
        <p:sp>
          <p:nvSpPr>
            <p:cNvPr id="93" name="AutoShape 15">
              <a:hlinkClick r:id="rId4" action="ppaction://hlinksldjump"/>
            </p:cNvPr>
            <p:cNvSpPr/>
            <p:nvPr/>
          </p:nvSpPr>
          <p:spPr>
            <a:xfrm rot="20220000">
              <a:off x="5003640" y="4797360"/>
              <a:ext cx="790560" cy="57780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6">
              <a:hlinkClick r:id="rId5" action="ppaction://hlinksldjump"/>
            </p:cNvPr>
            <p:cNvSpPr/>
            <p:nvPr/>
          </p:nvSpPr>
          <p:spPr>
            <a:xfrm rot="20220000">
              <a:off x="5021280" y="4817520"/>
              <a:ext cx="746280" cy="52992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15" descr=""/>
          <p:cNvPicPr/>
          <p:nvPr/>
        </p:nvPicPr>
        <p:blipFill>
          <a:blip r:embed="rId6"/>
          <a:stretch/>
        </p:blipFill>
        <p:spPr>
          <a:xfrm>
            <a:off x="2771640" y="2349360"/>
            <a:ext cx="3568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E0D4-6638-461D-8AFF-8D446C0F47D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Noname1"/>
          <p:cNvPicPr/>
          <p:nvPr/>
        </p:nvPicPr>
        <p:blipFill>
          <a:blip r:embed="rId1"/>
          <a:stretch/>
        </p:blipFill>
        <p:spPr>
          <a:xfrm>
            <a:off x="5435640" y="117360"/>
            <a:ext cx="1295280" cy="554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5554800" y="157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716360" y="2276640"/>
            <a:ext cx="4175280" cy="286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剂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调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Noname2"/>
          <p:cNvPicPr/>
          <p:nvPr/>
        </p:nvPicPr>
        <p:blipFill>
          <a:blip r:embed="rId2"/>
          <a:stretch/>
        </p:blipFill>
        <p:spPr>
          <a:xfrm>
            <a:off x="8102520" y="5735520"/>
            <a:ext cx="685800" cy="60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828720" y="1557360"/>
            <a:ext cx="230508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evt="onNext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3" dur="1" fill="hold"/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3110-15B8-44F0-8D01-39A18DC6369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Noname1"/>
          <p:cNvPicPr/>
          <p:nvPr/>
        </p:nvPicPr>
        <p:blipFill>
          <a:blip r:embed="rId1"/>
          <a:stretch/>
        </p:blipFill>
        <p:spPr>
          <a:xfrm>
            <a:off x="5435640" y="117360"/>
            <a:ext cx="1295280" cy="5540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5554800" y="157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716360" y="2276640"/>
            <a:ext cx="4175280" cy="286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骨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真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" descr="Noname2"/>
          <p:cNvPicPr/>
          <p:nvPr/>
        </p:nvPicPr>
        <p:blipFill>
          <a:blip r:embed="rId2"/>
          <a:stretch/>
        </p:blipFill>
        <p:spPr>
          <a:xfrm>
            <a:off x="8102520" y="5735520"/>
            <a:ext cx="685800" cy="601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1116000" y="1557360"/>
            <a:ext cx="22860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evt="onNext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2" dur="1" fill="hold"/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预习</a:t>
            </a: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检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4660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7D60-9F0E-4B5B-A1BB-17956E3C3D6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112760" y="1174680"/>
            <a:ext cx="82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通过预习，你能回答下面的问题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669080" y="5445000"/>
            <a:ext cx="936720" cy="7207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70" h="21600">
                <a:moveTo>
                  <a:pt x="0" y="0"/>
                </a:moveTo>
                <a:lnTo>
                  <a:pt x="28070" y="0"/>
                </a:lnTo>
                <a:lnTo>
                  <a:pt x="28070" y="21600"/>
                </a:lnTo>
                <a:lnTo>
                  <a:pt x="0" y="21600"/>
                </a:lnTo>
                <a:close/>
              </a:path>
              <a:path fill="lightenLess" w="28070" h="21600">
                <a:moveTo>
                  <a:pt x="0" y="0"/>
                </a:moveTo>
                <a:lnTo>
                  <a:pt x="28070" y="0"/>
                </a:lnTo>
                <a:lnTo>
                  <a:pt x="26670" y="1400"/>
                </a:lnTo>
                <a:lnTo>
                  <a:pt x="1400" y="1400"/>
                </a:lnTo>
                <a:close/>
              </a:path>
              <a:path fill="darken" w="28070" h="21600">
                <a:moveTo>
                  <a:pt x="28070" y="0"/>
                </a:moveTo>
                <a:lnTo>
                  <a:pt x="28070" y="21600"/>
                </a:lnTo>
                <a:lnTo>
                  <a:pt x="26670" y="20200"/>
                </a:lnTo>
                <a:lnTo>
                  <a:pt x="26670" y="1400"/>
                </a:lnTo>
                <a:close/>
              </a:path>
              <a:path fill="darkenLess" w="28070" h="21600">
                <a:moveTo>
                  <a:pt x="28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0" y="20200"/>
                </a:lnTo>
                <a:close/>
              </a:path>
              <a:path fill="lighten" w="28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0" h="21600">
                <a:moveTo>
                  <a:pt x="14035" y="3837"/>
                </a:moveTo>
                <a:lnTo>
                  <a:pt x="16611" y="6448"/>
                </a:lnTo>
                <a:lnTo>
                  <a:pt x="16611" y="4707"/>
                </a:lnTo>
                <a:lnTo>
                  <a:pt x="18387" y="4707"/>
                </a:lnTo>
                <a:lnTo>
                  <a:pt x="18387" y="8224"/>
                </a:lnTo>
                <a:lnTo>
                  <a:pt x="20998" y="10800"/>
                </a:lnTo>
                <a:lnTo>
                  <a:pt x="19344" y="10800"/>
                </a:lnTo>
                <a:lnTo>
                  <a:pt x="19344" y="17989"/>
                </a:lnTo>
                <a:lnTo>
                  <a:pt x="8726" y="17989"/>
                </a:lnTo>
                <a:lnTo>
                  <a:pt x="8726" y="10800"/>
                </a:lnTo>
                <a:lnTo>
                  <a:pt x="7072" y="10800"/>
                </a:lnTo>
                <a:close/>
              </a:path>
              <a:path fill="darkenLess" w="28070" h="21600">
                <a:moveTo>
                  <a:pt x="16611" y="6448"/>
                </a:moveTo>
                <a:lnTo>
                  <a:pt x="16611" y="4707"/>
                </a:lnTo>
                <a:lnTo>
                  <a:pt x="18387" y="4707"/>
                </a:lnTo>
                <a:lnTo>
                  <a:pt x="18387" y="8224"/>
                </a:lnTo>
                <a:close/>
              </a:path>
              <a:path fill="darkenLess" w="28070" h="21600">
                <a:moveTo>
                  <a:pt x="13113" y="14299"/>
                </a:moveTo>
                <a:lnTo>
                  <a:pt x="14958" y="14299"/>
                </a:lnTo>
                <a:lnTo>
                  <a:pt x="14958" y="17989"/>
                </a:lnTo>
                <a:lnTo>
                  <a:pt x="19344" y="17989"/>
                </a:lnTo>
                <a:lnTo>
                  <a:pt x="19344" y="10800"/>
                </a:lnTo>
                <a:lnTo>
                  <a:pt x="8726" y="10800"/>
                </a:lnTo>
                <a:lnTo>
                  <a:pt x="8726" y="17989"/>
                </a:lnTo>
                <a:lnTo>
                  <a:pt x="13113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036800" y="4336920"/>
            <a:ext cx="30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431120" cy="18734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1974960" y="4222800"/>
            <a:ext cx="4398840" cy="1466280"/>
          </a:xfrm>
          <a:prstGeom prst="rect">
            <a:avLst/>
          </a:prstGeom>
          <a:solidFill>
            <a:srgbClr val="00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楷体"/>
                <a:ea typeface="楷体"/>
              </a:rPr>
              <a:t>题目扩展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"/>
          <p:cNvPicPr/>
          <p:nvPr/>
        </p:nvPicPr>
        <p:blipFill>
          <a:blip r:embed="rId2"/>
          <a:stretch/>
        </p:blipFill>
        <p:spPr>
          <a:xfrm>
            <a:off x="755640" y="4149720"/>
            <a:ext cx="6842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课文解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52360" y="1989000"/>
            <a:ext cx="86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《扁鹊治病》取材于战国时名医扁鹊的传说故事。写扁鹊几次指出蔡桓公病在何处，劝他赶快治疗，蔡桓公坚信自己没有病，致使延误病情，小病酿成了大病，最后病入膏肓，无药可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0C12-BD54-4A1A-B948-D64B925422F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内容占位符 2"/>
          <p:cNvSpPr/>
          <p:nvPr/>
        </p:nvSpPr>
        <p:spPr>
          <a:xfrm>
            <a:off x="3276720" y="981000"/>
            <a:ext cx="221292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结构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835280" y="2133720"/>
            <a:ext cx="547344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193b65"/>
                </a:solidFill>
                <a:latin typeface="Arial"/>
              </a:rPr>
              <a:t>扁鹊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2c11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b2c11"/>
                </a:solidFill>
                <a:latin typeface="Arial"/>
              </a:rPr>
              <a:t>劝说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fb2c11"/>
                </a:solidFill>
                <a:latin typeface="Arial"/>
              </a:rPr>
              <a:t>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病在皮肤     防          不高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病入皮肉     微          很不高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病入肠胃     杜          非常不高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病入骨髓     渐           病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主题概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826920" y="2638440"/>
            <a:ext cx="7631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《扁鹊治病》警示人们要防微杜渐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，善于听取别人的正确意见，否则后果将不堪设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09CE-36E1-4064-B8F4-E404E71AC67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写法点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755640" y="3070080"/>
            <a:ext cx="8207280" cy="807840"/>
          </a:xfrm>
          <a:prstGeom prst="rect">
            <a:avLst/>
          </a:prstGeom>
          <a:solidFill>
            <a:srgbClr val="cc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b2c11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b2c11"/>
                </a:solidFill>
                <a:latin typeface="宋体"/>
              </a:rPr>
              <a:t>扁鹊几次见蔡桓公？都说了什么？结果怎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0CAD-6076-4F9B-8103-1E1028B2718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-324000" y="260280"/>
            <a:ext cx="94680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扁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：</a:t>
            </a:r>
            <a:r>
              <a:rPr b="1" lang="zh-CN" sz="3200" spc="-1" strike="noStrike">
                <a:solidFill>
                  <a:srgbClr val="1f497d"/>
                </a:solidFill>
                <a:latin typeface="楷体"/>
                <a:ea typeface="楷体"/>
              </a:rPr>
              <a:t>“大王，据我看来，您皮肤上有点小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"/>
                <a:ea typeface="楷体"/>
              </a:rPr>
              <a:t>          </a:t>
            </a:r>
            <a:r>
              <a:rPr b="1" lang="zh-CN" sz="3200" spc="-1" strike="noStrike">
                <a:solidFill>
                  <a:srgbClr val="1f497d"/>
                </a:solidFill>
                <a:latin typeface="楷体"/>
                <a:ea typeface="楷体"/>
              </a:rPr>
              <a:t>要不治，恐怕会向体内发展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0" y="3284640"/>
            <a:ext cx="8899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蔡桓公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0066"/>
                </a:solidFill>
                <a:latin typeface="楷体"/>
                <a:ea typeface="楷体"/>
              </a:rPr>
              <a:t>“我的身体很好，什么病也没有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"/>
                <a:ea typeface="楷体"/>
              </a:rPr>
              <a:t>       “</a:t>
            </a:r>
            <a:r>
              <a:rPr b="1" lang="zh-CN" sz="3200" spc="-1" strike="noStrike">
                <a:solidFill>
                  <a:srgbClr val="000066"/>
                </a:solidFill>
                <a:latin typeface="楷体"/>
                <a:ea typeface="楷体"/>
              </a:rPr>
              <a:t>医生总喜欢给没有病的人治病</a:t>
            </a:r>
            <a:r>
              <a:rPr b="1" lang="en-US" sz="3200" spc="-1" strike="noStrike">
                <a:solidFill>
                  <a:srgbClr val="000066"/>
                </a:solidFill>
                <a:latin typeface="楷体"/>
                <a:ea typeface="楷体"/>
              </a:rPr>
              <a:t>，</a:t>
            </a:r>
            <a:r>
              <a:rPr b="1" lang="zh-CN" sz="3200" spc="-1" strike="noStrike">
                <a:solidFill>
                  <a:srgbClr val="000066"/>
                </a:solidFill>
                <a:latin typeface="楷体"/>
                <a:ea typeface="楷体"/>
              </a:rPr>
              <a:t>以便          邀功请赏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2E5C-48F2-47CC-9553-8232D9BC9AE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0" y="6206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扁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1f497d"/>
                </a:solidFill>
                <a:latin typeface="楷体"/>
                <a:ea typeface="楷体"/>
              </a:rPr>
              <a:t>“您的病已经发展到皮肉之间了，要不治还会加深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0" y="32846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蔡桓公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000066"/>
                </a:solidFill>
                <a:latin typeface="楷体"/>
                <a:ea typeface="楷体"/>
              </a:rPr>
              <a:t>假装没听见，没有理睬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214440" y="99972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98989"/>
                </a:solidFill>
                <a:latin typeface="方正卡通简体"/>
                <a:ea typeface="方正卡通简体"/>
              </a:rPr>
              <a:t>资料宝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924360" y="3495600"/>
            <a:ext cx="511344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828720" y="2206800"/>
            <a:ext cx="791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扁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407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10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汉族，姬姓，秦氏，名越人（秦越人），又号卢医，渤海莫（今河北省任丘市）人，春秋战国时期的人。因他医术高超，被认为是神医，所以当时的人们借用了上古神话的黄帝时神医“扁鹊”的名号来称呼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少时学医于长桑君，尽传其医术禁方，擅长各科。在赵为妇科，在周为五官科，在秦为儿科，名闻天下。秦太医李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xī]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术不如而嫉之，乃使人刺杀之。扁鹊奠定了中医学的切脉诊断方法，开启了中医学的先河。相传有名的中医典籍《难经》为扁鹊所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59120" y="2600280"/>
            <a:ext cx="42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2c11"/>
                </a:solidFill>
                <a:latin typeface="Arial"/>
                <a:ea typeface="黑体"/>
              </a:rPr>
              <a:t>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2c11"/>
                </a:solidFill>
                <a:latin typeface="Arial"/>
                <a:ea typeface="黑体"/>
              </a:rPr>
              <a:t>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2c11"/>
                </a:solidFill>
                <a:latin typeface="Arial"/>
                <a:ea typeface="黑体"/>
              </a:rPr>
              <a:t>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2c11"/>
                </a:solidFill>
                <a:latin typeface="Arial"/>
                <a:ea typeface="黑体"/>
              </a:rPr>
              <a:t>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8EF5-B22F-4E79-86AC-F064DF5865F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-612720" y="1555920"/>
            <a:ext cx="996948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扁鹊</a:t>
            </a:r>
            <a:r>
              <a:rPr b="0" lang="zh-CN" sz="4000" spc="-1" strike="noStrike">
                <a:solidFill>
                  <a:srgbClr val="1f497d"/>
                </a:solidFill>
                <a:latin typeface="Comic Sans MS"/>
              </a:rPr>
              <a:t>： </a:t>
            </a:r>
            <a:r>
              <a:rPr b="1" lang="zh-CN" sz="4000" spc="-1" strike="noStrike">
                <a:solidFill>
                  <a:srgbClr val="751d05"/>
                </a:solidFill>
                <a:latin typeface="楷体"/>
                <a:ea typeface="楷体"/>
              </a:rPr>
              <a:t>“您的病已经发展到肠胃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51d05"/>
                </a:solidFill>
                <a:latin typeface="楷体"/>
                <a:ea typeface="楷体"/>
              </a:rPr>
              <a:t>再不治会更加严重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16000" y="4005360"/>
            <a:ext cx="75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蔡桓公</a:t>
            </a:r>
            <a:r>
              <a:rPr b="0" lang="zh-CN" sz="4000" spc="-1" strike="noStrike">
                <a:solidFill>
                  <a:srgbClr val="000066"/>
                </a:solidFill>
                <a:latin typeface="Comic Sans MS"/>
              </a:rPr>
              <a:t>：</a:t>
            </a:r>
            <a:r>
              <a:rPr b="1" lang="zh-CN" sz="4000" spc="-1" strike="noStrike">
                <a:solidFill>
                  <a:srgbClr val="000066"/>
                </a:solidFill>
                <a:latin typeface="Comic Sans MS"/>
                <a:ea typeface="楷体"/>
              </a:rPr>
              <a:t>听了满脸不高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0C19-0FEE-443E-9066-4F820A53D02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440" y="1484280"/>
            <a:ext cx="9396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扁鹊：</a:t>
            </a: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老远望见蔡桓公，立刻掉头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楷体"/>
                <a:ea typeface="楷体"/>
              </a:rPr>
              <a:t>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0" y="386064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蔡桓公</a:t>
            </a:r>
            <a:r>
              <a:rPr b="1" lang="zh-CN" sz="4000" spc="-1" strike="noStrike">
                <a:solidFill>
                  <a:srgbClr val="000066"/>
                </a:solidFill>
                <a:latin typeface="Comic Sans MS"/>
              </a:rPr>
              <a:t>：</a:t>
            </a:r>
            <a:r>
              <a:rPr b="1" lang="zh-CN" sz="4000" spc="-1" strike="noStrike">
                <a:solidFill>
                  <a:srgbClr val="000066"/>
                </a:solidFill>
                <a:latin typeface="Comic Sans MS"/>
                <a:ea typeface="楷体"/>
              </a:rPr>
              <a:t>觉得奇怪，派人去问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24000" y="1413000"/>
          <a:ext cx="8569080" cy="4949640"/>
        </p:xfrm>
        <a:graphic>
          <a:graphicData uri="http://schemas.openxmlformats.org/drawingml/2006/table">
            <a:tbl>
              <a:tblPr/>
              <a:tblGrid>
                <a:gridCol w="2143080"/>
                <a:gridCol w="2141280"/>
                <a:gridCol w="2143440"/>
                <a:gridCol w="2141280"/>
              </a:tblGrid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疾病程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如何医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80"/>
                          </a:solidFill>
                          <a:latin typeface="Calibri"/>
                        </a:rPr>
                        <a:t>有一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80"/>
                          </a:solidFill>
                          <a:latin typeface="Calibri"/>
                        </a:rPr>
                        <a:t>能够治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80"/>
                          </a:solidFill>
                          <a:latin typeface="Calibri"/>
                        </a:rPr>
                        <a:t>过了十来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80"/>
                          </a:solidFill>
                          <a:latin typeface="Calibri"/>
                        </a:rPr>
                        <a:t>可以治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80"/>
                          </a:solidFill>
                          <a:latin typeface="Calibri"/>
                        </a:rPr>
                        <a:t>十来天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80"/>
                          </a:solidFill>
                          <a:latin typeface="Calibri"/>
                        </a:rPr>
                        <a:t>还能治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80"/>
                          </a:solidFill>
                          <a:latin typeface="Calibri"/>
                        </a:rPr>
                        <a:t>又过了十几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80"/>
                          </a:solidFill>
                          <a:latin typeface="Calibri"/>
                        </a:rPr>
                        <a:t>只能等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80"/>
                          </a:solidFill>
                          <a:latin typeface="Calibri"/>
                        </a:rPr>
                        <a:t>五天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80"/>
                          </a:solidFill>
                          <a:latin typeface="Calibri"/>
                        </a:rPr>
                        <a:t>不久就病死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626D-9DBB-46D9-BA38-3EE1383BA1F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9"/>
          <p:cNvSpPr/>
          <p:nvPr/>
        </p:nvSpPr>
        <p:spPr>
          <a:xfrm>
            <a:off x="2700360" y="2349360"/>
            <a:ext cx="18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病在皮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0"/>
          <p:cNvSpPr/>
          <p:nvPr/>
        </p:nvSpPr>
        <p:spPr>
          <a:xfrm>
            <a:off x="4643280" y="234936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用热水敷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1"/>
          <p:cNvSpPr/>
          <p:nvPr/>
        </p:nvSpPr>
        <p:spPr>
          <a:xfrm>
            <a:off x="2700360" y="3068640"/>
            <a:ext cx="17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病在皮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2"/>
          <p:cNvSpPr/>
          <p:nvPr/>
        </p:nvSpPr>
        <p:spPr>
          <a:xfrm>
            <a:off x="5076720" y="3141720"/>
            <a:ext cx="13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扎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3"/>
          <p:cNvSpPr/>
          <p:nvPr/>
        </p:nvSpPr>
        <p:spPr>
          <a:xfrm>
            <a:off x="2986560" y="393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病在肠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4"/>
          <p:cNvSpPr/>
          <p:nvPr/>
        </p:nvSpPr>
        <p:spPr>
          <a:xfrm>
            <a:off x="5000760" y="3933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服几剂汤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5"/>
          <p:cNvSpPr/>
          <p:nvPr/>
        </p:nvSpPr>
        <p:spPr>
          <a:xfrm>
            <a:off x="2986560" y="472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病在骨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6"/>
          <p:cNvSpPr/>
          <p:nvPr/>
        </p:nvSpPr>
        <p:spPr>
          <a:xfrm>
            <a:off x="5073840" y="472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无能为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7"/>
          <p:cNvSpPr/>
          <p:nvPr/>
        </p:nvSpPr>
        <p:spPr>
          <a:xfrm>
            <a:off x="2986560" y="5661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疼痛难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9080" y="1778040"/>
            <a:ext cx="8675640" cy="1849680"/>
          </a:xfrm>
          <a:prstGeom prst="rect">
            <a:avLst/>
          </a:prstGeom>
          <a:solidFill>
            <a:srgbClr val="33cc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    </a:t>
            </a:r>
            <a:r>
              <a:rPr b="1" lang="zh-CN" sz="2800" spc="-1" strike="noStrike">
                <a:solidFill>
                  <a:srgbClr val="fb2c11"/>
                </a:solidFill>
                <a:latin typeface="楷体"/>
              </a:rPr>
              <a:t>扁鹊治病古文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扁鹊见蔡桓公，立有间，扁鹊日：“君有疾在腠理，不治将恐深。”桓侯回：“寡人无疾。”扁鹊出，桓候曰：“医之好治不病以为功。”居十日，扁鹊复见，曰：“君之病在肌肤，不治将益深。”桓侯不应。扁鹊出，桓俟又不悦。居十日，扁鹊复见，曰：“君之病在肠胃，不治将益深。”桓侯又不应。扁鹊出，桓候又不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拓展提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95280" y="1346040"/>
            <a:ext cx="8569440" cy="1032840"/>
          </a:xfrm>
          <a:prstGeom prst="rect">
            <a:avLst/>
          </a:prstGeom>
          <a:solidFill>
            <a:srgbClr val="33cc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居十日，扁鹊望桓侯而还走。桓侯故使人问之，扁鹊曰：“疾在腠理，汤熨之所及也；在肌肤，针石之所及也；在肠胃，火齐之所及也；在骨髓，司命之所属，无奈何也。今在骨髓，臣是以无请也。”居五日，桓侯体痛，使人索扁鹊，已逃秦矣。桓侯遂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心灵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24000" y="2494080"/>
            <a:ext cx="8640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2c1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b2c11"/>
                </a:solidFill>
                <a:latin typeface="宋体"/>
              </a:rPr>
              <a:t>学习了这篇课文，你明白了什么道理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7812000" y="5661000"/>
            <a:ext cx="936720" cy="7207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70" h="21600">
                <a:moveTo>
                  <a:pt x="0" y="0"/>
                </a:moveTo>
                <a:lnTo>
                  <a:pt x="28070" y="0"/>
                </a:lnTo>
                <a:lnTo>
                  <a:pt x="28070" y="21600"/>
                </a:lnTo>
                <a:lnTo>
                  <a:pt x="0" y="21600"/>
                </a:lnTo>
                <a:close/>
              </a:path>
              <a:path fill="lightenLess" w="28070" h="21600">
                <a:moveTo>
                  <a:pt x="0" y="0"/>
                </a:moveTo>
                <a:lnTo>
                  <a:pt x="28070" y="0"/>
                </a:lnTo>
                <a:lnTo>
                  <a:pt x="26670" y="1400"/>
                </a:lnTo>
                <a:lnTo>
                  <a:pt x="1400" y="1400"/>
                </a:lnTo>
                <a:close/>
              </a:path>
              <a:path fill="darken" w="28070" h="21600">
                <a:moveTo>
                  <a:pt x="28070" y="0"/>
                </a:moveTo>
                <a:lnTo>
                  <a:pt x="28070" y="21600"/>
                </a:lnTo>
                <a:lnTo>
                  <a:pt x="26670" y="20200"/>
                </a:lnTo>
                <a:lnTo>
                  <a:pt x="26670" y="1400"/>
                </a:lnTo>
                <a:close/>
              </a:path>
              <a:path fill="darkenLess" w="28070" h="21600">
                <a:moveTo>
                  <a:pt x="28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0" y="20200"/>
                </a:lnTo>
                <a:close/>
              </a:path>
              <a:path fill="lighten" w="28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0" h="21600">
                <a:moveTo>
                  <a:pt x="14035" y="3837"/>
                </a:moveTo>
                <a:lnTo>
                  <a:pt x="16611" y="6448"/>
                </a:lnTo>
                <a:lnTo>
                  <a:pt x="16611" y="4707"/>
                </a:lnTo>
                <a:lnTo>
                  <a:pt x="18387" y="4707"/>
                </a:lnTo>
                <a:lnTo>
                  <a:pt x="18387" y="8224"/>
                </a:lnTo>
                <a:lnTo>
                  <a:pt x="20998" y="10800"/>
                </a:lnTo>
                <a:lnTo>
                  <a:pt x="19344" y="10800"/>
                </a:lnTo>
                <a:lnTo>
                  <a:pt x="19344" y="17989"/>
                </a:lnTo>
                <a:lnTo>
                  <a:pt x="8726" y="17989"/>
                </a:lnTo>
                <a:lnTo>
                  <a:pt x="8726" y="10800"/>
                </a:lnTo>
                <a:lnTo>
                  <a:pt x="7072" y="10800"/>
                </a:lnTo>
                <a:close/>
              </a:path>
              <a:path fill="darkenLess" w="28070" h="21600">
                <a:moveTo>
                  <a:pt x="16611" y="6448"/>
                </a:moveTo>
                <a:lnTo>
                  <a:pt x="16611" y="4707"/>
                </a:lnTo>
                <a:lnTo>
                  <a:pt x="18387" y="4707"/>
                </a:lnTo>
                <a:lnTo>
                  <a:pt x="18387" y="8224"/>
                </a:lnTo>
                <a:close/>
              </a:path>
              <a:path fill="darkenLess" w="28070" h="21600">
                <a:moveTo>
                  <a:pt x="13113" y="14299"/>
                </a:moveTo>
                <a:lnTo>
                  <a:pt x="14958" y="14299"/>
                </a:lnTo>
                <a:lnTo>
                  <a:pt x="14958" y="17989"/>
                </a:lnTo>
                <a:lnTo>
                  <a:pt x="19344" y="17989"/>
                </a:lnTo>
                <a:lnTo>
                  <a:pt x="19344" y="10800"/>
                </a:lnTo>
                <a:lnTo>
                  <a:pt x="8726" y="10800"/>
                </a:lnTo>
                <a:lnTo>
                  <a:pt x="8726" y="17989"/>
                </a:lnTo>
                <a:lnTo>
                  <a:pt x="13113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95280" y="3573360"/>
            <a:ext cx="8640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做事要防微杜渐，要善于听取别人正确的意见和建议，不能讳疾忌医，否则后果将不堪设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2058840"/>
            <a:ext cx="8424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学了这篇课文，你明白了什么道理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CC3E-7588-4046-B42F-281C70F1D11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内容占位符 2"/>
          <p:cNvSpPr/>
          <p:nvPr/>
        </p:nvSpPr>
        <p:spPr>
          <a:xfrm>
            <a:off x="3203640" y="98100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随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95280" y="3573360"/>
            <a:ext cx="8640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做事要防微杜渐，要善于听取别人正确的意见和建议，不能讳疾忌医，否则后果将不堪设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7812000" y="5518080"/>
            <a:ext cx="936720" cy="7207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70" h="21600">
                <a:moveTo>
                  <a:pt x="0" y="0"/>
                </a:moveTo>
                <a:lnTo>
                  <a:pt x="28070" y="0"/>
                </a:lnTo>
                <a:lnTo>
                  <a:pt x="28070" y="21600"/>
                </a:lnTo>
                <a:lnTo>
                  <a:pt x="0" y="21600"/>
                </a:lnTo>
                <a:close/>
              </a:path>
              <a:path fill="lightenLess" w="28070" h="21600">
                <a:moveTo>
                  <a:pt x="0" y="0"/>
                </a:moveTo>
                <a:lnTo>
                  <a:pt x="28070" y="0"/>
                </a:lnTo>
                <a:lnTo>
                  <a:pt x="26670" y="1400"/>
                </a:lnTo>
                <a:lnTo>
                  <a:pt x="1400" y="1400"/>
                </a:lnTo>
                <a:close/>
              </a:path>
              <a:path fill="darken" w="28070" h="21600">
                <a:moveTo>
                  <a:pt x="28070" y="0"/>
                </a:moveTo>
                <a:lnTo>
                  <a:pt x="28070" y="21600"/>
                </a:lnTo>
                <a:lnTo>
                  <a:pt x="26670" y="20200"/>
                </a:lnTo>
                <a:lnTo>
                  <a:pt x="26670" y="1400"/>
                </a:lnTo>
                <a:close/>
              </a:path>
              <a:path fill="darkenLess" w="28070" h="21600">
                <a:moveTo>
                  <a:pt x="28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0" y="20200"/>
                </a:lnTo>
                <a:close/>
              </a:path>
              <a:path fill="lighten" w="28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0" h="21600">
                <a:moveTo>
                  <a:pt x="14035" y="3837"/>
                </a:moveTo>
                <a:lnTo>
                  <a:pt x="16611" y="6448"/>
                </a:lnTo>
                <a:lnTo>
                  <a:pt x="16611" y="4707"/>
                </a:lnTo>
                <a:lnTo>
                  <a:pt x="18387" y="4707"/>
                </a:lnTo>
                <a:lnTo>
                  <a:pt x="18387" y="8224"/>
                </a:lnTo>
                <a:lnTo>
                  <a:pt x="20998" y="10800"/>
                </a:lnTo>
                <a:lnTo>
                  <a:pt x="19344" y="10800"/>
                </a:lnTo>
                <a:lnTo>
                  <a:pt x="19344" y="17989"/>
                </a:lnTo>
                <a:lnTo>
                  <a:pt x="8726" y="17989"/>
                </a:lnTo>
                <a:lnTo>
                  <a:pt x="8726" y="10800"/>
                </a:lnTo>
                <a:lnTo>
                  <a:pt x="7072" y="10800"/>
                </a:lnTo>
                <a:close/>
              </a:path>
              <a:path fill="darkenLess" w="28070" h="21600">
                <a:moveTo>
                  <a:pt x="16611" y="6448"/>
                </a:moveTo>
                <a:lnTo>
                  <a:pt x="16611" y="4707"/>
                </a:lnTo>
                <a:lnTo>
                  <a:pt x="18387" y="4707"/>
                </a:lnTo>
                <a:lnTo>
                  <a:pt x="18387" y="8224"/>
                </a:lnTo>
                <a:close/>
              </a:path>
              <a:path fill="darkenLess" w="28070" h="21600">
                <a:moveTo>
                  <a:pt x="13113" y="14299"/>
                </a:moveTo>
                <a:lnTo>
                  <a:pt x="14958" y="14299"/>
                </a:lnTo>
                <a:lnTo>
                  <a:pt x="14958" y="17989"/>
                </a:lnTo>
                <a:lnTo>
                  <a:pt x="19344" y="17989"/>
                </a:lnTo>
                <a:lnTo>
                  <a:pt x="19344" y="10800"/>
                </a:lnTo>
                <a:lnTo>
                  <a:pt x="8726" y="10800"/>
                </a:lnTo>
                <a:lnTo>
                  <a:pt x="8726" y="17989"/>
                </a:lnTo>
                <a:lnTo>
                  <a:pt x="13113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214440" y="99972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98989"/>
                </a:solidFill>
                <a:latin typeface="方正卡通简体"/>
                <a:ea typeface="方正卡通简体"/>
              </a:rPr>
              <a:t>字词乐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57480" y="2352600"/>
            <a:ext cx="6769080" cy="34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1" action="ppaction://hlinksldjump"/>
              </a:rPr>
              <a:t>鹊</a:t>
            </a:r>
            <a:r>
              <a:rPr b="1" lang="zh-CN" sz="80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0" lang="zh-CN" sz="80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2" action="ppaction://hlinksldjump"/>
              </a:rPr>
              <a:t>毫</a:t>
            </a:r>
            <a:r>
              <a:rPr b="1" lang="zh-CN" sz="80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0" lang="zh-CN" sz="80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3" action="ppaction://hlinksldjump"/>
              </a:rPr>
              <a:t>邀</a:t>
            </a:r>
            <a:r>
              <a:rPr b="1" lang="zh-CN" sz="80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0" lang="zh-CN" sz="80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4" action="ppaction://hlinksldjump"/>
              </a:rPr>
              <a:t>肉</a:t>
            </a:r>
            <a:r>
              <a:rPr b="1" lang="zh-CN" sz="80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5" action="ppaction://hlinksldjump"/>
              </a:rPr>
              <a:t>睬</a:t>
            </a:r>
            <a:r>
              <a:rPr b="1" lang="zh-CN" sz="80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0" lang="zh-CN" sz="80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6" action="ppaction://hlinksldjump"/>
              </a:rPr>
              <a:t>烫</a:t>
            </a:r>
            <a:r>
              <a:rPr b="1" lang="zh-CN" sz="80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0" lang="zh-CN" sz="80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7" action="ppaction://hlinksldjump"/>
              </a:rPr>
              <a:t>剂</a:t>
            </a:r>
            <a:r>
              <a:rPr b="1" lang="zh-CN" sz="80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0" lang="zh-CN" sz="80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8" action="ppaction://hlinksldjump"/>
              </a:rPr>
              <a:t>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7883640" y="5805360"/>
            <a:ext cx="865080" cy="505080"/>
          </a:xfrm>
          <a:custGeom>
            <a:avLst/>
            <a:gdLst>
              <a:gd name="textAreaLeft" fmla="*/ 32760 w 865080"/>
              <a:gd name="textAreaRight" fmla="*/ 832680 w 86508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36985" h="21600">
                <a:moveTo>
                  <a:pt x="0" y="0"/>
                </a:moveTo>
                <a:lnTo>
                  <a:pt x="36985" y="0"/>
                </a:lnTo>
                <a:lnTo>
                  <a:pt x="36985" y="21600"/>
                </a:lnTo>
                <a:lnTo>
                  <a:pt x="0" y="21600"/>
                </a:lnTo>
                <a:close/>
              </a:path>
              <a:path fill="lightenLess" w="36985" h="21600">
                <a:moveTo>
                  <a:pt x="0" y="0"/>
                </a:moveTo>
                <a:lnTo>
                  <a:pt x="36985" y="0"/>
                </a:lnTo>
                <a:lnTo>
                  <a:pt x="35585" y="1400"/>
                </a:lnTo>
                <a:lnTo>
                  <a:pt x="1400" y="1400"/>
                </a:lnTo>
                <a:close/>
              </a:path>
              <a:path fill="darken" w="36985" h="21600">
                <a:moveTo>
                  <a:pt x="36985" y="0"/>
                </a:moveTo>
                <a:lnTo>
                  <a:pt x="36985" y="21600"/>
                </a:lnTo>
                <a:lnTo>
                  <a:pt x="35585" y="20200"/>
                </a:lnTo>
                <a:lnTo>
                  <a:pt x="35585" y="1400"/>
                </a:lnTo>
                <a:close/>
              </a:path>
              <a:path fill="darkenLess" w="36985" h="21600">
                <a:moveTo>
                  <a:pt x="36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85" y="20200"/>
                </a:lnTo>
                <a:close/>
              </a:path>
              <a:path fill="lighten" w="36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85" h="21600">
                <a:moveTo>
                  <a:pt x="11486" y="7493"/>
                </a:moveTo>
                <a:lnTo>
                  <a:pt x="14993" y="7493"/>
                </a:lnTo>
                <a:lnTo>
                  <a:pt x="14993" y="12828"/>
                </a:lnTo>
                <a:cubicBezTo>
                  <a:pt x="14993" y="13751"/>
                  <a:pt x="15794" y="14482"/>
                  <a:pt x="16830" y="14482"/>
                </a:cubicBezTo>
                <a:lnTo>
                  <a:pt x="18492" y="14482"/>
                </a:lnTo>
                <a:cubicBezTo>
                  <a:pt x="19528" y="14482"/>
                  <a:pt x="20329" y="13751"/>
                  <a:pt x="20329" y="12828"/>
                </a:cubicBezTo>
                <a:lnTo>
                  <a:pt x="20329" y="7493"/>
                </a:lnTo>
                <a:lnTo>
                  <a:pt x="18492" y="7493"/>
                </a:lnTo>
                <a:lnTo>
                  <a:pt x="22000" y="3985"/>
                </a:lnTo>
                <a:lnTo>
                  <a:pt x="25673" y="7493"/>
                </a:lnTo>
                <a:lnTo>
                  <a:pt x="23836" y="7493"/>
                </a:lnTo>
                <a:lnTo>
                  <a:pt x="23836" y="12828"/>
                </a:lnTo>
                <a:cubicBezTo>
                  <a:pt x="23836" y="15596"/>
                  <a:pt x="21260" y="18155"/>
                  <a:pt x="18492" y="18155"/>
                </a:cubicBezTo>
                <a:lnTo>
                  <a:pt x="16830" y="18155"/>
                </a:lnTo>
                <a:cubicBezTo>
                  <a:pt x="14062" y="18155"/>
                  <a:pt x="11486" y="15596"/>
                  <a:pt x="11486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E7E6-F09E-4EFD-93CF-868E39CCD6A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Noname1"/>
          <p:cNvPicPr/>
          <p:nvPr/>
        </p:nvPicPr>
        <p:blipFill>
          <a:blip r:embed="rId1"/>
          <a:stretch/>
        </p:blipFill>
        <p:spPr>
          <a:xfrm>
            <a:off x="5435640" y="117360"/>
            <a:ext cx="1295280" cy="5540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5554800" y="157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788000" y="2205000"/>
            <a:ext cx="3581280" cy="286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山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鹊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Noname2"/>
          <p:cNvPicPr/>
          <p:nvPr/>
        </p:nvPicPr>
        <p:blipFill>
          <a:blip r:embed="rId2"/>
          <a:stretch/>
        </p:blipFill>
        <p:spPr>
          <a:xfrm>
            <a:off x="8099280" y="5754600"/>
            <a:ext cx="685800" cy="601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1044720" y="1486080"/>
            <a:ext cx="2323800" cy="36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Next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2565-B664-429D-88B5-36BE4729058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Noname1"/>
          <p:cNvPicPr/>
          <p:nvPr/>
        </p:nvPicPr>
        <p:blipFill>
          <a:blip r:embed="rId1"/>
          <a:stretch/>
        </p:blipFill>
        <p:spPr>
          <a:xfrm>
            <a:off x="5435640" y="117360"/>
            <a:ext cx="1295280" cy="5540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554800" y="157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076720" y="2276640"/>
            <a:ext cx="3581640" cy="321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挥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毫毛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Noname2"/>
          <p:cNvPicPr/>
          <p:nvPr/>
        </p:nvPicPr>
        <p:blipFill>
          <a:blip r:embed="rId2"/>
          <a:stretch/>
        </p:blipFill>
        <p:spPr>
          <a:xfrm>
            <a:off x="8170920" y="5826240"/>
            <a:ext cx="685800" cy="601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900000" y="1413000"/>
            <a:ext cx="23907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evt="onNext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6DBD-19B2-4612-8745-8805A504664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Noname1"/>
          <p:cNvPicPr/>
          <p:nvPr/>
        </p:nvPicPr>
        <p:blipFill>
          <a:blip r:embed="rId1"/>
          <a:stretch/>
        </p:blipFill>
        <p:spPr>
          <a:xfrm>
            <a:off x="5435640" y="117360"/>
            <a:ext cx="1295280" cy="5540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5554800" y="157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572000" y="2128680"/>
            <a:ext cx="4114800" cy="26060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邀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应邀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Noname2"/>
          <p:cNvPicPr/>
          <p:nvPr/>
        </p:nvPicPr>
        <p:blipFill>
          <a:blip r:embed="rId2"/>
          <a:stretch/>
        </p:blipFill>
        <p:spPr>
          <a:xfrm>
            <a:off x="8174160" y="5735520"/>
            <a:ext cx="685800" cy="601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1116000" y="1486080"/>
            <a:ext cx="228600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evt="onNext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C9E4-106B-45DA-ABBC-3714F7C6A60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Noname1"/>
          <p:cNvPicPr/>
          <p:nvPr/>
        </p:nvPicPr>
        <p:blipFill>
          <a:blip r:embed="rId1"/>
          <a:stretch/>
        </p:blipFill>
        <p:spPr>
          <a:xfrm>
            <a:off x="5435640" y="117360"/>
            <a:ext cx="1295280" cy="554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5554800" y="157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387680" y="2058840"/>
            <a:ext cx="4219920" cy="26060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肉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果肉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Noname2"/>
          <p:cNvPicPr/>
          <p:nvPr/>
        </p:nvPicPr>
        <p:blipFill>
          <a:blip r:embed="rId2"/>
          <a:stretch/>
        </p:blipFill>
        <p:spPr>
          <a:xfrm>
            <a:off x="8028000" y="5754600"/>
            <a:ext cx="685800" cy="601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971640" y="1341360"/>
            <a:ext cx="23335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evt="onNext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" dur="1" fill="hold"/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416F-535D-479A-9C16-05322F7B7D5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Noname1"/>
          <p:cNvPicPr/>
          <p:nvPr/>
        </p:nvPicPr>
        <p:blipFill>
          <a:blip r:embed="rId1"/>
          <a:stretch/>
        </p:blipFill>
        <p:spPr>
          <a:xfrm>
            <a:off x="5435640" y="117360"/>
            <a:ext cx="1295280" cy="5540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554800" y="157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284720" y="2133720"/>
            <a:ext cx="4689360" cy="26060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理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不理不睬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Noname2"/>
          <p:cNvPicPr/>
          <p:nvPr/>
        </p:nvPicPr>
        <p:blipFill>
          <a:blip r:embed="rId2"/>
          <a:stretch/>
        </p:blipFill>
        <p:spPr>
          <a:xfrm>
            <a:off x="8102520" y="5735520"/>
            <a:ext cx="685800" cy="601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3"/>
          <a:stretch/>
        </p:blipFill>
        <p:spPr>
          <a:xfrm>
            <a:off x="1116000" y="1486080"/>
            <a:ext cx="23050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evt="onNext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1A81-9D4D-43AD-A44E-7DD20AD57C0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Noname1"/>
          <p:cNvPicPr/>
          <p:nvPr/>
        </p:nvPicPr>
        <p:blipFill>
          <a:blip r:embed="rId1"/>
          <a:stretch/>
        </p:blipFill>
        <p:spPr>
          <a:xfrm>
            <a:off x="5435640" y="117360"/>
            <a:ext cx="1295280" cy="5540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554800" y="157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716360" y="2276640"/>
            <a:ext cx="4175280" cy="286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滚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烫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Noname2"/>
          <p:cNvPicPr/>
          <p:nvPr/>
        </p:nvPicPr>
        <p:blipFill>
          <a:blip r:embed="rId2"/>
          <a:stretch/>
        </p:blipFill>
        <p:spPr>
          <a:xfrm>
            <a:off x="8102520" y="5735520"/>
            <a:ext cx="685800" cy="601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971640" y="1486080"/>
            <a:ext cx="23050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evt="onNext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" dur="1" fill="hold"/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6:15:49Z</dcterms:created>
  <dc:creator>Administrator</dc:creator>
  <dc:description/>
  <cp:keywords/>
  <dc:language>en-US</dc:language>
  <cp:lastModifiedBy>Administrator</cp:lastModifiedBy>
  <dcterms:modified xsi:type="dcterms:W3CDTF">2017-03-09T02:38:05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