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0DD-66BD-4CEC-B829-ACB547A6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9E8-DEB3-4F80-ABC6-68387C49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E37-943D-48BF-8333-750595B9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3FB-8D68-4492-83BF-B337C4E1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74C-B97D-4B9E-AE56-B0019341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1E8-A32C-4091-B843-B543DD59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751-F2F0-4987-A018-F334E07C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0F3-BF57-4E73-8EEF-E48B5511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438-B727-4F8A-B0FF-36C1C878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54E-BC0F-47EF-9332-9C4C4C05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50C-AD57-416D-8A4F-D982909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9B0-3E33-42BD-815A-6CF2A7E4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8306-9649-47E9-B7C3-0698635A7F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195640" y="2708280"/>
            <a:ext cx="489564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585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失踪的森林王国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732680" y="4345200"/>
            <a:ext cx="986040" cy="934920"/>
            <a:chOff x="1732680" y="4345200"/>
            <a:chExt cx="986040" cy="934920"/>
          </a:xfrm>
        </p:grpSpPr>
        <p:sp>
          <p:nvSpPr>
            <p:cNvPr id="43" name="AutoShape 6"/>
            <p:cNvSpPr/>
            <p:nvPr/>
          </p:nvSpPr>
          <p:spPr>
            <a:xfrm rot="1978800">
              <a:off x="1834920" y="4508640"/>
              <a:ext cx="780840" cy="60804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 rot="1978800">
              <a:off x="1857240" y="4527720"/>
              <a:ext cx="736920" cy="5576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预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3205440" y="4924080"/>
            <a:ext cx="933120" cy="843480"/>
            <a:chOff x="3205440" y="4924080"/>
            <a:chExt cx="933120" cy="843480"/>
          </a:xfrm>
        </p:grpSpPr>
        <p:sp>
          <p:nvSpPr>
            <p:cNvPr id="46" name="AutoShape 9"/>
            <p:cNvSpPr/>
            <p:nvPr/>
          </p:nvSpPr>
          <p:spPr>
            <a:xfrm rot="878400">
              <a:off x="3276360" y="5013000"/>
              <a:ext cx="790560" cy="66528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0"/>
            <p:cNvSpPr/>
            <p:nvPr/>
          </p:nvSpPr>
          <p:spPr>
            <a:xfrm rot="878400">
              <a:off x="3297600" y="5034240"/>
              <a:ext cx="746280" cy="6098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Arial"/>
                  <a:ea typeface="华文新魏"/>
                </a:rPr>
                <a:t>详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6214680" y="4261680"/>
            <a:ext cx="966240" cy="901080"/>
            <a:chOff x="6214680" y="4261680"/>
            <a:chExt cx="966240" cy="901080"/>
          </a:xfrm>
        </p:grpSpPr>
        <p:sp>
          <p:nvSpPr>
            <p:cNvPr id="49" name="AutoShape 12"/>
            <p:cNvSpPr/>
            <p:nvPr/>
          </p:nvSpPr>
          <p:spPr>
            <a:xfrm rot="19554000">
              <a:off x="6300720" y="4436640"/>
              <a:ext cx="793800" cy="550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3"/>
            <p:cNvSpPr/>
            <p:nvPr/>
          </p:nvSpPr>
          <p:spPr>
            <a:xfrm rot="19554000">
              <a:off x="6317640" y="4457160"/>
              <a:ext cx="749160" cy="50508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4851000" y="4881960"/>
            <a:ext cx="953640" cy="840600"/>
            <a:chOff x="4851000" y="4881960"/>
            <a:chExt cx="953640" cy="840600"/>
          </a:xfrm>
        </p:grpSpPr>
        <p:sp>
          <p:nvSpPr>
            <p:cNvPr id="52" name="AutoShape 15"/>
            <p:cNvSpPr/>
            <p:nvPr/>
          </p:nvSpPr>
          <p:spPr>
            <a:xfrm rot="20220000">
              <a:off x="4932360" y="5013360"/>
              <a:ext cx="790560" cy="577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6"/>
            <p:cNvSpPr/>
            <p:nvPr/>
          </p:nvSpPr>
          <p:spPr>
            <a:xfrm rot="20220000">
              <a:off x="4950000" y="5033520"/>
              <a:ext cx="746280" cy="52992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写法点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1640" y="2133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森林王国的百姓安居乐业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庄稼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狩猎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织布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捕鱼，生活中充满了笑声和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47640" y="4508640"/>
            <a:ext cx="7128000" cy="1441440"/>
          </a:xfrm>
          <a:prstGeom prst="wedgeEllipseCallout">
            <a:avLst>
              <a:gd name="adj1" fmla="val -36546"/>
              <a:gd name="adj2" fmla="val -148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2c11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b2c11"/>
                </a:solidFill>
                <a:latin typeface="Arial"/>
              </a:rPr>
              <a:t>排比的修辞手法：“有的</a:t>
            </a:r>
            <a:r>
              <a:rPr b="1" lang="en-US" sz="2000" spc="-1" strike="noStrike">
                <a:solidFill>
                  <a:srgbClr val="fb2c11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fb2c11"/>
                </a:solidFill>
                <a:latin typeface="Arial"/>
              </a:rPr>
              <a:t>有的</a:t>
            </a:r>
            <a:r>
              <a:rPr b="1" lang="en-US" sz="2000" spc="-1" strike="noStrike">
                <a:solidFill>
                  <a:srgbClr val="fb2c11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fb2c11"/>
                </a:solidFill>
                <a:latin typeface="Arial"/>
              </a:rPr>
              <a:t>有的</a:t>
            </a:r>
            <a:r>
              <a:rPr b="1" lang="en-US" sz="2000" spc="-1" strike="noStrike">
                <a:solidFill>
                  <a:srgbClr val="fb2c11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fb2c11"/>
                </a:solidFill>
                <a:latin typeface="Arial"/>
              </a:rPr>
              <a:t>有的</a:t>
            </a:r>
            <a:r>
              <a:rPr b="1" lang="en-US" sz="2000" spc="-1" strike="noStrike">
                <a:solidFill>
                  <a:srgbClr val="fb2c11"/>
                </a:solidFill>
                <a:latin typeface="Arial"/>
              </a:rPr>
              <a:t>……”</a:t>
            </a:r>
            <a:r>
              <a:rPr b="1" lang="zh-CN" sz="2000" spc="-1" strike="noStrike">
                <a:solidFill>
                  <a:srgbClr val="fb2c11"/>
                </a:solidFill>
                <a:latin typeface="Arial"/>
              </a:rPr>
              <a:t>写出了森林王国富庶繁荣，百姓安居乐业的景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拓展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4000" y="1844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314100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2c11"/>
                </a:solidFill>
                <a:latin typeface="Arial"/>
              </a:rPr>
              <a:t>草叶上的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FC1C-2A1D-48E1-A922-042D825AA2F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31112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57320" y="646200"/>
            <a:ext cx="4586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95280" y="836640"/>
            <a:ext cx="4535640" cy="63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叶上的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大森林里有块草坪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一块绿茸茸的草坪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一块亮晶晶的草坪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一块笑盈盈的草坪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当春雨们淅淅沥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拥挤着跳下云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沉思了一冬的大森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睁开了明亮的眼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多美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绿茸茸的草坪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溢出春光的一只瞳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当清凉如水的微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追赶着金色的黎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草叶上酣睡的露珠们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快乐地探身相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859280" y="1268280"/>
            <a:ext cx="40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多好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亮晶晶的草坪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映照春色的一面明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当木瓜落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蚱蜢腾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蟋蟀们发出欢快的笑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蝴蝶和蜜蜂醉入花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草尖上晴蜓舞步轻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多甜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笑盈盈的草坪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大森林颊上深情的酒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大森林里有块草坪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一片温柔的和平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一个搏动的生命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一朵绿色的云影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带着奶浆味的草香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飘进我们金色的梦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心灵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7596360" y="5661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14030" y="3837"/>
                </a:moveTo>
                <a:lnTo>
                  <a:pt x="16606" y="6448"/>
                </a:ln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lnTo>
                  <a:pt x="20993" y="10800"/>
                </a:lnTo>
                <a:lnTo>
                  <a:pt x="19339" y="10800"/>
                </a:lnTo>
                <a:lnTo>
                  <a:pt x="19339" y="17989"/>
                </a:lnTo>
                <a:lnTo>
                  <a:pt x="8720" y="17989"/>
                </a:lnTo>
                <a:lnTo>
                  <a:pt x="8720" y="10800"/>
                </a:lnTo>
                <a:lnTo>
                  <a:pt x="7067" y="10800"/>
                </a:lnTo>
                <a:close/>
              </a:path>
              <a:path fill="darkenLess" w="28060" h="21600">
                <a:moveTo>
                  <a:pt x="16606" y="6448"/>
                </a:move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close/>
              </a:path>
              <a:path fill="darkenLess" w="28060" h="21600">
                <a:moveTo>
                  <a:pt x="13107" y="14299"/>
                </a:moveTo>
                <a:lnTo>
                  <a:pt x="14952" y="14299"/>
                </a:lnTo>
                <a:lnTo>
                  <a:pt x="14952" y="17989"/>
                </a:lnTo>
                <a:lnTo>
                  <a:pt x="19339" y="17989"/>
                </a:lnTo>
                <a:lnTo>
                  <a:pt x="19339" y="10800"/>
                </a:lnTo>
                <a:lnTo>
                  <a:pt x="8720" y="10800"/>
                </a:lnTo>
                <a:lnTo>
                  <a:pt x="8720" y="17989"/>
                </a:lnTo>
                <a:lnTo>
                  <a:pt x="1310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1989000"/>
            <a:ext cx="7202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天空的幸福是穿一身蓝，森林的幸福是披一身绿，我们的幸福不只在于衣食享乐，而是拥有美丽的森林。大自然是我们最好的朋友，从我们的生活细节做起，保护我们赖以生存的空间！这是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失踪的森林王国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篇课文给我们带来的启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B660-8CCE-4E56-81C3-2235661EDFF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1700280"/>
            <a:ext cx="792000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笔：</a:t>
            </a:r>
            <a:r>
              <a:rPr b="1" lang="zh-CN" sz="3600" spc="-1" strike="noStrike">
                <a:solidFill>
                  <a:srgbClr val="fb2c11"/>
                </a:solidFill>
                <a:latin typeface="楷体"/>
                <a:ea typeface="楷体"/>
              </a:rPr>
              <a:t>想象你走进了大森林</a:t>
            </a:r>
            <a:r>
              <a:rPr b="1" lang="en-US" sz="3600" spc="-1" strike="noStrike">
                <a:solidFill>
                  <a:srgbClr val="fb2c11"/>
                </a:solidFill>
                <a:latin typeface="楷体"/>
                <a:ea typeface="楷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你走进大森林里看到了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想到了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了些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自己的话写一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596360" y="5661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14030" y="3837"/>
                </a:moveTo>
                <a:lnTo>
                  <a:pt x="16606" y="6448"/>
                </a:ln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lnTo>
                  <a:pt x="20993" y="10800"/>
                </a:lnTo>
                <a:lnTo>
                  <a:pt x="19339" y="10800"/>
                </a:lnTo>
                <a:lnTo>
                  <a:pt x="19339" y="17989"/>
                </a:lnTo>
                <a:lnTo>
                  <a:pt x="8720" y="17989"/>
                </a:lnTo>
                <a:lnTo>
                  <a:pt x="8720" y="10800"/>
                </a:lnTo>
                <a:lnTo>
                  <a:pt x="7067" y="10800"/>
                </a:lnTo>
                <a:close/>
              </a:path>
              <a:path fill="darkenLess" w="28060" h="21600">
                <a:moveTo>
                  <a:pt x="16606" y="6448"/>
                </a:move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close/>
              </a:path>
              <a:path fill="darkenLess" w="28060" h="21600">
                <a:moveTo>
                  <a:pt x="13107" y="14299"/>
                </a:moveTo>
                <a:lnTo>
                  <a:pt x="14952" y="14299"/>
                </a:lnTo>
                <a:lnTo>
                  <a:pt x="14952" y="17989"/>
                </a:lnTo>
                <a:lnTo>
                  <a:pt x="19339" y="17989"/>
                </a:lnTo>
                <a:lnTo>
                  <a:pt x="19339" y="10800"/>
                </a:lnTo>
                <a:lnTo>
                  <a:pt x="8720" y="10800"/>
                </a:lnTo>
                <a:lnTo>
                  <a:pt x="8720" y="17989"/>
                </a:lnTo>
                <a:lnTo>
                  <a:pt x="1310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14440" y="99972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98989"/>
                </a:solidFill>
                <a:latin typeface="方正卡通简体"/>
                <a:ea typeface="方正卡通简体"/>
              </a:rPr>
              <a:t>资料宝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140360" y="1844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2c11"/>
                </a:solidFill>
                <a:latin typeface="Arial"/>
              </a:rPr>
              <a:t>森林知道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24360" y="249552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现在全球每年有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600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万公顷的土地沦为沙漠，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万公顷森林在消失，平均一小时有一种物种在灭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。我国森林面积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89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公顷，全国森林覆盖率达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，森林蓄积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亿立方米。全国除香港、澳门、台湾地区外，人工林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6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公顷，居世界首位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爱护环境，已成为全人类共同关心的问题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64355117e2e8555c275b110c634afba3"/>
          <p:cNvPicPr/>
          <p:nvPr/>
        </p:nvPicPr>
        <p:blipFill>
          <a:blip r:embed="rId1"/>
          <a:stretch/>
        </p:blipFill>
        <p:spPr>
          <a:xfrm>
            <a:off x="252360" y="1773360"/>
            <a:ext cx="345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C84F-F576-44C9-90DE-D7301AC5BAC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2340000" y="2349360"/>
            <a:ext cx="47512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丽富饶      鲜花开放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悠来荡去      婉转动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居乐业     参天大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树浓荫      鸟语花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124000" y="1773360"/>
            <a:ext cx="8732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7883640" y="5805360"/>
            <a:ext cx="865080" cy="505080"/>
          </a:xfrm>
          <a:custGeom>
            <a:avLst/>
            <a:gdLst>
              <a:gd name="textAreaLeft" fmla="*/ 32760 w 865080"/>
              <a:gd name="textAreaRight" fmla="*/ 832680 w 86508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6985" h="21600">
                <a:moveTo>
                  <a:pt x="0" y="0"/>
                </a:moveTo>
                <a:lnTo>
                  <a:pt x="36985" y="0"/>
                </a:lnTo>
                <a:lnTo>
                  <a:pt x="36985" y="21600"/>
                </a:lnTo>
                <a:lnTo>
                  <a:pt x="0" y="21600"/>
                </a:lnTo>
                <a:close/>
              </a:path>
              <a:path fill="lightenLess" w="36985" h="21600">
                <a:moveTo>
                  <a:pt x="0" y="0"/>
                </a:moveTo>
                <a:lnTo>
                  <a:pt x="36985" y="0"/>
                </a:lnTo>
                <a:lnTo>
                  <a:pt x="35585" y="1400"/>
                </a:lnTo>
                <a:lnTo>
                  <a:pt x="1400" y="1400"/>
                </a:lnTo>
                <a:close/>
              </a:path>
              <a:path fill="darken" w="36985" h="21600">
                <a:moveTo>
                  <a:pt x="36985" y="0"/>
                </a:moveTo>
                <a:lnTo>
                  <a:pt x="36985" y="21600"/>
                </a:lnTo>
                <a:lnTo>
                  <a:pt x="35585" y="20200"/>
                </a:lnTo>
                <a:lnTo>
                  <a:pt x="35585" y="1400"/>
                </a:lnTo>
                <a:close/>
              </a:path>
              <a:path fill="darkenLess" w="36985" h="21600">
                <a:moveTo>
                  <a:pt x="36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85" y="20200"/>
                </a:lnTo>
                <a:close/>
              </a:path>
              <a:path fill="lighten" w="36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85" h="21600">
                <a:moveTo>
                  <a:pt x="11486" y="7493"/>
                </a:moveTo>
                <a:lnTo>
                  <a:pt x="14993" y="7493"/>
                </a:lnTo>
                <a:lnTo>
                  <a:pt x="14993" y="12828"/>
                </a:lnTo>
                <a:cubicBezTo>
                  <a:pt x="14993" y="13751"/>
                  <a:pt x="15794" y="14482"/>
                  <a:pt x="16830" y="14482"/>
                </a:cubicBezTo>
                <a:lnTo>
                  <a:pt x="18492" y="14482"/>
                </a:lnTo>
                <a:cubicBezTo>
                  <a:pt x="19528" y="14482"/>
                  <a:pt x="20329" y="13751"/>
                  <a:pt x="20329" y="12828"/>
                </a:cubicBezTo>
                <a:lnTo>
                  <a:pt x="20329" y="7493"/>
                </a:lnTo>
                <a:lnTo>
                  <a:pt x="18492" y="7493"/>
                </a:lnTo>
                <a:lnTo>
                  <a:pt x="22000" y="3985"/>
                </a:lnTo>
                <a:lnTo>
                  <a:pt x="25673" y="7493"/>
                </a:lnTo>
                <a:lnTo>
                  <a:pt x="23836" y="7493"/>
                </a:lnTo>
                <a:lnTo>
                  <a:pt x="23836" y="12828"/>
                </a:lnTo>
                <a:cubicBezTo>
                  <a:pt x="23836" y="15596"/>
                  <a:pt x="21260" y="18155"/>
                  <a:pt x="18492" y="18155"/>
                </a:cubicBezTo>
                <a:lnTo>
                  <a:pt x="16830" y="18155"/>
                </a:lnTo>
                <a:cubicBezTo>
                  <a:pt x="14062" y="18155"/>
                  <a:pt x="11486" y="15596"/>
                  <a:pt x="1148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55640" y="2205000"/>
            <a:ext cx="74883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散逃命     混浊不堪      委靡不振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昏地暗     背井离乡     无影无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失声痛哭      四处逃荒      跃跃欲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预习</a:t>
            </a: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24000" y="2781360"/>
            <a:ext cx="684036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置若罔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萎靡不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耿耿于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71640" y="206064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c11"/>
                </a:solidFill>
                <a:latin typeface="Arial"/>
              </a:rPr>
              <a:t>这些词语你知道它们的意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627280" y="2924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放在一边，好像没有听见似的。指不予理睬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置，放，摆。若，好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556000" y="4076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形容精神不振，意志消沉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萎靡，颓丧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700360" y="515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不能忘怀，牵萦于心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耿耿，有心事的样子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74F2-DB57-4E74-B75F-D80E9FCF046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187280" y="2133720"/>
            <a:ext cx="71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8000" y="2781360"/>
            <a:ext cx="895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435640" y="4797360"/>
            <a:ext cx="345744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116000" y="1773360"/>
            <a:ext cx="82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读课文，想想课文主要讲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7596360" y="5661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14030" y="3837"/>
                </a:moveTo>
                <a:lnTo>
                  <a:pt x="16606" y="6448"/>
                </a:ln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lnTo>
                  <a:pt x="20993" y="10800"/>
                </a:lnTo>
                <a:lnTo>
                  <a:pt x="19339" y="10800"/>
                </a:lnTo>
                <a:lnTo>
                  <a:pt x="19339" y="17989"/>
                </a:lnTo>
                <a:lnTo>
                  <a:pt x="8720" y="17989"/>
                </a:lnTo>
                <a:lnTo>
                  <a:pt x="8720" y="10800"/>
                </a:lnTo>
                <a:lnTo>
                  <a:pt x="7067" y="10800"/>
                </a:lnTo>
                <a:close/>
              </a:path>
              <a:path fill="darkenLess" w="28060" h="21600">
                <a:moveTo>
                  <a:pt x="16606" y="6448"/>
                </a:moveTo>
                <a:lnTo>
                  <a:pt x="16606" y="4707"/>
                </a:lnTo>
                <a:lnTo>
                  <a:pt x="18382" y="4707"/>
                </a:lnTo>
                <a:lnTo>
                  <a:pt x="18382" y="8224"/>
                </a:lnTo>
                <a:close/>
              </a:path>
              <a:path fill="darkenLess" w="28060" h="21600">
                <a:moveTo>
                  <a:pt x="13107" y="14299"/>
                </a:moveTo>
                <a:lnTo>
                  <a:pt x="14952" y="14299"/>
                </a:lnTo>
                <a:lnTo>
                  <a:pt x="14952" y="17989"/>
                </a:lnTo>
                <a:lnTo>
                  <a:pt x="19339" y="17989"/>
                </a:lnTo>
                <a:lnTo>
                  <a:pt x="19339" y="10800"/>
                </a:lnTo>
                <a:lnTo>
                  <a:pt x="8720" y="10800"/>
                </a:lnTo>
                <a:lnTo>
                  <a:pt x="8720" y="17989"/>
                </a:lnTo>
                <a:lnTo>
                  <a:pt x="1310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52360" y="2924280"/>
            <a:ext cx="83520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这篇课文主要写很久以前，森林王国的国王下令</a:t>
            </a:r>
            <a:r>
              <a:rPr b="1" lang="zh-CN" sz="3200" spc="-1" strike="noStrike">
                <a:solidFill>
                  <a:srgbClr val="fb2c11"/>
                </a:solidFill>
                <a:latin typeface="Calibri"/>
                <a:ea typeface="楷体_GB2312"/>
              </a:rPr>
              <a:t>不准乱砍树木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，森林王国</a:t>
            </a:r>
            <a:r>
              <a:rPr b="1" lang="zh-CN" sz="3200" spc="-1" strike="noStrike">
                <a:solidFill>
                  <a:srgbClr val="fb2c11"/>
                </a:solidFill>
                <a:latin typeface="Calibri"/>
                <a:ea typeface="楷体_GB2312"/>
              </a:rPr>
              <a:t>美丽富饶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。可当新国王上台后，</a:t>
            </a:r>
            <a:r>
              <a:rPr b="1" lang="zh-CN" sz="3200" spc="-1" strike="noStrike">
                <a:solidFill>
                  <a:srgbClr val="fb2c11"/>
                </a:solidFill>
                <a:latin typeface="Calibri"/>
                <a:ea typeface="楷体_GB2312"/>
              </a:rPr>
              <a:t>砍树建新王国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，结果</a:t>
            </a:r>
            <a:r>
              <a:rPr b="1" lang="zh-CN" sz="3200" spc="-1" strike="noStrike">
                <a:solidFill>
                  <a:srgbClr val="fb2c11"/>
                </a:solidFill>
                <a:latin typeface="Calibri"/>
                <a:ea typeface="楷体_GB2312"/>
              </a:rPr>
              <a:t>自然灾害不断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，森林王国很快</a:t>
            </a:r>
            <a:r>
              <a:rPr b="1" lang="zh-CN" sz="3200" spc="-1" strike="noStrike">
                <a:solidFill>
                  <a:srgbClr val="fb2c11"/>
                </a:solidFill>
                <a:latin typeface="Calibri"/>
                <a:ea typeface="楷体_GB2312"/>
              </a:rPr>
              <a:t>就消失了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课文解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24000" y="2006640"/>
            <a:ext cx="845964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193b65"/>
                </a:solidFill>
                <a:latin typeface="楷体"/>
                <a:ea typeface="楷体"/>
              </a:rPr>
              <a:t>《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失踪的森林王国》是一篇童话故事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文共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自然段，按“老国王在位时”和“新国王上台后”分为两部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描写了森林王国富庶繁荣，百姓安居乐业的景象以及如此美丽富饶的原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何人不得乱砍树木”。这条法令十分严格，国王的儿子曾不小心触犯了法律，遭受了皮鞭之苦。这个事件是森林王国失踪的导火索。新国王上台后，对特别法令怀恨在心，他听信了远方客人的建议砍树造楼，妖魔鬼怪乘机而入 ，百姓背井离乡，森林王国从此失踪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93b65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CE06-E921-48F4-BAE5-8A3679ED0E8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611280" y="2205000"/>
            <a:ext cx="23749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第一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第二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627280" y="2276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1-2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）写老国王在位时，森林里欣欣向荣，生机勃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627280" y="4365720"/>
            <a:ext cx="5832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3-12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）写新国王上台后，砍树建新国，结果自然灾害不断，森林王国消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内容占位符 2"/>
          <p:cNvSpPr/>
          <p:nvPr/>
        </p:nvSpPr>
        <p:spPr>
          <a:xfrm>
            <a:off x="3276720" y="981000"/>
            <a:ext cx="22129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结构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主题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971640" y="2349360"/>
            <a:ext cx="7920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这篇课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通过对森林王国失踪前后的描写，说明乱砍滥伐给人类带来的灾害，告诉人们要保护大自然，热爱大自然，树立环保意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6:15:49Z</dcterms:created>
  <dc:creator>Administrator</dc:creator>
  <dc:description/>
  <cp:keywords/>
  <dc:language>en-US</dc:language>
  <cp:lastModifiedBy>Administrator</cp:lastModifiedBy>
  <dcterms:modified xsi:type="dcterms:W3CDTF">2017-03-09T02:46:14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