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4BB2-D253-463E-A700-345A249E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DD5-9D3B-4929-A472-B45F55B9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560-026F-49AB-8E97-66B9E337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6D2-2B64-43A6-ADBD-606CFF2B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E37D-DB62-4CFD-A3D4-41127525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EB33-0C42-42CE-B4B9-8E53FD0C2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E0B70-111C-41C1-AC67-EC589502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F3D51-A3D8-4353-A296-DA3FD362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DBDE-C430-4E0F-B87C-65FC54FC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3FC3-6535-4162-BB4D-2D1AFD09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E72C-918B-4D96-BD86-95AE910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8520-ADF2-49F8-AAFD-7AF8875F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677C-8692-4829-B4E8-049E6A22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63ADA-E946-4C9C-9170-DA63E8AB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17DE-5879-4305-9402-43CA671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4F23-AD42-498C-B2B1-59AF622A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D0FC-BF7D-44BF-9E4B-42F8398F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FF3B-D9C4-4C00-BFA3-CA9E2F22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5FCF-9DFB-4AC3-90BF-DB71BBA4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02C-D951-4058-80AB-691A6C3F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AC10-1250-4EBF-8FD6-E613E8E3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62B-8145-44EB-8694-1BDC5835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6E2-6A21-4869-9FBC-12131223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2AA-15A7-44AB-8374-136E34FE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13FD-14AB-41E4-8136-F4341E85C5A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4D63-BAD2-4AE4-91EE-2D9C6B5DAA0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图片1"/>
          <p:cNvPicPr/>
          <p:nvPr/>
        </p:nvPicPr>
        <p:blipFill>
          <a:blip r:embed="rId1"/>
          <a:stretch/>
        </p:blipFill>
        <p:spPr>
          <a:xfrm>
            <a:off x="679320" y="1365120"/>
            <a:ext cx="778356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拓展提高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0" lang="zh-CN" sz="5400" spc="-1" strike="noStrike">
                <a:solidFill>
                  <a:srgbClr val="5b5249"/>
                </a:solidFill>
                <a:latin typeface="Times New Roman"/>
              </a:rPr>
              <a:t>东郭先生与狼</a:t>
            </a: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0" lang="zh-CN" sz="5400" spc="-1" strike="noStrike">
                <a:solidFill>
                  <a:srgbClr val="5b5249"/>
                </a:solidFill>
                <a:latin typeface="Times New Roman"/>
              </a:rPr>
              <a:t>和</a:t>
            </a: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0" lang="zh-CN" sz="5400" spc="-1" strike="noStrike">
                <a:solidFill>
                  <a:srgbClr val="5b5249"/>
                </a:solidFill>
                <a:latin typeface="Times New Roman"/>
              </a:rPr>
              <a:t>渔夫的故事</a:t>
            </a: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0" lang="zh-CN" sz="5400" spc="-1" strike="noStrike">
                <a:solidFill>
                  <a:srgbClr val="5b5249"/>
                </a:solidFill>
                <a:latin typeface="Times New Roman"/>
              </a:rPr>
              <a:t>颇为相似，前者主要批判的是谁？告诉的道理与后者完全相同吗？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达标检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下列加点字读音无误的一项是（）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斧锯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ù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屠宰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zāi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愚蠢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chǔn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拐杖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zhàng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退避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ì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仁慈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cī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C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作揖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j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ī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拮据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ji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é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答应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yìng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D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禽兽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qín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捅死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tǒng</a:t>
            </a: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啰唆</a:t>
            </a:r>
            <a:r>
              <a:rPr b="0" lang="en-US" sz="4400" spc="-1" strike="noStrike">
                <a:solidFill>
                  <a:srgbClr val="5b5249"/>
                </a:solidFill>
                <a:latin typeface="Times New Roman"/>
              </a:rPr>
              <a:t>luō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724360" y="1268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55816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达标检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比较形近字组词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抡 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抢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--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犹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-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忧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--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添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-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舔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--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marL="429480" indent="-42948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赛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-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塞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-----------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图片2"/>
          <p:cNvPicPr/>
          <p:nvPr/>
        </p:nvPicPr>
        <p:blipFill>
          <a:blip r:embed="rId1"/>
          <a:stretch/>
        </p:blipFill>
        <p:spPr>
          <a:xfrm>
            <a:off x="676440" y="1365120"/>
            <a:ext cx="7791120" cy="41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图片3"/>
          <p:cNvPicPr/>
          <p:nvPr/>
        </p:nvPicPr>
        <p:blipFill>
          <a:blip r:embed="rId1"/>
          <a:stretch/>
        </p:blipFill>
        <p:spPr>
          <a:xfrm>
            <a:off x="971640" y="1197000"/>
            <a:ext cx="778032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a3d7a"/>
                </a:solidFill>
                <a:latin typeface="隶书"/>
                <a:ea typeface="隶书"/>
              </a:rPr>
              <a:t>东郭先生和狼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14800" y="42667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华文隶书"/>
                <a:ea typeface="华文隶书"/>
              </a:rPr>
              <a:t>                 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2a3d7a"/>
                </a:solidFill>
                <a:latin typeface="Times New Roman"/>
              </a:rPr>
              <a:t>学习目标</a:t>
            </a: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了解故事情节，体会寓意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分角色朗读，理解文章主要运用对话描写来体现人物性格特点的方法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1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b5249"/>
                </a:solidFill>
                <a:latin typeface="Times New Roman"/>
              </a:rPr>
              <a:t>正确对待生活中的恶人和受难的人。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2a3d7a"/>
                </a:solidFill>
                <a:latin typeface="Times New Roman"/>
              </a:rPr>
              <a:t>我能读准</a:t>
            </a: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b5249"/>
                </a:solidFill>
                <a:latin typeface="Times New Roman"/>
              </a:rPr>
              <a:t>仁慈   </a:t>
            </a:r>
            <a:r>
              <a:rPr b="0" lang="en-US" sz="6000" spc="-1" strike="noStrike">
                <a:solidFill>
                  <a:srgbClr val="5b5249"/>
                </a:solidFill>
                <a:latin typeface="Times New Roman"/>
              </a:rPr>
              <a:t>cí               </a:t>
            </a:r>
            <a:r>
              <a:rPr b="0" lang="zh-CN" sz="6000" spc="-1" strike="noStrike">
                <a:solidFill>
                  <a:srgbClr val="5b5249"/>
                </a:solidFill>
                <a:latin typeface="Times New Roman"/>
              </a:rPr>
              <a:t>作揖</a:t>
            </a:r>
            <a:r>
              <a:rPr b="0" lang="en-US" sz="6000" spc="-1" strike="noStrike">
                <a:solidFill>
                  <a:srgbClr val="5b5249"/>
                </a:solidFill>
                <a:latin typeface="Times New Roman"/>
              </a:rPr>
              <a:t>yī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b5249"/>
                </a:solidFill>
                <a:latin typeface="Times New Roman"/>
              </a:rPr>
              <a:t>拐杖  </a:t>
            </a:r>
            <a:r>
              <a:rPr b="0" lang="en-US" sz="6000" spc="-1" strike="noStrike">
                <a:solidFill>
                  <a:srgbClr val="5b5249"/>
                </a:solidFill>
                <a:latin typeface="Times New Roman"/>
              </a:rPr>
              <a:t>guǎi             </a:t>
            </a:r>
            <a:r>
              <a:rPr b="0" lang="zh-CN" sz="6000" spc="-1" strike="noStrike">
                <a:solidFill>
                  <a:srgbClr val="5b5249"/>
                </a:solidFill>
                <a:latin typeface="Times New Roman"/>
              </a:rPr>
              <a:t>退避三舍</a:t>
            </a:r>
            <a:r>
              <a:rPr b="0" lang="en-US" sz="6000" spc="-1" strike="noStrike">
                <a:solidFill>
                  <a:srgbClr val="5b5249"/>
                </a:solidFill>
                <a:latin typeface="Times New Roman"/>
              </a:rPr>
              <a:t>bì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-452520">
              <a:spcBef>
                <a:spcPts val="15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b5249"/>
                </a:solidFill>
                <a:latin typeface="Times New Roman"/>
              </a:rPr>
              <a:t>斧锯</a:t>
            </a:r>
            <a:r>
              <a:rPr b="0" lang="en-US" sz="6000" spc="-1" strike="noStrike">
                <a:solidFill>
                  <a:srgbClr val="5b5249"/>
                </a:solidFill>
                <a:latin typeface="Times New Roman"/>
              </a:rPr>
              <a:t>jù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自主学习（一）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5400" spc="-1" strike="noStrike">
                <a:solidFill>
                  <a:srgbClr val="5b5249"/>
                </a:solidFill>
                <a:latin typeface="Times New Roman"/>
              </a:rPr>
              <a:t>速读课文，并用一句话来概括本文的主要内容和寓意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3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5400" spc="-1" strike="noStrike">
                <a:solidFill>
                  <a:srgbClr val="5b5249"/>
                </a:solidFill>
                <a:latin typeface="Times New Roman"/>
              </a:rPr>
              <a:t>狼和东郭先生给我们留下了怎样的形象？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85800" y="18288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隶书"/>
                <a:ea typeface="隶书"/>
              </a:rPr>
              <a:t>东郭先生         狼            猎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895480" y="102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救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638680" y="10206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追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2895480" y="26668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819520" y="42670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老农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066680" y="32306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教育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4267080" y="32767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隶书"/>
              </a:rPr>
              <a:t>打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2514600" y="2057400"/>
            <a:ext cx="1676520" cy="228600"/>
          </a:xfrm>
          <a:prstGeom prst="leftRightArrow">
            <a:avLst>
              <a:gd name="adj1" fmla="val 50000"/>
              <a:gd name="adj2" fmla="val 145998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Line 11"/>
          <p:cNvSpPr/>
          <p:nvPr/>
        </p:nvSpPr>
        <p:spPr>
          <a:xfrm flipH="1">
            <a:off x="5181120" y="2133720"/>
            <a:ext cx="1600200" cy="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Line 13"/>
          <p:cNvSpPr/>
          <p:nvPr/>
        </p:nvSpPr>
        <p:spPr>
          <a:xfrm flipH="1" flipV="1">
            <a:off x="1752120" y="2514600"/>
            <a:ext cx="1143000" cy="1828800"/>
          </a:xfrm>
          <a:prstGeom prst="line">
            <a:avLst/>
          </a:prstGeom>
          <a:ln w="2844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3505320" y="2514600"/>
            <a:ext cx="838080" cy="175248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914400" y="52578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b47b8"/>
                </a:solidFill>
                <a:latin typeface="Times New Roman"/>
                <a:ea typeface="隶书"/>
              </a:rPr>
              <a:t>寓意：我们不该怜悯像狼一样的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a3d7a"/>
                </a:solidFill>
                <a:latin typeface="Times New Roman"/>
              </a:rPr>
              <a:t>比较探究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1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在小学语文课本中我们同样学过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《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东郭先生与狼</a:t>
            </a:r>
            <a:r>
              <a:rPr b="0" lang="en-US" sz="4800" spc="-1" strike="noStrike">
                <a:solidFill>
                  <a:srgbClr val="5b5249"/>
                </a:solidFill>
                <a:latin typeface="Times New Roman"/>
              </a:rPr>
              <a:t>》</a:t>
            </a: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看看有什么不同？这采用了什么写作手法？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318840" y="53467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5b5249"/>
                </a:solidFill>
                <a:latin typeface="Times New Roman"/>
              </a:rPr>
              <a:t>延宕（卖关子）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03:28:05Z</dcterms:created>
  <dc:creator/>
  <dc:description/>
  <dc:language>en-US</dc:language>
  <cp:lastModifiedBy/>
  <dcterms:modified xsi:type="dcterms:W3CDTF">2017-01-16T03:28:06Z</dcterms:modified>
  <cp:revision>1</cp:revision>
  <dc:subject/>
  <dc:title/>
</cp:coreProperties>
</file>