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50F-C752-4181-8A03-12477600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D45-97BD-4B70-B7FF-3F619A89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DA1-DEFC-47BD-A3EE-A1AE76DD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27A-0C1E-4A61-AE2B-A6E472E1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E9C-F94B-4F7E-A662-69E5A096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7EE-FF83-4D45-BAC7-9918DFC0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9C4-5DC1-40C1-B9E8-016520D7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693-F352-41FC-805C-ED349922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003-BF8E-4F4E-8366-C364241C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20F-F84B-47BB-BF30-EA90DE0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D89-7F49-487E-B16F-72C9A5E4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53F-948C-43A1-939B-B06B1132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5041-5BEE-4086-B76A-FE1CED679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从此，小男孩边刻苦读书，边抽空到餐馆洗盘刷碗，辛勤打工挣钱。不知洗了多少盘子和碗，不知流了多少汗水，他终于挣足了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2.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美元，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自豪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地把钱交到了父亲手里。父亲拍着他的脑袋欣慰地说：“一个能为自己过失负责的人，将来是会有出息的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小男孩就是后来成为美国总统的里根。他在回忆这件事时，深有感触地说：“通过自己的劳动来承担过失，使我懂得了什么叫责任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4800600" y="3352680"/>
            <a:ext cx="358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914400" y="3886200"/>
            <a:ext cx="670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209680" y="5486400"/>
            <a:ext cx="5791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990720" y="6019920"/>
            <a:ext cx="4724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1600200" y="914400"/>
            <a:ext cx="6858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90720" y="1447920"/>
            <a:ext cx="739116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990720" y="1905120"/>
            <a:ext cx="73152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990720" y="2438280"/>
            <a:ext cx="72388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990720" y="2895480"/>
            <a:ext cx="47242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2286000" y="3429000"/>
            <a:ext cx="9144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609480" y="99072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一说：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838080" y="2895480"/>
            <a:ext cx="7772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小朋友，你现在的责任是什么呢？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WordArt 4" descr=""/>
          <p:cNvPicPr/>
          <p:nvPr/>
        </p:nvPicPr>
        <p:blipFill>
          <a:blip r:embed="rId2"/>
          <a:stretch/>
        </p:blipFill>
        <p:spPr>
          <a:xfrm>
            <a:off x="1974960" y="2127240"/>
            <a:ext cx="5108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借助批注自读课文，勾画生字词及你不理解的词语，并认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文章主要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这件事情发生的过程中，小男孩的情感经历了三次变化，在文中找出小男孩情感变化的词语并思考为什么会有这样的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táng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shù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66cc"/>
                </a:solidFill>
                <a:latin typeface="宋体"/>
              </a:rPr>
              <a:t>胸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膛</a:t>
            </a:r>
            <a:r>
              <a:rPr b="1" lang="zh-CN" sz="4000" spc="-1" strike="noStrike">
                <a:solidFill>
                  <a:srgbClr val="0066cc"/>
                </a:solidFill>
                <a:latin typeface="宋体"/>
              </a:rPr>
              <a:t>     宽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恕</a:t>
            </a:r>
            <a:r>
              <a:rPr b="1" lang="zh-CN" sz="4000" spc="-1" strike="noStrike">
                <a:solidFill>
                  <a:srgbClr val="0066cc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66cc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66cc"/>
                </a:solidFill>
                <a:latin typeface="宋体"/>
              </a:rPr>
              <a:t>原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谅</a:t>
            </a:r>
            <a:r>
              <a:rPr b="1" lang="zh-CN" sz="4000" spc="-1" strike="noStrike">
                <a:solidFill>
                  <a:srgbClr val="0066cc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éi   cān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h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66cc"/>
                </a:solidFill>
                <a:latin typeface="宋体"/>
              </a:rPr>
              <a:t>索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赔</a:t>
            </a:r>
            <a:r>
              <a:rPr b="1" lang="en-US" sz="3600" spc="-1" strike="noStrike">
                <a:solidFill>
                  <a:srgbClr val="0066cc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餐</a:t>
            </a:r>
            <a:r>
              <a:rPr b="1" lang="zh-CN" sz="4000" spc="-1" strike="noStrike">
                <a:solidFill>
                  <a:srgbClr val="0066cc"/>
                </a:solidFill>
                <a:latin typeface="宋体"/>
              </a:rPr>
              <a:t> 馆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承</a:t>
            </a:r>
            <a:r>
              <a:rPr b="1" lang="zh-CN" sz="4000" spc="-1" strike="noStrike">
                <a:solidFill>
                  <a:srgbClr val="0066cc"/>
                </a:solidFill>
                <a:latin typeface="宋体"/>
              </a:rPr>
              <a:t> 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647712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天，小男孩与同伴们热火朝天的踢足球，无意打碎了                               ，小男孩认了错，但是老奶奶                   ，小男孩回家把情况告诉了父亲，父亲              。从此，小男孩边               ，边                ，终于                并       地把钱交到了父亲的手里，小男孩明白了父亲的用意，也懂得了什么叫责任，以至于长大以后他成为了一个有出息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78487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657600" y="21337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4952880" y="2666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662940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373392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6248520" y="3581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1676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388620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天，小男孩与同伴们热火朝天的踢足球，无意打碎了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一位老奶奶的窗玻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小男孩认了错，但是老奶奶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执意要小男孩赔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小男孩回家把情况告诉了父亲，父亲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要小男孩为自己的过失负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从此，小男孩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边刻苦读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边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辛勤打工挣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终于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小男孩挣足了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自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把钱交到了父亲的手里，小男孩明白了父亲的用意，也懂得了什么叫责任，以至于长大以后他成为了一个有出息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191120" y="25146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791320" y="29718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91440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1371600" y="38862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1752480" y="42670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4648320" y="4267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990720" y="4724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41911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章中表现小男孩情感变化的词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4000" spc="-1" strike="noStrike">
                <a:solidFill>
                  <a:srgbClr val="00a800"/>
                </a:solidFill>
                <a:latin typeface="宋体"/>
              </a:rPr>
              <a:t>委屈 、委屈而为难、自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4647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天，一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的小男孩，正与同伴们热火朝天地踢足球。他动作灵活，飞起一脚，球似出膛的炮弹射出场外。只听“哗啦”一声，球击碎了一户人家的窗玻璃。户主是一位老太太，她怒气冲冲地从屋里出来，质问是谁干的。小男孩老老实实认了错，请老太太宽恕。可是，老太太怎么也不肯原谅他，并向小男孩索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元。小男孩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委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Administrator\Desktop\IMG_0832(20170325-215339).jpg"/>
          <p:cNvPicPr/>
          <p:nvPr/>
        </p:nvPicPr>
        <p:blipFill>
          <a:blip r:embed="rId2"/>
          <a:stretch/>
        </p:blipFill>
        <p:spPr>
          <a:xfrm>
            <a:off x="4952880" y="380880"/>
            <a:ext cx="396252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4952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闯下大祸的小男孩，自己是拿不出这些钱的，回家向父亲一五一十地报告了实情。父亲深思后说，家里有钱，但是不能给小男孩，小男孩应该对自己的过失负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男孩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委屈而为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说：“爸爸，我知道自己错了，可是我没有钱赔人家，怎么办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父亲掏出钱，严肃地说：“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美元我借给你赔人家，不过一年以后你必须还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Users\Administrator\Desktop\IMG_0831(20170325-215409).jpg"/>
          <p:cNvPicPr/>
          <p:nvPr/>
        </p:nvPicPr>
        <p:blipFill>
          <a:blip r:embed="rId2"/>
          <a:stretch/>
        </p:blipFill>
        <p:spPr>
          <a:xfrm>
            <a:off x="5181480" y="380880"/>
            <a:ext cx="3886200" cy="609624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927000" y="3809880"/>
            <a:ext cx="327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619200" y="4267080"/>
            <a:ext cx="388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95200" y="45720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2295360" y="5029200"/>
            <a:ext cx="2210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457200" y="5562720"/>
            <a:ext cx="426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52440" y="601992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3T07:49:59Z</dcterms:created>
  <dc:creator>dell</dc:creator>
  <dc:description/>
  <dc:language>en-US</dc:language>
  <cp:lastModifiedBy>dell</cp:lastModifiedBy>
  <dcterms:modified xsi:type="dcterms:W3CDTF">2017-04-05T21:33:0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