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53A-6C09-4A18-8ABB-9B754613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0F8-7771-4252-964C-B982FE3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2F7-F1F2-4E2E-BDB4-50056B10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856-1277-421A-96C3-0242CD51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382B-7E56-4AE4-BB1D-71BB81B9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CB38-9CC9-48C4-A8D2-5BB4DF00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C4F8-5C6B-4D6E-A231-F5933AB0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CAB2-C797-44DB-A388-40234D74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C7E-8BAC-47BF-B8AE-5C7BB2C8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0FD9-CB18-4205-B96A-05F6782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287E-02C2-4879-8CBB-92A22189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D51-91FC-42FC-85C5-09FFFA23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2752-B5E0-4AA6-B34B-5BA2C97A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060-7CC3-46C2-BA2A-D0A11924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D8CA-BBA0-4000-9D3E-6CB57B2C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EEF6-2AF9-4183-96E1-EE99AE72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5C9-E8AD-46E0-861B-BA158F70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3C7-8F70-4C0C-BEA1-86E899F0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E31-5C4C-4E39-AF24-E6421F3D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62C-B75C-4B0C-92F8-033585AE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313-F742-48D3-90BF-D14CBB44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5C3-26BD-4C1F-BF4F-73482C62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E83-C45C-4280-9192-0013C0A4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30F-F690-4F71-A617-770EDB9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3300-FBB0-41B1-85FF-4491F35819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E577-286A-4864-8232-6784E6959E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新宋体-18030"/>
                <a:ea typeface="新宋体-18030"/>
              </a:rPr>
              <a:t>菊      花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唐    元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秋丛绕舍似陶家，遍绕篱边日渐斜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Verdana"/>
              </a:rPr>
              <a:t>不是花中偏爱菊，此花开尽更无花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Verdana"/>
              </a:rPr>
              <a:t>梅         花</a:t>
            </a:r>
            <a:br>
              <a:rPr sz="4000"/>
            </a:b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南宋    陆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闻道梅花坼晓风，雪堆遍满四山中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何方可化身千亿，一树梅前一放翁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小花的信念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顾   城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3800" y="1752120"/>
            <a:ext cx="87850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在山石组成的路上</a:t>
            </a: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她们相信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浮起一片小花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最后石头也会发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她们用金黄的微笑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也会粗糙地微笑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来回报石头的冷遇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Verdana"/>
              </a:rPr>
              <a:t>在阳光和树影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</a:rPr>
              <a:t>露出善良的牙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1917720"/>
            <a:ext cx="7308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思考问题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ff"/>
                </a:solidFill>
                <a:latin typeface="Verdana"/>
              </a:rPr>
              <a:t>、路上的小花美吗？美在哪儿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cc0000"/>
                </a:solidFill>
                <a:latin typeface="Verdana"/>
              </a:rPr>
              <a:t>、小花遇到石头怎样的冷遇？石头会怎么说？小花会怎么想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3800" spc="-1" strike="noStrike">
                <a:solidFill>
                  <a:srgbClr val="003366"/>
                </a:solidFill>
                <a:latin typeface="Verdana"/>
              </a:rPr>
              <a:t>、你喜欢路边的小花吗？为什么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根据感悟，再读全诗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Verdana"/>
              </a:rPr>
              <a:t>总    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0" lang="zh-CN" sz="3000" spc="-1" strike="noStrike">
                <a:solidFill>
                  <a:srgbClr val="cc0000"/>
                </a:solidFill>
                <a:latin typeface="Verdana"/>
              </a:rPr>
              <a:t>同学们，我们学习中遇到困难，生活中遇到     挫折怎么办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Verdana"/>
              </a:rPr>
              <a:t>我们应该向小花学习，学习小花的坚强，学习小花的乐观，学习小花的自信，相信困难和挫折只是暂时的，我们有信心有能力有勇气战胜困难，不断取得学习和生活上的一次又一次的进步，一次又一次的成功。只有这样我们才能成人成材，成为生活的强者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作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99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336699"/>
                </a:solidFill>
                <a:latin typeface="Verdana"/>
              </a:rPr>
              <a:t>、仿写《小草的信念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336699"/>
                </a:solidFill>
                <a:latin typeface="Verdana"/>
              </a:rPr>
              <a:t>、抄写全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1:05:20Z</dcterms:created>
  <dc:creator>lenovo</dc:creator>
  <dc:description/>
  <dc:language>en-US</dc:language>
  <cp:lastModifiedBy>微软用户</cp:lastModifiedBy>
  <dcterms:modified xsi:type="dcterms:W3CDTF">2014-11-23T07:10:23Z</dcterms:modified>
  <cp:revision>56</cp:revision>
  <dc:subject/>
  <dc:title>24.2相似三角形的判定（第1课时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