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2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6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0C2-FEF0-48A2-A982-45FCC929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C58-A55A-4207-B438-6DE3CA77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13DA5-5596-4907-BB1F-1E1080B2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1A110-C84A-4A6E-B4B7-CADF5948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F19CB-118F-46DC-9052-52C979CC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96AD8-1142-4D42-BBCF-E23749D8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EFF7D-E717-477E-B579-50B013D6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CE6C6-1A86-4863-8466-EEE9E24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39AA5-F42E-48C9-B999-91B8159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935E8-1FB0-4206-9785-254E3154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287C1-DCC0-4C06-881F-E66C8501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42246-0E02-4828-ACB9-FF30BA38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291-6C07-4B82-A66D-BFFF7B7D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FFA59-0815-44CF-995F-3B671946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E51D1-62B3-4F4A-A7EF-1756817D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2EBDE-E25D-432A-81F6-B11A702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19EB0-6457-42DF-B75D-C1A1FDF1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2345D-F822-4ADE-A399-9B006070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F5793-E2F3-4B35-AC3F-7789956C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03C56-9CB5-4131-A7A5-2BC57749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D9FD3-D5B8-4E6E-A89A-F15537E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63F86-FA54-410B-AD08-7AAAFCBB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C48A7-E28F-4041-B9BD-FA82C230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2F6-400C-4509-88CA-057C0566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A3EA9-6824-46C8-81E7-9593BD05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D4C19-48CA-4629-84EA-FF19A492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4FA54-6CE4-4BEC-BF81-CC7C791C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ED76C-6336-4678-BE67-F7581EAC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672F5-CA58-4662-8053-F3792D88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91DDF-239D-4386-941D-EB92592A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3483D-6F90-4FFA-97B7-DBFD1E88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21923-A59D-4D5F-BFF4-27D9D5AC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478A0-91C6-4BD5-8F01-5ADB6DF2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F1204-8621-4F63-8169-427D4650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BAF6-8385-40BC-8746-D50F8434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AC5EA-BFA6-4A8B-AC0E-36C1D2C3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E5216-3A41-4564-9D9D-1703F92C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F27E2-2F18-4665-AFF3-68BC8304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5D0EB-FA12-4B6C-A316-4F9041A7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2B090-0E8A-470C-8E34-6A96C1E6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5CA29-929D-4935-AEF8-5E607F4C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E8A4B-0972-4D15-B2FA-5405111A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DAFE0-D471-41CF-8E83-B510BE21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031F5-F339-4C6A-A1DC-08022BE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586A0-68E6-4B58-BF71-D2DCFB47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79A6-4DD2-482C-A512-9D143442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29BC7-FC2E-4E4C-B7AD-435C27D8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8E32F-885C-41D5-A8DE-D10637FA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255F4-EACD-4C66-8F83-E1718A32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BF96B-E701-45F5-B525-96AD1F55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44AD7-FA25-4E3D-B588-F349F5B8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ADA6-9C7B-4B15-8836-94D97141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B452-F00C-4E6A-9041-966FEF7E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1468-FCE6-4E12-9264-F049ED93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B09A-8A23-411C-86C6-114B2DDD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E854-B2AC-4B96-952E-CD47E533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129-CA80-4A13-9361-0841F636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A79F-40B8-41C2-A46E-BBB83671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F61A-5AC8-4F08-98E1-377CAF2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6B25-A778-4E38-A362-6DE2463A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749A-17CC-4435-AFA4-4ED817C1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847F-A7ED-4531-BFE4-ECC45922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C904-FE64-4849-A63C-8B0B9CDB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F20E-7B66-4D9E-8598-E21E90EB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7861-720E-468F-931D-E4CF9105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41D2-C4F7-49AB-AA41-BE948A05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F69E-5846-49E1-9B6B-2A3BEE66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E00-5761-4886-ADAD-B10D4CEC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5DF4-C344-44CD-A091-8C758EA3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E6DD-84EE-41DC-8073-680E31A0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45AC-BAAA-4AF8-86DE-7A0DF99F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63FE-05F1-47D3-ADEE-CF2E7FA4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7E3E-D3F1-474D-A5B9-CA5831AB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633F-4177-4AFB-9F06-842DEE82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7FFF-98ED-4504-926F-E8BBAEBA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2303B-1310-4233-A70C-9AD2D0F2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A26BF-F0D5-4741-A6BE-5BC0E481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6252-7520-4420-AD30-846E117F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654-0D81-492D-84C0-D3FD1302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4DD72-1830-4997-878B-5CEF7DA1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3A306-5BED-4FCA-9514-DB1293C7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0D2CA-441B-4BF3-982F-BBC9E1AE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DC44-2F7A-4923-8767-FD8884C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E980-FF6A-4926-824A-9666E36E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D66FB-1D14-464C-A95E-B000B46A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3EB7D-1123-4AAC-BE57-AE92AEB5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F005-23ED-47F6-B1EF-EF24FCA0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C806B-583B-469A-91C2-8E37A9B2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8DCA-1E07-46DB-87A5-88192802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B85-FE8D-46B4-A2C6-997D4C2B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C5F9-2332-480E-B1BA-5B804859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9AB7-BC03-4B97-AC03-65295516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82DC-86A9-49E4-BCA8-9E4E0D7F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6F27-C27C-41A6-B66B-7D909ED7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1620-9CB4-44A6-81F1-43161720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7927-4E32-466E-A82A-A7129A4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1002-ACDB-49CB-A374-41DEA2D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C10B2-D5DC-425C-B708-A0948A26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FEFFE-BC35-4E76-9459-B6A6B9D7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11A39-C6D3-4BBF-B9BF-DB1B3215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98D-7045-4067-A62A-ED95796C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76160-C5AD-4591-8AED-947EAAAC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D9947-68C2-4F9A-B836-A78910C1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84AA-F775-456E-BB52-F87496E7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4650F-DF7C-4149-B422-FACD562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295BB-F4CE-49ED-9E3C-1BEC6A2B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6F73E-85E6-4A9A-8866-6D1EC20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3720-D307-4330-921B-C4C33148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16D0F-A077-49B5-BF30-CC4C2BB7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599F3-21FB-4256-92D6-818F0305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CFAFD-5E5B-41FC-8776-E7C13B81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ED0-8D11-4A8D-8416-4F0EBC18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EAC5-9A25-4E83-BE60-E82ABD68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C7873-F746-4112-A0B3-0A9151B0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F777F-94B3-471E-BD9D-F816B58F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7EA20-BCA9-40B0-A205-F7F8A895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0544B-3253-4EB4-9150-176EC562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854FD-2396-4387-A796-1CD889DF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85B62-AB6F-468D-841E-8D50174B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DD581-ACD8-4EE0-9D30-EEDF0B12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2F29-A62A-499A-A6DC-60FEA4E8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07F6-4651-4DAE-901F-107AE95A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0BF-CD25-4F3A-B62F-7718569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16AC8-A15C-4E19-8F0A-9CCB80F0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16991-FC45-405D-B759-EB64DC51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B9570-8239-4C43-A4B6-5FF0A134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4F0DF-6A93-44BF-BE5F-28CA6466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E7673-08A7-4AB5-904C-8E082528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85C51-1EBD-417D-B525-78AD7A98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0F992-5A83-41E3-A148-3D7161CA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1377E-79D7-41B1-8BEC-751A5338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2FC33-3992-466D-A34D-D3DE97FA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9AF29-F89A-4595-80E3-2770DF0A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39F-2BF3-4899-A12B-069A3A4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9030A-C2C7-43FD-8FBD-3E06ED2F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4734C-0336-4683-8210-6DC1483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5034D-8A98-43A5-AE23-F12D903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B2F0A-0906-4A13-890D-2DEA49C3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2CF0F-1555-4FFD-BC1E-A09F77D6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9C158-3D45-4352-A8C5-72EB71FD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6765A-FFBC-4862-8B21-FC420C33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AC970-2F5E-4C55-BD0D-7032295E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685F0-934D-4F97-A357-3C52FC23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907D9-8E3A-4737-90D4-421DB5BD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0E5C-9AAD-49E0-A281-33B45E178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ADC1-47FE-49C5-8ACA-88D9CCB3B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4066-BF87-4527-85FD-BF6A0683D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5E24-0453-4FCE-AD4A-EB9827166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8DA7-5BEF-476D-AEFA-89504D07F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340-FF5B-4E0F-8B13-A786C5E02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2439-CD4C-4F7F-910E-BC2530144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4C4F-549D-40B3-A872-CFB170412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C666-BF0A-4979-91B1-F41ADF8F4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88EC-CA3F-4AF3-9770-5AC486022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DF9B-EFE8-402F-9F7E-6E5C80480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6518-AD79-455D-8F6E-7ACF153FA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2" descr=""/>
          <p:cNvPicPr/>
          <p:nvPr/>
        </p:nvPicPr>
        <p:blipFill>
          <a:blip r:embed="rId1"/>
          <a:stretch/>
        </p:blipFill>
        <p:spPr>
          <a:xfrm>
            <a:off x="933480" y="706320"/>
            <a:ext cx="7461360" cy="25606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4"/>
          <p:cNvSpPr/>
          <p:nvPr/>
        </p:nvSpPr>
        <p:spPr>
          <a:xfrm>
            <a:off x="3651120" y="468144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课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700" spc="-1" strike="noStrike">
                <a:solidFill>
                  <a:srgbClr val="ff0000"/>
                </a:solidFill>
                <a:latin typeface="Arial"/>
              </a:rPr>
              <a:t>我会读</a:t>
            </a:r>
            <a:endParaRPr b="0" lang="en-US" sz="1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熟悉     扶手      制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载重     几吨      强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747720" y="3063960"/>
            <a:ext cx="54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我知道它们的意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熟悉：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知道得很清楚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324000" y="2276640"/>
            <a:ext cx="72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通行无阻：畅通行走没有阻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304920" y="37339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造句：这个人是我邻居，我很熟悉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380880" y="5105520"/>
            <a:ext cx="820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汽车在宽阔的马路上通行无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我会分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-2/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我们熟悉的桥的材料引起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-5/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具体介绍了各种不同材料造的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叹：这些桥真是奇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990720" y="2813040"/>
            <a:ext cx="610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玻璃造成的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纸张造成的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盐造成的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的收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0" y="198108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辨字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悉（      ）   钢（      ）   吨（      ）   扶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彩（      ）   刚（      ）   顿（      ）   抓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字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制”是（      ）结构的字，用音序查字法，应先查音序（      ），再查音节（      ），组词：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载”是（      ）结构的字，用部首查字法，应先查部首（      ），再查画（      ），组词：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965160" y="2476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熟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900000" y="299736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彩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3132000" y="242100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钢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3203640" y="2997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刚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5580000" y="242100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几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5580000" y="292428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7885080" y="2421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扶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885080" y="2997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抓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2643120" y="392904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2357280" y="435780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6000840" y="4357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755640" y="4724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2571840" y="51436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半包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500200" y="564372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5572080" y="564372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857160" y="592920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载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WordArt 2" descr=""/>
          <p:cNvPicPr/>
          <p:nvPr/>
        </p:nvPicPr>
        <p:blipFill>
          <a:blip r:embed="rId1"/>
          <a:stretch/>
        </p:blipFill>
        <p:spPr>
          <a:xfrm>
            <a:off x="933480" y="706320"/>
            <a:ext cx="7461360" cy="25606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4"/>
          <p:cNvSpPr/>
          <p:nvPr/>
        </p:nvSpPr>
        <p:spPr>
          <a:xfrm>
            <a:off x="3651120" y="468144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539640" y="260280"/>
            <a:ext cx="7993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习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找出玻璃桥在什么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用横线勾出具体写玻璃桥样子和特点的句子，并读一读，读后你体会到什么，把体会批注在旁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再读勾出的句子，边读边想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走在晶莹透亮的玻璃桥上似乎进入了童话世界的感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324000" y="155736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最早的玻璃桥在保加利亚，桥面、栏杆、扶手等都是用特种玻璃制成的。这座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载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吨。走在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晶莹透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桥上，你似乎进入了美丽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童话世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0ac11b6d2318e2f74216947b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7cbeba9056a8c9a1a877a4fd1"/>
          <p:cNvPicPr/>
          <p:nvPr/>
        </p:nvPicPr>
        <p:blipFill>
          <a:blip r:embed="rId1"/>
          <a:stretch/>
        </p:blipFill>
        <p:spPr>
          <a:xfrm>
            <a:off x="0" y="155520"/>
            <a:ext cx="4500720" cy="3289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1246496482"/>
          <p:cNvPicPr/>
          <p:nvPr/>
        </p:nvPicPr>
        <p:blipFill>
          <a:blip r:embed="rId2"/>
          <a:stretch/>
        </p:blipFill>
        <p:spPr>
          <a:xfrm>
            <a:off x="4678200" y="189000"/>
            <a:ext cx="4465800" cy="32828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14775786e4809c1266096ee0"/>
          <p:cNvPicPr/>
          <p:nvPr/>
        </p:nvPicPr>
        <p:blipFill>
          <a:blip r:embed="rId3"/>
          <a:stretch/>
        </p:blipFill>
        <p:spPr>
          <a:xfrm>
            <a:off x="0" y="3645000"/>
            <a:ext cx="4427640" cy="2954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20030703029a_2"/>
          <p:cNvPicPr/>
          <p:nvPr/>
        </p:nvPicPr>
        <p:blipFill>
          <a:blip r:embed="rId4"/>
          <a:stretch/>
        </p:blipFill>
        <p:spPr>
          <a:xfrm>
            <a:off x="4643280" y="3624120"/>
            <a:ext cx="450072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0" y="609480"/>
            <a:ext cx="91440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因为玻璃桥（         ），所以作者走在桥上感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（                        ）。之所以把这座桥称为玻璃桥，是因为（                ）都是用（           ）制成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4648320" y="5335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晶莹透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09480" y="220968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似乎进入了美丽的童话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1523880" y="358128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桥面、栏杆、扶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2819520" y="419112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特种玻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165_s_1218375958550_s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5219640" y="4724280"/>
            <a:ext cx="3529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4000"/>
                    </a:srgbClr>
                  </a:outerShdw>
                </a:effectLst>
                <a:latin typeface="华文行楷"/>
              </a:rPr>
              <a:t>赵州桥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4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1208947095206"/>
          <p:cNvPicPr/>
          <p:nvPr/>
        </p:nvPicPr>
        <p:blipFill>
          <a:blip r:embed="rId1"/>
          <a:srcRect l="0" t="0" r="111" b="8882"/>
          <a:stretch/>
        </p:blipFill>
        <p:spPr>
          <a:xfrm>
            <a:off x="0" y="0"/>
            <a:ext cx="4495680" cy="6248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1208947095226"/>
          <p:cNvPicPr/>
          <p:nvPr/>
        </p:nvPicPr>
        <p:blipFill>
          <a:blip r:embed="rId2"/>
          <a:srcRect l="0" t="0" r="0" b="10016"/>
          <a:stretch/>
        </p:blipFill>
        <p:spPr>
          <a:xfrm>
            <a:off x="4500720" y="0"/>
            <a:ext cx="4643280" cy="61722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1208947095031"/>
          <p:cNvPicPr/>
          <p:nvPr/>
        </p:nvPicPr>
        <p:blipFill>
          <a:blip r:embed="rId3"/>
          <a:srcRect l="0" t="0" r="111" b="5562"/>
          <a:stretch/>
        </p:blipFill>
        <p:spPr>
          <a:xfrm>
            <a:off x="0" y="0"/>
            <a:ext cx="4495680" cy="6477120"/>
          </a:xfrm>
          <a:prstGeom prst="rect">
            <a:avLst/>
          </a:prstGeom>
          <a:ln w="0">
            <a:noFill/>
          </a:ln>
        </p:spPr>
      </p:pic>
      <p:sp>
        <p:nvSpPr>
          <p:cNvPr id="562" name="AutoShape 5"/>
          <p:cNvSpPr/>
          <p:nvPr/>
        </p:nvSpPr>
        <p:spPr>
          <a:xfrm>
            <a:off x="0" y="4221000"/>
            <a:ext cx="9144000" cy="2637000"/>
          </a:xfrm>
          <a:prstGeom prst="wedgeEllipseCallout">
            <a:avLst>
              <a:gd name="adj1" fmla="val 49148"/>
              <a:gd name="adj2" fmla="val -713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走在纸桥上，完全不必担心它会断裂，连二、三吨重的汽车也能从桥上通过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1208947095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3"/>
          <p:cNvSpPr/>
          <p:nvPr/>
        </p:nvSpPr>
        <p:spPr>
          <a:xfrm>
            <a:off x="395280" y="333360"/>
            <a:ext cx="2484360" cy="2087640"/>
          </a:xfrm>
          <a:prstGeom prst="cloudCallout">
            <a:avLst>
              <a:gd name="adj1" fmla="val 64120"/>
              <a:gd name="adj2" fmla="val 50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万丈盐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1908000" y="5300640"/>
            <a:ext cx="6264360" cy="720720"/>
          </a:xfrm>
          <a:prstGeom prst="wedgeRectCallout">
            <a:avLst>
              <a:gd name="adj1" fmla="val -32185"/>
              <a:gd name="adj2" fmla="val 1255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汽车、火车都通行无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2006010409240463518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1"/>
          <p:cNvSpPr/>
          <p:nvPr/>
        </p:nvSpPr>
        <p:spPr>
          <a:xfrm>
            <a:off x="428760" y="500040"/>
            <a:ext cx="73580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桥的“奇妙”之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玻璃桥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纸桥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盐桥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"/>
          <p:cNvSpPr/>
          <p:nvPr/>
        </p:nvSpPr>
        <p:spPr>
          <a:xfrm>
            <a:off x="3571920" y="142884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晶莹透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2714760" y="32860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完全不必担心断裂，能通过两三吨的汽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2643120" y="4734000"/>
            <a:ext cx="60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汽车通行需一个多小时； 桥上修铁路，火车通行无阻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1116000" y="189000"/>
            <a:ext cx="71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_x001a_"/>
                <a:ea typeface="黑体"/>
              </a:rPr>
              <a:t>世界奇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0" y="836640"/>
            <a:ext cx="9010800" cy="9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泥木桥：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在拉丁美洲的尼加拉瓜，有座泥桥，自重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吨多。据史料记载，这座桥建立于公元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876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年，至今完好无损。原来，这座桥是用一种当地人称为火泥的特殊黏土堆成的。火泥呈红色，凝固以后如铁似钢，风吹雨打不变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草桥：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在秘鲁阿普里玛克河一带的印第安人，至今喜欢用一种草来架桥。每年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月是雨季，这里的依素草长得非常茂盛，人们用它拧成绳索，花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天时间就可架起一条能使用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年的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塑料桥：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美国的科学家们，研制成一座跨度为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米，能通过轻型车和旅游车辆的塑料桥，它是用强度较高、质轻和富于弹性工程塑料硅制成的。桥面一端固定在岸上，另一端可像地毯一样铺开、收卷。这种桥伸缩自如，使用方便，又不影响河面船只的正常通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瓷砖桥：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在西班牙古都的一条河上，架设着一座用一块块大瓷砖建成的新型桥梁。它最大的优点是不易沾染灰尘，雨水一冲，洁净如新。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尼龙桥：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保加利亚首都索非亚附近的尼沙瓦河桑，横跨着一座别具一格的尼龙桥。它由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根梯形尼龙梁构成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每根梁长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米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桥面上铺设柏油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全桥总重为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吨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它与普通的桥比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具有寿命长、弹性强、重量轻、不怕腐蚀的特点，但只宜人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充气桥：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它是由美国科学家首先研究的，桥身充气以后，可通过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80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吨载重汽车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57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20090117174329837赵州桥"/>
          <p:cNvPicPr/>
          <p:nvPr/>
        </p:nvPicPr>
        <p:blipFill>
          <a:blip r:embed="rId1"/>
          <a:stretch/>
        </p:blipFill>
        <p:spPr>
          <a:xfrm>
            <a:off x="539640" y="-6480"/>
            <a:ext cx="8353440" cy="62611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1835280" y="6165720"/>
            <a:ext cx="54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763640" y="6237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河北   赵州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2006011710130424810"/>
          <p:cNvPicPr/>
          <p:nvPr/>
        </p:nvPicPr>
        <p:blipFill>
          <a:blip r:embed="rId1"/>
          <a:stretch/>
        </p:blipFill>
        <p:spPr>
          <a:xfrm>
            <a:off x="324000" y="0"/>
            <a:ext cx="8388360" cy="6021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1763640" y="6237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556000" y="609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福建  洛阳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771640" y="585324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京  泸沟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泸沟桥"/>
          <p:cNvPicPr/>
          <p:nvPr/>
        </p:nvPicPr>
        <p:blipFill>
          <a:blip r:embed="rId1"/>
          <a:stretch/>
        </p:blipFill>
        <p:spPr>
          <a:xfrm>
            <a:off x="0" y="46080"/>
            <a:ext cx="8964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湘子桥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2843280" y="6021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东 湘子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wwbl20090722-5"/>
          <p:cNvPicPr/>
          <p:nvPr/>
        </p:nvPicPr>
        <p:blipFill>
          <a:blip r:embed="rId1"/>
          <a:stretch/>
        </p:blipFill>
        <p:spPr>
          <a:xfrm>
            <a:off x="68436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6137280" y="333360"/>
            <a:ext cx="15210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亨德森波浪桥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新加坡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wwbl20090722-6"/>
          <p:cNvPicPr/>
          <p:nvPr/>
        </p:nvPicPr>
        <p:blipFill>
          <a:blip r:embed="rId1"/>
          <a:stretch/>
        </p:blipFill>
        <p:spPr>
          <a:xfrm>
            <a:off x="75564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6568920" y="189000"/>
            <a:ext cx="1521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穆尔岛桥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奥地利格拉茨市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xin_0921104081618656867861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23000"/>
          </a:xfrm>
          <a:prstGeom prst="rect">
            <a:avLst/>
          </a:prstGeom>
          <a:ln w="0">
            <a:noFill/>
          </a:ln>
        </p:spPr>
      </p:pic>
      <p:sp>
        <p:nvSpPr>
          <p:cNvPr id="497" name="WordArt 3"/>
          <p:cNvSpPr txBox="1"/>
          <p:nvPr/>
        </p:nvSpPr>
        <p:spPr>
          <a:xfrm>
            <a:off x="684360" y="4797360"/>
            <a:ext cx="25905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卢沟桥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98" name="WordArt 4"/>
          <p:cNvSpPr txBox="1"/>
          <p:nvPr/>
        </p:nvSpPr>
        <p:spPr>
          <a:xfrm>
            <a:off x="5508720" y="3068640"/>
            <a:ext cx="32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石桥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wwbl20090722-7"/>
          <p:cNvPicPr/>
          <p:nvPr/>
        </p:nvPicPr>
        <p:blipFill>
          <a:blip r:embed="rId1"/>
          <a:stretch/>
        </p:blipFill>
        <p:spPr>
          <a:xfrm>
            <a:off x="900000" y="0"/>
            <a:ext cx="56214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6425640" y="476280"/>
            <a:ext cx="219132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兰卡威天空之桥    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马来西亚兰卡威群岛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wwbl20090722-8"/>
          <p:cNvPicPr/>
          <p:nvPr/>
        </p:nvPicPr>
        <p:blipFill>
          <a:blip r:embed="rId1"/>
          <a:stretch/>
        </p:blipFill>
        <p:spPr>
          <a:xfrm>
            <a:off x="790560" y="0"/>
            <a:ext cx="602928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3"/>
          <p:cNvSpPr/>
          <p:nvPr/>
        </p:nvSpPr>
        <p:spPr>
          <a:xfrm>
            <a:off x="6858000" y="692280"/>
            <a:ext cx="152100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马格德堡水桥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德国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wwbl20090722-9"/>
          <p:cNvPicPr/>
          <p:nvPr/>
        </p:nvPicPr>
        <p:blipFill>
          <a:blip r:embed="rId1"/>
          <a:srcRect l="0" t="0" r="0" b="1388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250920" y="5373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津之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永乐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wwbl20090722-10"/>
          <p:cNvPicPr/>
          <p:nvPr/>
        </p:nvPicPr>
        <p:blipFill>
          <a:blip r:embed="rId1"/>
          <a:stretch/>
        </p:blipFill>
        <p:spPr>
          <a:xfrm>
            <a:off x="108000" y="189000"/>
            <a:ext cx="8893080" cy="5046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3"/>
          <p:cNvSpPr/>
          <p:nvPr/>
        </p:nvSpPr>
        <p:spPr>
          <a:xfrm>
            <a:off x="250920" y="5300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奥利韦尔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巴西圣保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wwbl20090722-11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539640" y="5734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悬梯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瑞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wwbl20090722-12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3"/>
          <p:cNvSpPr/>
          <p:nvPr/>
        </p:nvSpPr>
        <p:spPr>
          <a:xfrm>
            <a:off x="0" y="508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盘浦喷泉大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韩国首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wwbl20090722-13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0" y="566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巨蟒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荷兰阿姆斯特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wwbl20090722-14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179280" y="5300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翻滚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英国伦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3"/>
          <p:cNvSpPr/>
          <p:nvPr/>
        </p:nvSpPr>
        <p:spPr>
          <a:xfrm>
            <a:off x="685800" y="838080"/>
            <a:ext cx="84582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学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课之后，有胆量来挑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我会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在世界上，有好多奇妙的桥：玻璃桥、纸桥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盐桥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……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如果我是桥梁专家，我会用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(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   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 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 )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来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座奇妙的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(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    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   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桥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画一画：把你设计的桥画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说一说：把你设计的桥的奇妙之处说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31ce7ff329547e39b07ec5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WordArt 3"/>
          <p:cNvSpPr txBox="1"/>
          <p:nvPr/>
        </p:nvSpPr>
        <p:spPr>
          <a:xfrm>
            <a:off x="1042920" y="4437000"/>
            <a:ext cx="3313080" cy="18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行楷"/>
              </a:rPr>
              <a:t>悉尼铁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a2c15a4d9ed2177aac2e8f40896b2c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WordArt 3"/>
          <p:cNvSpPr txBox="1"/>
          <p:nvPr/>
        </p:nvSpPr>
        <p:spPr>
          <a:xfrm>
            <a:off x="395280" y="4973760"/>
            <a:ext cx="331308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行楷"/>
              </a:rPr>
              <a:t>甘肃黄河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3" name="WordArt 4"/>
          <p:cNvSpPr txBox="1"/>
          <p:nvPr/>
        </p:nvSpPr>
        <p:spPr>
          <a:xfrm>
            <a:off x="1908000" y="476280"/>
            <a:ext cx="331344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行楷"/>
              </a:rPr>
              <a:t>铁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13ff50a7809ca4b7d04358c8"/>
          <p:cNvPicPr/>
          <p:nvPr/>
        </p:nvPicPr>
        <p:blipFill>
          <a:blip r:embed="rId1"/>
          <a:stretch/>
        </p:blipFill>
        <p:spPr>
          <a:xfrm>
            <a:off x="0" y="0"/>
            <a:ext cx="9258480" cy="7066080"/>
          </a:xfrm>
          <a:prstGeom prst="rect">
            <a:avLst/>
          </a:prstGeom>
          <a:ln w="0">
            <a:noFill/>
          </a:ln>
        </p:spPr>
      </p:pic>
      <p:sp>
        <p:nvSpPr>
          <p:cNvPr id="505" name="WordArt 3"/>
          <p:cNvSpPr txBox="1"/>
          <p:nvPr/>
        </p:nvSpPr>
        <p:spPr>
          <a:xfrm>
            <a:off x="971640" y="4869000"/>
            <a:ext cx="374328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木桥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65_s_1218375958550_s"/>
          <p:cNvPicPr/>
          <p:nvPr/>
        </p:nvPicPr>
        <p:blipFill>
          <a:blip r:embed="rId1"/>
          <a:stretch/>
        </p:blipFill>
        <p:spPr>
          <a:xfrm>
            <a:off x="0" y="0"/>
            <a:ext cx="4572000" cy="31496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a2c15a4d9ed2177aac2e8f40896b2ceb"/>
          <p:cNvPicPr/>
          <p:nvPr/>
        </p:nvPicPr>
        <p:blipFill>
          <a:blip r:embed="rId2"/>
          <a:stretch/>
        </p:blipFill>
        <p:spPr>
          <a:xfrm>
            <a:off x="4572000" y="-61920"/>
            <a:ext cx="4572000" cy="3203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1245641824380"/>
          <p:cNvPicPr/>
          <p:nvPr/>
        </p:nvPicPr>
        <p:blipFill>
          <a:blip r:embed="rId3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509" name="WordArt 5"/>
          <p:cNvSpPr txBox="1"/>
          <p:nvPr/>
        </p:nvSpPr>
        <p:spPr>
          <a:xfrm>
            <a:off x="684360" y="549360"/>
            <a:ext cx="3240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石桥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10" name="WordArt 6"/>
          <p:cNvSpPr txBox="1"/>
          <p:nvPr/>
        </p:nvSpPr>
        <p:spPr>
          <a:xfrm>
            <a:off x="4932360" y="620640"/>
            <a:ext cx="3313080" cy="18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行楷"/>
              </a:rPr>
              <a:t>铁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11" name="WordArt 7"/>
          <p:cNvSpPr txBox="1"/>
          <p:nvPr/>
        </p:nvSpPr>
        <p:spPr>
          <a:xfrm>
            <a:off x="2987640" y="5300640"/>
            <a:ext cx="3743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木桥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方正楷体_GBK"/>
                <a:ea typeface="方正楷体_GBK"/>
              </a:rPr>
              <a:t>1.</a:t>
            </a:r>
            <a:r>
              <a:rPr b="1" lang="zh-CN" sz="4800" spc="-1" strike="noStrike">
                <a:solidFill>
                  <a:srgbClr val="ffff00"/>
                </a:solidFill>
                <a:latin typeface="方正楷体_GBK"/>
                <a:ea typeface="方正楷体_GBK"/>
              </a:rPr>
              <a:t>学会本课生字，联系上下文和生活经验理解新词。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方正楷体_GB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方正楷体_GBK"/>
                <a:ea typeface="方正楷体_GBK"/>
              </a:rPr>
              <a:t>2</a:t>
            </a:r>
            <a:r>
              <a:rPr b="1" lang="zh-CN" sz="4800" spc="-1" strike="noStrike">
                <a:solidFill>
                  <a:srgbClr val="ffff00"/>
                </a:solidFill>
                <a:latin typeface="方正楷体_GBK"/>
                <a:ea typeface="方正楷体_GBK"/>
              </a:rPr>
              <a:t>、给课文分段，能说出课文的主要内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学提示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ahoma"/>
              </a:rPr>
              <a:t>自由学习本课生字，可以借助查字典、看书本的形式自学生字</a:t>
            </a:r>
            <a:r>
              <a:rPr b="0" lang="zh-CN" sz="6600" spc="-1" strike="noStrike">
                <a:solidFill>
                  <a:srgbClr val="ffff00"/>
                </a:solidFill>
                <a:latin typeface="Tahoma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5-12T16:46:2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