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C1FF-BEA8-465D-8B5F-1AFDD3DD9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280D-8BD9-47DF-BEC0-313AE7386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2D16-F8E9-4B92-8C42-3A9B748B4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BF5-100B-4F88-9AB5-4EC91DB0D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6919-7A79-4795-B700-2ADF13DA7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4B9F-34E3-449E-829E-DEF7B61F9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5164-2A49-47E4-9B20-83C921C68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30D1-D741-4B8E-9C33-B765B39AC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48D4-E4CF-4B6F-86FB-8CC0637C0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F00-C016-4D68-A722-9F6682BC7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4052-D9D2-4F37-A87E-3F5EF0EC2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69C3-4196-43DE-838F-84742313C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4F59-503C-413A-B93F-B3420D300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9074-2E9B-4910-8266-23EE44477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D15F-1467-46FC-AF44-5E191A155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D9C5-7593-47AA-83FC-4F8D5ADA7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FCF3-1481-4960-AD67-78AC8003C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3148-7E2D-4BB9-A7F9-CA473FB63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61F5-3E7A-4F98-8FCE-91BA277B0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7208-241C-4C51-BE09-02C904DF1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5DC1-E7CA-4A95-A44A-B1A862625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A708-C00D-4A09-B365-ADA4E7CDE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AFC8-D630-4D91-AA18-6ACD99F93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35A7-CC51-48CF-BABF-B16D80A2E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2EF9-6EC8-4901-B5FC-48E6B20D8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CCD3-9D6D-4488-96B7-A1F0E0C83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8DD8-544C-4B6F-B255-4A5FDF224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EF63-1644-4BF7-B329-A28F1D0CA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C8B2-DECC-41AC-A3DC-F60BB9ED9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E295-B654-4CFE-8BC5-67B98025C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53CD-663B-48D3-8CF6-655D023A2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A1B4-6DB0-4A11-A205-19E309511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F2CB-294C-4E11-9F7B-E5D54F7FE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AA478-6E88-48DE-AD5C-50AD8BA2D7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D54A0-D31A-4CE0-A4D7-E0530D146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8172B6-0DDE-4C23-9990-9797DF850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E94DD-5578-435F-AEAA-B391C3DA7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0AAB7-D3C3-419E-98A4-57FFD8AF34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CF9157-2226-4BF5-A29A-BB0FCAB13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185F0-FCC8-4753-9CBC-6D144B440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EDBBBF-27BA-4E06-AAAB-15D7606DD3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589B2C-5E32-4346-AB18-0E39864F07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84371D-D177-4F67-BA50-29B8B55403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74668-6741-44D5-9FFF-8CB5EB643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BE3528-B47F-44A0-AD67-2E6C24045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9F5BE-3703-4B28-98B8-246E240727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033F39-4BBD-45A5-949D-B964D2C6E1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51DF51-2FFA-41EB-8026-CA7BFCE5B2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A08A04-F78C-4D0B-B43C-6E644BAD90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147822-167B-4E65-A012-AC771B15E8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BF37BC-32FF-4421-AFA4-5146DCE54B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29C14-B881-4920-8645-E37805C62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25654D-7132-42B8-AFFA-8D2CDCBA46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733F3C-D560-4C33-99EA-E718878C26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D3AA9-F980-4003-A2DF-033EC4B34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B7F55B-A09D-4140-8C0C-85F55A1963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8EC2F6-501B-474F-8B1D-2352842E8A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14D053-71A1-40A3-AA15-4D4F5C81C3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B9FA4D-1804-486B-82D9-0719E5DCFD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3894A-B0D0-40F5-A7CB-CABC1F9D7B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9D1599-B1A5-461D-934D-3B6829E8EA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6E346B-5E2C-4C98-A8CB-379E8F5565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F8C96A-56C6-463E-8E79-49A6581A91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78D694-99E1-436D-B6C1-050EDB1B93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0A345B-82E1-49D8-9DFB-959F546D14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5E9C0-5E2C-4CDA-BCA4-7C28A2451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5563D3-92AD-4BB7-B7EE-CA40DE20C0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440F7D-25CF-4195-8961-849D3B9662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E13C35-D416-4A96-9530-CFBEF15DF9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40398B-95DB-40F1-A820-13892AAC35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87D5C0-DB26-4095-8B49-31615B52D5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88017D-693B-4878-81A2-E918A00728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9AA47D-197B-4D7A-B68D-A352A1183F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35ADEE-EE16-4505-938E-FD08CB7452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4BA18E-3ED0-44A3-80FC-C9579BE605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DEA98-18E9-4544-9505-80C786632C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66956-48B3-427B-89C1-7EA93CDE9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771B31-5A82-455A-8E36-94AA77A1A6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963BCD-6092-42C9-AE20-9130B81D4B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25F623-0852-4DE9-B798-5F2E7892FB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FD7C05-572A-4AF8-8770-E828DF0939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CF5221-483C-453C-B952-52D1B05DCA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45AE-FC1C-41B2-8A5E-F01886523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B21F3-3256-4C8B-96CC-C500FEEAF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3B80E-D358-48FC-8715-EFD508364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DD6A0-CDD2-4CBB-A710-61D81D4DC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32F44-E036-4D09-9555-504F2ED3F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5CC3-AF9C-49CB-9E64-2E82C61B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8CAA-1813-4377-844C-9B72C9EA8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A932-8590-470F-B88A-859725B6B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9DA5-DD39-4E83-9A43-E7AA356A7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C8A7D-EF92-49A4-A23F-DE1CD33F9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40811-5491-4C16-AF7F-ACAF7807C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819A2-500F-4F8A-B246-E8EB6EDA1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C5E72-ADA7-4507-A9AC-F8ADF346C6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A1872-AA44-4791-B48F-D587538B9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E5E21-653B-4E45-A827-0F3D24B85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CC189-CAAA-46B8-BB70-B8EE68698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FC963-3879-40F1-8475-3D355437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F7543-AE96-4DE5-9A7A-EA69E10C9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13B10-844C-47A5-933F-A4D492EF7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AE274-7B28-4DA2-97D2-02BE9EED9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CEA7C-9940-432C-8540-BEA64CBDC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BD7D6-1AEF-4421-843E-F9FB1F0C9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284EB-5395-4E7E-BA5C-7ADE9BCD9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5E04DB-44D2-4E01-A707-E96E0A4829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195EEA-5E67-468E-8044-FD52CD722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D47C1-74F8-4C24-9CF6-599135A5B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F655D-3FAF-44F1-AE0D-A406091E2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DB46E-37B5-468B-A89F-8F01D0C1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2E756-2707-4020-A533-2B61C9580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56689-6843-44A3-922D-C0628CE29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DAEF8-FE71-45B3-9904-5FE972385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B70C3-FEBC-4421-801C-867A70404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E4A8D-3DB5-4B4B-ADC2-2A2565AA9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26772-E350-412C-92B1-72B5CAE32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63E76-2E7F-4005-997D-EC316877E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2FDD1-86BF-41CE-8238-B186F97F6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A7F7E-DBDC-4021-B7FC-D9E921825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E8DDC-6E2B-4DA6-B079-FE75DF2A8F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818F-9E82-418A-AE13-31C7AA222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0A733-9722-4290-8EA4-87365997D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72406-FC27-4BB2-BE80-0AF2914D3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FC0E8E-A6AD-4AF4-9A50-ED8B1C1FF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ABC78-E285-4C68-AAAA-AA7C9BB0B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C4127-A26B-40DE-B81B-C2D32FE69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571DF-11BF-414D-973E-DE4FDC36F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F7900-1203-4E9D-9122-C63CF79DC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EE06C-A591-4197-A522-F2D42B7BE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D4EC0-FF8A-4082-B1B2-04CE8B5E3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6E6D76-FB18-4E72-967A-AE709FCC41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CBCC-AE7F-41A8-AC16-A80EF06D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E6389A-FDD7-4E81-9352-BD5F337BF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A85BD1-1276-457C-A187-2A5CDB69C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75F88-1B9E-4793-941F-7305FB2E1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F18A1-317C-47DE-ADD3-860D651C8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EDD40-DD3A-47F0-AF42-ED89E1ED8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843AB-84CE-4E25-9EA8-95C3AA4FD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609A8-DFF7-43A6-985C-1908B9581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01733-E136-4200-BE1F-C5182C2FC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F22DE-51D0-4750-8E78-41878A271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7440E-C2D2-4416-A774-3274BCC76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A3D8-8B9C-44B3-B1AA-BB4DF34A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EEDF4-1E44-4E5C-9ABB-22FB04000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7090AA-B1C7-4A1F-8C47-A19530FC08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A5935-B5E1-475F-B836-8529CD4DBB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74774C-5667-4767-A728-145DEB608C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1DFDD3-03AC-4F3F-80A1-A796A9D95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20470-4B23-46D6-84E8-6B8E739E4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AE7085-6734-4ED6-879F-8C95BEF44B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817FC-3B07-42EA-ADA9-1BB14B148A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13EAE-D42C-46B3-A3C1-72309DECE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8D9AF-D74A-4436-86A0-E964BD140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5332-CC90-4EAD-BBD9-2B9570AD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3395D-F072-4334-BCFF-5496F4A69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F0FFD-C91F-4F4C-A28C-F753DE200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B6CD79-3BBC-421A-816E-34B563E88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E7014D-8291-43A3-A2CA-8D44D234F8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8BF0F3-FDB9-4AE3-A24B-F7213EF86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937FDB-DF0A-48A8-8606-3BBD22B220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D7E1E-39A9-4AE0-B6B2-FE3649E080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7CDF17-7143-47FD-8995-BE97D886CA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04882-7D68-4539-BC50-4C9E45994A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B790B-98D3-47BA-A809-6CB7D15AF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8B463-9A82-46FE-9C2A-A12A5C5A1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1715E-13D8-417E-9EEF-022D872C8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AA25B-4538-4C0A-B22B-DC15E473A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16A1B-E445-44EC-BDC3-F32393F66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4522D-CC73-42FF-B7FB-EC6111F00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F04C0-C378-4EBF-AB78-13E857BBB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051186-53CF-47E4-BAF0-6DEEFD12A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314853-5145-46B5-A026-616C04CCC9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B5989A-B40B-48BA-9DFB-0834C89012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10368-E700-4F75-92B5-0B8C09E33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69615-5785-4862-94CF-BD39658D22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310F-0D4B-4281-BB28-75E6A5BFC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09A8-7F4B-4306-8483-E49E11415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0277-1995-437B-AAFF-4008803A7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8035-EEF0-4D80-8C34-4CBD7310C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BCB0-98B3-4D28-B1A4-77202420A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7678-B25E-46FA-8E19-BAD279469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675D-BE58-4B2E-AF18-BEFDA2DCB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F6CF-BD14-430C-B592-C4F768EF0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F4A1-0157-436D-AB26-22A18BF64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CE3E-1D35-4B39-AB5E-3EA9FF49B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688E-C3CE-470E-8D90-1E517AC07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7683-43D4-43BF-B749-293EE8B7A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WordArt 5"/>
          <p:cNvSpPr txBox="1"/>
          <p:nvPr/>
        </p:nvSpPr>
        <p:spPr>
          <a:xfrm>
            <a:off x="2556000" y="2492280"/>
            <a:ext cx="4608360" cy="115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橡皮头铅笔</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p:nvPr>
        </p:nvSpPr>
        <p:spPr>
          <a:xfrm>
            <a:off x="539640" y="476280"/>
            <a:ext cx="8229600" cy="4525920"/>
          </a:xfrm>
          <a:prstGeom prst="rect">
            <a:avLst/>
          </a:prstGeom>
          <a:noFill/>
          <a:ln w="0">
            <a:noFill/>
          </a:ln>
        </p:spPr>
        <p:txBody>
          <a:bodyPr anchor="t">
            <a:normAutofit/>
          </a:bodyPr>
          <a:p>
            <a:pPr marL="81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思考</a:t>
            </a:r>
            <a:endParaRPr b="0" lang="en-US" sz="4400" spc="-1" strike="noStrike">
              <a:solidFill>
                <a:srgbClr val="000000"/>
              </a:solidFill>
              <a:latin typeface="Arial"/>
            </a:endParaRPr>
          </a:p>
        </p:txBody>
      </p:sp>
      <p:sp>
        <p:nvSpPr>
          <p:cNvPr id="514" name="Rectangle 8"/>
          <p:cNvSpPr/>
          <p:nvPr/>
        </p:nvSpPr>
        <p:spPr>
          <a:xfrm>
            <a:off x="1619280" y="2133720"/>
            <a:ext cx="590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ff"/>
                </a:solidFill>
                <a:latin typeface="Arial"/>
              </a:rPr>
              <a:t>1</a:t>
            </a:r>
            <a:r>
              <a:rPr b="1" lang="zh-CN" sz="5400" spc="-1" strike="noStrike">
                <a:solidFill>
                  <a:srgbClr val="0099ff"/>
                </a:solidFill>
                <a:latin typeface="Arial"/>
              </a:rPr>
              <a:t>、李浦曼为什么要发明橡皮头铅笔？</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ff"/>
                </a:solidFill>
                <a:latin typeface="Arial"/>
              </a:rPr>
              <a:t>2</a:t>
            </a:r>
            <a:r>
              <a:rPr b="1" lang="zh-CN" sz="5400" spc="-1" strike="noStrike">
                <a:solidFill>
                  <a:srgbClr val="0099ff"/>
                </a:solidFill>
                <a:latin typeface="Arial"/>
              </a:rPr>
              <a:t>、为什么李普曼能够发明出橡皮头铅笔？</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p:nvPr>
        </p:nvSpPr>
        <p:spPr>
          <a:xfrm>
            <a:off x="1476360" y="836640"/>
            <a:ext cx="651672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5400" spc="-1" strike="noStrike">
                <a:solidFill>
                  <a:srgbClr val="009999"/>
                </a:solidFill>
                <a:latin typeface="Arial"/>
              </a:rPr>
              <a:t>3</a:t>
            </a:r>
            <a:r>
              <a:rPr b="1" lang="zh-CN" sz="5400" spc="-1" strike="noStrike">
                <a:solidFill>
                  <a:srgbClr val="009999"/>
                </a:solidFill>
                <a:latin typeface="Arial"/>
              </a:rPr>
              <a:t>、他发明铅笔为什么耽误了不少时间？他想了哪些方法，最后结果怎么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Text Box 4"/>
          <p:cNvSpPr/>
          <p:nvPr/>
        </p:nvSpPr>
        <p:spPr>
          <a:xfrm>
            <a:off x="1187280" y="765000"/>
            <a:ext cx="77774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Arial"/>
                <a:ea typeface="隶书"/>
              </a:rPr>
              <a:t>“</a:t>
            </a:r>
            <a:r>
              <a:rPr b="1" lang="zh-CN" sz="3600" spc="-1" strike="noStrike">
                <a:solidFill>
                  <a:srgbClr val="ff5050"/>
                </a:solidFill>
                <a:latin typeface="Arial"/>
                <a:ea typeface="隶书"/>
              </a:rPr>
              <a:t>专利”是什么意思？</a:t>
            </a:r>
            <a:endParaRPr b="0" lang="en-US" sz="3600" spc="-1" strike="noStrike">
              <a:solidFill>
                <a:srgbClr val="000000"/>
              </a:solidFill>
              <a:latin typeface="Arial"/>
            </a:endParaRPr>
          </a:p>
        </p:txBody>
      </p:sp>
      <p:sp>
        <p:nvSpPr>
          <p:cNvPr id="519" name="Rectangle 9"/>
          <p:cNvSpPr/>
          <p:nvPr/>
        </p:nvSpPr>
        <p:spPr>
          <a:xfrm>
            <a:off x="1619280" y="2935080"/>
            <a:ext cx="60069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专利是指法律保障创造发明者在一定时期内由于创造发明而独自享有的利益。本课指李浦曼发明了橡皮头铅笔后独自享有的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518">
                                            <p:txEl>
                                              <p:pRg st="0" end="0"/>
                                            </p:txEl>
                                          </p:spTgt>
                                        </p:tgtEl>
                                        <p:attrNameLst>
                                          <p:attrName>style.visibility</p:attrName>
                                        </p:attrNameLst>
                                      </p:cBhvr>
                                      <p:to>
                                        <p:strVal val="visible"/>
                                      </p:to>
                                    </p:set>
                                    <p:animEffect filter="fade" transition="in">
                                      <p:cBhvr additive="repl">
                                        <p:cTn id="29" dur="1000"/>
                                        <p:tgtEl>
                                          <p:spTgt spid="518">
                                            <p:txEl>
                                              <p:pRg st="0" end="0"/>
                                            </p:txEl>
                                          </p:spTgt>
                                        </p:tgtEl>
                                      </p:cBhvr>
                                    </p:animEffect>
                                    <p:anim calcmode="lin" valueType="num">
                                      <p:cBhvr additive="repl">
                                        <p:cTn id="30" dur="10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1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Arial"/>
                <a:ea typeface="华文行楷"/>
              </a:rPr>
              <a:t>课文总结</a:t>
            </a:r>
            <a:endParaRPr b="0" lang="en-US" sz="4400" spc="-1" strike="noStrike">
              <a:solidFill>
                <a:srgbClr val="000000"/>
              </a:solidFill>
              <a:latin typeface="Arial"/>
            </a:endParaRPr>
          </a:p>
        </p:txBody>
      </p:sp>
      <p:sp>
        <p:nvSpPr>
          <p:cNvPr id="521" name="PlaceHolder 2"/>
          <p:cNvSpPr>
            <a:spLocks noGrp="1"/>
          </p:cNvSpPr>
          <p:nvPr>
            <p:ph/>
          </p:nvPr>
        </p:nvSpPr>
        <p:spPr>
          <a:xfrm>
            <a:off x="3952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伟大的发明就在我们身边，只要大家认真观察，勤动脑，你们也会获得发明的专利的。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成功在于细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加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WordArt 4"/>
          <p:cNvSpPr txBox="1"/>
          <p:nvPr/>
        </p:nvSpPr>
        <p:spPr>
          <a:xfrm>
            <a:off x="2700360" y="2205000"/>
            <a:ext cx="2860560" cy="157500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6600"/>
                </a:solidFill>
                <a:effectLst>
                  <a:outerShdw dist="53966" dir="2700000" blurRad="0" rotWithShape="0">
                    <a:srgbClr val="c0c0c0">
                      <a:alpha val="80000"/>
                    </a:srgbClr>
                  </a:outerShdw>
                </a:effectLst>
                <a:latin typeface="宋体"/>
              </a:rPr>
              <a:t>再见</a:t>
            </a:r>
            <a:endParaRPr b="0" lang="en-US" sz="1800" spc="1" strike="noStrike">
              <a:ln w="0">
                <a:noFill/>
              </a:ln>
              <a:solidFill>
                <a:srgbClr val="ff6600"/>
              </a:soli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Text Box 4"/>
          <p:cNvSpPr/>
          <p:nvPr/>
        </p:nvSpPr>
        <p:spPr>
          <a:xfrm>
            <a:off x="611280" y="1773360"/>
            <a:ext cx="8280360" cy="2775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zh-CN" sz="4400" spc="-1" strike="noStrike">
                <a:solidFill>
                  <a:srgbClr val="000000"/>
                </a:solidFill>
                <a:latin typeface="Arial"/>
              </a:rPr>
              <a:t>、掌握本课生字，新词；</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选词造句；</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r>
              <a:rPr b="1" lang="zh-CN" sz="4400" spc="-1" strike="noStrike">
                <a:solidFill>
                  <a:srgbClr val="000000"/>
                </a:solidFill>
                <a:latin typeface="Arial"/>
              </a:rPr>
              <a:t>、复述课文内容；</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r>
              <a:rPr b="1" lang="zh-CN" sz="4400" spc="-1" strike="noStrike">
                <a:solidFill>
                  <a:srgbClr val="000000"/>
                </a:solidFill>
                <a:latin typeface="Arial"/>
              </a:rPr>
              <a:t>、自主技能好词佳句。</a:t>
            </a:r>
            <a:endParaRPr b="0" lang="en-US" sz="4400" spc="-1" strike="noStrike">
              <a:solidFill>
                <a:srgbClr val="000000"/>
              </a:solidFill>
              <a:latin typeface="Arial"/>
            </a:endParaRPr>
          </a:p>
        </p:txBody>
      </p:sp>
      <p:sp>
        <p:nvSpPr>
          <p:cNvPr id="501" name="Text Box 5"/>
          <p:cNvSpPr/>
          <p:nvPr/>
        </p:nvSpPr>
        <p:spPr>
          <a:xfrm>
            <a:off x="684360" y="836640"/>
            <a:ext cx="2808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华文楷体"/>
                <a:ea typeface="华文楷体"/>
              </a:rPr>
              <a:t>学习目标</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randombar(horizontal)" transition="in">
                                      <p:cBhvr additive="repl">
                                        <p:cTn id="7" dur="500"/>
                                        <p:tgtEl>
                                          <p:spTgt spid="5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00">
                                            <p:txEl>
                                              <p:pRg st="1" end="1"/>
                                            </p:txEl>
                                          </p:spTgt>
                                        </p:tgtEl>
                                        <p:attrNameLst>
                                          <p:attrName>style.visibility</p:attrName>
                                        </p:attrNameLst>
                                      </p:cBhvr>
                                      <p:to>
                                        <p:strVal val="visible"/>
                                      </p:to>
                                    </p:set>
                                    <p:animEffect filter="randombar(horizontal)" transition="in">
                                      <p:cBhvr additive="repl">
                                        <p:cTn id="12" dur="500"/>
                                        <p:tgtEl>
                                          <p:spTgt spid="5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00">
                                            <p:txEl>
                                              <p:pRg st="2" end="2"/>
                                            </p:txEl>
                                          </p:spTgt>
                                        </p:tgtEl>
                                        <p:attrNameLst>
                                          <p:attrName>style.visibility</p:attrName>
                                        </p:attrNameLst>
                                      </p:cBhvr>
                                      <p:to>
                                        <p:strVal val="visible"/>
                                      </p:to>
                                    </p:set>
                                    <p:animEffect filter="randombar(horizontal)" transition="in">
                                      <p:cBhvr additive="repl">
                                        <p:cTn id="17" dur="500"/>
                                        <p:tgtEl>
                                          <p:spTgt spid="5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500">
                                            <p:txEl>
                                              <p:pRg st="3" end="3"/>
                                            </p:txEl>
                                          </p:spTgt>
                                        </p:tgtEl>
                                        <p:attrNameLst>
                                          <p:attrName>style.visibility</p:attrName>
                                        </p:attrNameLst>
                                      </p:cBhvr>
                                      <p:to>
                                        <p:strVal val="visible"/>
                                      </p:to>
                                    </p:set>
                                    <p:animEffect filter="randombar(horizontal)" transition="in">
                                      <p:cBhvr additive="repl">
                                        <p:cTn id="22" dur="500"/>
                                        <p:tgtEl>
                                          <p:spTgt spid="5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2" name="Picture 11" descr="40ab1866ba4e067b9bd8b862fa5b_600_595"/>
          <p:cNvPicPr/>
          <p:nvPr/>
        </p:nvPicPr>
        <p:blipFill>
          <a:blip r:embed="rId1"/>
          <a:stretch/>
        </p:blipFill>
        <p:spPr>
          <a:xfrm>
            <a:off x="1714680" y="595440"/>
            <a:ext cx="5715000" cy="56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04" name="Picture 4" descr="2011101009125456832"/>
          <p:cNvPicPr/>
          <p:nvPr/>
        </p:nvPicPr>
        <p:blipFill>
          <a:blip r:embed="rId1"/>
          <a:stretch/>
        </p:blipFill>
        <p:spPr>
          <a:xfrm>
            <a:off x="1979640" y="549360"/>
            <a:ext cx="5421240" cy="59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06" name="Picture 4" descr="1"/>
          <p:cNvPicPr/>
          <p:nvPr/>
        </p:nvPicPr>
        <p:blipFill>
          <a:blip r:embed="rId1"/>
          <a:stretch/>
        </p:blipFill>
        <p:spPr>
          <a:xfrm>
            <a:off x="1403280" y="692280"/>
            <a:ext cx="5832720" cy="52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08" name="Picture 4" descr="a532bb93a917bcb90472974b9fd8_800_531"/>
          <p:cNvPicPr/>
          <p:nvPr/>
        </p:nvPicPr>
        <p:blipFill>
          <a:blip r:embed="rId1"/>
          <a:stretch/>
        </p:blipFill>
        <p:spPr>
          <a:xfrm>
            <a:off x="762120" y="900000"/>
            <a:ext cx="7619760" cy="50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p:nvPr>
        </p:nvSpPr>
        <p:spPr>
          <a:xfrm>
            <a:off x="468360" y="213372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美国佛罗里达州有一位画家叫李普曼，由于他比较穷，常常买不起画具。他随身带的画具只有一支铅笔和一块橡皮。每当作画时，常常把橡皮弄丢。这样，他就要浪费许多时间去寻找丢失的橡皮。为了减少不必要的麻烦，他索性用细线将橡皮捆在了铅笔头上。可是，这样做也并不保险，橡皮还是经常掉下来。能不能想个办法将二者固定在一起呢？后来，他终于想出了一个办法，即用薄铁片把橡皮和铅笔绕着包起来，创造出了“橡皮头铅笔”。这种铅笔后来畅销全世界。</a:t>
            </a:r>
            <a:br>
              <a:rPr sz="2400"/>
            </a:br>
            <a:br>
              <a:rPr sz="2400"/>
            </a:br>
            <a:endParaRPr b="0" lang="en-US" sz="2800" spc="-1" strike="noStrike">
              <a:solidFill>
                <a:srgbClr val="000000"/>
              </a:solidFill>
              <a:latin typeface="Arial"/>
            </a:endParaRPr>
          </a:p>
        </p:txBody>
      </p:sp>
      <p:sp>
        <p:nvSpPr>
          <p:cNvPr id="510" name="Text Box 4"/>
          <p:cNvSpPr/>
          <p:nvPr/>
        </p:nvSpPr>
        <p:spPr>
          <a:xfrm>
            <a:off x="2340000" y="620640"/>
            <a:ext cx="453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课文简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p:nvPr>
        </p:nvSpPr>
        <p:spPr>
          <a:xfrm>
            <a:off x="468360" y="1125000"/>
            <a:ext cx="7524720" cy="4526280"/>
          </a:xfrm>
          <a:prstGeom prst="rect">
            <a:avLst/>
          </a:prstGeom>
          <a:noFill/>
          <a:ln w="0">
            <a:noFill/>
          </a:ln>
        </p:spPr>
        <p:txBody>
          <a:bodyPr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他为这项本专业以外的发明申请了专利，并很快得到了确认。不久，著名的</a:t>
            </a:r>
            <a:br>
              <a:rPr sz="2800"/>
            </a:br>
            <a:r>
              <a:rPr b="1" lang="en-US" sz="2800" spc="-1" strike="noStrike">
                <a:solidFill>
                  <a:srgbClr val="000000"/>
                </a:solidFill>
                <a:latin typeface="Arial"/>
              </a:rPr>
              <a:t>RABAR</a:t>
            </a:r>
            <a:r>
              <a:rPr b="1" lang="zh-CN" sz="2800" spc="-1" strike="noStrike">
                <a:solidFill>
                  <a:srgbClr val="000000"/>
                </a:solidFill>
                <a:latin typeface="Arial"/>
              </a:rPr>
              <a:t>铅笔公司以</a:t>
            </a:r>
            <a:r>
              <a:rPr b="1" lang="en-US" sz="2800" spc="-1" strike="noStrike">
                <a:solidFill>
                  <a:srgbClr val="000000"/>
                </a:solidFill>
                <a:latin typeface="Arial"/>
              </a:rPr>
              <a:t>55</a:t>
            </a:r>
            <a:r>
              <a:rPr b="1" lang="zh-CN" sz="2800" spc="-1" strike="noStrike">
                <a:solidFill>
                  <a:srgbClr val="000000"/>
                </a:solidFill>
                <a:latin typeface="Arial"/>
              </a:rPr>
              <a:t>万美元的巨款买下了这项专利，李浦曼摆脱了窘境，并且成了名人，只是他不是作为画家，而是作为发明人被后世传颂本来，铅笔和橡皮各有自己的独特功能，而李普曼却能将两者的特性综合在一起，由此而创造了一种具有新功能的用具。</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p:nvPr>
        </p:nvSpPr>
        <p:spPr>
          <a:xfrm>
            <a:off x="539280" y="1268280"/>
            <a:ext cx="7705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当然，分析和综合并不是两种各自独立的思维方法，他们相互联系，相互补充，正如恩格斯所说：“思维既把相互联系的要素结合为一个统一体，同样也把意识的对象分解为它们的要素。没有分析就没有综合。”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cp:keywords/>
  <dc:language>en-US</dc:language>
  <cp:lastModifiedBy>Bonny</cp:lastModifiedBy>
  <dcterms:modified xsi:type="dcterms:W3CDTF">2015-05-12T16:48:50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