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4D94-DBB3-4936-9FDD-3FCEFB148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4DA3-9C10-4508-9037-48B44094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C33F0-90AF-40BF-B346-ACBBD41E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949C9-65AA-49BB-8DA9-FA11BE85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F12A4-E8F6-46F3-B670-08166C0E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FDF99-3F5E-4FC5-BAC1-290A0D9A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28249D-7F43-4A22-A234-6D4D0862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4B7416-8716-4C85-8EEA-45CC9787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54550-2EB1-4ACA-9AAE-D5FDC160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2C4BF-7CCD-46EE-A740-6AB9DD64E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72975-005A-409F-A6F9-5ACD5BA39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A15A9C-D8BC-4F52-B3D0-A9EE66FFD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6D72-39FB-46FD-A801-BBA836A1F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A001F-BD4D-4D38-B91D-87435848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D42FA-47D3-4FAA-9359-786CA83A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4A2FA-EF5F-4DF1-90A1-FEC30022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C62BF4-96D4-4093-9B4D-25D1D26F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05E75E-27EB-49AD-B5A6-F8E1B261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1B2B2F-971D-4F52-BC90-5C4B10A1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E0B266-424B-4F78-B2EB-EA2B0874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180D1B-EF7E-4F5F-89F9-D8EBB3C5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DFD8DE-7CB1-414F-8E68-78CB3B48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70DC56-3DAA-48A6-AA03-8C55DE47E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F1C1-1BD5-4CBC-B19B-FB1424665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E3917-58FB-41FF-A737-89FDBBB62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E5909-6FF9-4F94-86BD-B0BBE3BA1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FC0C6-6773-4980-B18B-776BB036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34C91-44F5-4B51-AEF8-09D57262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537CA-4B95-46D0-B81F-ED902A93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39C9D-ED69-4EED-8557-6E660B94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5DFC0-86DE-4B07-AF1D-E5B94F9C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928A0-3070-4D5D-AF38-F0E782CF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11154-AB2D-4F4B-92C4-1E8657B1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AC8EA-C099-40FE-A47A-DD2DADBC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EFB9-2A10-495E-AEB0-E42D04B5B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A4B19-41C4-4209-B00B-E440B7B0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EE02F-8E13-40B5-8E56-D8574EE7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2EABD-6411-4B45-85C5-92F93D881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DF5AFA-6218-41AD-99E4-02D2BE500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21E5B3-76CE-4B73-8C5B-07735DB4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068A3E-8CFC-45A0-AE7E-746AB022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35EEBE-E0C9-44B3-AB92-DD7AAB15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922664-9129-49DD-8367-7F864335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E604F1-F4CC-455C-92C6-317639EA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006F71-2FC8-43C8-9A08-249C39B1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EEE5-8869-41C6-8788-733FFDF6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388BEF-D88C-4FAC-8816-9EC8376C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B9F387-C88F-4C89-98F4-60893BEA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0BA59A-CB06-41B3-A48E-95B9BAFD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A24159-DAB3-45BD-8C9C-9F82A7039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53C33C-2677-4A69-9C1F-FCA6DA9C5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87F1-21B8-4172-97D2-2A756EB6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FDBB-0604-43F1-B699-2D31AEDE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446C-08BE-4756-9FA7-035EEE2F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E0E7-9CC7-406E-BC03-4ACFB6EA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BBE8-4F92-4249-B9BD-0ED87F7F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DCA2-4014-437B-9FA0-632B5704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5501-4662-4A66-B193-4488D855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9949-3807-4685-9200-2FF0D864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78E6-FD61-4BFB-BC1D-2554C48C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5259-648B-4619-91C6-D92A6E1AC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2EFB-E227-4383-834E-337DA0218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23946-DE6E-4901-87C9-D5ACF19A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2F1FC-6007-4075-A834-662E4DA6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56035-AA16-421F-8C5B-6EA28BED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E1E98-DED1-4F8C-81C6-42A04515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B86EB-BB0B-497D-AB06-17C4794B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E6FF-54F9-4A60-87CD-6C417B72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7586F-45F4-472C-9967-17DAEB94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155B3-B6B0-4093-A23E-BE76A3C5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07962-6B22-44AB-A22A-440EA5E0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853B4-30DE-48E8-B6A4-91FB45B9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28B22-82CE-4CB1-88C9-ED5E9177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46185-E0D6-4F6A-B735-32D5FD699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14785-B049-4507-8164-67A543C6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18CD9-FE34-444D-9257-C9FDAA257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E0173-9D17-449F-8DE2-12455AC1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6080C-406D-4E39-9949-1E29607D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2224-B25F-4A31-8B03-E97C7F41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7EFE2-E3AE-4317-B540-443A6F7B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0ECCC-D937-4670-928B-1C472286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AD149-9F66-4E6E-9B97-D70FD78E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4399E-5442-4C2F-BAF2-9F257AFC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EE4B6-DEEF-4549-8586-481482B5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3AE1C-39A5-4519-88D8-BEFD8207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E7D2B-D995-42EF-982D-FCC0225D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00BFA-5289-4427-8C56-A975CF17C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9CC04-94BD-4BE2-B297-3E326C019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07883-0914-4289-93BE-F6FC2E5F7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CC8E-3A65-4950-9368-2A3FAF35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C7171-8B51-470B-8873-551E1E2A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B3DDB-1BF3-4EF0-96F9-59FECF6B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AC735-5AD3-4629-8154-BAB3BE00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9AF9A-6DB3-4B6D-9D68-7EB1D5C0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9A337-3DDB-4664-B84D-B20A6482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C7BF6-40B4-44C6-AB55-368C8672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C5616-1448-4322-9A7C-B19193D3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E4CC5-3E11-4EE0-9B06-4FF0FA5A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F7F70-2CCF-4BF8-A10D-31551DF7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4181C-2E0D-46DD-BDCD-92A311518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162C-C7F5-4685-BD9C-B1F1002E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81DBB-38D9-497C-BFB3-5C6B7B7C0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6265A-795C-4348-BAE1-31001494C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5B32A-33A4-446A-BCF6-18FA8145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7541D-60C2-4E3A-95C0-EA54AB57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EA800-F773-4D3B-BD64-13064165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0AD1E-96D3-45CF-8991-0F82FE21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1E0BE-203B-4DB3-A9DD-042C31B6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D64B3-ADEF-4007-8E26-A6099490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27EFB-DCBE-4F18-9B5B-4D88B468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78DDF-32F1-497A-A03D-A076AF1C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95AB-0BC6-4F2F-8F72-4F901D72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F60F7-1235-4332-98B0-D8974BC0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519CF-4D46-4AD9-96AA-AB2321DD6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E53AE-F0B2-4117-BF4B-4BC40CB3A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E9779-8BEF-4378-94C8-6D2AB2844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D7C8C-DE0A-4561-8BD9-6866E2C7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D9B11-2424-4533-B8E2-E78D5FC3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C20FB-C97A-4487-B484-3D578A8A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3C186-8CDA-4F57-98E3-72F1DC21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8D81B-EDCA-4458-8616-A7294F74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6DF6A-3211-4ACD-B1DA-B6051A89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7E2B-76F2-4D4F-8F1F-DFDFEB33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9B1A8-E1B9-44A0-90E2-6C129FE5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2908F-3054-4DD3-9775-B1093F2E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B15E8-BA44-418D-BFB6-A5E0687C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F7C4A-6649-4614-9928-2D477D60F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FCCA5-4598-4485-ABDA-B786AB5FF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C8D1B-3D0E-47F2-B00D-8BC191334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2680E-C878-4B1A-AF7E-8BF4A8CD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F185A-B850-4538-8B33-B7EDB0A9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6863A-B26F-4B82-B331-5A36C4B6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CFE4D-5619-4EC0-8B06-79389D62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65CC-64DF-44F1-91F2-B3717C12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7BE40-E3F9-47D4-84B7-1F8B4BE8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DA782-3337-44C4-A829-367FD4F7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10DCD-D8A5-48FB-8EF9-E842DA90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96A84-A201-4635-B230-0F4D9324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70295-91A1-4FE0-AA6C-0E7C3127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1C84D-852B-4CF2-BA1C-FDFA459D8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5ED25-118D-49EA-8C4C-075147FB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F01967-2CD4-4F94-9C39-D3BAC97A1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371C3-0928-4429-8805-7C6B79EB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DF009-8CA6-4341-B2C0-340FD0D0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2018-E685-4F26-9EFF-807A07B21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1DDA-3342-4016-AA83-ADDAC79EC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76BA-DCC8-4C1A-8F05-2E1AC8949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E413-0748-47D1-A165-5026D3ECA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056A-50E4-4030-9CC1-3AB359E98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6845-63CD-470E-AED9-9DB979FFA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97C0-241E-4981-B011-1DF3D10BA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957A-9C22-4117-833F-38E1F7A13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EDEA-2BF0-469F-A0AA-2DC5C2979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2A7F-ACEC-4B2A-8862-3CA8B9333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9146-5BCA-4C64-BAE7-B4B0AE7A1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155F-3666-45A8-8ED3-16E0C646C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cetFpahFyPgdw"/>
          <p:cNvPicPr/>
          <p:nvPr/>
        </p:nvPicPr>
        <p:blipFill>
          <a:blip r:embed="rId1"/>
          <a:srcRect l="0" t="6744" r="885" b="19103"/>
          <a:stretch/>
        </p:blipFill>
        <p:spPr>
          <a:xfrm>
            <a:off x="0" y="457200"/>
            <a:ext cx="8534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4"/>
          <p:cNvSpPr/>
          <p:nvPr/>
        </p:nvSpPr>
        <p:spPr>
          <a:xfrm>
            <a:off x="0" y="0"/>
            <a:ext cx="19472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灯火与天上的星星连在一起，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宇与大地连在一起，辽阔大地，万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海天，就像撒满了珍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642881_162244396165_2"/>
          <p:cNvPicPr/>
          <p:nvPr/>
        </p:nvPicPr>
        <p:blipFill>
          <a:blip r:embed="rId1"/>
          <a:srcRect l="0" t="0" r="0" b="5813"/>
          <a:stretch/>
        </p:blipFill>
        <p:spPr>
          <a:xfrm>
            <a:off x="0" y="30492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3" descr="图片4"/>
          <p:cNvPicPr/>
          <p:nvPr/>
        </p:nvPicPr>
        <p:blipFill>
          <a:blip r:embed="rId1"/>
          <a:srcRect l="0" t="0" r="193" b="5555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4"/>
          <p:cNvSpPr/>
          <p:nvPr/>
        </p:nvSpPr>
        <p:spPr>
          <a:xfrm>
            <a:off x="380880" y="121932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世界四大夜景之日本函馆山海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3" descr="图片3"/>
          <p:cNvPicPr/>
          <p:nvPr/>
        </p:nvPicPr>
        <p:blipFill>
          <a:blip r:embed="rId1"/>
          <a:srcRect l="0" t="0" r="0" b="5816"/>
          <a:stretch/>
        </p:blipFill>
        <p:spPr>
          <a:xfrm>
            <a:off x="0" y="304920"/>
            <a:ext cx="9296280" cy="617220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4"/>
          <p:cNvSpPr/>
          <p:nvPr/>
        </p:nvSpPr>
        <p:spPr>
          <a:xfrm>
            <a:off x="990720" y="1066680"/>
            <a:ext cx="69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世界四大夜景之美国纽约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720" y="-4724280"/>
            <a:ext cx="85406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3" descr="图片1"/>
          <p:cNvPicPr/>
          <p:nvPr/>
        </p:nvPicPr>
        <p:blipFill>
          <a:blip r:embed="rId1"/>
          <a:srcRect l="0" t="0" r="0" b="7597"/>
          <a:stretch/>
        </p:blipFill>
        <p:spPr>
          <a:xfrm>
            <a:off x="0" y="304920"/>
            <a:ext cx="8915400" cy="556236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4"/>
          <p:cNvSpPr/>
          <p:nvPr/>
        </p:nvSpPr>
        <p:spPr>
          <a:xfrm>
            <a:off x="441360" y="1905120"/>
            <a:ext cx="870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世界四大夜景之香港维多利亚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3" descr="图片1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32448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4"/>
          <p:cNvSpPr/>
          <p:nvPr/>
        </p:nvSpPr>
        <p:spPr>
          <a:xfrm rot="21113400">
            <a:off x="990720" y="1218960"/>
            <a:ext cx="999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仿宋"/>
              </a:rPr>
              <a:t>祝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仿宋"/>
              </a:rPr>
              <a:t>愿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仿宋"/>
              </a:rPr>
              <a:t>香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仿宋"/>
              </a:rPr>
              <a:t>港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仿宋"/>
              </a:rPr>
              <a:t>明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仿宋"/>
              </a:rPr>
              <a:t>天</a:t>
            </a: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仿宋"/>
              </a:rPr>
              <a:t>更</a:t>
            </a:r>
            <a:r>
              <a:rPr b="1" lang="zh-CN" sz="6600" spc="-1" strike="noStrike">
                <a:solidFill>
                  <a:srgbClr val="ffff00"/>
                </a:solidFill>
                <a:latin typeface="Arial"/>
                <a:ea typeface="仿宋"/>
              </a:rPr>
              <a:t>美</a:t>
            </a: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仿宋"/>
              </a:rPr>
              <a:t>好</a:t>
            </a:r>
            <a:r>
              <a:rPr b="1" lang="zh-CN" sz="8800" spc="-1" strike="noStrike">
                <a:solidFill>
                  <a:srgbClr val="ffff00"/>
                </a:solidFill>
                <a:latin typeface="Arial"/>
                <a:ea typeface="华文中宋"/>
              </a:rPr>
              <a:t>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0" y="0"/>
            <a:ext cx="91440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拓展练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想一想香港美丽的夜景给你留下了什么样的印象？用自己的话说一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4" descr="2566354_154819029824_2 (1)"/>
          <p:cNvPicPr/>
          <p:nvPr/>
        </p:nvPicPr>
        <p:blipFill>
          <a:blip r:embed="rId1"/>
          <a:srcRect l="0" t="0" r="0" b="6819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4" descr="0023aea9d7cb0ee3c1f803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498" name="Text Box 5"/>
          <p:cNvSpPr/>
          <p:nvPr/>
        </p:nvSpPr>
        <p:spPr>
          <a:xfrm>
            <a:off x="1066680" y="1828800"/>
            <a:ext cx="906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00"/>
                </a:solidFill>
                <a:latin typeface="华文中宋"/>
                <a:ea typeface="华文中宋"/>
              </a:rPr>
              <a:t>香  港  夜  色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2"/>
          <p:cNvSpPr/>
          <p:nvPr/>
        </p:nvSpPr>
        <p:spPr>
          <a:xfrm>
            <a:off x="0" y="0"/>
            <a:ext cx="8474040" cy="67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你还认识我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香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港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印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象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摩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天大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拐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弯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罩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着      灯火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辉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匆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忙       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势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维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多利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相映成趣             林立如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0" y="4800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"/>
          <p:cNvSpPr/>
          <p:nvPr/>
        </p:nvSpPr>
        <p:spPr>
          <a:xfrm>
            <a:off x="0" y="533520"/>
            <a:ext cx="103172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游香港看香港，那山那水那情那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给我留下了美好的印象。然而最使人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连和难以忘怀的是那灯火辉煌的夜景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难怪“香江灯火”有“世界四大夜景之一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美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香港很美，香港的夜色更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5"/>
          <p:cNvSpPr/>
          <p:nvPr/>
        </p:nvSpPr>
        <p:spPr>
          <a:xfrm>
            <a:off x="0" y="4876920"/>
            <a:ext cx="952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6"/>
          <p:cNvSpPr/>
          <p:nvPr/>
        </p:nvSpPr>
        <p:spPr>
          <a:xfrm>
            <a:off x="1444680" y="4114800"/>
            <a:ext cx="7851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远处的像无数的星星闪闪烁烁，而         近处的则是五光十色壮观辉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4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啊！灯火里的维多利亚湾，飘洒着金辉银光。白天一片蓝悠悠的海滨，此刻融下了两岸万千广厦映照的灯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5"/>
          <p:cNvSpPr/>
          <p:nvPr/>
        </p:nvSpPr>
        <p:spPr>
          <a:xfrm>
            <a:off x="152280" y="1981080"/>
            <a:ext cx="929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那缓缓行驶的万吨巨轮和来回穿梭的渡轮，那游艇上挂着的横的灯串、直的灯柱，红红绿绿，黄黄白白，相映成趣，把夜的港湾装点得如同白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3"/>
          <p:cNvSpPr/>
          <p:nvPr/>
        </p:nvSpPr>
        <p:spPr>
          <a:xfrm>
            <a:off x="0" y="2209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掠过那片灯火的海港，仍是一望无际的灯火，只见大地上灯光连着光环，光环罩着大地，近的在眼前，远的在天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Bonny</cp:lastModifiedBy>
  <dcterms:modified xsi:type="dcterms:W3CDTF">2015-05-16T15:00:32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