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rojctor.wav" ContentType="audio/x-wav"/>
  <Override PartName="/ppt/media/type.wav" ContentType="audio/x-wav"/>
  <Override PartName="/ppt/media/image14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12.jpeg" ContentType="image/jpeg"/>
  <Override PartName="/ppt/media/image11.gif" ContentType="image/gi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7D1-D713-4D0A-B67B-F1170101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DE6-7BEE-4206-9252-1626607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E13A0-64BB-486D-BD3F-6B2FC507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BFF4-3E4C-45DF-9298-7DD919DC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4E33B-DB16-4B73-8ADD-4B36506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F3833-9959-40CA-BAE6-1CE9087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0A5C0-1050-4A8A-9B8D-78C2C40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B4C4A-84F7-4587-9772-02ED8CE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CACC-5A24-4BCD-8A12-1457B477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C5DC-42C7-4A44-9940-AA008426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454C5-1273-4C15-A42E-7FDB70A9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609E9-881E-4B45-A4E3-104752E7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475-79DC-4397-858A-62D6E21C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C415-9CCC-4138-A534-004E3185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9E59B-4438-4338-B279-4AEFCF4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6B807-13A3-4981-AA0A-480B66A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6B266-4E0C-4415-B515-32FEFEFE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E3ABA-8514-48C0-9CDB-6B8FBD7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B7217-7B66-4413-B7D2-E825D30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90177-CC50-457B-B227-6DC5BCA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10B0-6B26-43D1-A002-056FE79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FC4CF-BB6E-425F-A0C5-F958DF92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AB90-DAD9-4D96-8F1F-C744DBDD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365-C795-4786-AC18-3DFBB0EC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161F6-38B6-42E2-96DE-5567A1B5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3E9F-908E-419A-8E3A-7C3F336D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6F405-7713-4079-AB52-F8D4BFC8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386D-7123-455B-92ED-99DAD320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85859-88D8-439C-A27C-57F94A9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7DDAF-74D4-408F-AC2E-4A0EF95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DE11B-F801-434B-96A9-687B945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A4F59-D579-41C9-9B33-7B56DE6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0A0D3-43DA-4037-910F-2C6980A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BBD2-B8DB-40C3-9CE1-A235D79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A784-68EB-4F88-A1D5-2BE6BFF4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C9C03-15C6-4AD9-A6F5-94CDCF2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9B916-F348-4C7A-BBB2-8388B039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931D2-9FA3-44A6-95A8-5CC6B5B1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A7066-CB56-4D50-9BE2-9CCDC81F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81272-723B-452A-8AA9-6A8B03C9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6ABA7-297C-4DEA-9F80-0E82CC60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AA891-FA6E-44BD-9B06-E228842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B6BE-698B-40DD-B8FA-726EAD7F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5AE5E-433A-4798-9E14-663BA84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660AD-2EC6-4A40-8831-1C8F4D6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49F7-139B-4955-8480-77D2D182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DA017-0919-4FAC-AC2B-567F9B6A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A6902-1A4A-4592-A19B-7CCDDD1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B0643-B9EF-4C6B-9C34-AEA1E59E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7DBC-F8CA-4C32-B88D-141A77D2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EB64E-5714-42A2-A411-F941EFAE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FE1-560B-4330-B3FC-357E3AA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8262-9AA4-426E-938C-66BB3F2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8D62-7487-4095-93EF-D4E43CB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AF85-64B6-485C-A7CE-DC676E1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D5BF-0F2D-4578-87E5-9C9D180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CDB-B2F1-446F-9A7A-83545D44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BC0-7696-4B13-9E79-2FCA774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8DF3-2999-4FC7-A106-FCC6086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71AB-A30D-4BCB-A573-130FD08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780F-1CF1-47AC-8051-9FBD86C5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8A8-8D0D-473C-9025-693B7F6D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E760-E65D-4DAE-A658-4E920E5A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992F-3088-4D66-A765-DF1E88EA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B1B6-74E8-4C34-B494-F9236D2E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1C79-8E59-44F1-A0ED-1F373D0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A340-B06F-4088-8D30-30169DA8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C9C-7C37-4338-88B8-E41D624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4D2B-1FF6-4F25-B6E6-57BEAF2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3749-994C-44A9-9EA4-EBF9A8E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AD20-5F16-4A20-A0CE-C11EB22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4A9E-7C4D-4C26-969F-CCCB0DE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DD5F-E90F-447A-8D92-860A994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FD56-E38F-4D0D-9B80-E82100D7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1EE3-E595-447D-BF8A-D01A6815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09566-623B-4E55-AE87-BD43CA59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3C2B-312D-43C6-B4DE-674ABD23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574F-915B-4509-894B-D7539149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FF2-B68D-40A2-90BA-577033D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9AFB-3894-4A74-B118-41E29F92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3441-A026-4AC9-80A5-617EF5C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58EB-C152-4E54-8C1A-64BE0E3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4CA9-304C-4955-B7AD-CD3404F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EC1A-FD33-4CBC-8002-861B24E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B4EE-33F7-49CE-A4F9-39E3748D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2085-B8AB-48CF-ABF0-00D77AC0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D699-3831-4343-9EF9-77BF3629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1B16-E947-4DDF-A985-96928260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AA19-2CFD-4697-A292-5FE7EFD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78C-E9CF-41F0-8724-3C2CCFC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05A8-A877-4FC1-939E-58EFF9BA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10A2-53C4-4F4F-B19E-EA466DB0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AE26-4DBD-4BE3-8E49-FF77EF5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6636-8778-41A9-B701-589F61C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3BFF-76A6-499D-9324-45F1B4A2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E736-12A9-45E4-95E9-47BAE85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6C1F-8768-4793-AAEB-97F0089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728F-5458-431B-88C7-EFCD734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205C-27BC-4052-982D-8F59BAA2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4419-219C-4D56-9AA0-F586E188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D21-219C-4789-90D8-F901146B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C8B4-6A4F-4773-B00A-10D18952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8296-9FB4-487B-8AF1-3BA84DB3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E9E7-628F-4FB5-82DB-F0E18B3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F31C9-0CE4-4A67-A9EB-EEDBB2D4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32A1-C72B-464C-820D-BD3C2CB1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3E3A-65C0-41AD-8273-9243EED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45F2D-966E-42B0-90DB-EDF9A7DD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29DB-FA11-43C3-94AC-D1CDDAB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FE0A3-3689-4032-83F2-077C8B4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7FCD-F06D-42EC-9C44-32380ED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76F-A387-4430-A08E-EC6726FE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283AD-4573-4107-A525-89125EC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8E31-6E64-42AC-B830-00AE7D85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E4BFA-E85D-4D2D-B0B5-3E3C2326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6E50-8C15-417D-9C26-7D3C1CA4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4653-5AD4-4C97-9C0C-CB8E1DAF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6FC6-5157-4FED-AF31-7AE374ED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4E8C1-888E-46B2-8D2E-6EEF495E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2251C-7BBB-4460-811C-69B5755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5685-77FA-46BC-B9EE-E03D8BF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BD21-84A3-4112-BF03-959BA8F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E11-FF03-49F2-AE72-A731730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DFB36-A6A8-4DA2-A97A-6C502515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321D0-FB1F-4551-8042-0A286AB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D30E-6B8C-41AA-8249-92BADD8A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293BB-AEB5-4EAC-B4C4-4D37527F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E669-E727-46ED-8F9D-52505313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326A0-2450-49D4-A2FE-406801BC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A3F3-CB96-466A-BE55-54F0C7EB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282E-0993-41EA-BD12-3BCE316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4102-17C8-4927-A47A-B7990DAE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D561-6175-4DB4-B4D7-43FD73E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55E-AC84-4113-AE35-F030EF8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8305-9E5E-463D-844B-64FC4B5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CBF28-2DAE-41BE-9122-3EA1577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1B1B5-3A39-4719-823B-CB673E8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308D-944E-4573-84B3-55FBF23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60371-8582-4494-99D1-64BD1DBA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7FD0-4737-490F-8D08-61037C2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143B8-48DC-40C7-B91D-BBF6007C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5B5D9-3192-4155-A67C-AFC92617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989E3-FFF0-42A5-9136-E6B6EC5D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E684B-409E-41AB-83E0-3AF6417A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F0F-5F23-4F51-9BDF-DF9210BCA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B5D-027B-4FCF-9CC8-2690BCD5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A79F-EE37-4FA2-9429-B22B2DE7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76C0-DFA9-45CD-8F33-72EA4B9A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84AE-3089-45F6-8EFB-76DE36874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8F1-2611-429E-9FBF-560AE69F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81F-1798-4B2A-9050-2252DD9D2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59C2-6AA2-458C-9B65-79BDB2A5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DDB8-D4BF-4A95-91CA-58E586486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673-DFC9-4B11-A732-C83396D2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E985-43EE-4511-847B-E6576D513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916-4F2A-486F-8950-A2F64047B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3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WordArt 3"/>
          <p:cNvSpPr txBox="1"/>
          <p:nvPr/>
        </p:nvSpPr>
        <p:spPr>
          <a:xfrm>
            <a:off x="2771640" y="4005360"/>
            <a:ext cx="482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三月桃花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200551217169547"/>
          <p:cNvPicPr/>
          <p:nvPr/>
        </p:nvPicPr>
        <p:blipFill>
          <a:blip r:embed="rId1"/>
          <a:stretch/>
        </p:blipFill>
        <p:spPr>
          <a:xfrm>
            <a:off x="1447920" y="4057560"/>
            <a:ext cx="2590560" cy="28004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228600" y="4343400"/>
            <a:ext cx="838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15_163_2"/>
          <p:cNvPicPr/>
          <p:nvPr/>
        </p:nvPicPr>
        <p:blipFill>
          <a:blip r:embed="rId2"/>
          <a:stretch/>
        </p:blipFill>
        <p:spPr>
          <a:xfrm>
            <a:off x="5029200" y="685800"/>
            <a:ext cx="4114800" cy="30052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4859280" y="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钢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1098065879_zTa4Md"/>
          <p:cNvPicPr/>
          <p:nvPr/>
        </p:nvPicPr>
        <p:blipFill>
          <a:blip r:embed="rId3"/>
          <a:stretch/>
        </p:blipFill>
        <p:spPr>
          <a:xfrm>
            <a:off x="5219640" y="3860640"/>
            <a:ext cx="3889440" cy="30243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"/>
          <p:cNvSpPr/>
          <p:nvPr/>
        </p:nvSpPr>
        <p:spPr>
          <a:xfrm>
            <a:off x="4270680" y="4336920"/>
            <a:ext cx="8506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胡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8" descr="4441-t02"/>
          <p:cNvPicPr/>
          <p:nvPr/>
        </p:nvPicPr>
        <p:blipFill>
          <a:blip r:embed="rId4"/>
          <a:stretch/>
        </p:blipFill>
        <p:spPr>
          <a:xfrm>
            <a:off x="114300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9"/>
          <p:cNvSpPr/>
          <p:nvPr/>
        </p:nvSpPr>
        <p:spPr>
          <a:xfrm>
            <a:off x="232560" y="609480"/>
            <a:ext cx="789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竖     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找出第四自然段中所写的水的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0" y="274320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"/>
          <p:cNvSpPr/>
          <p:nvPr/>
        </p:nvSpPr>
        <p:spPr>
          <a:xfrm>
            <a:off x="609480" y="3581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09480" y="2971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奏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209680" y="12952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浪花敲打出的鼓点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133720" y="2209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忽大忽小的水波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2209680" y="30481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纤细的低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209680" y="38098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碰着岸边的石块的叮咚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286000" y="5029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流的水浪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1905120" y="1676520"/>
            <a:ext cx="380880" cy="380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6019920" y="1523880"/>
            <a:ext cx="685800" cy="3962520"/>
          </a:xfrm>
          <a:custGeom>
            <a:avLst/>
            <a:gdLst>
              <a:gd name="textAreaLeft" fmla="*/ 0 w 685800"/>
              <a:gd name="textAreaRight" fmla="*/ 247680 w 6858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934320" y="2819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春天的竖琴像一串小铃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什么声音，像一串小铃铛，轻轻地走过村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38088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月的桃花水，是春天的竖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像一串小铃铛，轻轻地走过村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3352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这一段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809880" y="52578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比喻、拟人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是什么光芒，像一匹明洁的丝绸，映照着蓝天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问对应的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找出第六自然段中所写的水中的倒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0" y="274320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609480" y="3581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09480" y="2971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影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2209680" y="11430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飞过天空，翅膀上裹着白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133720" y="2514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柳披上了长发，如雾如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2209680" y="38098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姑娘来到河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2133720" y="4724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庄上空，炊烟袅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1905120" y="1676520"/>
            <a:ext cx="380880" cy="380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1"/>
          <p:cNvSpPr/>
          <p:nvPr/>
        </p:nvSpPr>
        <p:spPr>
          <a:xfrm>
            <a:off x="6019920" y="1523880"/>
            <a:ext cx="685800" cy="3962520"/>
          </a:xfrm>
          <a:custGeom>
            <a:avLst/>
            <a:gdLst>
              <a:gd name="textAreaLeft" fmla="*/ 0 w 685800"/>
              <a:gd name="textAreaRight" fmla="*/ 247680 w 6858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6934320" y="2819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春天的明镜像一匹明洁的丝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什么光芒，像一匹明洁的丝绸，映照着蓝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38088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三月的桃花水，是春天明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像一匹明洁的丝绸，映照着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533520" y="37339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像一下，这块明镜还倒影着什么？补充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它看见                             ，它看见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1981080" y="51055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7620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762120" y="6324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f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blueclr.gif (5977 bytes)"/>
          <p:cNvPicPr/>
          <p:nvPr/>
        </p:nvPicPr>
        <p:blipFill>
          <a:blip r:embed="rId2"/>
          <a:stretch/>
        </p:blipFill>
        <p:spPr>
          <a:xfrm>
            <a:off x="5724360" y="4437000"/>
            <a:ext cx="1221120" cy="1368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lueclr.gif (5977 bytes)"/>
          <p:cNvPicPr/>
          <p:nvPr/>
        </p:nvPicPr>
        <p:blipFill>
          <a:blip r:embed="rId3"/>
          <a:stretch/>
        </p:blipFill>
        <p:spPr>
          <a:xfrm>
            <a:off x="0" y="3933720"/>
            <a:ext cx="1220760" cy="1368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blueclr.gif (5977 bytes)"/>
          <p:cNvPicPr/>
          <p:nvPr/>
        </p:nvPicPr>
        <p:blipFill>
          <a:blip r:embed="rId4"/>
          <a:stretch/>
        </p:blipFill>
        <p:spPr>
          <a:xfrm>
            <a:off x="6156360" y="3284640"/>
            <a:ext cx="1284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ppc02089"/>
          <p:cNvPicPr/>
          <p:nvPr/>
        </p:nvPicPr>
        <p:blipFill>
          <a:blip r:embed="rId1"/>
          <a:stretch/>
        </p:blipFill>
        <p:spPr>
          <a:xfrm>
            <a:off x="1828800" y="457200"/>
            <a:ext cx="6194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032bf"/>
          <p:cNvPicPr/>
          <p:nvPr/>
        </p:nvPicPr>
        <p:blipFill>
          <a:blip r:embed="rId1"/>
          <a:srcRect l="0" t="6152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pic011(2)"/>
          <p:cNvPicPr/>
          <p:nvPr/>
        </p:nvPicPr>
        <p:blipFill>
          <a:blip r:embed="rId2"/>
          <a:stretch/>
        </p:blipFill>
        <p:spPr>
          <a:xfrm>
            <a:off x="6477120" y="304920"/>
            <a:ext cx="3166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u=1858164619,104140562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5335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óu    xuàn       tǎng    qiāo      zòu    x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04920" y="9144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丝绸  绚丽  流淌  敲打 节奏  纤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绸缎  绚烂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淌口水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敲诈  伴奏 纤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09480" y="30481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ù       lí          niǎo         yīn    xián       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304920" y="3809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催促  犁地  袅袅  绿茵 琴弦   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急促  铁犁  袅绕  绿草 弓弦   和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                 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如茵        和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5043002"/>
          <p:cNvPicPr/>
          <p:nvPr/>
        </p:nvPicPr>
        <p:blipFill>
          <a:blip r:embed="rId1"/>
          <a:srcRect l="0" t="14440" r="0" b="7778"/>
          <a:stretch/>
        </p:blipFill>
        <p:spPr>
          <a:xfrm>
            <a:off x="4375080" y="990720"/>
            <a:ext cx="4768920" cy="53337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u=1770516818,2108375214&amp;gp=2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guanshanfengjin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4">
            <a:hlinkClick r:id="rId2" action="ppaction://hlinksldjump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20049211530548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no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6" name="WordArt 3"/>
          <p:cNvSpPr txBox="1"/>
          <p:nvPr/>
        </p:nvSpPr>
        <p:spPr>
          <a:xfrm>
            <a:off x="1692360" y="404640"/>
            <a:ext cx="4238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三月桃花水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04920" y="106668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写：三月的桃花水，是春天的竖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美丽的彩虹，是夏天的拱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七月的荷花，是夏天的使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漫天的飞雪，是冬天的精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满山的红叶，是秋天的衣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04920" y="106668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写：地上草如茵，两岸柳如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天上云如海，地上花如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上花如海，湖面水如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公路上车如龙，广场上人如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127556117131250000_38017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IMG_3628"/>
          <p:cNvPicPr/>
          <p:nvPr/>
        </p:nvPicPr>
        <p:blipFill>
          <a:blip r:embed="rId1"/>
          <a:srcRect l="0" t="0" r="0" b="10003"/>
          <a:stretch/>
        </p:blipFill>
        <p:spPr>
          <a:xfrm>
            <a:off x="228600" y="0"/>
            <a:ext cx="8915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xinsrc_250103311020968158566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2297"/>
          <p:cNvPicPr/>
          <p:nvPr/>
        </p:nvPicPr>
        <p:blipFill>
          <a:blip r:embed="rId1"/>
          <a:srcRect l="0" t="11111" r="3336" b="0"/>
          <a:stretch/>
        </p:blipFill>
        <p:spPr>
          <a:xfrm>
            <a:off x="0" y="762120"/>
            <a:ext cx="8839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朗读自己最喜欢的段落或自己认为能读得最好的段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你为什么喜欢这一段？你为什么觉得这段比较好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找出下面两句对应的段落，读一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是什么声音，像一串小铃铛，轻轻地走过村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是什么光芒，像一匹明洁的丝绸，映照着蓝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04920" y="4343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竖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某些乐器的统称，如风琴、钢琴、胡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08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月的桃花水，是春天的竖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38088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桃花水比作竖琴，回答了什么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6-02-29T07:40:4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