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41A1-0D3C-45DF-BB02-0A203402E8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49C4-C200-4DA9-BA5B-83275E3454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C68-2127-4463-8E60-1889904A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A3B4-17D2-4584-A044-5539F3AD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1A4-0504-4D6F-A3D7-2D997D10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42-F216-4C37-93AF-295AC550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87C-54D0-42F4-807B-C82BEBC8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3D0-B3E7-4A4B-9504-DD9F32B0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76E-7866-4F3D-BBF4-60126951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2353-A9EA-402B-8367-BA2E51E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0A2-D9F2-4766-A994-A21B7F2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43E-D8FC-44B1-B4E4-DC4C1A9F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F95A-1061-4624-B546-A2D0CD1F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86F-1F17-4E7D-95F5-D25ACFE1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D57A-E425-4C02-9108-CD5948DFC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1205021713670_1205021713670_r"/>
          <p:cNvPicPr/>
          <p:nvPr/>
        </p:nvPicPr>
        <p:blipFill>
          <a:blip r:embed="rId2"/>
          <a:stretch/>
        </p:blipFill>
        <p:spPr>
          <a:xfrm>
            <a:off x="4572000" y="3505320"/>
            <a:ext cx="4572000" cy="3230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5029200" y="11430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刘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10005T103-2"/>
          <p:cNvPicPr/>
          <p:nvPr/>
        </p:nvPicPr>
        <p:blipFill>
          <a:blip r:embed="rId3"/>
          <a:stretch/>
        </p:blipFill>
        <p:spPr>
          <a:xfrm>
            <a:off x="0" y="0"/>
            <a:ext cx="45720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191120" y="456840"/>
            <a:ext cx="40384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刘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奥运冠军，中国男子田径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跨栏一级运动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雅典奥运会上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秒的成绩平了保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之久的世界纪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，在东亚运动会田径男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栏决赛中，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成绩轻松夺得冠军，成就“三冠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8862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28600" y="19810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在日本大阪举行的国际田联大奖赛上，刘翔以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秒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0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成绩战胜了约翰逊的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秒</a:t>
            </a:r>
            <a:r>
              <a:rPr b="1" lang="en-US" sz="3200" spc="-1" strike="noStrike">
                <a:solidFill>
                  <a:srgbClr val="000000"/>
                </a:solidFill>
                <a:latin typeface="_x000b__x000c_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第一次面对面地战胜了约翰逊，也是战胜了刘翔心目中的偶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343400" y="1810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传体作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刘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翔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0948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041902353423"/>
          <p:cNvPicPr/>
          <p:nvPr/>
        </p:nvPicPr>
        <p:blipFill>
          <a:blip r:embed="rId1"/>
          <a:stretch/>
        </p:blipFill>
        <p:spPr>
          <a:xfrm>
            <a:off x="457200" y="0"/>
            <a:ext cx="388620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showimg"/>
          <p:cNvPicPr/>
          <p:nvPr/>
        </p:nvPicPr>
        <p:blipFill>
          <a:blip r:embed="rId2"/>
          <a:stretch/>
        </p:blipFill>
        <p:spPr>
          <a:xfrm>
            <a:off x="4572000" y="1066680"/>
            <a:ext cx="441972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533520" y="4038480"/>
            <a:ext cx="769608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刘翔是如何成为“跨栏王”的？让我们一起学习他写的这篇文章 ：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翻越了远方的大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——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大山指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92" name="WordArt 8"/>
          <p:cNvSpPr txBox="1"/>
          <p:nvPr/>
        </p:nvSpPr>
        <p:spPr>
          <a:xfrm>
            <a:off x="1371600" y="609480"/>
            <a:ext cx="56386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翻越远方的大山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974320" y="1523160"/>
            <a:ext cx="441756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33cc"/>
                </a:solidFill>
                <a:latin typeface="Arial"/>
              </a:rPr>
              <a:t>. . . . .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154120" y="3352680"/>
            <a:ext cx="192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阿兰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约翰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2815200" y="41911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于刘翔来说，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3330360" y="4648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前进道路上的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3314160" y="5257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他要实现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037680" y="5943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他的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30492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阿兰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约翰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美国人，生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栏运动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出道至今，他已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栏届奋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，他在哥德堡世锦赛开始了自己的统治生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世锦赛金牌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奥运会金牌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室内世锦赛金牌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跑进刘翔表示“非常难进”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秒大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外表温和内心骄傲的他，从没把自己的辉煌太当回事，这也让他轻装上阵，越战越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116110_668941[1]"/>
          <p:cNvPicPr/>
          <p:nvPr/>
        </p:nvPicPr>
        <p:blipFill>
          <a:blip r:embed="rId1"/>
          <a:stretch/>
        </p:blipFill>
        <p:spPr>
          <a:xfrm>
            <a:off x="152280" y="457200"/>
            <a:ext cx="4434120" cy="571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200408260794_768186"/>
          <p:cNvPicPr/>
          <p:nvPr/>
        </p:nvPicPr>
        <p:blipFill>
          <a:blip r:embed="rId2"/>
          <a:stretch/>
        </p:blipFill>
        <p:spPr>
          <a:xfrm>
            <a:off x="152280" y="380880"/>
            <a:ext cx="4419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howimg3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52280" y="304920"/>
            <a:ext cx="883944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刘翔是怎样一步一步翻越远方大山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2666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流：文中表示时间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翔在不同时期的有怎么的表现，面对挑战又是怎么想的呢？找一找关键性的词句，体会体会。（可以同坐交流，合作完成列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赛开始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755640" y="1268280"/>
            <a:ext cx="792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跨  栏  赛  腊  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际  隐  绩  纪  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-30492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219320" y="1981080"/>
            <a:ext cx="6629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跨栏   比赛  希腊  雅典  祝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国际  隐隐  成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楷体_GB2312"/>
              </a:rPr>
              <a:t>绩  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录  呐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33520" y="609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读一读 记一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0666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uà  lán     sài            l à      yǎ            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371600" y="3276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j ì           yǐn              j ì      j ì           n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762120" y="220968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约翰逊    风驰电掣    遥不可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刘翔      奢望     遗憾     大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2120" y="1676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àn xùn                        ch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105520" y="3581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àn             b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612720" y="907920"/>
            <a:ext cx="828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跨栏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奢望   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腊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锦标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雅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   国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际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当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祝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隐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成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绩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纪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录    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呐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遥不可及  风驰电掣  毫无疑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023ae71ee1d0c64bfc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-796320" y="190440"/>
            <a:ext cx="2861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Arial"/>
              </a:rPr>
              <a:t>刘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468360" y="836640"/>
            <a:ext cx="810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遥不可及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非常遥远、难以得到的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797840" y="2205000"/>
            <a:ext cx="207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后头跟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达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趁着，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38080" y="411480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奢：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◎ 过分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◎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夸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63760" y="3947760"/>
            <a:ext cx="517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奢望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因要求过高而难以实现的希望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送你几个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</a:rPr>
              <a:t>精卫填海    愚公移山   含辛茹苦   任劳任怨    艰苦卓绝    百折不挠    风雨无阻    坚贞不屈     一往无前    乘风破浪    迎难而上     越挫越勇 不屈不挠    攻关莫畏难   锲而不舍</a:t>
            </a: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howimg3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>
            <a:hlinkClick r:id="rId2" action="ppaction://hlinksldjump"/>
          </p:cNvPr>
          <p:cNvSpPr/>
          <p:nvPr/>
        </p:nvSpPr>
        <p:spPr>
          <a:xfrm>
            <a:off x="3871800" y="6443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3" action="ppaction://hlinksldjump"/>
          </p:cNvPr>
          <p:cNvSpPr/>
          <p:nvPr/>
        </p:nvSpPr>
        <p:spPr>
          <a:xfrm>
            <a:off x="4948200" y="6415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>
            <a:hlinkClick r:id="rId4" action="ppaction://hlinksldjump"/>
          </p:cNvPr>
          <p:cNvSpPr/>
          <p:nvPr/>
        </p:nvSpPr>
        <p:spPr>
          <a:xfrm>
            <a:off x="69343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>
            <a:hlinkClick r:id="rId5" action="ppaction://hlinksldjump"/>
          </p:cNvPr>
          <p:cNvSpPr/>
          <p:nvPr/>
        </p:nvSpPr>
        <p:spPr>
          <a:xfrm>
            <a:off x="5938920" y="6415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3520" y="380880"/>
            <a:ext cx="8305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为什么在刘翔眼里，约翰逊就是一座“远方的大山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请你细细地读一读文章的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-7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节，找一找相关词句，画出来体会体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本文中指刘翔觉得自己和约翰逊差距非常大，挺难超越约翰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遥不可及      风驰电掣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7621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本文中指约翰逊像风吹和闪电一样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252360" y="50133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要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39640" y="549360"/>
            <a:ext cx="806472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朗读课文，把课文读正确、读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联系上下文或查工具书理解词义，读懂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思考：本文主要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找出含有题目的句子 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有哪些表示时间的词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越远方的大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刘翔敢于挑战，坚持不懈地努力练习（     ），不断地进取，终于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0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成绩（   ），超越了（    ），翻越了心中的这座大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翻越远方的大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刘翔敢于挑战，坚持不懈地努力练习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跨栏技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不断地进取，终于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0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成绩打破了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亚洲纪录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超越了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约翰逊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翻越了心中的这座大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57200" y="9907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43000" y="2514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那一刻我才回过神来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一切都是真的，我成功翻越了远方的大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09480" y="114300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速读全文，找出含有题目的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整体感知：想一想刘翔在翻越这座大山时经历了怎样的过程？填空：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52280" y="36576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遥不可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2362320" y="40384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5715000" y="40384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561840" y="3657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站在山脚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7040520" y="3657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翻越大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88748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307880" y="1989000"/>
            <a:ext cx="6910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自读课文，按照“遥不可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站在山脚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翻越大山”将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分为三部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260280"/>
            <a:ext cx="33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跨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1011291241010"/>
          <p:cNvPicPr/>
          <p:nvPr/>
        </p:nvPicPr>
        <p:blipFill>
          <a:blip r:embed="rId1"/>
          <a:stretch/>
        </p:blipFill>
        <p:spPr>
          <a:xfrm>
            <a:off x="0" y="415764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808360" y="23508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源于英国，由牧羊人跨越羊圈栅栏的游戏演变而来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，跨栏活动正式成为体育运动项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Users\dell\AppData\Roaming\Tencent\Users\712326765\QQ\WinTemp\RichOle\FMZ)02KEZ5S[[ZM(50H)PZX.png"/>
          <p:cNvPicPr/>
          <p:nvPr/>
        </p:nvPicPr>
        <p:blipFill>
          <a:blip r:embed="rId2"/>
          <a:stretch/>
        </p:blipFill>
        <p:spPr>
          <a:xfrm>
            <a:off x="2971800" y="2514600"/>
            <a:ext cx="5962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900000" y="40464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翻越远方的大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50920" y="2349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遥不可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76720" y="2438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站在山脚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02000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翻越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0920" y="335772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刚跨栏那会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140360" y="3213000"/>
            <a:ext cx="136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22200" y="189000"/>
            <a:ext cx="84978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部分 （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部分 （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部分 （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700360" y="115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68360" y="1557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刘翔刚跨栏那会儿，把约翰逊当成一座遥不可及的大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00360" y="24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   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773520"/>
            <a:ext cx="73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刘翔经过不懈努力，终于站在了大山脚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627280" y="4724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8    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49440" y="6021360"/>
            <a:ext cx="80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刘翔成功翻越了远方的大山，终于战胜了约翰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功翻越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来到山脚下</a:t>
            </a:r>
            <a:r>
              <a:rPr b="1" lang="zh-CN" sz="7200" spc="-1" strike="noStrike">
                <a:solidFill>
                  <a:srgbClr val="cccc00"/>
                </a:solidFill>
                <a:latin typeface="Arial"/>
              </a:rPr>
              <a:t>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cc00"/>
                </a:solidFill>
                <a:latin typeface="Arial"/>
              </a:rPr>
              <a:t>    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遥不可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50920" y="260280"/>
            <a:ext cx="88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我们一起来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文中许多表示时间的词语，这些表示时间的词语见证了刘翔不断努力，不断进步的过程，然后填表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71640" y="2276640"/>
          <a:ext cx="7704000" cy="360036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约翰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395280" y="333360"/>
            <a:ext cx="849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早就知道阿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翰逊的名字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练跨栏那会儿，根本就不敢奢望有朝一日能亲眼看到约翰逊。在我看来，他就是一座远方的大山，我到山脚下的那一天都遥不可及，更别提要翻越这座大山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395280" y="333360"/>
            <a:ext cx="849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早就知道阿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翰逊的名字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练跨栏那会儿，根本就不敢奢望有朝一日能亲眼看到约翰逊。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我看来，他就是一座远方的大山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到山脚下的那一天都遥不可及，更别提要翻越这座大山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71640" y="266688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奢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showimg3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533520" y="1143000"/>
            <a:ext cx="8305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任务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刘翔是怎样一步一步翻越远方的大山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-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，找一找关键性的词句，体会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04920" y="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在埃德蒙顿举行的世界锦标赛上，我和约翰逊第一次碰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次我没能进入决赛，只能作为观众在一旁感受约翰逊风驰电掣般的速度。最终，约翰逊夺得了冠军。我暗暗地问自己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翔啊刘翔，你将来能和他跑得一样快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43000" y="3276720"/>
          <a:ext cx="6858000" cy="2768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1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的表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想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17"/>
          <p:cNvSpPr/>
          <p:nvPr/>
        </p:nvSpPr>
        <p:spPr>
          <a:xfrm>
            <a:off x="4724280" y="4267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没能进入决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4572000" y="50292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我”将来能和他跑得一样快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3168720" y="1890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340000" y="981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碰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24000" y="184464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次我没能进入决赛，只能作为观众在一旁感受约翰逊风驰电掣般的速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95280" y="4149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风驰电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611280" y="494172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翔啊刘翔，你将来能和他跑的一样快吗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304920" y="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参加了在希腊雅典举行的国际室内田径赛。那是我第一次和约翰逊肩并肩地站在跑道上。但真的是很遗憾，那次比赛，我在跨越第二个栏的时候摔倒了，我所能看到的，只是约翰逊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2743200"/>
          <a:ext cx="7696080" cy="276876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2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的表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想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17"/>
          <p:cNvSpPr/>
          <p:nvPr/>
        </p:nvSpPr>
        <p:spPr>
          <a:xfrm>
            <a:off x="4572000" y="3581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一次肩并肩站在跑道上，可比赛时却摔倒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4876920" y="4724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很遗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121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505320" y="304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向前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3168720" y="1890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143000" y="12193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肩并肩地站在跑道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96720" y="270828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真的是很遗憾，那次比赛，我在跨越第二个栏的时候摔倒了，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所能看到的，只是约翰逊的背影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76600" y="54864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暂时还没有办法超越约翰逊跨栏的速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0" y="16707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  <a:ea typeface="Arial"/>
              </a:rPr>
              <a:t>   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Arial"/>
              </a:rPr>
              <a:t>当看到约翰逊的背影时，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Arial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Arial"/>
              </a:rPr>
              <a:t>我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  <a:ea typeface="Arial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Arial"/>
              </a:rPr>
              <a:t>心里又会想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我进入决赛的机会越来越多，我和约翰逊面对面过招的次数也越来越多。整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跟他的比赛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竟没有一次超越他。但我跟他的差距越来越小，我屡屡拿第二，而约翰逊总是第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无疑问，那时候约翰逊仍然像一座大山横在我的面前，但我隐隐感觉到，我已经站在了山脚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2971800"/>
          <a:ext cx="8153280" cy="2844720"/>
        </p:xfrm>
        <a:graphic>
          <a:graphicData uri="http://schemas.openxmlformats.org/drawingml/2006/table">
            <a:tbl>
              <a:tblPr/>
              <a:tblGrid>
                <a:gridCol w="3276720"/>
                <a:gridCol w="487656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3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的表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想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Text Box 17"/>
          <p:cNvSpPr/>
          <p:nvPr/>
        </p:nvSpPr>
        <p:spPr>
          <a:xfrm>
            <a:off x="4038480" y="3886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跟约翰逊比赛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次，屡屡拿第二，却没有一次超越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962520" y="50292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隐隐感觉到，站在了山脚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0" y="234936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的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比赛中，“我”和约翰逊的差距终于缩小了！文中的哪句话告诉我们这一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168720" y="1890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9144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我进入决赛的机会越来越多，我和约翰逊面对面过招的次数也越来越多。整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跟他的比赛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近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次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竟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没有一次超越他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但我跟他的差距越来越小，我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屡屡拿第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约翰逊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总是第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85800" y="4724280"/>
            <a:ext cx="30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会怎么想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262400" y="5386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他跨栏有风驰电掣般的速度，我要努力超越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6518160" y="4267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真是百感交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68720" y="18900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04920" y="259092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无疑问，那时候约翰逊仍然像一座大山横在我的面前，但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隐隐感觉到，我已经站在了山脚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618280" y="1219320"/>
            <a:ext cx="396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刘翔找到了挑战自我的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新起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请画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4238640" y="495288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我和约翰逊缩小了差距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96720" y="112536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隐隐感觉到，我已经站在了山脚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84360" y="3429000"/>
            <a:ext cx="849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1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2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刘翔     约翰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395280" y="333360"/>
            <a:ext cx="84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1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2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95280" y="2276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风雨中，我＿＿＿＿＿＿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24000" y="34257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一次骨折后，我＿＿＿＿＿＿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324000" y="4724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别人休息的时候，我＿＿＿＿＿＿＿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放飞想象说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年的时间，“我”的进步是神速的，请你想一想，我都进行了哪些艰苦的训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狂风暴雨中，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风刀霜剑中，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染疾病时，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寒冬腊月，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伴休息时，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179280" y="692280"/>
            <a:ext cx="8496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国际田联大赛在日本大阪举行，我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久久等待的那一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到来了。我跑出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成绩，打破了自己当初创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亚洲纪录，第一次让约翰逊看到我的背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数万观众的呐喊声中，我有点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迷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我打败了约翰逊？是真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约翰逊让我意识到这是真的。比赛完，他第一个走向我，拍拍我的肩膀，微笑着说了一句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得漂亮！祝贺你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一刻我才回过神来：这一切都是真的，我成功翻越了远方的大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3809880" y="0"/>
            <a:ext cx="175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跨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dell\AppData\Roaming\Tencent\Users\712326765\QQ\WinTemp\RichOle\1J7]WVID62Y$)ZD9YR%ZZYX.png"/>
          <p:cNvPicPr/>
          <p:nvPr/>
        </p:nvPicPr>
        <p:blipFill>
          <a:blip r:embed="rId1"/>
          <a:stretch/>
        </p:blipFill>
        <p:spPr>
          <a:xfrm>
            <a:off x="457200" y="1676520"/>
            <a:ext cx="77914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"/>
          <p:cNvSpPr/>
          <p:nvPr/>
        </p:nvSpPr>
        <p:spPr>
          <a:xfrm>
            <a:off x="946800" y="547560"/>
            <a:ext cx="703080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国际田联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奖赛在日本大阪举行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久久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待的那一天终于到来了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我跑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成绩，打破了自己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创造的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亚洲纪录，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让约翰逊看到我的背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020000" y="59500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渴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2182680" y="1052640"/>
            <a:ext cx="493416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数万观众的呐喊声中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有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迷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我打败了约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逊？是真的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636880" y="4419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疑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012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1066680" y="1143000"/>
            <a:ext cx="7391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是约翰逊让我意识到这一切是真的。比赛完，他第一个走向我，拍拍我的肩膀，微笑着说过了一句：“干得漂亮！祝贺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5029200" y="0"/>
            <a:ext cx="2209680" cy="1143000"/>
          </a:xfrm>
          <a:prstGeom prst="wedgeEllipseCallout">
            <a:avLst>
              <a:gd name="adj1" fmla="val -44398"/>
              <a:gd name="adj2" fmla="val 92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这一切指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066680" y="31240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久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待的那一天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终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来了。我跑出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成绩，打破了自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当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创造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亚洲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纪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第一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约翰逊看到我的背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185720" y="48434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开心自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457200" y="990720"/>
            <a:ext cx="57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速读全文，找出含有题目的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143000" y="2514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那一刻我才回过神来：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这一切都是真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我成功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翻越了远方的大山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5867280" y="762120"/>
            <a:ext cx="2210040" cy="1143000"/>
          </a:xfrm>
          <a:prstGeom prst="wedgeEllipseCallout">
            <a:avLst>
              <a:gd name="adj1" fmla="val -44398"/>
              <a:gd name="adj2" fmla="val 92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这一切指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555000" y="44956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畏艰难、敢于挑战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28800" y="5334120"/>
            <a:ext cx="41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志者，事竟成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28600" y="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国际田联大奖赛在日本大阪举行，我久久等待的那一天终于到来了。我跑出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成绩，打破了自己当初创造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亚洲纪录，第一次让约翰逊看到我的背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数万观众的呐喊声中，我有点迷糊：我打败了约翰逊？是真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约翰逊让我意识到这是真的。比赛完，他第一个走向我，拍拍我的肩膀，微笑着说了一句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得漂亮！祝贺你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一刻我才回过神来：这一切都是真的，我成功翻越了远方的大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4114800"/>
          <a:ext cx="8153280" cy="2133720"/>
        </p:xfrm>
        <a:graphic>
          <a:graphicData uri="http://schemas.openxmlformats.org/drawingml/2006/table">
            <a:tbl>
              <a:tblPr/>
              <a:tblGrid>
                <a:gridCol w="3276360"/>
                <a:gridCol w="4876920"/>
              </a:tblGrid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的表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想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17"/>
          <p:cNvSpPr/>
          <p:nvPr/>
        </p:nvSpPr>
        <p:spPr>
          <a:xfrm>
            <a:off x="3733920" y="47242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打破了亚洲纪录，第一次让约翰逊看到“我”的背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733920" y="55627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成功翻越了远方的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12680" y="304920"/>
          <a:ext cx="9031320" cy="5333760"/>
        </p:xfrm>
        <a:graphic>
          <a:graphicData uri="http://schemas.openxmlformats.org/drawingml/2006/table">
            <a:tbl>
              <a:tblPr/>
              <a:tblGrid>
                <a:gridCol w="1030320"/>
                <a:gridCol w="1905120"/>
                <a:gridCol w="2057400"/>
                <a:gridCol w="1904760"/>
                <a:gridCol w="2133720"/>
              </a:tblGrid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1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3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04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刘翔的表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想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 Box 28"/>
          <p:cNvSpPr/>
          <p:nvPr/>
        </p:nvSpPr>
        <p:spPr>
          <a:xfrm>
            <a:off x="7010280" y="2133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打破了亚洲纪录，第一次让约翰逊看到“我”的背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7010280" y="40384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成功翻越了远方的大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105520" y="1981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跟约翰逊比赛近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次，屡屡拿第二，却没有一次超越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1"/>
          <p:cNvSpPr/>
          <p:nvPr/>
        </p:nvSpPr>
        <p:spPr>
          <a:xfrm>
            <a:off x="51814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隐隐感觉到，站在了山脚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3124080" y="20574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一次肩并肩站在跑道上，可比赛时却摔倒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3200400" y="4343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很遗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4"/>
          <p:cNvSpPr/>
          <p:nvPr/>
        </p:nvSpPr>
        <p:spPr>
          <a:xfrm>
            <a:off x="1295280" y="2209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没能进入决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5"/>
          <p:cNvSpPr/>
          <p:nvPr/>
        </p:nvSpPr>
        <p:spPr>
          <a:xfrm>
            <a:off x="1066680" y="40384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我”将来能和他跑得一样快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0023ae71ee1d0c64bfc628"/>
          <p:cNvPicPr/>
          <p:nvPr/>
        </p:nvPicPr>
        <p:blipFill>
          <a:blip r:embed="rId2"/>
          <a:stretch/>
        </p:blipFill>
        <p:spPr>
          <a:xfrm>
            <a:off x="457200" y="609480"/>
            <a:ext cx="4286160" cy="3610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5029200" y="990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想对刘翔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zc13"/>
          <p:cNvPicPr/>
          <p:nvPr/>
        </p:nvPicPr>
        <p:blipFill>
          <a:blip r:embed="rId3"/>
          <a:stretch/>
        </p:blipFill>
        <p:spPr>
          <a:xfrm>
            <a:off x="4991040" y="3533760"/>
            <a:ext cx="41529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段文字记载了比赛胜利的热烈场面，你从中感受到怎样的奥林匹克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感受到尊重、卓越、友谊的奥林匹克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如果你当时在场，你会这样呐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：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楷体"/>
              </a:rPr>
              <a:t>刘翔，你超越了约翰逊，打破了亚洲纪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宋体"/>
              </a:rPr>
              <a:t>如果你是刘翔，当你回过神来，你会对约翰逊说：“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华文宋体"/>
              </a:rPr>
              <a:t>谢谢你，让我在比赛中不断超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本文中我指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刘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大山指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约翰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翻越远方的大山意思是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刘翔要战胜前进道路上的困难，挑战自我，实现目标，超越梦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结合课文，写一段你的感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刘翔不畏艰难，敢于挑战，不断进取的精神值得我们学习。前进道路上有些困难看似不可战胜，只要坚持不懈地努力，就能战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37120" y="2286000"/>
            <a:ext cx="200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胜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dell\AppData\Roaming\Tencent\Users\712326765\QQ\WinTemp\RichOle\[{CND(4AP3$Z{K0II{ALBFM.png"/>
          <p:cNvPicPr/>
          <p:nvPr/>
        </p:nvPicPr>
        <p:blipFill>
          <a:blip r:embed="rId1"/>
          <a:stretch/>
        </p:blipFill>
        <p:spPr>
          <a:xfrm>
            <a:off x="4343400" y="533520"/>
            <a:ext cx="389556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071bb388d90b0d132529fe87b26b8690"/>
          <p:cNvPicPr/>
          <p:nvPr/>
        </p:nvPicPr>
        <p:blipFill>
          <a:blip r:embed="rId1"/>
          <a:stretch/>
        </p:blipFill>
        <p:spPr>
          <a:xfrm>
            <a:off x="0" y="41400"/>
            <a:ext cx="9144000" cy="681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0" y="457200"/>
          <a:ext cx="8686800" cy="586728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1143000"/>
                <a:gridCol w="1371600"/>
                <a:gridCol w="1523880"/>
                <a:gridCol w="1143000"/>
                <a:gridCol w="144792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很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刚练跨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就知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约翰逊了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想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崇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Line 36"/>
          <p:cNvSpPr/>
          <p:nvPr/>
        </p:nvSpPr>
        <p:spPr>
          <a:xfrm>
            <a:off x="2057400" y="12952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2057400" y="335268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不敢奢望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遥不可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2209680" y="1600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约翰逊成为我的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偶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3200400" y="3581280"/>
            <a:ext cx="1295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向往 、渴望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”将来能和他跑得一样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0"/>
          <p:cNvSpPr/>
          <p:nvPr/>
        </p:nvSpPr>
        <p:spPr>
          <a:xfrm>
            <a:off x="3352680" y="1371600"/>
            <a:ext cx="1143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”没能进入决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感受他的速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暗暗问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>
            <a:off x="2057400" y="44956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4876920" y="1447920"/>
            <a:ext cx="990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并肩站在跑道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0000"/>
                </a:solidFill>
                <a:latin typeface="Arial"/>
              </a:rPr>
              <a:t>看到他的背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3"/>
          <p:cNvSpPr/>
          <p:nvPr/>
        </p:nvSpPr>
        <p:spPr>
          <a:xfrm>
            <a:off x="46483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感到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遗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6248520" y="14479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比赛近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次，屡屡拿第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5"/>
          <p:cNvSpPr/>
          <p:nvPr/>
        </p:nvSpPr>
        <p:spPr>
          <a:xfrm>
            <a:off x="6019920" y="3429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隐隐感觉到，“我”已经站在了山脚下！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离目标近了，不气馁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7391520" y="16002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我翻越大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超越约翰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7"/>
          <p:cNvSpPr/>
          <p:nvPr/>
        </p:nvSpPr>
        <p:spPr>
          <a:xfrm>
            <a:off x="7391520" y="3200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开心、自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838080" y="563868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说说你读了这篇课文的感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762120" y="685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结合课文内容，你认为刘翔战胜约翰逊的原因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认为刘翔敢于挑战，坚持不懈地努力练习跨栏技术，不断地进取，终于超越了约翰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只要坚持不懈，就有超越梦想的可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刘翔有目标，有梦想，遇到挫折不灰心，继续坚持拼搏，最终获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howimg3"/>
          <p:cNvPicPr/>
          <p:nvPr/>
        </p:nvPicPr>
        <p:blipFill>
          <a:blip r:embed="rId1"/>
          <a:stretch/>
        </p:blipFill>
        <p:spPr>
          <a:xfrm>
            <a:off x="0" y="1019160"/>
            <a:ext cx="8763120" cy="5838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304920" y="914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从刘翔身上感受到了一种什么样的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80" y="2133720"/>
            <a:ext cx="807732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畏艰难        顽强拼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断进取        不断超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敢于挑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前进道路上的一些困难看似不可战胜，但只要坚持不懈地努力，总有超越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生活中，你有崇拜的人吗？你打算怎样努力来超越自己崇拜的人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80880" y="190512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翔不是作家，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 翻越了远方的大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却深深地吸引我们。因为刘翔用真心、真情记录了自己内心最真的感受。用笔真切地表达自己的所见，所闻，所是学习写作的非常好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：快拿起笔把学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翻越了远方的大山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这篇课文的感受写下来吧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期待你的佳作，分享你的成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送你几句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天才出于勤奋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书山有路勤为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学海无涯苦作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有志者事竟成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宝剑锋从磨砺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梅花香自苦寒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世上无难事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只怕有心人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学习如逆水行舟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不进则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116000" y="1382760"/>
            <a:ext cx="802800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课后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作业</a:t>
            </a:r>
            <a:r>
              <a:rPr b="1" lang="zh-CN" sz="4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抄写课文中的字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阅读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我是刘翔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本书，写一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己  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翻山计划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895480" y="0"/>
            <a:ext cx="40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激情时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dell\AppData\Roaming\Tencent\Users\712326765\QQ\WinTemp\RichOle\LS9TI47}7(]0@@MW(046$F4.png"/>
          <p:cNvPicPr/>
          <p:nvPr/>
        </p:nvPicPr>
        <p:blipFill>
          <a:blip r:embed="rId1"/>
          <a:stretch/>
        </p:blipFill>
        <p:spPr>
          <a:xfrm>
            <a:off x="533520" y="1600200"/>
            <a:ext cx="82962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9"/>
          <p:cNvPicPr/>
          <p:nvPr/>
        </p:nvPicPr>
        <p:blipFill>
          <a:blip r:embed="rId1"/>
          <a:stretch/>
        </p:blipFill>
        <p:spPr>
          <a:xfrm>
            <a:off x="304920" y="1459080"/>
            <a:ext cx="8839080" cy="5398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590920" y="2286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中国骄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071bb388d90b0d132529fe87b26b8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205021713670_1205021713670_r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0005T103-2"/>
          <p:cNvPicPr/>
          <p:nvPr/>
        </p:nvPicPr>
        <p:blipFill>
          <a:blip r:embed="rId3"/>
          <a:stretch/>
        </p:blipFill>
        <p:spPr>
          <a:xfrm>
            <a:off x="0" y="0"/>
            <a:ext cx="4343400" cy="361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52280" y="388620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xin_10050208103592830691"/>
          <p:cNvPicPr/>
          <p:nvPr/>
        </p:nvPicPr>
        <p:blipFill>
          <a:blip r:embed="rId4"/>
          <a:stretch/>
        </p:blipFill>
        <p:spPr>
          <a:xfrm>
            <a:off x="4572000" y="3733920"/>
            <a:ext cx="4267080" cy="3124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1682280" y="990720"/>
            <a:ext cx="2889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刘 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876920" y="3049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572000" y="3962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1041902353423"/>
          <p:cNvPicPr/>
          <p:nvPr/>
        </p:nvPicPr>
        <p:blipFill>
          <a:blip r:embed="rId5"/>
          <a:stretch/>
        </p:blipFill>
        <p:spPr>
          <a:xfrm>
            <a:off x="0" y="3657600"/>
            <a:ext cx="4343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6-03-25T05:49:1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