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gif" ContentType="image/gif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9BCF-7474-48B1-A814-A68C0116D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1F40-2B18-47BA-BABF-22D8B596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D171E-8DF2-412B-81B4-D4C61100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57DAD-086D-4654-973E-FDC518C0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33E29-D6A2-458F-BD46-ACA5FE12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575FD-C2A4-44FE-B8F8-B0ACD253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87AEB-B5AB-409B-9FE6-FDFB603D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B982D-5A33-467E-A5CD-067AEA96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C1DEB-2E6C-481E-9375-6A35CEA0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0D22E-F5D7-45AF-93F3-DC473A60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39554-EBFC-448F-8224-D42B52A6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8EA79-1DD5-4EB0-9684-A20CE466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1A95-A541-4709-A002-51232D14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8945F-0C67-406E-9228-7EB0C4D8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9C1CC-6D89-4DB2-9F4A-A782DB22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58C97-7350-4562-83E1-EFBDEC28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A66D3-CE29-40C5-8389-AFD6793C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6A195-2191-4F5E-9CB2-D1E770DA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F4C4A-F007-4AF1-9527-83ECA3B6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96927-6BAF-47BD-8D45-CF196272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18FAB-6FAD-49E6-9E3A-B358556C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9DBBE-87E2-4276-A73B-46365DBC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1A57F-8014-4D7D-943D-1EA00FA8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3C31-F404-4ED0-B6FD-B39A1ED3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3A9F9-5E56-4FEC-AC1C-5D6DBE4F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AE0E5-B593-45F5-A6FF-61A6CB3F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945A2-8EBA-4DF3-87BE-5A109B6D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E1B47-8D5A-438D-91D0-21343076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89E2A-FFA1-4690-AFC9-6AD4E520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B1BC0-5D8B-4CFE-BB67-65B9C021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7F904-CC55-4293-83D2-61BC1852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4B161-065A-4877-B427-1905F4CA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415AB-2126-43EA-8F37-E5C11DA4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08C4B-F4DB-4F47-93E7-D9A16A50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78FB-382A-4F18-A178-E723AE7B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30965-ABE5-4A14-B094-2C5991D2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0F2AE-C40B-4DE5-A748-E56CF30E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6A3A6-C832-48A5-90BB-6834A723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1A6EA-5189-4B4E-B547-556EA32C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0E872-D7DA-4280-846C-65646455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813A4-214B-43E2-B8C4-774360D0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C1260-2BC9-4F9F-A5D0-19CAEA7A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09CED-0E30-47EE-96BF-7B1CD1DD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78F30-B280-4348-9835-69DA0799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0196D-3A01-453C-A244-58B558ED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8BB3-8349-4DFD-8F50-0C3915D9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5A46F-D8B9-4FAB-B639-01EBA431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681D2-FBB2-455A-896E-9203DD70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4DE81-720A-47FC-862C-98974B69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740C3-8488-4C8D-A53B-D05BF0F0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B9578-1FCF-4702-AC48-F998EDFA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22B5-E232-4D74-9D0B-9F47B0E4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F16D-CFEB-4A28-8E68-9FD5E981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F730-AE80-48F2-B70C-192F52E1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ABA6-D0A8-4AC5-B421-1BBB82C4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23E5-BAB3-46E7-9056-98F6E217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B5A2-4BC8-4A82-9783-08B18059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D3CF-7C05-4762-9291-03723746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CF1C-5A56-4EB2-9D30-D97066D9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30AE-EBEC-4D5D-B67A-7A7F1424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69CB-72B3-4824-A714-ED7626B9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CA91-B073-4D6D-848A-4A045F82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2A637-D724-4E17-A59D-61FF8640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E6B30-3D63-41A9-A3F6-28EA64B9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FCD8F-9503-425D-B770-8A4ECBD6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6A8FF-314F-418D-A5C3-CFBA7AA7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2C96B-8108-4DB2-8E21-093DB6FD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54B3-9DCD-4989-B068-5C05D980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60C5A-E2AC-4B15-8CA3-93648D29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5DAAC-3666-472F-852E-10C7D547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D6D49-9490-4116-A875-A9D498B5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9177C-264E-4C5B-8342-232BA0E6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1E3AC-96BC-4787-B141-E6E7C6A5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1D68C-F2E2-4582-9BA3-4AC74AAF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2A6CC-92EB-4358-BB07-4427E53A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B401E-ABC3-418C-B598-C4FAAE5B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2301E-5595-4859-B41D-0142340D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041FB-3D1D-4520-A1A1-0585BD9D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D895-243F-4BCC-A291-8C793071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A0D97-1A4E-4D37-888D-4B444154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32066-FE56-42DC-9014-39C47F2C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C1F3A-6B71-4A87-922D-E2D09E8E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D1F4B-17DB-45AA-AF70-43EF02F7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D21DD-AF38-4DF5-9D12-8E109347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6627B-0BA1-47B6-AA8E-D3964443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F8537-9C3A-46F8-8FE0-776F0A7B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D72A2-825F-4AC7-AA03-30240AFC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97FBD-9405-48F0-A41F-EFF9DBE5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F9031-4859-4A47-931D-CB3065AD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D560-15A4-4011-96A9-D679F3B1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F2D1D-BD5C-4D51-B2EA-17EF885D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4D33C-BAD7-41E8-A0BF-E815B957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1E568-A593-4353-A3F8-716422B7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C215B-C4F9-4DD8-A3CC-11CFD4FF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D7B01-9437-477B-876F-8C12EE61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52777-8342-440B-819E-A7727535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92E81-338F-4C27-99BD-D9D92901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2300A-9FC7-408F-867F-A211BB85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BDE61-69C3-49DC-9463-92958E1F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25EBE-C16B-4087-838A-9E30D764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B575-D8B4-4420-BB43-797E9ABB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6CCD4-C809-4E40-9083-C947A242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32180-872C-4FC4-902C-7F26E97D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A8E64-D96E-4CB9-BE51-F4B5FEAF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7B3E6-51DF-46FB-9C56-7F5A9223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A52D3-2189-41CB-BC3C-07592E2D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ABBE2-30A3-41AB-93C2-4044F147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C1D83-F13D-4E0A-BF29-7DF6B6BD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1220E-6140-4365-9423-9203758F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56C5C-B21A-47B9-A748-FD7B3B1A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6E619-418E-49E9-AE80-D21E7109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2CE0-8C5F-4913-9E1E-F1AF365D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8DDA3-5FFA-421B-BC3B-4027ADC3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94C1D-56F1-4B3D-804F-FF41558A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DCBCB-E639-4385-B0DA-A2141E1A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33826-B91A-447C-8F2C-9E71BE2D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12599-AA19-4D49-BAFA-CCEAA477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15F68-ADF8-4561-B3A3-30B82194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F700E-C600-4BE0-8055-C1297586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7E1A8-08A7-4E40-992D-61853B0A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7EF04-2E31-4B49-91A7-61660C2A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60A6E-4FB5-4715-A8EF-59CD5F08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7C28-C046-4472-AAB3-B33CF17C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D7F15-FC8A-4651-8219-17A53423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0B7F1-658E-47EE-917D-5D977A84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BE0AB-66F7-4F09-A2CF-7C689D2E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9DC42-3480-40E7-9C43-8190FE60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9FEAB-A1A4-47C2-A09E-25526201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2FEDD-F6A5-48AB-A879-45865C24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0FDA5-1415-4441-8F9D-50DAC85D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624A6-2808-43F9-9CB7-51A27257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CA588-545E-4142-BF76-5D16A2D7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13476-B4BC-4B95-9017-F775BA27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766E-02ED-4360-97CA-DBACA3AA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429C5-9AD1-4071-A596-67F4ABFE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CCD19-9D67-471C-B801-2690207A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F7BD5-9BCC-47AF-9BB6-D7E9B722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26294-3812-476D-9E9A-62354EC6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0B689-AA46-4881-B7A6-E32FD473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3335A-06AB-4486-A4BD-D0DE018D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2ABA1-E8BD-42F1-8FA0-9903895A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6F3A6-C0F4-4592-B0C1-A128ADB7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1FA57-587A-4359-940E-37EE1A5E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E4A51-1722-4B09-8122-6FA08C5F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A68F-E455-47C0-ACB6-8B1F2A7FC8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0228-F60B-4DAD-AFB4-C4719E7CA0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C39C-CDA1-4DE1-8D4B-0B8224D3B1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90AB-11C4-4D2F-9C2D-8C1E5E9617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01DF-3D63-4651-B432-5B17627E4B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17C3-9125-46EF-A37D-9F84A9F6BB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1A75-BDE1-4830-A5BA-4984B88DD4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19D0-667A-4211-9DF0-7F397E178C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9D75-71F4-47C1-8D24-AB3801DD73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B3D3-9EA1-486E-9F02-E855BAF46D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9A59-B3F5-47AC-97B6-CC1AC4A479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2B20-976D-47C3-918E-733D0E47F0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" Target="slide1.xml"/><Relationship Id="rId6" Type="http://schemas.openxmlformats.org/officeDocument/2006/relationships/image" Target="../media/image5.png"/><Relationship Id="rId7" Type="http://schemas.openxmlformats.org/officeDocument/2006/relationships/slide" Target="slide2.xm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WordArt 5" descr=""/>
          <p:cNvPicPr/>
          <p:nvPr/>
        </p:nvPicPr>
        <p:blipFill>
          <a:blip r:embed="rId1"/>
          <a:stretch/>
        </p:blipFill>
        <p:spPr>
          <a:xfrm>
            <a:off x="573120" y="1200240"/>
            <a:ext cx="713268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857160" y="285840"/>
            <a:ext cx="7345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一天清晨，我看到有个小女孩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"/>
              </a:rPr>
              <a:t>俯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花前，从花丛中小心地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"/>
              </a:rPr>
              <a:t>摘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了一片带露水的花瓣，双手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"/>
              </a:rPr>
              <a:t>捧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，然后飞快地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"/>
              </a:rPr>
              <a:t>穿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田野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"/>
              </a:rPr>
              <a:t>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远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3"/>
          <p:cNvSpPr/>
          <p:nvPr/>
        </p:nvSpPr>
        <p:spPr>
          <a:xfrm>
            <a:off x="5214960" y="185724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4"/>
          <p:cNvSpPr/>
          <p:nvPr/>
        </p:nvSpPr>
        <p:spPr>
          <a:xfrm>
            <a:off x="5715000" y="192888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5"/>
          <p:cNvSpPr/>
          <p:nvPr/>
        </p:nvSpPr>
        <p:spPr>
          <a:xfrm>
            <a:off x="5214960" y="1357200"/>
            <a:ext cx="14436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6"/>
          <p:cNvSpPr/>
          <p:nvPr/>
        </p:nvSpPr>
        <p:spPr>
          <a:xfrm>
            <a:off x="5715000" y="1357200"/>
            <a:ext cx="14436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7"/>
          <p:cNvSpPr/>
          <p:nvPr/>
        </p:nvSpPr>
        <p:spPr>
          <a:xfrm>
            <a:off x="6143760" y="1357200"/>
            <a:ext cx="14436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8"/>
          <p:cNvSpPr/>
          <p:nvPr/>
        </p:nvSpPr>
        <p:spPr>
          <a:xfrm>
            <a:off x="1643040" y="250020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9"/>
          <p:cNvSpPr/>
          <p:nvPr/>
        </p:nvSpPr>
        <p:spPr>
          <a:xfrm>
            <a:off x="2071800" y="250020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0"/>
          <p:cNvSpPr/>
          <p:nvPr/>
        </p:nvSpPr>
        <p:spPr>
          <a:xfrm>
            <a:off x="2500200" y="250020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1000080" y="3214800"/>
            <a:ext cx="74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猜一猜看到小女孩摘花瓣，“我”有哪些想法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1643040" y="1357200"/>
            <a:ext cx="6624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为什么只摘花瓣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摘花瓣做什么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2"/>
          <p:cNvSpPr/>
          <p:nvPr/>
        </p:nvSpPr>
        <p:spPr>
          <a:xfrm>
            <a:off x="928800" y="250020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为什么只摘花瓣呢？”我轻轻地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3"/>
          <p:cNvSpPr/>
          <p:nvPr/>
        </p:nvSpPr>
        <p:spPr>
          <a:xfrm>
            <a:off x="1285920" y="3071880"/>
            <a:ext cx="60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1000080" y="3143160"/>
            <a:ext cx="7056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她低着头不好意思地说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: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舍不得把整朵花都摘了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785880" y="85716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几天后的一个清晨，我又见到了那个小女孩在摘花瓣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就叫住了她。她拿着花瓣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些不知所措，惶恐地望着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1214280" y="214200"/>
            <a:ext cx="67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读一读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3--5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小节找出描写小女孩神态的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2"/>
          <p:cNvSpPr/>
          <p:nvPr/>
        </p:nvSpPr>
        <p:spPr>
          <a:xfrm>
            <a:off x="785880" y="207180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为什么只摘花瓣呢？”我轻轻地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1285920" y="3071880"/>
            <a:ext cx="60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928800" y="2714760"/>
            <a:ext cx="7056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她低着头不好意思地说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: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舍不得把整朵花都摘了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928800" y="3571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几天后的一个清晨，我又见到了那个小女孩在摘花瓣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就叫住了她。她拿着花瓣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些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不知所措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惶恐地望着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2"/>
          <p:cNvSpPr/>
          <p:nvPr/>
        </p:nvSpPr>
        <p:spPr>
          <a:xfrm>
            <a:off x="928800" y="2286000"/>
            <a:ext cx="77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为什么只摘花瓣呢？”我轻轻地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3"/>
          <p:cNvSpPr/>
          <p:nvPr/>
        </p:nvSpPr>
        <p:spPr>
          <a:xfrm>
            <a:off x="1332000" y="306864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4"/>
          <p:cNvSpPr/>
          <p:nvPr/>
        </p:nvSpPr>
        <p:spPr>
          <a:xfrm>
            <a:off x="928800" y="2928960"/>
            <a:ext cx="7056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她低着头不好意思地说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: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舍不得把整朵花都摘了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5"/>
          <p:cNvSpPr/>
          <p:nvPr/>
        </p:nvSpPr>
        <p:spPr>
          <a:xfrm>
            <a:off x="1071720" y="5716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几天后的一个清晨，我又见到了那个小女孩在摘花瓣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就叫住了她。她拿着花瓣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些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不知所措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惶恐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地望着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785880" y="207180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为什么只摘花瓣呢？”我轻轻地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1332000" y="306864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857160" y="2714760"/>
            <a:ext cx="7056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低着头不好意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地说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: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舍不得把整朵花都摘了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1071720" y="214200"/>
            <a:ext cx="74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几天后的一个清晨，我又见到了那个小女孩在摘花瓣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就叫住了她。她拿着花瓣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些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不知所措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惶恐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地望着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1332000" y="306864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7"/>
          <p:cNvSpPr/>
          <p:nvPr/>
        </p:nvSpPr>
        <p:spPr>
          <a:xfrm>
            <a:off x="1071720" y="85716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低着头不好意思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地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: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舍不得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把整朵花都摘了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1500120" y="25718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这是一个（            ）的女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9"/>
          <p:cNvSpPr/>
          <p:nvPr/>
        </p:nvSpPr>
        <p:spPr>
          <a:xfrm>
            <a:off x="3826080" y="2571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爱花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-285840" y="128592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为什么只摘花瓣呢？”我轻轻地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1332000" y="306864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4"/>
          <p:cNvSpPr/>
          <p:nvPr/>
        </p:nvSpPr>
        <p:spPr>
          <a:xfrm>
            <a:off x="857160" y="221472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她低着头不好意思地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: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我舍不得把整朵花都摘了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6"/>
          <p:cNvSpPr/>
          <p:nvPr/>
        </p:nvSpPr>
        <p:spPr>
          <a:xfrm>
            <a:off x="1500120" y="214200"/>
            <a:ext cx="417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我是怎么问的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-285840" y="92880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为什么只摘花瓣呢？”我</a:t>
            </a: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轻轻地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1332000" y="306864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4"/>
          <p:cNvSpPr/>
          <p:nvPr/>
        </p:nvSpPr>
        <p:spPr>
          <a:xfrm>
            <a:off x="1000080" y="185724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她低着头不好意思地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: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我舍不得把整朵花都摘了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为什么“轻轻”地问？表现作者对小女孩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因为“我”从小女孩“小心地摘”又用“双手捧着”的动作中看出小女孩对花的喜爱和虔诚，她虽然在摘花但绝不是一般孩童的恶作剧。加之小女孩本已“不知所措”“惶恐地望着我”，我若大声询问，势必使她更加紧张、惊恐，因此只轻轻一问。透过轻轻一问，不难看出作者对小女孩的关心和怜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1752480" y="205740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341280" y="131436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、把字音读准，句子读通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、小女孩为妈妈做了一件什么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、小女孩是个什么样的孩子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4" descr="u=1349139195,3937233058&amp;fm=0&amp;gp=30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640" y="5813280"/>
            <a:ext cx="720720" cy="7034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5" descr="u=2334901370,3589851794&amp;fm=0&amp;gp=3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01640" y="5813280"/>
            <a:ext cx="675000" cy="675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6" descr="无标题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57360" y="5813280"/>
            <a:ext cx="630360" cy="671760"/>
          </a:xfrm>
          <a:prstGeom prst="rect">
            <a:avLst/>
          </a:prstGeom>
          <a:ln w="0">
            <a:noFill/>
          </a:ln>
        </p:spPr>
      </p:pic>
      <p:sp>
        <p:nvSpPr>
          <p:cNvPr id="500" name="WordArt 7"/>
          <p:cNvSpPr txBox="1"/>
          <p:nvPr/>
        </p:nvSpPr>
        <p:spPr>
          <a:xfrm>
            <a:off x="2143080" y="214200"/>
            <a:ext cx="495144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朗读要求：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01" name="Picture 8" descr="u=3048190385,2726345289&amp;fm=3&amp;gp=3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267000" y="5813280"/>
            <a:ext cx="674640" cy="63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357120" y="857160"/>
            <a:ext cx="821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摘花瓣做什么呀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　　小女孩说：“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妈妈生病了，我摘片花瓣送给她。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花瓣摸上去像绒布一样，闻起来有淡淡的清香，妈妈会高兴的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1928880" y="0"/>
            <a:ext cx="34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"/>
                <a:ea typeface="楷体"/>
              </a:rPr>
              <a:t>摘花瓣做什么呀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"/>
          <p:cNvSpPr/>
          <p:nvPr/>
        </p:nvSpPr>
        <p:spPr>
          <a:xfrm>
            <a:off x="928800" y="285840"/>
            <a:ext cx="727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小女孩说：“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妈妈生病了，我摘片花瓣送给她。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花瓣</a:t>
            </a: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摸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上去</a:t>
            </a:r>
            <a:r>
              <a:rPr b="1" lang="zh-CN" sz="3600" spc="-1" strike="noStrike">
                <a:solidFill>
                  <a:srgbClr val="0066ff"/>
                </a:solidFill>
                <a:latin typeface="楷体"/>
                <a:ea typeface="楷体"/>
              </a:rPr>
              <a:t>像绒布一样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闻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起来有</a:t>
            </a:r>
            <a:r>
              <a:rPr b="1" lang="zh-CN" sz="3600" spc="-1" strike="noStrike">
                <a:solidFill>
                  <a:srgbClr val="0066ff"/>
                </a:solidFill>
                <a:latin typeface="楷体"/>
                <a:ea typeface="楷体"/>
              </a:rPr>
              <a:t>淡淡的清香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妈妈会高兴的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4"/>
          <p:cNvSpPr/>
          <p:nvPr/>
        </p:nvSpPr>
        <p:spPr>
          <a:xfrm>
            <a:off x="2844720" y="3789360"/>
            <a:ext cx="3240000" cy="16556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3924360" y="4365720"/>
            <a:ext cx="14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懂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1214280" y="271476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这是一个（           ）的女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6"/>
          <p:cNvSpPr/>
          <p:nvPr/>
        </p:nvSpPr>
        <p:spPr>
          <a:xfrm>
            <a:off x="3540240" y="2714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爱妈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928800" y="285840"/>
            <a:ext cx="734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爸爸在南沙当解放军。他常常来信叫我听妈妈的话，不要惹妈妈生气。”小女孩眼眶里</a:t>
            </a: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闪动着泪花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7"/>
          <p:cNvSpPr/>
          <p:nvPr/>
        </p:nvSpPr>
        <p:spPr>
          <a:xfrm>
            <a:off x="2071800" y="5500800"/>
            <a:ext cx="38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女孩很想念她的爸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1643040" y="314316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这是一个（          ）的女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7"/>
          <p:cNvSpPr/>
          <p:nvPr/>
        </p:nvSpPr>
        <p:spPr>
          <a:xfrm>
            <a:off x="3897360" y="3143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爱爸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5"/>
          <p:cNvSpPr/>
          <p:nvPr/>
        </p:nvSpPr>
        <p:spPr>
          <a:xfrm>
            <a:off x="857160" y="500040"/>
            <a:ext cx="73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爸爸在南沙当解放军。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他常常来信叫我听妈妈的话，不要惹妈妈生气。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”小女孩眼眶里闪动着泪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7"/>
          <p:cNvSpPr/>
          <p:nvPr/>
        </p:nvSpPr>
        <p:spPr>
          <a:xfrm>
            <a:off x="3643200" y="42861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懂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2"/>
          <p:cNvSpPr/>
          <p:nvPr/>
        </p:nvSpPr>
        <p:spPr>
          <a:xfrm>
            <a:off x="1428840" y="28584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"/>
              </a:rPr>
              <a:t>夸夸这个小女孩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3"/>
          <p:cNvSpPr/>
          <p:nvPr/>
        </p:nvSpPr>
        <p:spPr>
          <a:xfrm>
            <a:off x="1143000" y="164304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真是个</a:t>
            </a:r>
            <a:r>
              <a:rPr b="1" lang="zh-CN" sz="5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懂事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的好孩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500040" y="-360"/>
            <a:ext cx="822960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小女孩是个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懂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孩子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女孩爱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“低着头”“不好意思”“舍不得把整朵花都摘了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女孩更爱妈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“妈妈生病了，我摘花瓣送给她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女孩也爱爸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“爸爸在南沙当解放军。他常常来信叫我听妈妈的话，不要惹妈妈生气。”“眼眶里闪动着泪花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我”关心理解孩子，和蔼可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1357200" y="214200"/>
            <a:ext cx="649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分角色朗读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要求：读好人物的语言，读出小女孩的懂事和“我”的和蔼可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428760" y="2142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为什么只摘花瓣呢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1332000" y="306864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0" y="78588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舍不得把整朵花都摘了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6"/>
          <p:cNvSpPr/>
          <p:nvPr/>
        </p:nvSpPr>
        <p:spPr>
          <a:xfrm>
            <a:off x="250920" y="1428840"/>
            <a:ext cx="88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摘花瓣做什么呀？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妈妈生病了，我摘片花瓣送给她。花瓣摸上去像绒布一样，闻起来有淡淡的清香，妈妈会高兴的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你爸爸呢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爸爸在南沙当解放军。他常常来信叫我听妈妈的话，不要惹妈妈生气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1116000" y="6381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真是个懂事的好孩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2"/>
          <p:cNvSpPr/>
          <p:nvPr/>
        </p:nvSpPr>
        <p:spPr>
          <a:xfrm>
            <a:off x="1500120" y="785880"/>
            <a:ext cx="58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听了小女孩的话，我是怎么做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785880" y="8571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第二天早晨，我从集市上买了两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带着露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的月季花，一盆送给了小女孩，另一盆放在我母亲的阳台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2"/>
          <p:cNvGrpSpPr/>
          <p:nvPr/>
        </p:nvGrpSpPr>
        <p:grpSpPr>
          <a:xfrm>
            <a:off x="1472040" y="1000080"/>
            <a:ext cx="6048720" cy="3385800"/>
            <a:chOff x="1472040" y="1000080"/>
            <a:chExt cx="6048720" cy="3385800"/>
          </a:xfrm>
        </p:grpSpPr>
        <p:sp>
          <p:nvSpPr>
            <p:cNvPr id="503" name="Text Box 3"/>
            <p:cNvSpPr/>
            <p:nvPr/>
          </p:nvSpPr>
          <p:spPr>
            <a:xfrm>
              <a:off x="1472040" y="10000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俯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4"/>
            <p:cNvSpPr/>
            <p:nvPr/>
          </p:nvSpPr>
          <p:spPr>
            <a:xfrm>
              <a:off x="1472040" y="24480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惶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5"/>
            <p:cNvSpPr/>
            <p:nvPr/>
          </p:nvSpPr>
          <p:spPr>
            <a:xfrm>
              <a:off x="6441120" y="24480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舍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不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6"/>
            <p:cNvSpPr/>
            <p:nvPr/>
          </p:nvSpPr>
          <p:spPr>
            <a:xfrm>
              <a:off x="1472040" y="37432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惹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7"/>
            <p:cNvSpPr/>
            <p:nvPr/>
          </p:nvSpPr>
          <p:spPr>
            <a:xfrm>
              <a:off x="3377160" y="37432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懂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8"/>
            <p:cNvSpPr/>
            <p:nvPr/>
          </p:nvSpPr>
          <p:spPr>
            <a:xfrm>
              <a:off x="3224520" y="24480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眼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9"/>
            <p:cNvSpPr/>
            <p:nvPr/>
          </p:nvSpPr>
          <p:spPr>
            <a:xfrm>
              <a:off x="6517080" y="100008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摘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花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10"/>
            <p:cNvSpPr/>
            <p:nvPr/>
          </p:nvSpPr>
          <p:spPr>
            <a:xfrm>
              <a:off x="4824720" y="24480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绒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11"/>
            <p:cNvSpPr/>
            <p:nvPr/>
          </p:nvSpPr>
          <p:spPr>
            <a:xfrm>
              <a:off x="5466600" y="374328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不知所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措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12"/>
            <p:cNvSpPr/>
            <p:nvPr/>
          </p:nvSpPr>
          <p:spPr>
            <a:xfrm>
              <a:off x="3224520" y="10000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捧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13"/>
            <p:cNvSpPr/>
            <p:nvPr/>
          </p:nvSpPr>
          <p:spPr>
            <a:xfrm>
              <a:off x="4824720" y="10000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拿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14"/>
          <p:cNvGrpSpPr/>
          <p:nvPr/>
        </p:nvGrpSpPr>
        <p:grpSpPr>
          <a:xfrm>
            <a:off x="714240" y="571680"/>
            <a:ext cx="4693320" cy="3234960"/>
            <a:chOff x="714240" y="571680"/>
            <a:chExt cx="4693320" cy="3234960"/>
          </a:xfrm>
        </p:grpSpPr>
        <p:sp>
          <p:nvSpPr>
            <p:cNvPr id="515" name="Text Box 15"/>
            <p:cNvSpPr/>
            <p:nvPr/>
          </p:nvSpPr>
          <p:spPr>
            <a:xfrm>
              <a:off x="2929680" y="5716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ě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16"/>
            <p:cNvSpPr/>
            <p:nvPr/>
          </p:nvSpPr>
          <p:spPr>
            <a:xfrm>
              <a:off x="714240" y="2000160"/>
              <a:ext cx="185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hu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áng kŏ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17"/>
            <p:cNvSpPr/>
            <p:nvPr/>
          </p:nvSpPr>
          <p:spPr>
            <a:xfrm>
              <a:off x="3142800" y="1928880"/>
              <a:ext cx="117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ku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à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18"/>
            <p:cNvSpPr/>
            <p:nvPr/>
          </p:nvSpPr>
          <p:spPr>
            <a:xfrm>
              <a:off x="4573080" y="2000160"/>
              <a:ext cx="8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ó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19"/>
            <p:cNvSpPr/>
            <p:nvPr/>
          </p:nvSpPr>
          <p:spPr>
            <a:xfrm>
              <a:off x="3072240" y="3286080"/>
              <a:ext cx="8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ŏ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20"/>
          <p:cNvGrpSpPr/>
          <p:nvPr/>
        </p:nvGrpSpPr>
        <p:grpSpPr>
          <a:xfrm>
            <a:off x="6216120" y="571680"/>
            <a:ext cx="772200" cy="1949040"/>
            <a:chOff x="6216120" y="571680"/>
            <a:chExt cx="772200" cy="1949040"/>
          </a:xfrm>
        </p:grpSpPr>
        <p:sp>
          <p:nvSpPr>
            <p:cNvPr id="521" name="Text Box 21"/>
            <p:cNvSpPr/>
            <p:nvPr/>
          </p:nvSpPr>
          <p:spPr>
            <a:xfrm>
              <a:off x="6216120" y="2000160"/>
              <a:ext cx="65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Times New Roman"/>
                </a:rPr>
                <a:t>sh</a:t>
              </a:r>
              <a:r>
                <a:rPr b="0" lang="zh-CN" sz="2800" spc="-1" strike="noStrike">
                  <a:solidFill>
                    <a:srgbClr val="6600cc"/>
                  </a:solidFill>
                  <a:latin typeface="Times New Roman"/>
                  <a:ea typeface="Times New Roman"/>
                </a:rPr>
                <a:t>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22"/>
            <p:cNvSpPr/>
            <p:nvPr/>
          </p:nvSpPr>
          <p:spPr>
            <a:xfrm>
              <a:off x="6216480" y="571680"/>
              <a:ext cx="77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cc"/>
                  </a:solidFill>
                  <a:latin typeface="Times New Roman"/>
                </a:rPr>
                <a:t>zh</a:t>
              </a:r>
              <a:r>
                <a:rPr b="0" lang="zh-CN" sz="2800" spc="-1" strike="noStrike">
                  <a:solidFill>
                    <a:srgbClr val="6600cc"/>
                  </a:solidFill>
                  <a:latin typeface="Times New Roman"/>
                  <a:ea typeface="Times New Roman"/>
                </a:rPr>
                <a:t>ā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Text Box 23"/>
          <p:cNvSpPr/>
          <p:nvPr/>
        </p:nvSpPr>
        <p:spPr>
          <a:xfrm>
            <a:off x="6502320" y="3286080"/>
            <a:ext cx="6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cu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4" descr="我会读"/>
          <p:cNvPicPr/>
          <p:nvPr/>
        </p:nvPicPr>
        <p:blipFill>
          <a:blip r:embed="rId1"/>
          <a:stretch/>
        </p:blipFill>
        <p:spPr>
          <a:xfrm>
            <a:off x="0" y="0"/>
            <a:ext cx="2882880" cy="8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643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我为什么“买花”、“送花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21420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小女孩的爱心打动了“我”，感染了“我”，“我”也用“送花”的方式表达对母亲的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AutoShape 18"/>
          <p:cNvSpPr/>
          <p:nvPr/>
        </p:nvSpPr>
        <p:spPr>
          <a:xfrm>
            <a:off x="0" y="1214280"/>
            <a:ext cx="3352680" cy="2667240"/>
          </a:xfrm>
          <a:prstGeom prst="pie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2"/>
          <p:cNvSpPr/>
          <p:nvPr/>
        </p:nvSpPr>
        <p:spPr>
          <a:xfrm>
            <a:off x="1752480" y="205740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8"/>
          <p:cNvSpPr/>
          <p:nvPr/>
        </p:nvSpPr>
        <p:spPr>
          <a:xfrm>
            <a:off x="642960" y="164304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花瓣飘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3643200" y="142884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小女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1"/>
          <p:cNvSpPr/>
          <p:nvPr/>
        </p:nvSpPr>
        <p:spPr>
          <a:xfrm>
            <a:off x="5429160" y="142884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摘花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2"/>
          <p:cNvSpPr/>
          <p:nvPr/>
        </p:nvSpPr>
        <p:spPr>
          <a:xfrm>
            <a:off x="3714840" y="292896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我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3"/>
          <p:cNvSpPr/>
          <p:nvPr/>
        </p:nvSpPr>
        <p:spPr>
          <a:xfrm>
            <a:off x="5214960" y="2143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孝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4"/>
          <p:cNvSpPr/>
          <p:nvPr/>
        </p:nvSpPr>
        <p:spPr>
          <a:xfrm>
            <a:off x="5715000" y="28576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买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6"/>
          <p:cNvSpPr/>
          <p:nvPr/>
        </p:nvSpPr>
        <p:spPr>
          <a:xfrm>
            <a:off x="7086600" y="21430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送妈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0"/>
          <p:cNvSpPr/>
          <p:nvPr/>
        </p:nvSpPr>
        <p:spPr>
          <a:xfrm>
            <a:off x="1214280" y="242892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21"/>
          <p:cNvSpPr/>
          <p:nvPr/>
        </p:nvSpPr>
        <p:spPr>
          <a:xfrm flipV="1">
            <a:off x="6786720" y="2643120"/>
            <a:ext cx="609480" cy="533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22"/>
          <p:cNvSpPr/>
          <p:nvPr/>
        </p:nvSpPr>
        <p:spPr>
          <a:xfrm>
            <a:off x="6715080" y="1785960"/>
            <a:ext cx="68580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23"/>
          <p:cNvSpPr/>
          <p:nvPr/>
        </p:nvSpPr>
        <p:spPr>
          <a:xfrm>
            <a:off x="4857840" y="3214800"/>
            <a:ext cx="7617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24"/>
          <p:cNvSpPr/>
          <p:nvPr/>
        </p:nvSpPr>
        <p:spPr>
          <a:xfrm>
            <a:off x="5072040" y="178596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6" descr="2468_2560x1600"/>
          <p:cNvPicPr/>
          <p:nvPr/>
        </p:nvPicPr>
        <p:blipFill>
          <a:blip r:embed="rId1"/>
          <a:srcRect l="0" t="0" r="0" b="275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"/>
          <p:cNvSpPr/>
          <p:nvPr/>
        </p:nvSpPr>
        <p:spPr>
          <a:xfrm>
            <a:off x="1403280" y="907920"/>
            <a:ext cx="655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把鲜花献给母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把鲜花献给老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把鲜花献给朋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献给所有关爱我们的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285840" y="142920"/>
            <a:ext cx="885816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”把花送给小女孩时，“我”会说些什么呢？“我”把花放在母亲的阳台上时，“我”又会说些什么呢？请选择一个情景，展开想象，写一段话。（注意写出人物当时的心理、神情、动作等，正确使用标点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826920" y="148428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684360" y="1628640"/>
            <a:ext cx="7416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（        ）花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（        ）花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（            ）花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（            ）花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2700360" y="1701720"/>
            <a:ext cx="217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红艳艳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2556000" y="263700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带露水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2629080" y="3573360"/>
            <a:ext cx="28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像绒布一样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7"/>
          <p:cNvSpPr/>
          <p:nvPr/>
        </p:nvSpPr>
        <p:spPr>
          <a:xfrm flipV="1" rot="10800000">
            <a:off x="2700360" y="4436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有淡淡清香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8"/>
          <p:cNvSpPr/>
          <p:nvPr/>
        </p:nvSpPr>
        <p:spPr>
          <a:xfrm>
            <a:off x="1692360" y="508644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这篇文章用的是什么写作方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5"/>
          <p:cNvSpPr/>
          <p:nvPr/>
        </p:nvSpPr>
        <p:spPr>
          <a:xfrm>
            <a:off x="2627280" y="76500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6"/>
          <p:cNvSpPr/>
          <p:nvPr/>
        </p:nvSpPr>
        <p:spPr>
          <a:xfrm>
            <a:off x="928800" y="285840"/>
            <a:ext cx="75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花朵在晨风中摇曳，露珠在花瓣上闪烁，一片花瓣，一声祝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笑容在阳光里灿烂，心儿在幸福中欢腾。一句问候，一份亲情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花瓣映红了妈妈的笑脸，清香飘满了温馨的小屋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可爱的女孩，你不就是那片晶莹的花瓣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2" descr="小学语文(记叙文）06"/>
          <p:cNvPicPr/>
          <p:nvPr/>
        </p:nvPicPr>
        <p:blipFill>
          <a:blip r:embed="rId1"/>
          <a:stretch/>
        </p:blipFill>
        <p:spPr>
          <a:xfrm>
            <a:off x="0" y="0"/>
            <a:ext cx="2079720" cy="503280"/>
          </a:xfrm>
          <a:prstGeom prst="rect">
            <a:avLst/>
          </a:prstGeom>
          <a:ln w="0">
            <a:noFill/>
          </a:ln>
        </p:spPr>
      </p:pic>
      <p:grpSp>
        <p:nvGrpSpPr>
          <p:cNvPr id="692" name="Group 3"/>
          <p:cNvGrpSpPr/>
          <p:nvPr/>
        </p:nvGrpSpPr>
        <p:grpSpPr>
          <a:xfrm>
            <a:off x="6643800" y="0"/>
            <a:ext cx="1729800" cy="1441080"/>
            <a:chOff x="6643800" y="0"/>
            <a:chExt cx="1729800" cy="1441080"/>
          </a:xfrm>
        </p:grpSpPr>
        <p:pic>
          <p:nvPicPr>
            <p:cNvPr id="693" name="Picture 4" descr="14"/>
            <p:cNvPicPr/>
            <p:nvPr/>
          </p:nvPicPr>
          <p:blipFill>
            <a:blip r:embed="rId2"/>
            <a:stretch/>
          </p:blipFill>
          <p:spPr>
            <a:xfrm>
              <a:off x="6643800" y="0"/>
              <a:ext cx="1729800" cy="144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Rectangle 5"/>
            <p:cNvSpPr/>
            <p:nvPr/>
          </p:nvSpPr>
          <p:spPr>
            <a:xfrm>
              <a:off x="7081200" y="156240"/>
              <a:ext cx="775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我会填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Rectangle 6"/>
          <p:cNvSpPr/>
          <p:nvPr/>
        </p:nvSpPr>
        <p:spPr>
          <a:xfrm>
            <a:off x="571680" y="571680"/>
            <a:ext cx="611964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小女孩俯在花前，从花丛中（ 　    ）地摘了一片带露水的（    ）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手捧着，然后（       ）地穿过田野，跑远了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7"/>
          <p:cNvSpPr/>
          <p:nvPr/>
        </p:nvSpPr>
        <p:spPr>
          <a:xfrm>
            <a:off x="1000080" y="2714760"/>
            <a:ext cx="7129440" cy="17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只摘花瓣呢？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（     ）地问。她低着头，（        ）地说：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（       ）把整朵花都摘了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……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8"/>
          <p:cNvSpPr/>
          <p:nvPr/>
        </p:nvSpPr>
        <p:spPr>
          <a:xfrm>
            <a:off x="1000080" y="1143000"/>
            <a:ext cx="12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小心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9"/>
          <p:cNvSpPr/>
          <p:nvPr/>
        </p:nvSpPr>
        <p:spPr>
          <a:xfrm>
            <a:off x="928800" y="17146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花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0"/>
          <p:cNvSpPr/>
          <p:nvPr/>
        </p:nvSpPr>
        <p:spPr>
          <a:xfrm>
            <a:off x="4786200" y="1714680"/>
            <a:ext cx="16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飞快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1"/>
          <p:cNvSpPr/>
          <p:nvPr/>
        </p:nvSpPr>
        <p:spPr>
          <a:xfrm>
            <a:off x="6500880" y="278604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轻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2"/>
          <p:cNvSpPr/>
          <p:nvPr/>
        </p:nvSpPr>
        <p:spPr>
          <a:xfrm>
            <a:off x="4000680" y="3286080"/>
            <a:ext cx="16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不好意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3"/>
          <p:cNvSpPr/>
          <p:nvPr/>
        </p:nvSpPr>
        <p:spPr>
          <a:xfrm>
            <a:off x="1428840" y="3786120"/>
            <a:ext cx="11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舍不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2"/>
          <p:cNvSpPr/>
          <p:nvPr/>
        </p:nvSpPr>
        <p:spPr>
          <a:xfrm>
            <a:off x="2357280" y="1000080"/>
            <a:ext cx="44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什么叫“花瓣飘香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3"/>
          <p:cNvSpPr/>
          <p:nvPr/>
        </p:nvSpPr>
        <p:spPr>
          <a:xfrm>
            <a:off x="2143080" y="228600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小小的花瓣飘着淡淡清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这篇课文是怎样围绕月季花展开叙述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1255680" y="1827360"/>
            <a:ext cx="51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部分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：写开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4"/>
          <p:cNvSpPr/>
          <p:nvPr/>
        </p:nvSpPr>
        <p:spPr>
          <a:xfrm>
            <a:off x="1260360" y="2781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部分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：写摘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"/>
          <p:cNvSpPr/>
          <p:nvPr/>
        </p:nvSpPr>
        <p:spPr>
          <a:xfrm>
            <a:off x="1189080" y="36450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部分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--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：写谈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6"/>
          <p:cNvSpPr/>
          <p:nvPr/>
        </p:nvSpPr>
        <p:spPr>
          <a:xfrm>
            <a:off x="1260360" y="451008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四部分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：写送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643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为什么以“花瓣飘香”为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-360" y="150012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本文写的是一个                                    的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全文是紧扣          来写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小女孩纯真的爱心就像一片              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以“花瓣飘香”为题很      ，能激发          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4"/>
          <p:cNvSpPr/>
          <p:nvPr/>
        </p:nvSpPr>
        <p:spPr>
          <a:xfrm>
            <a:off x="3500280" y="150012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小女孩送花瓣给生病妈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5"/>
          <p:cNvSpPr/>
          <p:nvPr/>
        </p:nvSpPr>
        <p:spPr>
          <a:xfrm>
            <a:off x="2786040" y="2571840"/>
            <a:ext cx="10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花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"/>
          <p:cNvSpPr/>
          <p:nvPr/>
        </p:nvSpPr>
        <p:spPr>
          <a:xfrm>
            <a:off x="5572080" y="3143160"/>
            <a:ext cx="23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飘香的花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4786200" y="3714840"/>
            <a:ext cx="7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8"/>
          <p:cNvSpPr/>
          <p:nvPr/>
        </p:nvSpPr>
        <p:spPr>
          <a:xfrm>
            <a:off x="6929280" y="3714840"/>
            <a:ext cx="19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阅读兴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2"/>
          <p:cNvGrpSpPr/>
          <p:nvPr/>
        </p:nvGrpSpPr>
        <p:grpSpPr>
          <a:xfrm>
            <a:off x="1472040" y="928800"/>
            <a:ext cx="6048720" cy="3385440"/>
            <a:chOff x="1472040" y="928800"/>
            <a:chExt cx="6048720" cy="3385440"/>
          </a:xfrm>
        </p:grpSpPr>
        <p:sp>
          <p:nvSpPr>
            <p:cNvPr id="526" name="Text Box 3"/>
            <p:cNvSpPr/>
            <p:nvPr/>
          </p:nvSpPr>
          <p:spPr>
            <a:xfrm>
              <a:off x="1472040" y="9288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俯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4"/>
            <p:cNvSpPr/>
            <p:nvPr/>
          </p:nvSpPr>
          <p:spPr>
            <a:xfrm>
              <a:off x="1472040" y="23763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惶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5"/>
            <p:cNvSpPr/>
            <p:nvPr/>
          </p:nvSpPr>
          <p:spPr>
            <a:xfrm>
              <a:off x="6441120" y="237636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舍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不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6"/>
            <p:cNvSpPr/>
            <p:nvPr/>
          </p:nvSpPr>
          <p:spPr>
            <a:xfrm>
              <a:off x="1472040" y="36716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惹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7"/>
            <p:cNvSpPr/>
            <p:nvPr/>
          </p:nvSpPr>
          <p:spPr>
            <a:xfrm>
              <a:off x="3377160" y="36716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懂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8"/>
            <p:cNvSpPr/>
            <p:nvPr/>
          </p:nvSpPr>
          <p:spPr>
            <a:xfrm>
              <a:off x="3224520" y="23763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眼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9"/>
            <p:cNvSpPr/>
            <p:nvPr/>
          </p:nvSpPr>
          <p:spPr>
            <a:xfrm>
              <a:off x="6517080" y="9288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摘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花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10"/>
            <p:cNvSpPr/>
            <p:nvPr/>
          </p:nvSpPr>
          <p:spPr>
            <a:xfrm>
              <a:off x="4824720" y="23763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绒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11"/>
            <p:cNvSpPr/>
            <p:nvPr/>
          </p:nvSpPr>
          <p:spPr>
            <a:xfrm>
              <a:off x="5466600" y="367164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不知所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措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2"/>
            <p:cNvSpPr/>
            <p:nvPr/>
          </p:nvSpPr>
          <p:spPr>
            <a:xfrm>
              <a:off x="3224520" y="9288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捧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13"/>
            <p:cNvSpPr/>
            <p:nvPr/>
          </p:nvSpPr>
          <p:spPr>
            <a:xfrm>
              <a:off x="4824720" y="9288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拿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7" name="Picture 14" descr="我会读"/>
          <p:cNvPicPr/>
          <p:nvPr/>
        </p:nvPicPr>
        <p:blipFill>
          <a:blip r:embed="rId1"/>
          <a:stretch/>
        </p:blipFill>
        <p:spPr>
          <a:xfrm>
            <a:off x="0" y="0"/>
            <a:ext cx="281952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5"/>
          <p:cNvSpPr/>
          <p:nvPr/>
        </p:nvSpPr>
        <p:spPr>
          <a:xfrm>
            <a:off x="826920" y="148428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6"/>
          <p:cNvSpPr/>
          <p:nvPr/>
        </p:nvSpPr>
        <p:spPr>
          <a:xfrm>
            <a:off x="684360" y="1628640"/>
            <a:ext cx="7416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红艳艳的花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带露水的花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像绒布一样的花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有淡淡清香的花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7"/>
          <p:cNvSpPr/>
          <p:nvPr/>
        </p:nvSpPr>
        <p:spPr>
          <a:xfrm>
            <a:off x="6879240" y="1628640"/>
            <a:ext cx="78984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仿宋"/>
              </a:rPr>
              <a:t>借物喻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2" descr="20091123_ac5e7b837b96a1c1aa8cyHCnVHp1wgwl"/>
          <p:cNvPicPr/>
          <p:nvPr/>
        </p:nvPicPr>
        <p:blipFill>
          <a:blip r:embed="rId1"/>
          <a:srcRect l="4548" t="1896" r="33109" b="53689"/>
          <a:stretch/>
        </p:blipFill>
        <p:spPr>
          <a:xfrm>
            <a:off x="7143840" y="4638600"/>
            <a:ext cx="2000160" cy="22194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8"/>
          <p:cNvSpPr/>
          <p:nvPr/>
        </p:nvSpPr>
        <p:spPr>
          <a:xfrm>
            <a:off x="1143000" y="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俯          捧          拿          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2279520" y="785880"/>
            <a:ext cx="3629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花圃里的鲜花是不能随便（   ）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她小心地（   ）着一碗热汤，送到妈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床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这些易碎品要轻（    ）轻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老师（   ）下身子，亲切地摸着我的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2164680" y="3714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5379480" y="714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2"/>
          <p:cNvSpPr/>
          <p:nvPr/>
        </p:nvSpPr>
        <p:spPr>
          <a:xfrm>
            <a:off x="2879280" y="15717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3"/>
          <p:cNvSpPr/>
          <p:nvPr/>
        </p:nvSpPr>
        <p:spPr>
          <a:xfrm>
            <a:off x="4022280" y="28576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971640" y="1701720"/>
            <a:ext cx="76485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家门前有一丛月季，上面开满了红艳艳的花朵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3" descr="watermap"/>
          <p:cNvPicPr/>
          <p:nvPr/>
        </p:nvPicPr>
        <p:blipFill>
          <a:blip r:embed="rId1"/>
          <a:stretch/>
        </p:blipFill>
        <p:spPr>
          <a:xfrm>
            <a:off x="0" y="6308640"/>
            <a:ext cx="952560" cy="33336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5"/>
          <p:cNvSpPr/>
          <p:nvPr/>
        </p:nvSpPr>
        <p:spPr>
          <a:xfrm>
            <a:off x="1908000" y="3429000"/>
            <a:ext cx="42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花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5003640" y="3429000"/>
            <a:ext cx="336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花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7"/>
          <p:cNvSpPr/>
          <p:nvPr/>
        </p:nvSpPr>
        <p:spPr>
          <a:xfrm flipH="1">
            <a:off x="4356000" y="227664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8"/>
          <p:cNvSpPr/>
          <p:nvPr/>
        </p:nvSpPr>
        <p:spPr>
          <a:xfrm flipH="1">
            <a:off x="3995640" y="227664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9"/>
          <p:cNvSpPr/>
          <p:nvPr/>
        </p:nvSpPr>
        <p:spPr>
          <a:xfrm flipH="1">
            <a:off x="7236000" y="2349360"/>
            <a:ext cx="217440" cy="21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0"/>
          <p:cNvSpPr/>
          <p:nvPr/>
        </p:nvSpPr>
        <p:spPr>
          <a:xfrm flipH="1">
            <a:off x="6804000" y="23493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11"/>
          <p:cNvSpPr/>
          <p:nvPr/>
        </p:nvSpPr>
        <p:spPr>
          <a:xfrm flipH="1">
            <a:off x="1618560" y="2925720"/>
            <a:ext cx="144360" cy="216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2"/>
          <p:cNvSpPr/>
          <p:nvPr/>
        </p:nvSpPr>
        <p:spPr>
          <a:xfrm flipH="1">
            <a:off x="1259640" y="2925720"/>
            <a:ext cx="142920" cy="216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3"/>
          <p:cNvSpPr/>
          <p:nvPr/>
        </p:nvSpPr>
        <p:spPr>
          <a:xfrm flipH="1">
            <a:off x="8027280" y="2349360"/>
            <a:ext cx="144360" cy="216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小学语文(记叙文）02"/>
          <p:cNvPicPr/>
          <p:nvPr/>
        </p:nvPicPr>
        <p:blipFill>
          <a:blip r:embed="rId1"/>
          <a:stretch/>
        </p:blipFill>
        <p:spPr>
          <a:xfrm>
            <a:off x="1071720" y="0"/>
            <a:ext cx="2079360" cy="5032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3" descr="r05"/>
          <p:cNvPicPr/>
          <p:nvPr/>
        </p:nvPicPr>
        <p:blipFill>
          <a:blip r:embed="rId2"/>
          <a:stretch/>
        </p:blipFill>
        <p:spPr>
          <a:xfrm>
            <a:off x="642960" y="2214720"/>
            <a:ext cx="1724040" cy="3087360"/>
          </a:xfrm>
          <a:prstGeom prst="rect">
            <a:avLst/>
          </a:prstGeom>
          <a:ln w="0">
            <a:noFill/>
          </a:ln>
        </p:spPr>
      </p:pic>
      <p:grpSp>
        <p:nvGrpSpPr>
          <p:cNvPr id="558" name="Group 4"/>
          <p:cNvGrpSpPr/>
          <p:nvPr/>
        </p:nvGrpSpPr>
        <p:grpSpPr>
          <a:xfrm>
            <a:off x="2772360" y="-164880"/>
            <a:ext cx="3266640" cy="2057040"/>
            <a:chOff x="2772360" y="-164880"/>
            <a:chExt cx="3266640" cy="2057040"/>
          </a:xfrm>
        </p:grpSpPr>
        <p:sp>
          <p:nvSpPr>
            <p:cNvPr id="559" name="AutoShape 5"/>
            <p:cNvSpPr/>
            <p:nvPr/>
          </p:nvSpPr>
          <p:spPr>
            <a:xfrm rot="378600">
              <a:off x="2857680" y="0"/>
              <a:ext cx="3095640" cy="1727280"/>
            </a:xfrm>
            <a:prstGeom prst="cloudCallout">
              <a:avLst>
                <a:gd name="adj1" fmla="val -35712"/>
                <a:gd name="adj2" fmla="val 1053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6"/>
            <p:cNvSpPr/>
            <p:nvPr/>
          </p:nvSpPr>
          <p:spPr>
            <a:xfrm>
              <a:off x="3162600" y="325440"/>
              <a:ext cx="28080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你能找出课文中表示时间的词语吗？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Text Box 7"/>
          <p:cNvSpPr/>
          <p:nvPr/>
        </p:nvSpPr>
        <p:spPr>
          <a:xfrm>
            <a:off x="3786120" y="2214720"/>
            <a:ext cx="21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一天清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8"/>
          <p:cNvSpPr/>
          <p:nvPr/>
        </p:nvSpPr>
        <p:spPr>
          <a:xfrm>
            <a:off x="3714840" y="2714760"/>
            <a:ext cx="28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几天后的一个清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9"/>
          <p:cNvSpPr/>
          <p:nvPr/>
        </p:nvSpPr>
        <p:spPr>
          <a:xfrm>
            <a:off x="3786120" y="321480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第二天清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1476360" y="47628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小女孩怎么摘花瓣的？用  标出小女孩摘花时表示动作的词，用  标出表示神态的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1332000" y="1701720"/>
            <a:ext cx="73454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一天清晨，我看到有个小女孩俯在花前，从花丛中小心地摘下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一片带露水的花瓣，双手捧着，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后飞快地穿过田野，跑远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 flipH="1">
            <a:off x="5579280" y="620640"/>
            <a:ext cx="144360" cy="217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5"/>
          <p:cNvSpPr/>
          <p:nvPr/>
        </p:nvSpPr>
        <p:spPr>
          <a:xfrm flipH="1">
            <a:off x="5580000" y="105264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6"/>
          <p:cNvSpPr/>
          <p:nvPr/>
        </p:nvSpPr>
        <p:spPr>
          <a:xfrm flipH="1">
            <a:off x="1619280" y="285444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7"/>
          <p:cNvSpPr/>
          <p:nvPr/>
        </p:nvSpPr>
        <p:spPr>
          <a:xfrm flipH="1">
            <a:off x="7020000" y="285264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8"/>
          <p:cNvSpPr/>
          <p:nvPr/>
        </p:nvSpPr>
        <p:spPr>
          <a:xfrm flipH="1">
            <a:off x="6588000" y="364500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9"/>
          <p:cNvSpPr/>
          <p:nvPr/>
        </p:nvSpPr>
        <p:spPr>
          <a:xfrm flipH="1">
            <a:off x="5651640" y="4510080"/>
            <a:ext cx="217440" cy="216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0"/>
          <p:cNvSpPr/>
          <p:nvPr/>
        </p:nvSpPr>
        <p:spPr>
          <a:xfrm flipH="1">
            <a:off x="3348000" y="451008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1"/>
          <p:cNvSpPr/>
          <p:nvPr/>
        </p:nvSpPr>
        <p:spPr>
          <a:xfrm flipH="1">
            <a:off x="6516720" y="2852640"/>
            <a:ext cx="216000" cy="216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12"/>
          <p:cNvSpPr/>
          <p:nvPr/>
        </p:nvSpPr>
        <p:spPr>
          <a:xfrm flipH="1">
            <a:off x="2050920" y="4508640"/>
            <a:ext cx="216000" cy="21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13"/>
          <p:cNvSpPr/>
          <p:nvPr/>
        </p:nvSpPr>
        <p:spPr>
          <a:xfrm flipH="1">
            <a:off x="2987640" y="4508640"/>
            <a:ext cx="216000" cy="21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14"/>
          <p:cNvSpPr/>
          <p:nvPr/>
        </p:nvSpPr>
        <p:spPr>
          <a:xfrm flipH="1">
            <a:off x="2484360" y="4508640"/>
            <a:ext cx="216000" cy="21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15"/>
          <p:cNvSpPr/>
          <p:nvPr/>
        </p:nvSpPr>
        <p:spPr>
          <a:xfrm flipH="1">
            <a:off x="5580000" y="2852640"/>
            <a:ext cx="216000" cy="216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16"/>
          <p:cNvSpPr/>
          <p:nvPr/>
        </p:nvSpPr>
        <p:spPr>
          <a:xfrm flipH="1">
            <a:off x="6084720" y="2852640"/>
            <a:ext cx="216000" cy="216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642600" y="642960"/>
            <a:ext cx="597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女孩摘花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女孩很      花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女孩的心情       又       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3500280" y="64296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很认真细心，从“小心”一词可以看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714840" y="185724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心” “双手捧着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5429160" y="3071880"/>
            <a:ext cx="25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飞快地穿过” “跑远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143160" y="3071880"/>
            <a:ext cx="9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激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4357800" y="307188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迫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2286000" y="185724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喜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09:37:22Z</dcterms:created>
  <dc:creator>chen</dc:creator>
  <dc:description/>
  <cp:keywords/>
  <dc:language>en-US</dc:language>
  <cp:lastModifiedBy>dell</cp:lastModifiedBy>
  <cp:lastPrinted>1899-12-30T00:00:00Z</cp:lastPrinted>
  <dcterms:modified xsi:type="dcterms:W3CDTF">2016-03-25T05:51:31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