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38D-887A-4746-85A0-52330B4D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D3D-F609-4F39-99E5-FCE6AB79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10FC1-5B70-4CBF-9E02-72E24C09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F2F1E-3340-47DD-9C88-F878EF7D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9C1D5-B33A-4355-9BEB-FCBDA08F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BC555-7AA8-4B5E-9853-3AA84F1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C8897-FCDD-4008-B57A-6465CF07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83587-CF20-4D8D-8CF6-86B3D014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35CDC-CF49-4DC0-824C-CC699727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2EA71-A39A-450F-AFC1-3529D10F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06A45-7B1C-4F92-A4BE-CCCDEFC9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4D80E-9610-4033-A9C0-E0D8E367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D48-4CAE-4B39-8F22-6180AE31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7D77E-8997-4F25-8A9B-DFD23A54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BD387-7DDD-490E-B1B9-12872DC7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30C75-5EED-4406-94D5-7253898E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F7A2B-DBA9-43FD-82E0-E4785AF3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5689-50DE-4114-AF6E-F574C83D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A46F9-4A4D-4082-8030-8AF23D77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2A018-C76E-4E72-BD8D-E919D94A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9F857-4BA8-478C-9B81-CF9082A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17158-B07C-4D8A-8A9F-B33DD001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9FC4D-CA58-4A7D-88C7-4EEE0723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87E-6D14-4C3C-9622-EB64480E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901C9-87E0-4EEE-848B-11E28515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36951-229A-47C5-B181-C9B1EBFC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0518E-BDE8-4C53-B0A3-8258546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E8BC4-71FB-4117-B54F-3D7F3F73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18AD8-883D-4957-8144-1DD33C03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42CDA-253F-48D8-A39A-851D01B7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E5C56-2DDA-4C2A-A6C8-332A6774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97405-8C96-4C2B-996E-1E3E12C3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003CE-296B-4D11-A760-F73DBAC2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22C58-0F5D-4245-ADEB-088A63E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37F5-ACDC-4696-8A51-3710479D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2BFE1-D29D-4B82-941C-0FD73C6C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DBDD9-746D-4B8B-B518-8C7E18E7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5DABD-8135-4143-8989-B64EBAFD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C2D0F-0909-4556-A198-679CD179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B78A3-3718-44D8-A2EF-253CA9D8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8E823-01F9-4EC8-B877-3F57F8F9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C50FF-F31C-4FFF-962F-56DDF675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D859A-266F-49D0-84A4-5105064F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EDF39-65F4-43EC-A2D7-15100A8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789BE-ACB3-41C7-AB73-9529E76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1303-009C-45F3-92D8-FE9DCC3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7FFF3-B596-4864-9C63-EDD733E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BF04C-C4EF-4F04-9B63-89D3D397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6AF55-D4A9-4B84-A962-350EA7F2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3DF0D-0504-4F95-9DFE-BD5C36A2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514F0-934F-41F2-A3F5-05A20FE1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334C-F500-4850-823D-C880468F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278F-B074-4F48-A72E-1462AD9D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3E1A-3CC1-4F1A-9093-CAF52590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DC64-4634-4303-8E33-E98C9C36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B687-F627-4DA5-B076-11387DE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A45-6247-4271-A22A-06EC772F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9A4C-A74A-4B44-BD39-D814317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FD8A-4418-48AC-A8CC-35CE969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4915-4DA1-4D9A-B190-1C194929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912E-6E2E-496A-9FB6-A28719F3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53A2-B372-4315-8A28-ACD8BEFF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1800-6087-44C4-9994-DEA8900C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C6E6-2D97-4975-A55A-8B92033F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F318-5AF1-461F-83D6-3F2A08F9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CA650-EC1B-4EA4-9C99-4E0E58CB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ADDBF-D903-4994-9925-4F66CB84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D67-1CCE-438E-B5CE-4B85D95E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43FA-F12F-4A8D-858D-92613CCE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A784-4BE4-4140-9DB3-19B0C882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14C9-D9B6-4FED-AAF1-272E6EBD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9CC9-625C-4852-B931-2362431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7E7F-F985-4F00-9C6A-3A38EAFB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D6D5-76BE-4FEB-804F-DCF3C31A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E7B0-BE1B-4F7F-95C7-62181B9B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18D6-EF7D-4870-A2D8-00C48D6C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2092-8E22-481D-910F-3E708EC7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21BD-A28C-41AD-B1D9-456ED3AC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9E6-AB4B-4F41-B433-05D0B542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73EA-6E5C-4697-87B6-15E87525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9EF2-9214-40E3-90FE-973A8530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791C1-1A2A-426E-99EC-ABEBCB51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A5EEC-31F5-4120-B455-9B79506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D47B8-711E-4E73-9C5D-BE290C5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69E4-8D53-48B1-B845-52C7A6C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244D5-6288-4A19-AABA-52A7130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3E3A5-EE2C-4354-8A86-113182F6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4107-2AC0-4B32-8B4E-DBC4DA43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3D2D5-018B-441F-863A-741F4768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81E-5D92-435B-80D6-45635F64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E184E-261F-4212-9691-C0999209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F356-1B5E-46BF-9F07-BFCC5398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A5232-86FB-49FA-BBC8-4831790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5EC97-E243-4944-8EE6-1BE5D45F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D5B40-6C5D-4468-95C7-BE58CBFA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A4D7D-EEC8-4974-951E-1678D492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B25F2-E210-4E30-AB68-AFD40E3D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10F96-381E-4195-BB3F-D631E8E7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CAAEB-4423-43B3-8BB0-5A10A068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1F26E-6003-4495-98EA-166FA290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877-62C6-4425-B1D0-6359B6AC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5281-AD10-43C4-9F27-0FC50543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61322-75EB-4835-ACA6-78C24E58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63C4-85DF-4060-A72F-4AAB861B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E08C1-AC76-49AA-89EE-D94132B8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ED044-8A3E-45A6-926E-1E1E5FDB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2AF03-F734-49C0-B1EF-65CB513C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36E70-8265-44DA-953A-583933FF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ADD56-EAB3-4D40-A031-81A7D7C2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DD0E-5BA3-42F9-AA6C-8174407A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97286-ED8A-4F1D-83A1-F142335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C03-0830-489A-86AD-4B37F433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686EE-D1E3-4286-91C4-9110E188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F8F6F-D63D-46DE-9E15-D66F8161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347AA-895E-4043-8913-0E96B53E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FD70C-5136-423B-B376-EC281DAA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25888-B3E8-44F3-827C-B5B6A754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A5891-F3C9-4EF9-86CF-AC1B3CF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7437E-303F-4220-921B-B4052B2A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18BC-69E9-4AE0-AEB7-4C1DDFE4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AD5A8-EC99-4976-99E8-3A91F6AC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FF574-C2A9-45FF-BC04-5A3E4019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18E-59CE-4033-9DCB-1D8056D5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3B1FF-75C0-41F5-B42F-E2530E6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A80E6-F47F-4EE6-AF9D-993F983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908A2-249F-4431-83EB-E1D7F6E8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4F1DE-07A7-4C81-A085-89629689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406CC-26E0-4496-9845-B7FD6491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4A39D-12BA-4BE2-9388-D944D33F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C279-BEE5-409D-960E-DE05FAB2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DFDB4-6C19-4242-BCCD-191AB973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8D989-D527-4B22-8759-32ACE6DC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CEE76-2633-4E2A-A6A3-4A2D3263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C78-9FAF-435F-9370-D410783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980C8-2BDA-47B6-B62B-DDB2D9A3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8AFA1-244F-4D20-A33A-757CE7D3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525D0-91C8-4CE7-A012-4CF2011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590C-D711-4A42-9C55-7AD23552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E9DFC-C14C-40F6-A8E5-3097F13F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604A9-432A-497A-A40D-623A6A57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9F538-BCD6-43D7-8329-24E1BEC3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08FF4-46FA-43B7-B03C-3D96437F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A716F-4441-4C4F-9C7F-91CB7C87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510EE-CD74-43EC-B57E-6516DFE0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7396-D8AD-45BB-960C-C8C0AEF2A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EDD9-3D76-4B42-949B-D95EE622A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10A7-8F68-421C-87E7-CF8CC5ABC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2048-3883-48C8-84E4-E628B9E52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E3A6-A637-40E4-A573-8FC47193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2775-2B7D-43A9-9619-9BC7CFFE4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980-5CFC-4527-B2EB-C3A7BACB8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4A62-0D78-4694-A2E6-B1CE3706E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8C07-8212-4164-B3D0-2F6E56B8E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EE3F-A70E-46E9-835A-4BFFF4CE0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9F86-960B-40C1-8C41-46A4535EC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4337-A379-44BB-B948-3574B7CE8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0" y="228600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苹果里的星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3"/>
          <p:cNvGrpSpPr/>
          <p:nvPr/>
        </p:nvGrpSpPr>
        <p:grpSpPr>
          <a:xfrm>
            <a:off x="638280" y="358200"/>
            <a:ext cx="8155080" cy="2075040"/>
            <a:chOff x="638280" y="358200"/>
            <a:chExt cx="8155080" cy="2075040"/>
          </a:xfrm>
        </p:grpSpPr>
        <p:sp>
          <p:nvSpPr>
            <p:cNvPr id="494" name="AutoShape 4"/>
            <p:cNvSpPr/>
            <p:nvPr/>
          </p:nvSpPr>
          <p:spPr>
            <a:xfrm rot="20355600">
              <a:off x="761760" y="144756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5"/>
            <p:cNvSpPr/>
            <p:nvPr/>
          </p:nvSpPr>
          <p:spPr>
            <a:xfrm rot="20355600">
              <a:off x="2361960" y="53316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"/>
            <p:cNvSpPr/>
            <p:nvPr/>
          </p:nvSpPr>
          <p:spPr>
            <a:xfrm rot="2539200">
              <a:off x="7848360" y="144756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7"/>
            <p:cNvSpPr/>
            <p:nvPr/>
          </p:nvSpPr>
          <p:spPr>
            <a:xfrm rot="1320000">
              <a:off x="6095520" y="837720"/>
              <a:ext cx="762120" cy="8384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8"/>
            <p:cNvSpPr/>
            <p:nvPr/>
          </p:nvSpPr>
          <p:spPr>
            <a:xfrm rot="211200">
              <a:off x="4114440" y="380520"/>
              <a:ext cx="762120" cy="8384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4"/>
          <p:cNvGrpSpPr/>
          <p:nvPr/>
        </p:nvGrpSpPr>
        <p:grpSpPr>
          <a:xfrm>
            <a:off x="533520" y="4191120"/>
            <a:ext cx="8292960" cy="2361960"/>
            <a:chOff x="533520" y="4191120"/>
            <a:chExt cx="8292960" cy="2361960"/>
          </a:xfrm>
        </p:grpSpPr>
        <p:pic>
          <p:nvPicPr>
            <p:cNvPr id="500" name="Picture 9" descr="j0079112"/>
            <p:cNvPicPr/>
            <p:nvPr/>
          </p:nvPicPr>
          <p:blipFill>
            <a:blip r:embed="rId1"/>
            <a:stretch/>
          </p:blipFill>
          <p:spPr>
            <a:xfrm>
              <a:off x="3657600" y="4191120"/>
              <a:ext cx="212580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11" descr="FD00714_"/>
            <p:cNvPicPr/>
            <p:nvPr/>
          </p:nvPicPr>
          <p:blipFill>
            <a:blip r:embed="rId2"/>
            <a:stretch/>
          </p:blipFill>
          <p:spPr>
            <a:xfrm>
              <a:off x="7696080" y="5181480"/>
              <a:ext cx="113040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2" descr="FD01021_"/>
            <p:cNvPicPr/>
            <p:nvPr/>
          </p:nvPicPr>
          <p:blipFill>
            <a:blip r:embed="rId3"/>
            <a:stretch/>
          </p:blipFill>
          <p:spPr>
            <a:xfrm>
              <a:off x="533520" y="5257800"/>
              <a:ext cx="120960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3" name="Group 15"/>
          <p:cNvGrpSpPr/>
          <p:nvPr/>
        </p:nvGrpSpPr>
        <p:grpSpPr>
          <a:xfrm>
            <a:off x="638280" y="358200"/>
            <a:ext cx="8155080" cy="2075040"/>
            <a:chOff x="638280" y="358200"/>
            <a:chExt cx="8155080" cy="2075040"/>
          </a:xfrm>
        </p:grpSpPr>
        <p:sp>
          <p:nvSpPr>
            <p:cNvPr id="504" name="AutoShape 16"/>
            <p:cNvSpPr/>
            <p:nvPr/>
          </p:nvSpPr>
          <p:spPr>
            <a:xfrm rot="20355600">
              <a:off x="761760" y="144756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17"/>
            <p:cNvSpPr/>
            <p:nvPr/>
          </p:nvSpPr>
          <p:spPr>
            <a:xfrm rot="20355600">
              <a:off x="2361960" y="53316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8"/>
            <p:cNvSpPr/>
            <p:nvPr/>
          </p:nvSpPr>
          <p:spPr>
            <a:xfrm rot="2539200">
              <a:off x="7848360" y="144756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9"/>
            <p:cNvSpPr/>
            <p:nvPr/>
          </p:nvSpPr>
          <p:spPr>
            <a:xfrm rot="1320000">
              <a:off x="6095520" y="837720"/>
              <a:ext cx="762120" cy="8384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20"/>
            <p:cNvSpPr/>
            <p:nvPr/>
          </p:nvSpPr>
          <p:spPr>
            <a:xfrm rot="211200">
              <a:off x="4114440" y="380520"/>
              <a:ext cx="762120" cy="8384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21"/>
          <p:cNvGrpSpPr/>
          <p:nvPr/>
        </p:nvGrpSpPr>
        <p:grpSpPr>
          <a:xfrm>
            <a:off x="638280" y="358200"/>
            <a:ext cx="8155080" cy="2075040"/>
            <a:chOff x="638280" y="358200"/>
            <a:chExt cx="8155080" cy="2075040"/>
          </a:xfrm>
        </p:grpSpPr>
        <p:sp>
          <p:nvSpPr>
            <p:cNvPr id="510" name="AutoShape 22"/>
            <p:cNvSpPr/>
            <p:nvPr/>
          </p:nvSpPr>
          <p:spPr>
            <a:xfrm rot="20355600">
              <a:off x="761760" y="144756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23"/>
            <p:cNvSpPr/>
            <p:nvPr/>
          </p:nvSpPr>
          <p:spPr>
            <a:xfrm rot="20355600">
              <a:off x="2361960" y="53316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24"/>
            <p:cNvSpPr/>
            <p:nvPr/>
          </p:nvSpPr>
          <p:spPr>
            <a:xfrm rot="2539200">
              <a:off x="7848360" y="144756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25"/>
            <p:cNvSpPr/>
            <p:nvPr/>
          </p:nvSpPr>
          <p:spPr>
            <a:xfrm rot="1320000">
              <a:off x="6095520" y="837720"/>
              <a:ext cx="762120" cy="8384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26"/>
            <p:cNvSpPr/>
            <p:nvPr/>
          </p:nvSpPr>
          <p:spPr>
            <a:xfrm rot="211200">
              <a:off x="4114440" y="380520"/>
              <a:ext cx="762120" cy="8384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7"/>
          <p:cNvGrpSpPr/>
          <p:nvPr/>
        </p:nvGrpSpPr>
        <p:grpSpPr>
          <a:xfrm>
            <a:off x="631800" y="381960"/>
            <a:ext cx="8155080" cy="2075040"/>
            <a:chOff x="631800" y="381960"/>
            <a:chExt cx="8155080" cy="2075040"/>
          </a:xfrm>
        </p:grpSpPr>
        <p:sp>
          <p:nvSpPr>
            <p:cNvPr id="516" name="AutoShape 28"/>
            <p:cNvSpPr/>
            <p:nvPr/>
          </p:nvSpPr>
          <p:spPr>
            <a:xfrm rot="20355600">
              <a:off x="755280" y="147132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9"/>
            <p:cNvSpPr/>
            <p:nvPr/>
          </p:nvSpPr>
          <p:spPr>
            <a:xfrm rot="20355600">
              <a:off x="2355480" y="55692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30"/>
            <p:cNvSpPr/>
            <p:nvPr/>
          </p:nvSpPr>
          <p:spPr>
            <a:xfrm rot="2539200">
              <a:off x="7841880" y="1471320"/>
              <a:ext cx="761760" cy="8380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31"/>
            <p:cNvSpPr/>
            <p:nvPr/>
          </p:nvSpPr>
          <p:spPr>
            <a:xfrm rot="1320000">
              <a:off x="6089040" y="861480"/>
              <a:ext cx="762120" cy="8384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32"/>
            <p:cNvSpPr/>
            <p:nvPr/>
          </p:nvSpPr>
          <p:spPr>
            <a:xfrm rot="211200">
              <a:off x="4107960" y="404280"/>
              <a:ext cx="762120" cy="8384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3"/>
          <p:cNvSpPr/>
          <p:nvPr/>
        </p:nvSpPr>
        <p:spPr>
          <a:xfrm>
            <a:off x="203184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9000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468360" y="981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次这样切苹果的，也许是出于无意，也许是出于好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838080" y="533520"/>
            <a:ext cx="2895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6320" y="301680"/>
            <a:ext cx="9067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我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深有感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是，这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鲜为人知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那么大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魅力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这个秘密不知从什么地方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那男孩的幼儿园，然后又由他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我，现在又由我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你们大家。是的，如果你想知道什么是创造力，往小处说，就是换一种切苹果的方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3"/>
          <p:cNvSpPr/>
          <p:nvPr/>
        </p:nvSpPr>
        <p:spPr>
          <a:xfrm>
            <a:off x="221148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0" y="1989000"/>
          <a:ext cx="9144000" cy="388944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757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常的切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就是一般的苹果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家都知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循规蹈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男孩的切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/>
          <p:cNvSpPr/>
          <p:nvPr/>
        </p:nvSpPr>
        <p:spPr>
          <a:xfrm>
            <a:off x="221148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0" y="1989000"/>
          <a:ext cx="9144000" cy="47674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757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常的切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从顶部切到底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就是一般的苹果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家都知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循规蹈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男孩的切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鲜为人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出于好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出于无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838080" y="533520"/>
            <a:ext cx="2895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39528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次这样切苹果的，也许是出于无意，也许是出于好奇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我深有感触的是，这鲜为人知的图案竟有那么大的魅力。这个秘密不知从什么地方传到那男孩的幼儿园，然后又由他传给我，现在又由我传给你们大家。是的，如果你想知道什么是创造力，往小处说，就是换一种切苹果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3"/>
          <p:cNvSpPr/>
          <p:nvPr/>
        </p:nvSpPr>
        <p:spPr>
          <a:xfrm>
            <a:off x="203184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9000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1403280" y="2060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创新是一个民族发展的不竭动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泽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0" y="9144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读出下列词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清晰     生疏     苹果核     循规蹈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图案     魅力     创造力     鲜为人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3200400" y="5335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常     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838080" y="18288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我报告幼儿园的新闻，或者显示显示他学会的新本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4"/>
          <p:cNvGrpSpPr/>
          <p:nvPr/>
        </p:nvGrpSpPr>
        <p:grpSpPr>
          <a:xfrm>
            <a:off x="533520" y="4191120"/>
            <a:ext cx="8292960" cy="2361960"/>
            <a:chOff x="533520" y="4191120"/>
            <a:chExt cx="8292960" cy="2361960"/>
          </a:xfrm>
        </p:grpSpPr>
        <p:pic>
          <p:nvPicPr>
            <p:cNvPr id="525" name="Picture 5" descr="j0079112"/>
            <p:cNvPicPr/>
            <p:nvPr/>
          </p:nvPicPr>
          <p:blipFill>
            <a:blip r:embed="rId1"/>
            <a:stretch/>
          </p:blipFill>
          <p:spPr>
            <a:xfrm>
              <a:off x="3657600" y="4191120"/>
              <a:ext cx="212580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6" descr="FD00714_"/>
            <p:cNvPicPr/>
            <p:nvPr/>
          </p:nvPicPr>
          <p:blipFill>
            <a:blip r:embed="rId2"/>
            <a:stretch/>
          </p:blipFill>
          <p:spPr>
            <a:xfrm>
              <a:off x="7696080" y="5181480"/>
              <a:ext cx="113040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7" descr="FD01021_"/>
            <p:cNvPicPr/>
            <p:nvPr/>
          </p:nvPicPr>
          <p:blipFill>
            <a:blip r:embed="rId3"/>
            <a:stretch/>
          </p:blipFill>
          <p:spPr>
            <a:xfrm>
              <a:off x="533520" y="5257800"/>
              <a:ext cx="120960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755640" y="549360"/>
            <a:ext cx="708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哥哥，我要让你看看里面藏着什么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知道里面是什么。”我瞧着他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，你不知道的，还是让我切给你看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哥哥，看哪，里头有颗五角星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959120" y="2570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250920" y="76500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男孩拿着苹果（           ）地说：“大哥哥，我要让你看看里面藏着什么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知道里面是什么。”我瞧着他（           ）地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，你不知道的，还是让我切给你看吧。”小男孩（         ）地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把切好的苹果举到我面前，（            ）地说：“大哥哥，看哪，里头有颗五角星呢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3"/>
          <p:cNvSpPr/>
          <p:nvPr/>
        </p:nvSpPr>
        <p:spPr>
          <a:xfrm>
            <a:off x="539640" y="1916280"/>
            <a:ext cx="75247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的，从横切面看，可以清晰地看出，苹果核果然像一颗五角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539640" y="1916280"/>
            <a:ext cx="75247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的，从横切面看，可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清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看出，苹果核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果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一颗五角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0" y="990720"/>
            <a:ext cx="91440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见过许多人切苹果，他们对切苹果都不生疏，总是循规蹈矩地按通常的切法，把它们一切两半，却从未见过还有另一种切法，更没有想到苹果里还隐藏着“五角星”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838080" y="533520"/>
            <a:ext cx="2895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76320" y="301680"/>
            <a:ext cx="9067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真的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从横切面看，可以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清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看出，苹果核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果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一颗五角星。我见过许多人切苹果，他们对切苹果都不生疏，总是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循规蹈矩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按通常的切法，把它们一切两半，却从未见过还有另一种切法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更没想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苹果里还隐藏着“五角星”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Song Yujiao</cp:lastModifiedBy>
  <dcterms:modified xsi:type="dcterms:W3CDTF">2016-03-01T09:18:40Z</dcterms:modified>
  <cp:revision>5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