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8CD-2E78-4A06-A929-77C2F1D1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16C-036E-42BB-859A-913352F3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C7030-83A7-4B33-A197-64D6BB16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D04D1-2D60-4422-A095-A68EAC00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CB042-A97A-4BF3-AB3B-209E2584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75F88-38EF-4D8A-890E-6897395B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F5686-CA32-4365-9D4D-03064896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6244B-1186-43DB-B557-C3B47015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4F739-3F46-4757-B48F-584D4BA2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19672-146E-4824-8596-B51CA711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3ACFA-8AB0-4B85-9B18-647FDF6F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4B09D-B96F-490E-AB8C-4CD30E49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422-48B4-49E2-84F1-640782D3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2C106-1039-4B53-9784-FBD5BBDF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EF2D1-DB44-49EB-BA29-4E28BB3B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0DBB9-52C0-441A-95C3-19F859FD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CCD2F-703D-4407-AA6D-3B603057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03E0E-98AE-429F-823D-F4873B47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DCACA-F309-4DB3-B4D3-B8A9ED02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1AB88-531D-4EA8-9FE7-EF43586C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CE9AB-2501-444F-8472-FDC993EB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FA7DF-F8F8-4061-A589-DCA24EC9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9385F-8628-41D7-8EFA-AF328319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155-3ADE-4A59-A4B6-99EA601C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B6339-8FBE-4354-ABE0-967B2DD2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5AA3F-4CD9-478F-AD82-08DEAAD8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3C5D1-5E6F-42BC-803A-10919525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B0199-AF94-4216-89DC-8F448126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090AD-88C1-476A-94B4-35B7978A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58D43-0F83-4323-8993-4805CFC3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05AA8-73B4-44FA-A282-9CFD32CD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FF52B-1B52-47ED-8BE6-6EA37684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2842E-E1FF-4C79-9EE6-395E5960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8F11D-89E2-459A-8299-B2831E62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F6DC-5609-42D6-ABF5-3C00FB36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09E89-6B1B-49C6-B7E9-05679B38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44321-C4F8-467C-B2FA-76E2ED14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178D0-1033-47BB-9935-1545F4E8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DBFBF-7B27-4829-B4E4-AD873B12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830B1-8753-4832-9C20-22AC8A6C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4B075-7B04-4C16-92CB-593D76D1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7523A-3AFA-4C20-9F15-7661DD19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F2078-991B-4C03-8ED8-3A4FD8E9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F0507-B05C-44CC-B79F-FA2793AB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DADFD-A219-4CB8-B326-B2AEDC1F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9F08-B1C7-4661-AA81-64E91AA6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87267-0DF2-4A3B-BF47-85EDF3A4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6FA47-050D-4D2E-9384-96B481B4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49771-903E-438A-8A82-08116009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2A299-43DC-485B-93CC-0EFB24EF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E5464-9F37-4AAD-9DA7-B11E4821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EC29-E832-4A3D-94FB-66F79217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8923-4403-42E8-9C60-E0FAAE34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2557-50EF-4827-88A3-8647ECDC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699C-F321-437F-BA50-219356CC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F230-D30E-4578-AD42-025BE0A1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D0E-2BD4-4605-907A-D5A8BA18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513D-2E45-4AB0-80CC-9418D34F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ACE1-CD97-48F0-9BFF-DC258541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6E65-C5F7-4900-A590-6C12C4F7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05AA-D500-4ED7-B5CF-B9765820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A494-9842-455F-9694-B2FEE23D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6F43E-E79E-4DA5-A70D-01AA8E73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3AB07-D32B-4A1A-B64D-9D88E96C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5490-4C60-4D30-894A-9F99CE95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4A2C1-7F9F-42E5-A7BC-9F818AFE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75C44-3F09-4C1B-82BD-B68A7081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C46-C60E-432E-A71B-88125574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2FD6E-4062-4247-92F9-98C5327E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A1CB-094B-4761-ABB3-992DD465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3D1C-B637-43DD-B9C7-D6CF2062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55DB-CB5C-4348-8DA8-480775EE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F135-EFD7-4584-B801-948EE2D0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13A3A-8451-4272-9FB7-EFD4E1F7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A4534-AFC8-4359-8AA3-DBB3FB21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6C7EA-6B48-4D58-ADE8-87152625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67327-1D9A-4865-A4AD-1E9C9BBE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101E0-6319-4D63-8DF0-CF204093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2B2-7DE2-4357-BFF1-EF9675D0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1DC99-660E-43BE-8D1B-823C394B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D9DDC-F14D-4031-AE7E-93CE1C1A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69E1E-9D6C-4856-9EAC-363BFA81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3AE5B-ADDD-4D54-B41F-BAB27A0C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A6F80-C61E-4101-911E-6E378227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65A0E-050C-4EF5-8561-C0126C10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44D39-3ADC-46C7-ABE1-2777D942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0494-35CB-41C4-B3DD-3D3A498E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DBFF4-F5F6-425A-ADC2-31A71953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76F48-AA65-42F5-93C9-78D0D2FA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DDF-B01C-4514-B335-78334FCC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43BFA-6833-4AE0-8219-AE5C7C17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5D3BB-9DD5-4E05-8E48-9D452641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9B57A-6256-496B-99C3-B1AEC0A3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DD055-F9D2-4A87-AF9A-4D22B4E9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553AE-E951-4C1D-9FE4-BB05D1F7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35887-D9BC-4E39-9811-5415DF62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DA31E-3655-4B9B-AA42-9A8A7A18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A51D9-9A01-43A8-A444-00288FF7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C2B6B-C902-4B93-8659-138049EC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B544B-E7A2-4421-95B5-A60FC408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F86-8F41-4EE7-A3A9-7A86042E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FD656-B3E0-47A4-A051-BE038BC4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888F1-0555-43B8-A312-9E8140CF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E78EA-6E06-43D9-829E-298C7AC6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2A59F-8CE9-425C-8356-FA9B3D02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77F58-67AE-45D8-BEB8-D83191F1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B6FA8-F542-42B3-A331-821EC310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BE352-A387-4F8F-B048-471F48B4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FDB99-E5BE-437D-83D6-C30CF3C8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CB103-423F-43BD-9C9C-F1516DF6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B8DFE-F815-4EB7-8BAB-27286FAE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212-9E1A-4166-9737-C14946BE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7A751-E507-419E-923B-3FC85DB4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EA6E2-8908-4B27-AFE3-5EA74189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F633D-759C-4E93-B6BC-3D7A442C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4B0C0-F57C-4C5D-90C0-44594582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58D1B-1DA4-4D4B-944A-B8653A47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6DD04-6300-4D0F-82C5-26D7ECEB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49C7B-C06A-4D6D-93CC-8AF7E9D6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1D3FB-F7D8-442E-8AB6-F2C8E517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B84A0-2F1F-4E2A-86AE-834A0547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2F7DD-40D6-477C-A7DF-622BB7EC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A14-45C6-42B6-AA45-5CBEAD77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4D338-375A-45D2-8620-F05EC681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913C5-5055-4692-AAC6-2D9CB3B7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7AAC7-3137-40D7-BBEC-650E437B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513DC-D880-4DA1-9E57-A686C7F2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EC021-0D6C-478B-9761-6AD33A17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790BD-3F50-4CC0-AB16-85A2D01D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DA0E7-B164-4A9B-A010-D8E41AAE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A490B-0BE5-434B-ABE2-E895D6F6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2BF18-1A58-4BF5-A3AF-8760FA37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66A60-568D-424B-ADEB-6A272D5A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7FBC-25AC-48FC-A67C-4ECDB147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23217-E186-4C7D-8E7C-ADD2E196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E74F2-0C2E-4946-9BA8-BDB7D4E8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77041-570A-4C02-843D-079CC419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824D0-2D28-4372-98B6-8D614ED5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F533E-4F71-46A4-8F1D-6ABA1AB2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83473-F04E-47C0-839D-57D74898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FC928-70B7-448E-9FE5-042E98FA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184EC-67A1-4FC5-AE4A-C84DE9A3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8548B-41A6-4657-B3BC-A34342E3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7A381-2F5E-4687-AFDC-F5D10636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EAAA-DA92-4BCE-85EA-E6CE05A3B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E253-F376-4C31-9B7F-327534CDB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034C-765F-4588-9A13-3184BD73E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314A-B994-438D-9CBF-FE795ADD3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DD56-6BE4-4FB1-90F1-442BCB7D1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28AB-1DBE-4BB1-91AE-F2E203C00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05BF-AFE6-4525-87D1-955502F24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E0E5-CE65-4E71-90FA-4F2A62DB0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5657-DEBA-46AC-91F1-A6C167D06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75CB-7213-4A67-9640-FE7129F6C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21DA-56F9-4C35-B322-B860AC20D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B7BF-55BF-4003-89AE-EAA3B7F58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5"/>
          <p:cNvSpPr/>
          <p:nvPr/>
        </p:nvSpPr>
        <p:spPr>
          <a:xfrm>
            <a:off x="2484360" y="206064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点金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5"/>
          <p:cNvSpPr/>
          <p:nvPr/>
        </p:nvSpPr>
        <p:spPr>
          <a:xfrm>
            <a:off x="179280" y="7650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539640" y="263700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通过国王的语言、行动、心理     活动等描写，了解他的感情变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611280" y="4221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理解课文讲述的道理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20094261174246170"/>
          <p:cNvPicPr/>
          <p:nvPr/>
        </p:nvPicPr>
        <p:blipFill>
          <a:blip r:embed="rId1"/>
          <a:srcRect l="0" t="0" r="0" b="62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3"/>
          <p:cNvSpPr/>
          <p:nvPr/>
        </p:nvSpPr>
        <p:spPr>
          <a:xfrm>
            <a:off x="539640" y="836640"/>
            <a:ext cx="49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自学指导（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179280" y="2637000"/>
            <a:ext cx="8964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细读课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~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，边读边思考：神灵为什么赐给麦得斯点金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真的获得点金术了吗？从哪里可以看出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先自学，再与小组成员交流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钟后汇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5"/>
          <p:cNvSpPr/>
          <p:nvPr/>
        </p:nvSpPr>
        <p:spPr>
          <a:xfrm>
            <a:off x="1619280" y="1052640"/>
            <a:ext cx="69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听到这话，麦得斯心花怒放，对自己说“我将成为世界上最富有、最幸福的人了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684360" y="765000"/>
            <a:ext cx="59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自学指导（二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826920" y="2060640"/>
            <a:ext cx="7632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品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~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，找出国王心情变化的词语来，并说说变化的原因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小组合作学习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钟后汇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5"/>
          <p:cNvSpPr/>
          <p:nvPr/>
        </p:nvSpPr>
        <p:spPr>
          <a:xfrm>
            <a:off x="611280" y="18900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自学指导（三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900000" y="1341360"/>
            <a:ext cx="74170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默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~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然段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贪得无厌的国王为什么说“我     这么喜欢金子是愚蠢的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是怎样理解“麦德斯永远也忘不了这个教训”这句话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钟后汇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5"/>
          <p:cNvSpPr/>
          <p:nvPr/>
        </p:nvSpPr>
        <p:spPr>
          <a:xfrm>
            <a:off x="1692360" y="1341360"/>
            <a:ext cx="684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神啊，我这么爱金子是愚蠢的。”他痛苦地说，“把金子都拿走，还我的女儿吧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5"/>
          <p:cNvSpPr/>
          <p:nvPr/>
        </p:nvSpPr>
        <p:spPr>
          <a:xfrm>
            <a:off x="324000" y="1484280"/>
            <a:ext cx="97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学了这篇课文，你最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说点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Song Yujiao</cp:lastModifiedBy>
  <dcterms:modified xsi:type="dcterms:W3CDTF">2016-03-01T09:15:54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