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B9C-F2F7-4242-B31A-DC0B4AF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C83-2371-43F6-BED1-DE549FB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FC62E-3CF6-420B-AF06-24D28DF9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E745D-CE19-481B-9CE9-350A0BA6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EEFDB-3C3B-4A93-A7CF-68F69EBB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4A9AE-741B-4F74-B4F0-1E9C353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BDAEB-A16E-43B8-9CE0-213D56B4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29B7-F442-47D4-9FF4-CD4E6F4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8EB02-9C29-4A3E-B26A-BF0752A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C1CDF-31C1-48EA-996C-8DB65C41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67750-1EFC-4A5B-A5D4-1F904E38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34137-B448-4B7D-A840-981C6256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812-7D65-4624-A582-5035BFDC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711E0-1D46-4045-BD3B-A207941D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CD6CB-6055-4E1A-84D7-E4FACDD2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E9308-0B87-4509-9EE3-E194C645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5C0FD-16D8-44D4-B0AA-BB3F358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0CDC-26A2-4CB4-8205-18CD864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82430-AF3C-46ED-B514-9DDDFF8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49EA8-4EDF-46D4-97D8-557740D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CFA6D-B070-41F0-85CB-2551A18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2B210-2D28-4183-AC76-DFDE8EC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1C10F-07B2-41A1-A31F-33BF02DC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557-727B-46C6-8312-BDBFC2F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E1263-7525-4493-8908-A8AC9C60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3A68-D65B-4355-9CA8-906E3478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3327-F1BC-4913-B371-399990C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1D2C3-5BBA-4CEA-A88D-52FACAD9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784A9-9DD7-4D95-9C00-AFA658B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4539-4840-44EA-B78B-E2C4E5F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738E-A5B2-47C0-AD3F-FB2CCCE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8507D-5519-4851-B22C-CB94DEB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05D73-6EF2-4F8C-B820-E4D4818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C8503-D4E1-456E-AFB7-F24F3C9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A15-8F41-421D-B265-67075558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6935-CEE3-4BAE-BC65-32CFA6BA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AEAAA-5A08-484B-A2FB-749EA2C5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4C0AF-B1DB-49D4-BE4D-187C380F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07F1D-EF8E-42FC-B34D-442FF673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042BB-CC5A-41D9-BCD9-CC1E9598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DE279-4688-4A12-8D6F-E2C8FC4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B66F9-E68D-469A-9FF3-437B415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2E2CD-B48F-49E6-A850-31064FA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EFC2C-48A5-414F-AA74-FACFB32D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BD0B5-87B8-4AF3-926E-D54B9B16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1B0-9481-4F91-8980-C67750B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4C3D-FE5B-47F7-9388-6EC31262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6B418-1086-45DB-873D-1883847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23177-8E16-4107-BC34-0A622A19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50C6D-3115-4997-B4BD-8484EE38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5AB94-9C20-4CAA-9C67-72C7B102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AE4-7BA0-40CA-8F9C-CB1657DC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F89-DEF9-4336-8C7E-80A5027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BED8-EF89-4DF1-89D9-015BB66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0829-B3BD-48DF-A3BA-B2563371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B5DD-BBF5-4CAF-B189-BAB089D8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35A-2F5D-4057-BB1C-B9C6222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FD52-9D9D-4D48-A43A-AD28AA9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4893-A5B5-4599-A8C7-CFDB48E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1DA-2625-433D-A889-85D507C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BB5F-AA22-4798-81E0-F889A310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078E-FC16-4FB4-877D-63BB3674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D0BF-1890-443C-BF4C-331FD1C8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072F-C386-43AF-82FD-86B8835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067B-5EA3-4886-A02C-884C654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3F63-ED58-4FAC-9A81-D37E755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BDB63-807D-41D1-88D8-618ACD9C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E5B-365B-4D33-83BF-5EA33878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E683-0103-4465-851D-410B894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7A21-ED55-46C1-BBD8-A7B0108F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DD5B-9DAE-4A99-820D-39AA429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5F29-C503-42B1-8B80-621CDDA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44BD-35E2-46D6-9BB4-A994D828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E1F6-EE34-472D-8190-3E0D12B3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9C60-C943-4DFA-96B7-F371F07C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FAE6-9FFD-4D1F-848F-54FBEB5A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3AB51-5E22-48AD-B2FE-4A56314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E9678-C940-46DA-BA4E-4D74E62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04D-F75F-456A-B427-384BF673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CC78-A530-48B7-A7CC-809FA18F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254D-53A1-42EC-ACED-FDB0F3B8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38DE-FDB5-4666-AF7D-34BEB3CF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7E12-831B-4A3E-8F9E-86AC070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C088-552B-4FD7-B579-56F4046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FD2B-F473-4033-99D2-DFB2F5F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FB07-47DB-4BAC-8809-C9146F6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EFB4-E4A0-4655-B2CB-6D1E7545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7C3D-FFDD-4867-9073-8EC294AC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4B79-AD3E-4B50-B520-3C2541B3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A16-F5EE-4EE0-8BC2-A71E3FC1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48833-66C6-42B9-A05A-8BCA26C1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89F0-2BE3-4183-9295-D6625F0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E1CE-1C6A-44F0-B7AC-B8FE2E0B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DB57-F11A-4A53-843D-D41EBA84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DEF8-A9E8-4FB2-ABBA-86001A6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A72C-EB1F-4DF0-B9B0-83A79501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2236-E115-43D4-B772-BA228D9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A737-48F6-4C66-8C83-CDE709F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1870-767B-4846-819B-4BB94BC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16502-9B66-4ECF-8D82-E89050C5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1DF-50A9-4B5F-8538-49A4C3BA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9ABE-D937-4B99-902C-85520932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5FAD5-A678-40F5-A41A-C8DDB483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05347-B644-4B24-99AF-84648EF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ECA6-E47D-4FBD-8036-A3A68E43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207D4-2886-4837-8F25-4951B72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7C51B-01F7-4450-9754-F33F7E6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8E747-4167-4A1B-B6C4-11377CDD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E1928-13FA-4553-A3F2-68656372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A513F-37CF-41AB-BA2E-F6FC183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006D-E7EA-4709-8E30-93E254D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AAC-115C-4D12-97A4-AFEA20A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362E-645D-4583-B6F1-29868CF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F980-432A-4C48-A1D3-54C1D99F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66DAB-E392-4BBB-8F35-0C7C8294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6C07D-6D5D-4B34-B425-130E4CC7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5B8B6-7BE2-4A7D-8A5C-F388651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5ECB9-8ACF-4AB5-86C2-BD70451E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B0AC-64CB-4F8D-B596-C2026D35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5BB1E-6D9F-49E4-AD7F-1D1FCEE1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9BC50-5368-4E1B-967B-B960058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83883-04CD-42AC-BFA1-0DDC8C6E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BC1-0196-4431-BCE8-B02FE72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3D65-EDDD-4BE1-A08E-1D5D8ED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84CC-6D86-4230-9297-FAE2003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A02A2-D1E3-4D5A-8555-0CA7A8DF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2D48-4DBA-4221-832D-3C80A60D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7FD38-8A70-4C22-99DA-6EE9EF62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B108-A0DC-4E03-8A51-FF6A8D15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F0CDA-5668-494A-BAC8-82E2261C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6F2B6-83F9-45F0-8D9E-489DC6E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B540-7300-4EB9-84BB-55EDCE57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6E58E-0086-414C-ABE6-A7718C0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109-5F41-4D27-AB65-FBF0C7C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71AB-E698-46E1-861F-5E323C7B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0B38-4F2E-4DD3-A5A1-35B47AE3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AD47C-51C8-4232-9E85-A414363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3535-A75D-4174-91E8-BD1289E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C0777-32F5-4EA6-85DF-EE6F8F4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7AB85-79A7-44E5-9956-5E0F01DA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FFA2-20B3-4225-8160-5A171104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B9F69-F16C-473E-AD79-0815A2F8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FC95-6796-48CF-93D9-17FBCEEF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10D7A-4DFC-47DB-8C85-CC6E58E6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DE0-9A63-4E8C-A1C8-D66CA01EE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8E37-3343-4FFE-AF64-8F794D08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942A-1C9E-4949-8AE9-23D3C37D6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AC84-BF3D-453A-8E97-27EE5D47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07BF-D329-4664-BCDA-8D5F5BAA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8D6-1EBE-408D-9D72-29871DD6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202-7798-4967-86ED-DE9E3491C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B5BD-9936-4466-8EFA-A5EB0B778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7A9-5ECE-47A0-BA59-76AF05EF0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5D9-EB79-4F57-B08C-546E1E69A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F6CF-4503-4A4D-839C-DF2D36CA3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779-A599-47A5-B79C-FB660A24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rcRect l="0" t="0" r="275" b="18090"/>
          <a:stretch/>
        </p:blipFill>
        <p:spPr>
          <a:xfrm>
            <a:off x="1042920" y="404640"/>
            <a:ext cx="4595760" cy="5767560"/>
          </a:xfrm>
          <a:prstGeom prst="rect">
            <a:avLst/>
          </a:prstGeom>
          <a:ln w="0">
            <a:noFill/>
          </a:ln>
        </p:spPr>
      </p:pic>
      <p:pic>
        <p:nvPicPr>
          <p:cNvPr id="493" name="WordArt 14" descr=""/>
          <p:cNvPicPr/>
          <p:nvPr/>
        </p:nvPicPr>
        <p:blipFill>
          <a:blip r:embed="rId2"/>
          <a:stretch/>
        </p:blipFill>
        <p:spPr>
          <a:xfrm>
            <a:off x="6583320" y="384120"/>
            <a:ext cx="15969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4"/>
          <p:cNvSpPr/>
          <p:nvPr/>
        </p:nvSpPr>
        <p:spPr>
          <a:xfrm>
            <a:off x="6588000" y="566100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3276720" y="5661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隶书"/>
              </a:rPr>
              <a:t>富 安 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854064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4"/>
          <p:cNvSpPr/>
          <p:nvPr/>
        </p:nvSpPr>
        <p:spPr>
          <a:xfrm>
            <a:off x="3564000" y="530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富安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030320" y="1692000"/>
            <a:ext cx="700704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我们喜欢周庄，喜欢它那独特的水乡风光；我们热爱周庄，热爱它那久远的历史和文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"/>
          <p:cNvPicPr/>
          <p:nvPr/>
        </p:nvPicPr>
        <p:blipFill>
          <a:blip r:embed="rId1"/>
          <a:srcRect l="0" t="0" r="8547" b="16801"/>
          <a:stretch/>
        </p:blipFill>
        <p:spPr>
          <a:xfrm>
            <a:off x="1042920" y="404640"/>
            <a:ext cx="4214880" cy="4929480"/>
          </a:xfrm>
          <a:prstGeom prst="rect">
            <a:avLst/>
          </a:prstGeom>
          <a:ln w="0">
            <a:noFill/>
          </a:ln>
        </p:spPr>
      </p:pic>
      <p:pic>
        <p:nvPicPr>
          <p:cNvPr id="520" name="WordArt 14" descr=""/>
          <p:cNvPicPr/>
          <p:nvPr/>
        </p:nvPicPr>
        <p:blipFill>
          <a:blip r:embed="rId2"/>
          <a:stretch/>
        </p:blipFill>
        <p:spPr>
          <a:xfrm>
            <a:off x="6583320" y="384120"/>
            <a:ext cx="15969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-93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d60093"/>
                </a:solidFill>
                <a:latin typeface="隶书"/>
                <a:ea typeface="隶书"/>
              </a:rPr>
              <a:t>一踏上周庄的土地，即便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95280" y="3141720"/>
            <a:ext cx="784872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隶书"/>
                <a:ea typeface="隶书"/>
              </a:rPr>
              <a:t>        </a:t>
            </a: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d60093"/>
                </a:solidFill>
                <a:latin typeface="隶书"/>
                <a:ea typeface="隶书"/>
              </a:rPr>
              <a:t>台湾作家  三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826920" y="1844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曾经周游世界的我，也不免神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826920" y="278136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激动、眼泪汪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3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6408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3240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78544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04920" y="549360"/>
            <a:ext cx="3690720" cy="5904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4067280" y="620640"/>
            <a:ext cx="475272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d60093"/>
                </a:solidFill>
                <a:latin typeface="隶书"/>
                <a:ea typeface="隶书"/>
              </a:rPr>
              <a:t>黄山集中国山川之美，周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8920" y="2781360"/>
            <a:ext cx="820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60093"/>
                </a:solidFill>
                <a:latin typeface="隶书"/>
                <a:ea typeface="隶书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0093"/>
                </a:solidFill>
                <a:latin typeface="隶书"/>
                <a:ea typeface="隶书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          </a:t>
            </a: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古画家  吴冠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d60093"/>
                </a:solidFill>
                <a:latin typeface="隶书"/>
                <a:ea typeface="隶书"/>
              </a:rPr>
              <a:t>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900000" y="2421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集中国水乡之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30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-93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3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3240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78544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76720" cy="64087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54064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阅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d60093"/>
                </a:solidFill>
                <a:latin typeface="隶书"/>
                <a:ea typeface="隶书"/>
              </a:rPr>
              <a:t>、课文中哪一句话对周庄景致进行了高度概括，突出了周庄的无穷魅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d60093"/>
                </a:solidFill>
                <a:latin typeface="隶书"/>
                <a:ea typeface="隶书"/>
              </a:rPr>
              <a:t>、课文主要从哪两方面来描写周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04920" y="549360"/>
            <a:ext cx="3690720" cy="5904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4067280" y="620640"/>
            <a:ext cx="4752720" cy="583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252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"/>
          <p:cNvSpPr/>
          <p:nvPr/>
        </p:nvSpPr>
        <p:spPr>
          <a:xfrm>
            <a:off x="223200" y="1179360"/>
            <a:ext cx="2008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集水乡之瑰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得苏杭之灵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8" descr=""/>
          <p:cNvPicPr/>
          <p:nvPr/>
        </p:nvPicPr>
        <p:blipFill>
          <a:blip r:embed="rId1"/>
          <a:stretch/>
        </p:blipFill>
        <p:spPr>
          <a:xfrm>
            <a:off x="2627280" y="468360"/>
            <a:ext cx="5905440" cy="59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68000" y="875880"/>
            <a:ext cx="8064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60093"/>
                </a:solidFill>
                <a:latin typeface="Arial"/>
                <a:ea typeface="隶书"/>
              </a:rPr>
              <a:t>           </a:t>
            </a:r>
            <a:r>
              <a:rPr b="0" lang="zh-CN" sz="3400" spc="-1" strike="noStrike">
                <a:solidFill>
                  <a:srgbClr val="d60093"/>
                </a:solidFill>
                <a:latin typeface="Arial"/>
                <a:ea typeface="隶书"/>
              </a:rPr>
              <a:t>蓝天下，一条条小河静静地流淌，水中倒映着白墙灰瓦的房屋；传统的古朴典雅，现代的崭新华美，摇曳于小桥流水，一切是那么宁静、秀美、和谐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00000" y="1483920"/>
            <a:ext cx="734544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Arial"/>
                <a:ea typeface="隶书"/>
              </a:rPr>
              <a:t>           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周庄，到处洋溢着水的灵气和平和。对于久居大都市的人来说，那种水泥丛林给人的压迫感，会立刻消散，油然而生水一样的轻松和畅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内容占位符 3" descr=""/>
          <p:cNvPicPr/>
          <p:nvPr/>
        </p:nvPicPr>
        <p:blipFill>
          <a:blip r:embed="rId1"/>
          <a:stretch/>
        </p:blipFill>
        <p:spPr>
          <a:xfrm>
            <a:off x="-31680" y="0"/>
            <a:ext cx="424332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5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900000" y="112500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富安桥建于</a:t>
            </a: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隶书"/>
              </a:rPr>
              <a:t>1355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隶书"/>
              </a:rPr>
              <a:t>年。这座桥的桥身四侧都建有桥楼，遥遥相对，气势非凡，是江南水乡仅存的立体型桥楼合璧建筑。现在桥楼依然保存完好，飞檐朱栏，雕梁画栋，古色古香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Song Yujiao</cp:lastModifiedBy>
  <dcterms:modified xsi:type="dcterms:W3CDTF">2016-03-01T07:00:09Z</dcterms:modified>
  <cp:revision>2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