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592-036F-44A2-B3CA-CB3C47F6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AAA-9974-4303-8ABD-84942AC5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525F8-1C6F-4881-B383-A72E9BAD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BE33C-0B1D-4C0B-B35F-DA1997C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06664-05E9-4E65-BB7C-694E1E7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9FFFF-F9AB-426B-95C2-769788A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DE6EE-EB8C-424A-A9EC-7DAA573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E4D5-5527-4FAB-9A12-C0C37355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D2806-3248-4082-94E2-D4EA827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8BF7-5C9B-4DBE-BCAC-0ACA811C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86E9F-5B14-4452-A4C7-14E0E405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10327-B9F5-4781-8C3E-15840A7A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9AA-323C-4FDB-93AB-FB9398B3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7F545-71D0-4A25-930C-CF71877B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CC37B-F71D-43C5-AE8E-C168FB12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31239-AEE4-4109-A438-E14304DE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51327-D87B-4F80-9059-201D4BA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E29CA-079A-4919-A164-F0808B8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1CB5E-791A-4445-906C-0FC2D05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71448-17B4-4804-AC60-5BE2B1A1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9AF39-E38A-490E-B781-21B12EE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4CCE9-B220-40B9-9528-FB84B18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5BC19-F263-4066-B07D-706E61DB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5CE-6E25-4C91-B626-20A2C61C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B5161-A302-4FD6-B6A9-2BB2CD2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C15BA-532E-451B-A8F8-AD75381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D7752-5524-49BC-A226-D920FE26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5890E-222C-4BCB-AAE8-09F85A41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5A054-A4AE-408F-B2A3-A1F50FA0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FB8B6-00E8-451F-8653-39AC83D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330D1-621E-4AD2-82B0-25612C7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2D15-449A-472A-A97B-2CC8219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4913-71A3-4CC1-A5F4-F3220546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E5A3D-0988-4AC1-9338-0252EBE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178A-3BC1-42D5-B33B-3DA406EE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4F33E-CC36-4FF7-99FA-7A0AE69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88126-8710-4C08-B9AF-53B5B32A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0EBA2-4702-4C9A-B24B-00919E61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78CEA-6F52-4107-A59B-9968F85F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AA2A1-DF80-4A4C-964A-9E09116A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D95F8-C5DD-46BE-B5DD-C61812CA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2E5AC-038F-44F4-AEDC-0E8A53A7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58948-8A1B-4169-815E-2757B42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F7AEC-98AE-432D-A928-EAB12B12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B652E-83E2-41CA-B355-85B9810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7924-5253-4711-8275-F8409D01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B2CC1-1593-48C1-BA75-90204EF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64802-732F-40EC-A6C7-88BA728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AC295-5A59-4540-BA40-FC334D25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FF13F-5F57-402A-968A-BFF36692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6C187-204D-4F2A-8E14-D580837C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62D94-56DE-474A-AB39-7851C989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C25BD-CBFB-4DB7-AA1E-4089DB5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A4F8A-5DF7-482B-A75D-D08ED62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BAA9D-9B50-4222-9779-E88712DE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1562F-9558-481B-A247-537F4AEC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C2A-19B6-4EC2-AFC2-6885ED52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61907-86E9-485F-ADF1-A6E1A2B3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60216-3BC3-452E-A417-CCE7102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2BAC3-7373-4B09-A082-92307A3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84FBE-7B23-477F-BC0C-48629DE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6B40D-0C7D-4119-A492-CB31408F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B5D01-2B01-4D9A-A630-BE69324F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989FB-C506-402E-81D2-0D63F96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ACE7-C159-41FF-AC6F-759CEB8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671E-00A6-46A3-8F55-EAAA912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ABD-AC9B-4C87-9765-2F8FE2D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46E-1134-4F96-947F-900C506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39B-68FB-40A8-AFFE-DCC0FD8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85A-A139-49F4-88CF-765A7E0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004C-876C-46F5-9180-E64A9C6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CDFA-022F-4A5C-90E3-091B6A3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626-7F89-4C94-A23F-5CBAEE78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8B36-F365-4DE4-B924-586ECA26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4498-D160-4E7B-A48F-F07BD645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9FE1-B7BD-4306-9151-82355161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DCDB-2663-4D8A-985D-4DAA33B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22EC-897D-4FAB-B9DB-B3FFA03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D28F3-0AE0-481A-AA46-3F4E9BA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44A-47A6-4E6C-8453-CACEDCB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D207-10B3-48B6-A1F6-E35E366F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D0D0-2771-412F-8D5A-1DD1607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7C2C-BF46-44EB-AD6B-CBE7F19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7781-0381-403E-9DF3-50AD18D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DEF7-CDB0-4F98-AF72-8996DE1A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71AF-7C41-40E0-B9EA-F516A74A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3E58-1DB3-41D9-9614-ADED9F13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C782-4924-4D90-A660-7244A1F9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8218-59AF-48E6-9DC7-0DA4DD88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EAC1-D4A1-4E37-B615-D94B45C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A44-94B8-47F1-848D-B8496A79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74F6A-52B3-40B1-92E3-F1993C53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00F5-6016-4C13-B589-EA6E310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88C0-FD13-4091-865B-320E07F7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CD50-9A47-44D1-9141-FEC79807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0D2C-15FB-402B-A062-D8AE552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497C8-8ED1-4C63-B83D-78F1746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ECCE-6D34-4420-88F1-ECBC51A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E6BF-0539-4176-BFED-6973F504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A011-AA33-458B-A982-D555C17B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0382-0B95-4D8B-A06C-EBF028BF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573-28FA-4385-8553-DA884F4C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8D05-FB9E-457A-8DD2-CE4B1A87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699D-0F70-41CC-A19A-AF52B367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96B3-655E-46AE-8A51-14C3A54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B0E6-530F-4300-9B4D-F71885B3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E952-E59B-4315-A432-BE97BD8B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4EEF-0836-4CFD-8504-9DEC692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C5E4-6EE7-4F7F-B29F-2E3C6F8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26D2-4B27-4620-8844-62B7F6F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715F-B550-46B1-AA82-2368AC5B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66C0-E65D-4E31-99A2-720749C9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F45-6ED9-40F4-B99B-AE2D3A4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9343-BB3D-426E-B97A-1FACF036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DE08-9853-4799-9D22-F94F4E8A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F6E2-57AA-4226-9318-4C23D3D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8F9C-E547-4280-BE05-6B87EC0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89E2D-B227-4FB5-9905-2900D64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3521-3852-4B2D-8DC1-534AE896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616E-0164-4FDF-9177-D617ABBD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72CA-B113-4E19-AC3B-E06DEAE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821B-4C2C-43FB-B766-7C848A6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79E5-6419-43EE-A547-169C6B4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1DD-E55B-4640-94ED-C5D6195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3A98-A373-4915-95FC-5572F3C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952F-51D6-4278-A966-A392F306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DC31-2215-4C06-BC79-633CCF0F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CF2DB-D87A-45F6-920B-F8B4B9EB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E13F6-5EE2-4AAB-A658-27989824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E540-5365-4EDC-9918-C4F96F3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E29BD-BE1F-4E8F-BF2D-2FE28B0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F285-F034-4B40-8E7F-7609907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7FB9A-D745-424E-B9B3-F79520F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2AFD-36F8-4F87-B7A5-3ED9246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557-1604-4DFA-941B-D2EABE0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1276-F255-4C0F-8C57-5C21ADE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45513-32BC-45CE-BA93-5BBC0AC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39D3-C770-464F-828B-B7FBAF4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CBF5-72E0-4747-AA77-AF013441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E0EF-0510-4E39-BB18-848105A2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BF4FD-04C0-4163-A450-E7FAC409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F20D4-50B3-4D2F-B3D3-388E5568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FDC2-1A8C-47E3-B0BD-15F3F7B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E2E4-8AA2-40BE-B42C-03FAFB2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378A8-61BC-4CE9-A3A4-24B05562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61C-E378-4C1B-847E-18A8993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C0A3E-2D04-45FB-9BAA-CDEE580E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9739-8A52-4421-8C3C-86DD23C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479C6-B7BC-4EE1-AB71-AF6AFF5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CD164-8C86-4FE7-A5B5-AC5C472E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17A5-0DF9-4A45-B6D4-F821F7F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A8967-C085-483E-AE68-2EAD5F22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055AE-8C84-40F3-833E-C7C35CF0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34DC2-4770-4564-8AD2-6C17DE2B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C49E4-45A9-4FF7-8797-4901662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B08AE-1239-4BBA-BF20-609F78B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A64D-132F-4BC2-9586-CA7150E6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7065-9B7B-43ED-9B7F-8883937D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CB97-32C5-4032-9E1C-A23F3CC0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156-2B63-4DAA-8658-61FCE87D4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180-CC25-4C43-924B-D4B7C0CBF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25B0-2669-45D5-9231-06F32008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77C0-063E-495A-B94F-4D1EABEE5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65E-8CE3-4D72-84FA-EF05AEA6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0E3-483F-4975-B58F-EA5159089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B155-C8DA-41C7-9634-5BBAA0D2B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538-8B0A-4931-8856-15E3C6CFA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1A5-9C0A-4C5B-93C5-A59F0CA39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59C-1B3B-4FD7-8370-DC19DDBB2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片1副本"/>
          <p:cNvPicPr/>
          <p:nvPr/>
        </p:nvPicPr>
        <p:blipFill>
          <a:blip r:embed="rId1"/>
          <a:srcRect l="0" t="0" r="0" b="75072"/>
          <a:stretch/>
        </p:blipFill>
        <p:spPr>
          <a:xfrm>
            <a:off x="0" y="-11160"/>
            <a:ext cx="9144000" cy="1711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t01a5633dbfc1299d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thumb(52)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250920" y="47628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539640" y="981000"/>
            <a:ext cx="820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说课文向我们介绍了莫高窟的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2205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，作者先向我们介绍了敦煌莫高窟的（   ），然后再具体的从洞窟中的（    ）（    ）和（     ）三个方面来介绍莫高窟，最后指出：莫高窟是举世闻名的（       ），是我国古代劳动人民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67048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80540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彩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36784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壁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328680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艺术宝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5724360" y="3357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藏经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2195640" y="501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智慧的结晶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317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莫高窟保存着两千多尊彩塑。这些彩塑个性鲜明，神态各异。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慈眉善目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菩萨，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威风凛凛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天王，还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强壮勇猛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力士。有一尊卧佛长达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米，他侧身卧着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眼睛微闭，神态安详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看到这一尊尊惟妙惟肖的彩塑，游人无不啧啧赞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W020080104415317130944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48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img-mogaoku10"/>
          <p:cNvPicPr/>
          <p:nvPr/>
        </p:nvPicPr>
        <p:blipFill>
          <a:blip r:embed="rId2"/>
          <a:stretch/>
        </p:blipFill>
        <p:spPr>
          <a:xfrm>
            <a:off x="4211640" y="1557360"/>
            <a:ext cx="4321080" cy="508464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4"/>
          <p:cNvSpPr/>
          <p:nvPr/>
        </p:nvSpPr>
        <p:spPr>
          <a:xfrm>
            <a:off x="4165560" y="94608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慈眉善目的菩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W020070603557705955538"/>
          <p:cNvPicPr/>
          <p:nvPr/>
        </p:nvPicPr>
        <p:blipFill>
          <a:blip r:embed="rId1"/>
          <a:stretch/>
        </p:blipFill>
        <p:spPr>
          <a:xfrm>
            <a:off x="2268360" y="262080"/>
            <a:ext cx="6405840" cy="64069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293400" y="620640"/>
            <a:ext cx="167364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威 风 凛 凛 的 天 王</a:t>
            </a:r>
            <a:r>
              <a:rPr b="0" lang="zh-CN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W020080630564448351055"/>
          <p:cNvPicPr/>
          <p:nvPr/>
        </p:nvPicPr>
        <p:blipFill>
          <a:blip r:embed="rId1"/>
          <a:stretch/>
        </p:blipFill>
        <p:spPr>
          <a:xfrm>
            <a:off x="2484360" y="44280"/>
            <a:ext cx="663732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830880" y="1268280"/>
            <a:ext cx="7898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壮勇猛的力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卧菩萨"/>
          <p:cNvPicPr/>
          <p:nvPr/>
        </p:nvPicPr>
        <p:blipFill>
          <a:blip r:embed="rId1"/>
          <a:stretch/>
        </p:blipFill>
        <p:spPr>
          <a:xfrm>
            <a:off x="826920" y="549360"/>
            <a:ext cx="7417080" cy="29080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3"/>
          <p:cNvSpPr/>
          <p:nvPr/>
        </p:nvSpPr>
        <p:spPr>
          <a:xfrm>
            <a:off x="5315040" y="3716280"/>
            <a:ext cx="38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一尊卧佛长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他侧身卧着，眼睛微闭，神态安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卧菩萨1"/>
          <p:cNvPicPr/>
          <p:nvPr/>
        </p:nvPicPr>
        <p:blipFill>
          <a:blip r:embed="rId2"/>
          <a:stretch/>
        </p:blipFill>
        <p:spPr>
          <a:xfrm>
            <a:off x="826920" y="3500280"/>
            <a:ext cx="44434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1403280" y="148428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31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莫高窟保存着两千多尊彩塑。这些彩塑个性鲜明，神态各异。有</a:t>
            </a:r>
            <a:r>
              <a:rPr b="1" lang="zh-CN" sz="4000" spc="-1" strike="noStrike">
                <a:solidFill>
                  <a:srgbClr val="a20000"/>
                </a:solidFill>
                <a:latin typeface="宋体"/>
              </a:rPr>
              <a:t>慈眉善目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菩萨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有</a:t>
            </a:r>
            <a:r>
              <a:rPr b="1" lang="zh-CN" sz="4000" spc="-1" strike="noStrike">
                <a:solidFill>
                  <a:srgbClr val="a20000"/>
                </a:solidFill>
                <a:latin typeface="宋体"/>
              </a:rPr>
              <a:t>威风凛凛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天王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还有</a:t>
            </a:r>
            <a:r>
              <a:rPr b="1" lang="zh-CN" sz="4000" spc="-1" strike="noStrike">
                <a:solidFill>
                  <a:srgbClr val="a20000"/>
                </a:solidFill>
                <a:latin typeface="宋体"/>
              </a:rPr>
              <a:t>强壮勇猛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力士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有一尊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卧佛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长达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米，他侧身卧着，</a:t>
            </a:r>
            <a:r>
              <a:rPr b="1" lang="zh-CN" sz="4000" spc="-1" strike="noStrike">
                <a:solidFill>
                  <a:srgbClr val="a20000"/>
                </a:solidFill>
                <a:latin typeface="宋体"/>
              </a:rPr>
              <a:t>眼睛微闭，神态安详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看到这一尊尊惟妙惟肖的彩塑，游人无不啧啧赞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彩塑1"/>
          <p:cNvPicPr/>
          <p:nvPr/>
        </p:nvPicPr>
        <p:blipFill>
          <a:blip r:embed="rId1"/>
          <a:stretch/>
        </p:blipFill>
        <p:spPr>
          <a:xfrm>
            <a:off x="0" y="0"/>
            <a:ext cx="4286160" cy="4726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彩塑2"/>
          <p:cNvPicPr/>
          <p:nvPr/>
        </p:nvPicPr>
        <p:blipFill>
          <a:blip r:embed="rId2"/>
          <a:stretch/>
        </p:blipFill>
        <p:spPr>
          <a:xfrm>
            <a:off x="4140360" y="0"/>
            <a:ext cx="5079960" cy="335772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4"/>
          <p:cNvSpPr/>
          <p:nvPr/>
        </p:nvSpPr>
        <p:spPr>
          <a:xfrm>
            <a:off x="5273640" y="517680"/>
            <a:ext cx="347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8da3c9caf62b47df53664fea"/>
          <p:cNvPicPr/>
          <p:nvPr/>
        </p:nvPicPr>
        <p:blipFill>
          <a:blip r:embed="rId3"/>
          <a:stretch/>
        </p:blipFill>
        <p:spPr>
          <a:xfrm>
            <a:off x="4535640" y="2741760"/>
            <a:ext cx="4608360" cy="41162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6"/>
          <p:cNvSpPr/>
          <p:nvPr/>
        </p:nvSpPr>
        <p:spPr>
          <a:xfrm>
            <a:off x="30240" y="5010120"/>
            <a:ext cx="396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些彩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个性鲜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神态各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765000"/>
            <a:ext cx="831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莫高窟保存着两千多尊彩塑。这些彩塑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宋体"/>
              </a:rPr>
              <a:t>      ，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有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菩萨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有</a:t>
            </a:r>
            <a:r>
              <a:rPr b="1" lang="zh-CN" sz="4000" spc="-1" strike="noStrike" u="sng">
                <a:solidFill>
                  <a:srgbClr val="a20000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天王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还有</a:t>
            </a:r>
            <a:r>
              <a:rPr b="1" lang="zh-CN" sz="4000" spc="-1" strike="noStrike" u="sng">
                <a:solidFill>
                  <a:srgbClr val="a20000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力士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有一尊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卧佛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长达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米，他侧身卧着，</a:t>
            </a:r>
            <a:r>
              <a:rPr b="1" lang="zh-CN" sz="4000" spc="-1" strike="noStrike" u="sng">
                <a:solidFill>
                  <a:srgbClr val="a20000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a20000"/>
                </a:solidFill>
                <a:latin typeface="宋体"/>
              </a:rPr>
              <a:t>，</a:t>
            </a:r>
            <a:r>
              <a:rPr b="1" lang="zh-CN" sz="4000" spc="-1" strike="noStrike" u="sng">
                <a:solidFill>
                  <a:srgbClr val="a20000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看到这一尊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彩塑，游人无不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324000" y="876240"/>
            <a:ext cx="835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片段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以课间休息的场景为例，与同桌相互交流，先从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整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说下课了同学们怎么样，在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分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样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样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还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样。最后，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选择其中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玩得最开心、最有意思的场面来具体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">
            <a:hlinkClick r:id="rId1" action="ppaction://hlinksldjump"/>
          </p:cNvPr>
          <p:cNvSpPr/>
          <p:nvPr/>
        </p:nvSpPr>
        <p:spPr>
          <a:xfrm>
            <a:off x="7596360" y="6021360"/>
            <a:ext cx="431640" cy="36036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第二百五十七窟中的九色鹿本生局部图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95280" y="6237360"/>
            <a:ext cx="84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莫高窟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窟、北魏的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色鹿本生（局部）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395280" y="434880"/>
            <a:ext cx="8229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莫高窟不仅有精妙绝伦的彩塑，还有四万五千多平方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宏伟瑰丽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壁画。壁画的内容丰富多彩，有记录神佛故事的。有描绘神佛形象的，有反映民间生活的，还有描绘自然风光的。其中最引人注目的，是那成百上千的飞天。壁画上的飞天，有的臂挎花篮，采摘鲜花；有的怀抱琵琶，轻拨银弦；有的倒悬身子，自天而降；有的彩带飘拂，漫天遨游；有的舒展双臂，翩翩起舞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468360" y="1700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壁画的内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丰富多彩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有记录佛教故事的，有描绘神佛形象的，有反映民间生活的，还有描摹自然风光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bh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971640" y="18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记录佛教故事的壁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bh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7744680" y="765000"/>
            <a:ext cx="13993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绘神佛形象的壁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1692360" y="5734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反应民间生活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68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壁画06"/>
          <p:cNvPicPr/>
          <p:nvPr/>
        </p:nvPicPr>
        <p:blipFill>
          <a:blip r:embed="rId1"/>
          <a:stretch/>
        </p:blipFill>
        <p:spPr>
          <a:xfrm>
            <a:off x="1116000" y="620640"/>
            <a:ext cx="7201080" cy="49690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1403280" y="5589720"/>
            <a:ext cx="64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还有描摹自然风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中最引人注目的，是那成百上千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飞天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壁画上的飞天，有的臂挎花篮，采摘鲜花；有的怀抱琵琶，轻拨银弦；有的倒悬身子，自天而降；有的彩带飘拂，漫天遨游；有的舒展双臂，翩翩起舞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%E6%95%A6%E7%85%8C%E8%8F%A9%E8%90%A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900000" y="2924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百上千的飞天壁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16_167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684360" y="587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臂挎花篮，采摘鲜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s_2006822795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5792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"/>
          <p:cNvSpPr/>
          <p:nvPr/>
        </p:nvSpPr>
        <p:spPr>
          <a:xfrm>
            <a:off x="468360" y="587700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抱琵琶，轻拨银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t01a7b949a1645fc182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395280" y="6165720"/>
            <a:ext cx="84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莫高窟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窟、北魏的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色鹿本生（局部）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s_200682279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198000" y="549360"/>
            <a:ext cx="729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的倒悬身子，自天而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ft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181800" y="333360"/>
            <a:ext cx="7898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彩带飘拂，漫天遨游的壁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222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1045440" y="0"/>
            <a:ext cx="789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舒展双臂，翩翩起舞的壁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252360" y="234504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莫高窟是可以傲视异邦的地方，就在于它是一千多年的层层累聚。我们，是飞天的后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秋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4140360" y="54936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藏经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110920" y="1962000"/>
            <a:ext cx="101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经卷、文书、帛画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刺绣铜像等六万多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1763640" y="1739880"/>
            <a:ext cx="60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洞内曾经有些什么？你感觉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一个“曾”字，让你有何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r06"/>
          <p:cNvPicPr/>
          <p:nvPr/>
        </p:nvPicPr>
        <p:blipFill>
          <a:blip r:embed="rId1"/>
          <a:stretch/>
        </p:blipFill>
        <p:spPr>
          <a:xfrm>
            <a:off x="7164360" y="371628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826920" y="620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朝光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），一个道士发现了藏经洞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0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英国的斯坦因两次掠走文物一万多件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法国人伯希和掠走约五千件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剩余文物中大部分被运到北京收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50920" y="400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俄国人奥登堡又从敦煌拿走一批经卷写本，还盗走了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窟的壁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79280" y="1125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英国人斯坦因两次掠走文书、文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250920" y="2060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法国人伯希廉价骗购藏经洞遗物精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324000" y="4941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美国人华尔纳用特制的化学胶液，粘揭盗走莫高窟壁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179280" y="299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日本人吉川小一郎等用低价换取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手写本和精美彩塑两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1187280" y="544500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8"/>
          <p:cNvSpPr txBox="1"/>
          <p:nvPr/>
        </p:nvSpPr>
        <p:spPr>
          <a:xfrm>
            <a:off x="468360" y="549360"/>
            <a:ext cx="18288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沧桑岁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20121101034255725"/>
          <p:cNvPicPr/>
          <p:nvPr/>
        </p:nvPicPr>
        <p:blipFill>
          <a:blip r:embed="rId1"/>
          <a:srcRect l="0" t="0" r="0" b="12224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11726451"/>
          <p:cNvPicPr/>
          <p:nvPr/>
        </p:nvPicPr>
        <p:blipFill>
          <a:blip r:embed="rId1"/>
          <a:srcRect l="0" t="0" r="0" b="11112"/>
          <a:stretch/>
        </p:blipFill>
        <p:spPr>
          <a:xfrm>
            <a:off x="4500720" y="0"/>
            <a:ext cx="4643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t013c10d76a1da30500"/>
          <p:cNvPicPr/>
          <p:nvPr/>
        </p:nvPicPr>
        <p:blipFill>
          <a:blip r:embed="rId1"/>
          <a:srcRect l="0" t="0" r="0" b="11116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763640" y="1052640"/>
            <a:ext cx="61200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煌  尊  录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b80000"/>
                </a:solidFill>
                <a:latin typeface="宋体"/>
              </a:rPr>
              <a:t>弦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绣  腐  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2126160" y="249120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xiá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2624760" y="3860640"/>
            <a:ext cx="592200" cy="2069640"/>
            <a:chOff x="2624760" y="3860640"/>
            <a:chExt cx="592200" cy="2069640"/>
          </a:xfrm>
        </p:grpSpPr>
        <p:sp>
          <p:nvSpPr>
            <p:cNvPr id="551" name="Line 5"/>
            <p:cNvSpPr/>
            <p:nvPr/>
          </p:nvSpPr>
          <p:spPr>
            <a:xfrm>
              <a:off x="2916360" y="38606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6"/>
            <p:cNvSpPr/>
            <p:nvPr/>
          </p:nvSpPr>
          <p:spPr>
            <a:xfrm>
              <a:off x="2624760" y="501336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b80000"/>
                  </a:solidFill>
                  <a:latin typeface="宋体"/>
                </a:rPr>
                <a:t>舷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539640" y="765000"/>
            <a:ext cx="842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断崖绝壁  神态各异  慈眉善目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威风凛凛  宏伟瑰丽  艺术殿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惟妙惟</a:t>
            </a:r>
            <a:r>
              <a:rPr b="1" lang="zh-CN" sz="4000" spc="-1" strike="noStrike">
                <a:solidFill>
                  <a:srgbClr val="b80000"/>
                </a:solidFill>
                <a:latin typeface="黑体"/>
                <a:ea typeface="黑体"/>
              </a:rPr>
              <a:t>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啧啧赞叹  精妙绝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漫天遨游  翩翩起舞  灿烂辉煌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1638360" y="1915200"/>
            <a:ext cx="11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lǐnlǐn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186080" y="19152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gu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2051280" y="26359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xià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250920" y="47628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981000"/>
            <a:ext cx="820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说课文向我们介绍了莫高窟的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24000" y="2205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，作者先向我们介绍了敦煌莫高窟的（   ），然后再具体的从洞窟中的（    ）（    ）和（     ）三个方面来介绍莫高窟，最后指出：莫高窟是举世闻名的（       ），是我国古代劳动人民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Song Yujiao</cp:lastModifiedBy>
  <dcterms:modified xsi:type="dcterms:W3CDTF">2016-04-25T08:43:1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