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9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7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9.jpeg" ContentType="image/jpeg"/>
  <Override PartName="/ppt/media/image30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6.jpeg" ContentType="image/jpeg"/>
  <Override PartName="/ppt/media/image18.png" ContentType="image/png"/>
  <Override PartName="/ppt/media/image21.wmf" ContentType="image/x-wmf"/>
  <Override PartName="/ppt/media/image11.jpeg" ContentType="image/jpeg"/>
  <Override PartName="/ppt/media/image24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E2E-8985-49B8-A4C2-CF51875B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14B-F995-4B17-8AE4-F90D84FE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5E47D-837B-427E-8538-432F7DFA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AB8E8-BC18-470F-BD1F-A7CCB49D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3E96D-417A-495C-9397-3F4CB248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AF009-4362-4CFF-878F-CF461D04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9D596-291A-4F04-82EB-B304C0EC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15853-D73B-4EDA-A074-6FC60F62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43CED-18F5-464F-A6CD-7BE8DB05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8B3BC-EE34-4943-82BE-DC59A04D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BE390-87D1-4C9F-A06A-007164C5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09379-1A40-4026-9C77-1FE6C272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23D-A03A-4D70-8B20-B244060B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456D6-D89C-47BF-8761-54BDB488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11004-C4E7-47B4-9960-9EE113AF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74910-6A76-4D06-B472-55A6F1E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8A62E-9C70-4219-8088-83C60E63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712A2-080A-4DC7-A68E-8E3A7D55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D4897-DAFC-4CCD-A7B5-298FABCC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D263A-6648-4103-8BEF-26DFC467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9C3BD-8557-4886-9F77-9C648BBE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DC4B1-B9C9-4B02-BCD2-778D689A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F2932-A818-41A2-9C4E-1A81502C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17C-1B2C-411C-995F-0C9C9E8A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49D87-4CF4-4273-9474-430246493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2F2E3-9A86-4E12-94D2-FC051976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C5895-8982-4A25-901B-98702E37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712F9-D4FF-4729-BAE9-95A33F0B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691DD-B656-4CB4-BA2E-EFC6AA53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58C7E-7318-4865-A301-270AC776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0EC75-1C57-482C-B378-FD303B36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2D6C1-31A0-46A2-93EB-3EB28564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4EE37-8EF5-4395-93CA-A6EE86AC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34B4A-A42B-40BE-A04B-FCDBAD1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20AE-C06B-49B0-87BE-B8F87DE9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88994-FB1F-4E83-B748-B569F143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DFF16-F16A-4431-8E6A-856F496F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07CBC-A7DB-4947-8980-C44AD1E8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81FFD-9B16-47DF-B3BE-B78A40AD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ECBB5-17F3-450C-984A-0CBF55D4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654A9-0269-4301-B99F-2E1C10D7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20469-E45B-405D-B110-D08C03BE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4576E-49BD-4410-BF1C-1BCC1389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B3B7F7-6D86-4340-8128-294C37EE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62639-A6BE-49C6-A575-6CE2CDD0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BB5D-AF9D-43B9-9564-0DD07FBC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44112-5319-4039-BE94-D5B2478E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767F6-8C90-4666-9874-E765B0D1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F6F61-7081-4EE1-8125-85B9F8B3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84B6F-326F-49E1-99C6-4EF862D9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0B9C0-3905-4096-BFE7-9358C193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7678-89C1-4CB8-B817-75D0DB6F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F6A9-2E57-422D-97BC-2069A77B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71AC-80D3-4949-853A-4F3F29D3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64DD-B0B3-4DB3-ADC7-0E0828EA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D8FA-CE5A-4BB1-A803-7130AAA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6C4-5660-4027-9A3E-CD3BC85C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3074-9B93-453D-9E94-4D5BF7E7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31A9-C9DF-4418-BB9F-478724E8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240D-FF32-4D0A-9F3E-56F46733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4EF4-2234-4CD7-8A08-18F012D9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3000-1A1D-44D9-9CC7-58216E53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C4C4C-9892-484B-B374-7BCAA4EC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22056-CB64-4270-B15A-FB7E3C70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24C4E-35B9-48EC-8387-1C10C26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6005-447E-4037-9989-B313F39D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656EF-47EF-4252-8E21-5B890289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EC9-9CA6-48F6-B930-1FBC181E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FB165-E414-44DC-822B-D623E4BD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EDF0E-22C5-4AD6-95E9-66371304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E0EF-59A6-4804-88F7-F422AF33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5250-CAF4-45CD-B4C3-42EB2DB6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756A3-F614-40A5-A0EF-B06E999A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B54C-3FCC-4A60-B586-7F485D5A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D24A-6E86-4263-B4B2-2A489DD0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203A1-2BB9-4C8D-A01E-C3E6BAAC3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50127-2087-4EC2-A114-18B2E51A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F6B6C-D3CF-4CAD-9C24-58A999F4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CC6-6F6D-4591-89EF-3C8641E6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A676B-00E3-482D-9410-20334826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5A78A-D042-49C9-B6E8-BE837392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A796-63CC-4C01-ACEE-72F5C45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9C7C-D272-4BC6-83BA-6AF58CFC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35350-7526-44CB-9B74-BEFBD7B8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781DD-9DF8-416A-89B4-CFC746A8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36452-D75F-48F5-B8CB-F02D2C27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63E2B-1DB4-4E7D-BE36-4E4A6221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B3AEF-CA9B-414A-91DF-3F0A8912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7D74-8980-42EB-95CF-CD77F922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3F7-2D1C-4267-93BE-44570A66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3745B-971F-4E9D-B140-020B3DE6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31985-4EE5-4ACF-A285-B38179AE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82B02-CAF3-444A-A440-23535A4E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D922D-2389-448A-B830-2414B71F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9B938-0276-4C1D-ABA3-CA535823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B18EC-0EE1-450B-A0EB-4BA8F008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911E5-2AA0-4EFF-9843-B393D87F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C087-1933-4C07-A5A1-B48ADFD0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11DAB-4642-4A2A-8284-DC9983C4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D1901-C525-4632-9F0F-6F9D3020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A5A-3887-47C4-B2DD-8E89A93B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D5050-234B-4420-BE0E-46E26A2C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464CE-8205-48F1-8D4D-C7F2A0C4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BFAE0-99D4-47E5-A04E-F53E0580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99884-D727-4DED-A1EA-912DDE2E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BFC90-F085-47CA-80CF-C862AC67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AEC6E-3F64-4777-A05B-44E509C9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33792-9220-4446-B7BC-CD5E2CDE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0A3D7-B141-43D6-A169-8810AB7D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E9A3E-A8EC-459C-8873-F5461BBA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F655D-5304-4A4E-8C28-88A6197D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80B-9BB6-4593-970B-CA122341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7C2E9-4FB4-4186-B59F-A62B4241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18958-5D5C-4CE4-A667-960E529A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480A3-4A9B-4D6C-B160-498E5FDD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EE210-F424-490D-96AC-94B2B192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3304-8DD0-4567-8218-1B57A785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995FC-DF74-4284-8101-F3A5FB3E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12FA7-CD13-4521-8574-F7F875A3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A40A5-AAA5-4CD0-BC08-E8700760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62C6B-9DB4-419C-9E67-055042F0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76EDB-CA3E-4AE2-9888-1F70A5D4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2638-2A46-427C-BF96-F98E1F9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CBD26-74FE-4184-936E-0C697820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ACF05-AC3F-4C7A-B473-A9550AE3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E28EA-A826-451E-8578-BEBB7CF4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9B895-AFF2-4F7F-9A37-BE361331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33AEE-49AD-4E67-9DE9-CEDF8ED6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4A075-884B-4BCA-BCEF-41EA45E7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315B3-7489-47F3-A337-79BAB812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0B57D-62E9-42EF-BE54-864993BB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F104-2970-4DD0-8635-93BF6EFF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2848B-874F-46C3-BE15-988DCD16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D59-0E2D-4CAB-BFD8-5411D285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AA6C1-695C-4E56-9E11-6E9D99C0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04E93-43E1-4297-A643-C361A4DA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B19F3-6792-4F5F-99AA-F44F9CCD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F5DFF-B814-4FA4-BED6-AAE64FEA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3E37C-5EF8-4FA9-8020-8D71F13D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B0A47-1CCC-4281-B16D-28849482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10B02-B2F1-4FB6-8B75-39A1BCE9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79194-10E7-488F-A312-2A99894A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A0730-88FC-4070-8800-1D23DDA9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1546F-D4EF-4258-8903-F4AC25DB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9FB6-3C1A-4865-B79C-EBD586AC5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53AB-02EB-4CE2-871E-AF682E24A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120E-190B-4A56-B089-A3177D59E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2C92-6A8F-405B-89FC-01AB2BEBB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B182-AD4F-4FE3-9AA9-94ED7FA55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76BC-E236-4F78-AC49-569E89651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ED11-E940-405A-AA7A-A06B392FA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ECD3-EAD6-4BF7-A499-E1DF1864E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AD37-DE3C-4163-9F0F-34A08696E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2913-36FA-4FCD-BD35-3C9C82F90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71E1-753F-43B9-965F-BED49644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DE87-397E-4D64-AF86-1ED837742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1" descr="00080287d09808ed4d864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3" name="TextBox 3"/>
          <p:cNvSpPr/>
          <p:nvPr/>
        </p:nvSpPr>
        <p:spPr>
          <a:xfrm>
            <a:off x="3059280" y="620640"/>
            <a:ext cx="42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三峡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7"/>
          <p:cNvSpPr/>
          <p:nvPr/>
        </p:nvSpPr>
        <p:spPr>
          <a:xfrm>
            <a:off x="6858000" y="5000760"/>
            <a:ext cx="133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21106398420050921151006"/>
          <p:cNvPicPr/>
          <p:nvPr/>
        </p:nvPicPr>
        <p:blipFill>
          <a:blip r:embed="rId1"/>
          <a:stretch/>
        </p:blipFill>
        <p:spPr>
          <a:xfrm>
            <a:off x="0" y="46080"/>
            <a:ext cx="9804240" cy="6811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395280" y="1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夕阳下照耀下的美丽三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7" descr="49823888220060917115254_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5"/>
          <p:cNvSpPr/>
          <p:nvPr/>
        </p:nvSpPr>
        <p:spPr>
          <a:xfrm>
            <a:off x="755640" y="549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晚霞映照下的三峡，映红了三峡的山与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2" descr="2007062009315665644.jpg"/>
          <p:cNvPicPr/>
          <p:nvPr/>
        </p:nvPicPr>
        <p:blipFill>
          <a:blip r:embed="rId1"/>
          <a:srcRect l="0" t="0" r="0" b="5559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5"/>
          <p:cNvSpPr/>
          <p:nvPr/>
        </p:nvSpPr>
        <p:spPr>
          <a:xfrm>
            <a:off x="611280" y="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青山林立，碧水蓝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图片 1" descr="07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TextBox 2"/>
          <p:cNvSpPr/>
          <p:nvPr/>
        </p:nvSpPr>
        <p:spPr>
          <a:xfrm>
            <a:off x="0" y="21420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就是美丽的长江三峡，它是长江中重庆到宜昌之间的一段，全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公里，包括瞿塘峡、巫峡、西陵峡这三段峡谷，所以称之为三峡。三峡两岸青山叠翠，风光秀丽，峡谷中白浪滚滚，波涛汹涌，它像一幅迷人的山水画卷，点缀着祖国的大好河山，深深吸引着古今中外的人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2571840" y="214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25  </a:t>
            </a:r>
            <a:r>
              <a:rPr b="1" lang="zh-CN" sz="40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"/>
          <p:cNvSpPr/>
          <p:nvPr/>
        </p:nvSpPr>
        <p:spPr>
          <a:xfrm>
            <a:off x="1857240" y="907920"/>
            <a:ext cx="27147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第一小节</a:t>
            </a:r>
            <a:r>
              <a:rPr b="1" lang="en-US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故乡的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故乡的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从小爱在云里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口吹叶笛赶羊群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从小爱在雨里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手挥竹篙驾船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1928880" y="4572000"/>
            <a:ext cx="2714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二小节</a:t>
            </a:r>
            <a:r>
              <a:rPr b="1" lang="en-US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24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雨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云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细如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柔如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牵动儿女</a:t>
            </a: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思乡情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5429160" y="1062000"/>
            <a:ext cx="3175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三小节</a:t>
            </a:r>
            <a:r>
              <a:rPr b="1" lang="en-US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如</a:t>
            </a:r>
            <a:r>
              <a:rPr b="1" lang="zh-CN" sz="2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梦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的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如</a:t>
            </a:r>
            <a:r>
              <a:rPr b="1" lang="zh-CN" sz="2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痴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的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几时再登巫山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唱支山歌唤羊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几时再登夔峡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喊一声号子驾船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5429160" y="4419720"/>
            <a:ext cx="2714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第四小节</a:t>
            </a:r>
            <a:r>
              <a:rPr b="1" lang="en-US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24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雨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云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洁如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白如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恰似儿女</a:t>
            </a: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思乡情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Box 1"/>
          <p:cNvSpPr/>
          <p:nvPr/>
        </p:nvSpPr>
        <p:spPr>
          <a:xfrm>
            <a:off x="857160" y="15001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雨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2"/>
          <p:cNvSpPr/>
          <p:nvPr/>
        </p:nvSpPr>
        <p:spPr>
          <a:xfrm>
            <a:off x="714240" y="2571840"/>
            <a:ext cx="121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</a:rPr>
              <a:t>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6"/>
          <p:cNvSpPr/>
          <p:nvPr/>
        </p:nvSpPr>
        <p:spPr>
          <a:xfrm>
            <a:off x="2357280" y="1643040"/>
            <a:ext cx="6072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b050"/>
                </a:solidFill>
                <a:latin typeface="Arial"/>
              </a:rPr>
              <a:t>丝       玉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7"/>
          <p:cNvSpPr/>
          <p:nvPr/>
        </p:nvSpPr>
        <p:spPr>
          <a:xfrm>
            <a:off x="2357280" y="264312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b050"/>
                </a:solidFill>
                <a:latin typeface="Arial"/>
              </a:rPr>
              <a:t>锦       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8"/>
          <p:cNvSpPr/>
          <p:nvPr/>
        </p:nvSpPr>
        <p:spPr>
          <a:xfrm>
            <a:off x="3429000" y="185724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（形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9"/>
          <p:cNvSpPr/>
          <p:nvPr/>
        </p:nvSpPr>
        <p:spPr>
          <a:xfrm>
            <a:off x="6143760" y="18572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质地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10"/>
          <p:cNvSpPr/>
          <p:nvPr/>
        </p:nvSpPr>
        <p:spPr>
          <a:xfrm>
            <a:off x="3429000" y="278604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质地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11"/>
          <p:cNvSpPr/>
          <p:nvPr/>
        </p:nvSpPr>
        <p:spPr>
          <a:xfrm>
            <a:off x="5857920" y="2786040"/>
            <a:ext cx="1571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yan</a:t>
            </a:r>
            <a:r>
              <a:rPr b="0" lang="zh-CN" sz="3200" spc="-1" strike="noStrike">
                <a:solidFill>
                  <a:srgbClr val="0070c0"/>
                </a:solidFill>
                <a:latin typeface="Arial"/>
              </a:rPr>
              <a:t>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7" descr="C:\Users\lkp\AppData\Local\Microsoft\Windows\Temporary Internet Files\Content.IE5\PEGDY26Y\MCj04378260000[1].png"/>
          <p:cNvPicPr/>
          <p:nvPr/>
        </p:nvPicPr>
        <p:blipFill>
          <a:blip r:embed="rId1"/>
          <a:stretch/>
        </p:blipFill>
        <p:spPr>
          <a:xfrm>
            <a:off x="6500880" y="5143680"/>
            <a:ext cx="2643120" cy="17143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9" descr="C:\Users\lkp\AppData\Local\Microsoft\Windows\Temporary Internet Files\Content.IE5\H3HGZW5F\MCj04378250000[1].png"/>
          <p:cNvPicPr/>
          <p:nvPr/>
        </p:nvPicPr>
        <p:blipFill>
          <a:blip r:embed="rId2"/>
          <a:stretch/>
        </p:blipFill>
        <p:spPr>
          <a:xfrm>
            <a:off x="5429160" y="6000840"/>
            <a:ext cx="1171800" cy="8571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lkp\AppData\Local\Microsoft\Windows\Temporary Internet Files\Content.IE5\H3HGZW5F\MCj04378250000[1].png"/>
          <p:cNvPicPr/>
          <p:nvPr/>
        </p:nvPicPr>
        <p:blipFill>
          <a:blip r:embed="rId3"/>
          <a:stretch/>
        </p:blipFill>
        <p:spPr>
          <a:xfrm>
            <a:off x="4357800" y="5500800"/>
            <a:ext cx="928440" cy="714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C:\Users\lkp\AppData\Local\Microsoft\Windows\Temporary Internet Files\Content.IE5\H3HGZW5F\MCj04378250000[1].png"/>
          <p:cNvPicPr/>
          <p:nvPr/>
        </p:nvPicPr>
        <p:blipFill>
          <a:blip r:embed="rId4"/>
          <a:stretch/>
        </p:blipFill>
        <p:spPr>
          <a:xfrm>
            <a:off x="2214720" y="5643720"/>
            <a:ext cx="2000160" cy="1000080"/>
          </a:xfrm>
          <a:prstGeom prst="rect">
            <a:avLst/>
          </a:prstGeom>
          <a:ln w="0">
            <a:noFill/>
          </a:ln>
        </p:spPr>
      </p:pic>
      <p:sp>
        <p:nvSpPr>
          <p:cNvPr id="540" name="TextBox 18"/>
          <p:cNvSpPr/>
          <p:nvPr/>
        </p:nvSpPr>
        <p:spPr>
          <a:xfrm>
            <a:off x="1071720" y="43578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Arial"/>
              </a:rPr>
              <a:t>我们写景物时也可以从不同方面把景物写得很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Box 1"/>
          <p:cNvSpPr/>
          <p:nvPr/>
        </p:nvSpPr>
        <p:spPr>
          <a:xfrm>
            <a:off x="2571840" y="214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25  </a:t>
            </a:r>
            <a:r>
              <a:rPr b="1" lang="zh-CN" sz="40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2"/>
          <p:cNvSpPr/>
          <p:nvPr/>
        </p:nvSpPr>
        <p:spPr>
          <a:xfrm>
            <a:off x="1857240" y="907920"/>
            <a:ext cx="271476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第一小节</a:t>
            </a:r>
            <a:r>
              <a:rPr b="1" lang="en-US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故乡的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故乡的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从小爱在云里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口吹叶笛赶羊群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从小爱在雨里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手挥竹篙驾船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3"/>
          <p:cNvSpPr/>
          <p:nvPr/>
        </p:nvSpPr>
        <p:spPr>
          <a:xfrm>
            <a:off x="1928880" y="4572000"/>
            <a:ext cx="27144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二小节</a:t>
            </a:r>
            <a:r>
              <a:rPr b="1" lang="en-US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24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雨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云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细如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柔如锦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牵动儿女</a:t>
            </a: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思乡情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4"/>
          <p:cNvSpPr/>
          <p:nvPr/>
        </p:nvSpPr>
        <p:spPr>
          <a:xfrm>
            <a:off x="5429160" y="1062000"/>
            <a:ext cx="31752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三小节</a:t>
            </a:r>
            <a:r>
              <a:rPr b="1" lang="en-US" sz="16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如</a:t>
            </a:r>
            <a:r>
              <a:rPr b="1" lang="zh-CN" sz="2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梦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的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如</a:t>
            </a:r>
            <a:r>
              <a:rPr b="1" lang="zh-CN" sz="24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痴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的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几时再登巫山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唱支山歌唤羊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几时再登夔峡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喊一声号子驾船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5"/>
          <p:cNvSpPr/>
          <p:nvPr/>
        </p:nvSpPr>
        <p:spPr>
          <a:xfrm>
            <a:off x="5429160" y="4419720"/>
            <a:ext cx="27147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(</a:t>
            </a:r>
            <a:r>
              <a:rPr b="1" lang="zh-CN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第四小节</a:t>
            </a:r>
            <a:r>
              <a:rPr b="1" lang="en-US" sz="1600" spc="-1" strike="noStrike">
                <a:solidFill>
                  <a:srgbClr val="00ccff"/>
                </a:solidFill>
                <a:latin typeface="楷体_GB2312"/>
                <a:ea typeface="楷体_GB2312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24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雨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三峡</a:t>
            </a: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云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洁如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白如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恰似儿女</a:t>
            </a: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思乡情</a:t>
            </a:r>
            <a:r>
              <a:rPr b="1" lang="zh-CN" sz="2400" spc="-1" strike="noStrike">
                <a:solidFill>
                  <a:srgbClr val="828282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6"/>
          <p:cNvSpPr/>
          <p:nvPr/>
        </p:nvSpPr>
        <p:spPr>
          <a:xfrm>
            <a:off x="1763640" y="692280"/>
            <a:ext cx="576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214200" y="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这就是气势雄伟的三峡大坝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它是世界上规模最大的</a:t>
            </a:r>
            <a:r>
              <a:rPr b="1" lang="zh-CN" sz="3200" spc="-1" strike="noStrike">
                <a:solidFill>
                  <a:srgbClr val="243a2a"/>
                </a:solidFill>
                <a:latin typeface="Arial"/>
              </a:rPr>
              <a:t>混凝土重力坝</a:t>
            </a:r>
            <a:r>
              <a:rPr b="1" lang="en-US" sz="3200" spc="-1" strike="noStrike">
                <a:solidFill>
                  <a:srgbClr val="f8126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是指用混凝土浇筑，依靠坝体自重来抵抗上游水压力及其外荷载并保持稳定的坝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全长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2309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米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海拔高度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185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米。位于湖北宜昌的三斗坪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是迄今世界上综合效益最大水利枢纽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其防洪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航运效益和发电量均居世界第一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Box 6"/>
          <p:cNvSpPr/>
          <p:nvPr/>
        </p:nvSpPr>
        <p:spPr>
          <a:xfrm>
            <a:off x="785880" y="278604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三峡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三峡云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细如丝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柔如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牵动儿女思乡情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三峡雨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三峡云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洁如玉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白如银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恰似儿女思乡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"/>
          <p:cNvSpPr/>
          <p:nvPr/>
        </p:nvSpPr>
        <p:spPr>
          <a:xfrm>
            <a:off x="2357280" y="400068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F:\word\MEDIA\CAGCAT10\j0293828.wmf"/>
          <p:cNvPicPr/>
          <p:nvPr/>
        </p:nvPicPr>
        <p:blipFill>
          <a:blip r:embed="rId1"/>
          <a:stretch/>
        </p:blipFill>
        <p:spPr>
          <a:xfrm>
            <a:off x="2571840" y="21420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F:\word\MEDIA\CAGCAT10\j0293828.wmf"/>
          <p:cNvPicPr/>
          <p:nvPr/>
        </p:nvPicPr>
        <p:blipFill>
          <a:blip r:embed="rId2"/>
          <a:stretch/>
        </p:blipFill>
        <p:spPr>
          <a:xfrm>
            <a:off x="7072200" y="21420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F:\word\MEDIA\CAGCAT10\j0293828.wmf"/>
          <p:cNvPicPr/>
          <p:nvPr/>
        </p:nvPicPr>
        <p:blipFill>
          <a:blip r:embed="rId3"/>
          <a:stretch/>
        </p:blipFill>
        <p:spPr>
          <a:xfrm>
            <a:off x="4643280" y="214200"/>
            <a:ext cx="1744920" cy="10717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C:\Users\lkp\AppData\Local\Microsoft\Windows\Temporary Internet Files\Content.IE5\PEGDY26Y\MCj04378260000[1].png"/>
          <p:cNvPicPr/>
          <p:nvPr/>
        </p:nvPicPr>
        <p:blipFill>
          <a:blip r:embed="rId4"/>
          <a:stretch/>
        </p:blipFill>
        <p:spPr>
          <a:xfrm>
            <a:off x="6500880" y="5143680"/>
            <a:ext cx="2643120" cy="1714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C:\Users\lkp\AppData\Local\Microsoft\Windows\Temporary Internet Files\Content.IE5\H3HGZW5F\MCj04378250000[1].png"/>
          <p:cNvPicPr/>
          <p:nvPr/>
        </p:nvPicPr>
        <p:blipFill>
          <a:blip r:embed="rId5"/>
          <a:stretch/>
        </p:blipFill>
        <p:spPr>
          <a:xfrm>
            <a:off x="5429160" y="6000840"/>
            <a:ext cx="1171800" cy="8571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9" descr="C:\Users\lkp\AppData\Local\Microsoft\Windows\Temporary Internet Files\Content.IE5\H3HGZW5F\MCj04378250000[1].png"/>
          <p:cNvPicPr/>
          <p:nvPr/>
        </p:nvPicPr>
        <p:blipFill>
          <a:blip r:embed="rId6"/>
          <a:stretch/>
        </p:blipFill>
        <p:spPr>
          <a:xfrm>
            <a:off x="4357800" y="5500800"/>
            <a:ext cx="928440" cy="7142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9" descr="C:\Users\lkp\AppData\Local\Microsoft\Windows\Temporary Internet Files\Content.IE5\H3HGZW5F\MCj04378250000[1].png"/>
          <p:cNvPicPr/>
          <p:nvPr/>
        </p:nvPicPr>
        <p:blipFill>
          <a:blip r:embed="rId7"/>
          <a:stretch/>
        </p:blipFill>
        <p:spPr>
          <a:xfrm>
            <a:off x="2214720" y="5643720"/>
            <a:ext cx="200016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图片 2" descr="f2a73722b8f41855935807d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558" name="矩形 2" descr=""/>
          <p:cNvPicPr/>
          <p:nvPr/>
        </p:nvPicPr>
        <p:blipFill>
          <a:blip r:embed="rId2"/>
          <a:stretch/>
        </p:blipFill>
        <p:spPr>
          <a:xfrm>
            <a:off x="1847880" y="-317520"/>
            <a:ext cx="9039240" cy="59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1" descr="660831_377997_c210243420_o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000920"/>
          </a:xfrm>
          <a:prstGeom prst="rect">
            <a:avLst/>
          </a:prstGeom>
          <a:ln w="0">
            <a:noFill/>
          </a:ln>
        </p:spPr>
      </p:pic>
      <p:pic>
        <p:nvPicPr>
          <p:cNvPr id="496" name="矩形 2" descr=""/>
          <p:cNvPicPr/>
          <p:nvPr/>
        </p:nvPicPr>
        <p:blipFill>
          <a:blip r:embed="rId2"/>
          <a:stretch/>
        </p:blipFill>
        <p:spPr>
          <a:xfrm>
            <a:off x="1852560" y="1122480"/>
            <a:ext cx="5108760" cy="1376280"/>
          </a:xfrm>
          <a:prstGeom prst="rect">
            <a:avLst/>
          </a:prstGeom>
          <a:ln w="0">
            <a:noFill/>
          </a:ln>
        </p:spPr>
      </p:pic>
      <p:pic>
        <p:nvPicPr>
          <p:cNvPr id="497" name="矩形 3" descr=""/>
          <p:cNvPicPr/>
          <p:nvPr/>
        </p:nvPicPr>
        <p:blipFill>
          <a:blip r:embed="rId3"/>
          <a:stretch/>
        </p:blipFill>
        <p:spPr>
          <a:xfrm>
            <a:off x="480960" y="-23760"/>
            <a:ext cx="1981080" cy="7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6"/>
          <p:cNvSpPr/>
          <p:nvPr/>
        </p:nvSpPr>
        <p:spPr>
          <a:xfrm>
            <a:off x="785880" y="1500120"/>
            <a:ext cx="6912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品读感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露从今夜白，月是故乡明”。这是一首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抒发思乡情感的诗歌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。通过描写如丝如玉的三峡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雨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和如锦如银的三峡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云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揭示了</a:t>
            </a:r>
            <a:r>
              <a:rPr b="0" lang="zh-CN" sz="3200" spc="-1" strike="noStrike">
                <a:solidFill>
                  <a:srgbClr val="c00000"/>
                </a:solidFill>
                <a:latin typeface="Arial"/>
              </a:rPr>
              <a:t>作者热爱家乡、思念家乡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个人们永远吟唱的永恒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F:\word\MEDIA\CAGCAT10\j0293828.wmf"/>
          <p:cNvPicPr/>
          <p:nvPr/>
        </p:nvPicPr>
        <p:blipFill>
          <a:blip r:embed="rId1"/>
          <a:stretch/>
        </p:blipFill>
        <p:spPr>
          <a:xfrm>
            <a:off x="2571840" y="21420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F:\word\MEDIA\CAGCAT10\j0293828.wmf"/>
          <p:cNvPicPr/>
          <p:nvPr/>
        </p:nvPicPr>
        <p:blipFill>
          <a:blip r:embed="rId2"/>
          <a:stretch/>
        </p:blipFill>
        <p:spPr>
          <a:xfrm>
            <a:off x="7072200" y="21420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F:\word\MEDIA\CAGCAT10\j0293828.wmf"/>
          <p:cNvPicPr/>
          <p:nvPr/>
        </p:nvPicPr>
        <p:blipFill>
          <a:blip r:embed="rId3"/>
          <a:stretch/>
        </p:blipFill>
        <p:spPr>
          <a:xfrm>
            <a:off x="4643280" y="214200"/>
            <a:ext cx="1744920" cy="10717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7" descr="C:\Users\lkp\AppData\Local\Microsoft\Windows\Temporary Internet Files\Content.IE5\PEGDY26Y\MCj04378260000[1].png"/>
          <p:cNvPicPr/>
          <p:nvPr/>
        </p:nvPicPr>
        <p:blipFill>
          <a:blip r:embed="rId4"/>
          <a:stretch/>
        </p:blipFill>
        <p:spPr>
          <a:xfrm>
            <a:off x="6500880" y="5143680"/>
            <a:ext cx="2643120" cy="17143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9" descr="C:\Users\lkp\AppData\Local\Microsoft\Windows\Temporary Internet Files\Content.IE5\H3HGZW5F\MCj04378250000[1].png"/>
          <p:cNvPicPr/>
          <p:nvPr/>
        </p:nvPicPr>
        <p:blipFill>
          <a:blip r:embed="rId5"/>
          <a:stretch/>
        </p:blipFill>
        <p:spPr>
          <a:xfrm>
            <a:off x="5429160" y="6000840"/>
            <a:ext cx="1171800" cy="8571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C:\Users\lkp\AppData\Local\Microsoft\Windows\Temporary Internet Files\Content.IE5\H3HGZW5F\MCj04378250000[1].png"/>
          <p:cNvPicPr/>
          <p:nvPr/>
        </p:nvPicPr>
        <p:blipFill>
          <a:blip r:embed="rId6"/>
          <a:stretch/>
        </p:blipFill>
        <p:spPr>
          <a:xfrm>
            <a:off x="4357800" y="5500800"/>
            <a:ext cx="928440" cy="7142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9" descr="C:\Users\lkp\AppData\Local\Microsoft\Windows\Temporary Internet Files\Content.IE5\H3HGZW5F\MCj04378250000[1].png"/>
          <p:cNvPicPr/>
          <p:nvPr/>
        </p:nvPicPr>
        <p:blipFill>
          <a:blip r:embed="rId7"/>
          <a:stretch/>
        </p:blipFill>
        <p:spPr>
          <a:xfrm>
            <a:off x="2214720" y="5643720"/>
            <a:ext cx="2000160" cy="100008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20"/>
          <p:cNvSpPr/>
          <p:nvPr/>
        </p:nvSpPr>
        <p:spPr>
          <a:xfrm>
            <a:off x="1619280" y="292428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6"/>
          <p:cNvSpPr/>
          <p:nvPr/>
        </p:nvSpPr>
        <p:spPr>
          <a:xfrm>
            <a:off x="785880" y="1500120"/>
            <a:ext cx="691200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小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学了本课，我知道这首诗通过描写如丝如玉的三峡（        ）和如锦如银的三峡（          ），表达了作者（                     ）、（                     ）的思想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2" descr="F:\word\MEDIA\CAGCAT10\j0293828.wmf"/>
          <p:cNvPicPr/>
          <p:nvPr/>
        </p:nvPicPr>
        <p:blipFill>
          <a:blip r:embed="rId1"/>
          <a:stretch/>
        </p:blipFill>
        <p:spPr>
          <a:xfrm>
            <a:off x="2571840" y="21420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F:\word\MEDIA\CAGCAT10\j0293828.wmf"/>
          <p:cNvPicPr/>
          <p:nvPr/>
        </p:nvPicPr>
        <p:blipFill>
          <a:blip r:embed="rId2"/>
          <a:stretch/>
        </p:blipFill>
        <p:spPr>
          <a:xfrm>
            <a:off x="7072200" y="21420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4" descr="F:\word\MEDIA\CAGCAT10\j0293828.wmf"/>
          <p:cNvPicPr/>
          <p:nvPr/>
        </p:nvPicPr>
        <p:blipFill>
          <a:blip r:embed="rId3"/>
          <a:stretch/>
        </p:blipFill>
        <p:spPr>
          <a:xfrm>
            <a:off x="4643280" y="214200"/>
            <a:ext cx="1744920" cy="10717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C:\Users\lkp\AppData\Local\Microsoft\Windows\Temporary Internet Files\Content.IE5\PEGDY26Y\MCj04378260000[1].png"/>
          <p:cNvPicPr/>
          <p:nvPr/>
        </p:nvPicPr>
        <p:blipFill>
          <a:blip r:embed="rId4"/>
          <a:stretch/>
        </p:blipFill>
        <p:spPr>
          <a:xfrm>
            <a:off x="6500880" y="5143680"/>
            <a:ext cx="2643120" cy="17143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9" descr="C:\Users\lkp\AppData\Local\Microsoft\Windows\Temporary Internet Files\Content.IE5\H3HGZW5F\MCj04378250000[1].png"/>
          <p:cNvPicPr/>
          <p:nvPr/>
        </p:nvPicPr>
        <p:blipFill>
          <a:blip r:embed="rId5"/>
          <a:stretch/>
        </p:blipFill>
        <p:spPr>
          <a:xfrm>
            <a:off x="5429160" y="6000840"/>
            <a:ext cx="1171800" cy="8571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9" descr="C:\Users\lkp\AppData\Local\Microsoft\Windows\Temporary Internet Files\Content.IE5\H3HGZW5F\MCj04378250000[1].png"/>
          <p:cNvPicPr/>
          <p:nvPr/>
        </p:nvPicPr>
        <p:blipFill>
          <a:blip r:embed="rId6"/>
          <a:stretch/>
        </p:blipFill>
        <p:spPr>
          <a:xfrm>
            <a:off x="4357800" y="5500800"/>
            <a:ext cx="928440" cy="7142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9" descr="C:\Users\lkp\AppData\Local\Microsoft\Windows\Temporary Internet Files\Content.IE5\H3HGZW5F\MCj04378250000[1].png"/>
          <p:cNvPicPr/>
          <p:nvPr/>
        </p:nvPicPr>
        <p:blipFill>
          <a:blip r:embed="rId7"/>
          <a:stretch/>
        </p:blipFill>
        <p:spPr>
          <a:xfrm>
            <a:off x="2214720" y="5643720"/>
            <a:ext cx="2000160" cy="10000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20"/>
          <p:cNvSpPr/>
          <p:nvPr/>
        </p:nvSpPr>
        <p:spPr>
          <a:xfrm>
            <a:off x="1619280" y="292428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3429000" y="2857680"/>
            <a:ext cx="5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雨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3"/>
          <p:cNvSpPr/>
          <p:nvPr/>
        </p:nvSpPr>
        <p:spPr>
          <a:xfrm>
            <a:off x="1428840" y="33577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4"/>
          <p:cNvSpPr/>
          <p:nvPr/>
        </p:nvSpPr>
        <p:spPr>
          <a:xfrm>
            <a:off x="5072040" y="33577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热爱家乡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6"/>
          <p:cNvSpPr/>
          <p:nvPr/>
        </p:nvSpPr>
        <p:spPr>
          <a:xfrm>
            <a:off x="1143000" y="385776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思念家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6"/>
          <p:cNvSpPr/>
          <p:nvPr/>
        </p:nvSpPr>
        <p:spPr>
          <a:xfrm>
            <a:off x="2357280" y="1643040"/>
            <a:ext cx="6072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7"/>
          <p:cNvSpPr/>
          <p:nvPr/>
        </p:nvSpPr>
        <p:spPr>
          <a:xfrm>
            <a:off x="2357280" y="400068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b050"/>
                </a:solidFill>
                <a:latin typeface="Arial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F:\word\MEDIA\CAGCAT10\j0293828.wmf"/>
          <p:cNvPicPr/>
          <p:nvPr/>
        </p:nvPicPr>
        <p:blipFill>
          <a:blip r:embed="rId1"/>
          <a:stretch/>
        </p:blipFill>
        <p:spPr>
          <a:xfrm>
            <a:off x="2571840" y="21420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" descr="F:\word\MEDIA\CAGCAT10\j0293828.wmf"/>
          <p:cNvPicPr/>
          <p:nvPr/>
        </p:nvPicPr>
        <p:blipFill>
          <a:blip r:embed="rId2"/>
          <a:stretch/>
        </p:blipFill>
        <p:spPr>
          <a:xfrm>
            <a:off x="7072200" y="21420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F:\word\MEDIA\CAGCAT10\j0293828.wmf"/>
          <p:cNvPicPr/>
          <p:nvPr/>
        </p:nvPicPr>
        <p:blipFill>
          <a:blip r:embed="rId3"/>
          <a:stretch/>
        </p:blipFill>
        <p:spPr>
          <a:xfrm>
            <a:off x="4643280" y="214200"/>
            <a:ext cx="1744920" cy="10717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C:\Users\lkp\AppData\Local\Microsoft\Windows\Temporary Internet Files\Content.IE5\PEGDY26Y\MCj04378260000[1].png"/>
          <p:cNvPicPr/>
          <p:nvPr/>
        </p:nvPicPr>
        <p:blipFill>
          <a:blip r:embed="rId4"/>
          <a:stretch/>
        </p:blipFill>
        <p:spPr>
          <a:xfrm>
            <a:off x="6500880" y="5143680"/>
            <a:ext cx="2643120" cy="1714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9" descr="C:\Users\lkp\AppData\Local\Microsoft\Windows\Temporary Internet Files\Content.IE5\H3HGZW5F\MCj04378250000[1].png"/>
          <p:cNvPicPr/>
          <p:nvPr/>
        </p:nvPicPr>
        <p:blipFill>
          <a:blip r:embed="rId5"/>
          <a:stretch/>
        </p:blipFill>
        <p:spPr>
          <a:xfrm>
            <a:off x="5429160" y="6000840"/>
            <a:ext cx="1171800" cy="8571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C:\Users\lkp\AppData\Local\Microsoft\Windows\Temporary Internet Files\Content.IE5\H3HGZW5F\MCj04378250000[1].png"/>
          <p:cNvPicPr/>
          <p:nvPr/>
        </p:nvPicPr>
        <p:blipFill>
          <a:blip r:embed="rId6"/>
          <a:stretch/>
        </p:blipFill>
        <p:spPr>
          <a:xfrm>
            <a:off x="4357800" y="5500800"/>
            <a:ext cx="928440" cy="7142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9" descr="C:\Users\lkp\AppData\Local\Microsoft\Windows\Temporary Internet Files\Content.IE5\H3HGZW5F\MCj04378250000[1].png"/>
          <p:cNvPicPr/>
          <p:nvPr/>
        </p:nvPicPr>
        <p:blipFill>
          <a:blip r:embed="rId7"/>
          <a:stretch/>
        </p:blipFill>
        <p:spPr>
          <a:xfrm>
            <a:off x="2214720" y="5643720"/>
            <a:ext cx="2000160" cy="10000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9"/>
          <p:cNvSpPr/>
          <p:nvPr/>
        </p:nvSpPr>
        <p:spPr>
          <a:xfrm>
            <a:off x="1332000" y="1484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be0e3"/>
                </a:solidFill>
                <a:latin typeface="Arial"/>
              </a:rPr>
              <a:t>问题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1619280" y="292428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因为诗人的家乡三峡，那里雨量充沛，常常细雨绵绵，云雾缭绕，是三峡的标志性景物。所以三峡的雨和云更能牵动诗人的思乡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1"/>
          <p:cNvSpPr/>
          <p:nvPr/>
        </p:nvSpPr>
        <p:spPr>
          <a:xfrm>
            <a:off x="2660400" y="220500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为什么三峡的云和雨能牵动诗人的思乡情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8"/>
          <p:cNvSpPr/>
          <p:nvPr/>
        </p:nvSpPr>
        <p:spPr>
          <a:xfrm>
            <a:off x="2149560" y="14292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我会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2bfc5"/>
                </a:solidFill>
                <a:latin typeface="Arial"/>
              </a:rPr>
              <a:t>我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9"/>
          <p:cNvSpPr/>
          <p:nvPr/>
        </p:nvSpPr>
        <p:spPr>
          <a:xfrm>
            <a:off x="1571760" y="1071720"/>
            <a:ext cx="5929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叶笛       竹篙                  巫山       痴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锦缎       号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kuí </a:t>
            </a:r>
            <a:r>
              <a:rPr b="0" lang="zh-CN" sz="2400" spc="-1" strike="noStrike">
                <a:solidFill>
                  <a:srgbClr val="00b0f0"/>
                </a:solidFill>
                <a:latin typeface="Arial"/>
              </a:rPr>
              <a:t>峡：两山夹水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夔 峡 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2" descr="F:\word\MEDIA\OFFICE12\Lines\BD14677_.gif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950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18" descr="18615.jpg"/>
          <p:cNvPicPr/>
          <p:nvPr/>
        </p:nvPicPr>
        <p:blipFill>
          <a:blip r:embed="rId2"/>
          <a:stretch/>
        </p:blipFill>
        <p:spPr>
          <a:xfrm>
            <a:off x="6372360" y="4797360"/>
            <a:ext cx="27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4"/>
          <p:cNvSpPr/>
          <p:nvPr/>
        </p:nvSpPr>
        <p:spPr>
          <a:xfrm>
            <a:off x="971640" y="1628640"/>
            <a:ext cx="35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第二小节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三峡</a:t>
            </a:r>
            <a:r>
              <a:rPr b="1" lang="zh-CN" sz="3600" spc="-1" strike="noStrike">
                <a:solidFill>
                  <a:srgbClr val="395b68"/>
                </a:solidFill>
                <a:latin typeface="Arial"/>
              </a:rPr>
              <a:t>雨</a:t>
            </a: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三峡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</a:rPr>
              <a:t>云</a:t>
            </a: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细如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柔如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牵动</a:t>
            </a: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儿女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思乡情</a:t>
            </a: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5219640" y="1628640"/>
            <a:ext cx="352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ff"/>
                </a:solidFill>
                <a:latin typeface="Arial"/>
              </a:rPr>
              <a:t>第四小节</a:t>
            </a:r>
            <a:r>
              <a:rPr b="1" lang="en-US" sz="3600" spc="-1" strike="noStrike">
                <a:solidFill>
                  <a:srgbClr val="00cc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三峡</a:t>
            </a:r>
            <a:r>
              <a:rPr b="1" lang="zh-CN" sz="3600" spc="-1" strike="noStrike">
                <a:solidFill>
                  <a:srgbClr val="395b68"/>
                </a:solidFill>
                <a:latin typeface="Arial"/>
              </a:rPr>
              <a:t>雨</a:t>
            </a: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三峡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</a:rPr>
              <a:t>云</a:t>
            </a: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洁如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白如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恰似</a:t>
            </a: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儿女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思乡情</a:t>
            </a:r>
            <a:r>
              <a:rPr b="1" lang="zh-CN" sz="3600" spc="-1" strike="noStrike">
                <a:solidFill>
                  <a:srgbClr val="828282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C:\Users\lkp\AppData\Local\Microsoft\Windows\Temporary Internet Files\Content.IE5\PEGDY26Y\MCj04378260000[1].png"/>
          <p:cNvPicPr/>
          <p:nvPr/>
        </p:nvPicPr>
        <p:blipFill>
          <a:blip r:embed="rId1"/>
          <a:stretch/>
        </p:blipFill>
        <p:spPr>
          <a:xfrm>
            <a:off x="6500880" y="5143680"/>
            <a:ext cx="2643120" cy="17143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F:\word\MEDIA\CAGCAT10\j0293828.wmf"/>
          <p:cNvPicPr/>
          <p:nvPr/>
        </p:nvPicPr>
        <p:blipFill>
          <a:blip r:embed="rId2"/>
          <a:stretch/>
        </p:blipFill>
        <p:spPr>
          <a:xfrm>
            <a:off x="3276720" y="476280"/>
            <a:ext cx="1366560" cy="10699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F:\word\MEDIA\CAGCAT10\j0293828.wmf"/>
          <p:cNvPicPr/>
          <p:nvPr/>
        </p:nvPicPr>
        <p:blipFill>
          <a:blip r:embed="rId3"/>
          <a:stretch/>
        </p:blipFill>
        <p:spPr>
          <a:xfrm>
            <a:off x="6696000" y="0"/>
            <a:ext cx="2448000" cy="158436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7" descr="C:\Users\lkp\AppData\Local\Microsoft\Windows\Temporary Internet Files\Content.IE5\PEGDY26Y\MCj04378260000[1].png"/>
          <p:cNvPicPr/>
          <p:nvPr/>
        </p:nvPicPr>
        <p:blipFill>
          <a:blip r:embed="rId4"/>
          <a:stretch/>
        </p:blipFill>
        <p:spPr>
          <a:xfrm>
            <a:off x="3851280" y="5734080"/>
            <a:ext cx="165744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1"/>
          <p:cNvSpPr/>
          <p:nvPr/>
        </p:nvSpPr>
        <p:spPr>
          <a:xfrm>
            <a:off x="250920" y="1484280"/>
            <a:ext cx="4786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三峡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三峡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故乡的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故乡的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从小爱在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云里走</a:t>
            </a: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口吹</a:t>
            </a:r>
            <a:r>
              <a:rPr b="1" lang="zh-CN" sz="4000" spc="-1" strike="noStrike">
                <a:solidFill>
                  <a:srgbClr val="039f12"/>
                </a:solidFill>
                <a:latin typeface="楷体_GB2312"/>
                <a:ea typeface="楷体_GB2312"/>
              </a:rPr>
              <a:t>叶笛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赶羊群</a:t>
            </a: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从小爱在雨里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手挥</a:t>
            </a:r>
            <a:r>
              <a:rPr b="1" lang="zh-CN" sz="40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竹篙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驾船行</a:t>
            </a:r>
            <a:r>
              <a:rPr b="1" lang="zh-CN" sz="40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F:\word\MEDIA\CAGCAT10\j0293828.wmf"/>
          <p:cNvPicPr/>
          <p:nvPr/>
        </p:nvPicPr>
        <p:blipFill>
          <a:blip r:embed="rId1"/>
          <a:stretch/>
        </p:blipFill>
        <p:spPr>
          <a:xfrm>
            <a:off x="2771640" y="476280"/>
            <a:ext cx="1000440" cy="114300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5" descr="untitled.bmp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9"/>
          <p:cNvSpPr/>
          <p:nvPr/>
        </p:nvSpPr>
        <p:spPr>
          <a:xfrm>
            <a:off x="1835280" y="3222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小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图片 2" descr="310f3b1f01d0dee9a78669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4"/>
          <p:cNvSpPr/>
          <p:nvPr/>
        </p:nvSpPr>
        <p:spPr>
          <a:xfrm>
            <a:off x="7596360" y="2924280"/>
            <a:ext cx="358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天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1"/>
          <p:cNvSpPr/>
          <p:nvPr/>
        </p:nvSpPr>
        <p:spPr>
          <a:xfrm>
            <a:off x="684360" y="1197000"/>
            <a:ext cx="4802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三峡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三峡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如梦的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如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痴</a:t>
            </a: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的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时</a:t>
            </a: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再登巫山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唱支山歌唤羊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时</a:t>
            </a: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再登夔峡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喊一声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号子</a:t>
            </a: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驾船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4" descr="F:\word\MEDIA\CAGCAT10\j0293828.wmf"/>
          <p:cNvPicPr/>
          <p:nvPr/>
        </p:nvPicPr>
        <p:blipFill>
          <a:blip r:embed="rId1"/>
          <a:stretch/>
        </p:blipFill>
        <p:spPr>
          <a:xfrm>
            <a:off x="3276720" y="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9" descr="F:\word\MEDIA\CAGCAT10\j0292020.wmf"/>
          <p:cNvPicPr/>
          <p:nvPr/>
        </p:nvPicPr>
        <p:blipFill>
          <a:blip r:embed="rId2"/>
          <a:stretch/>
        </p:blipFill>
        <p:spPr>
          <a:xfrm>
            <a:off x="0" y="508464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13" descr="0733.jpg"/>
          <p:cNvPicPr/>
          <p:nvPr/>
        </p:nvPicPr>
        <p:blipFill>
          <a:blip r:embed="rId3"/>
          <a:stretch/>
        </p:blipFill>
        <p:spPr>
          <a:xfrm>
            <a:off x="6357960" y="0"/>
            <a:ext cx="278604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11"/>
          <p:cNvSpPr/>
          <p:nvPr/>
        </p:nvSpPr>
        <p:spPr>
          <a:xfrm>
            <a:off x="4140360" y="54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1619280" y="476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小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1"/>
          <p:cNvSpPr/>
          <p:nvPr/>
        </p:nvSpPr>
        <p:spPr>
          <a:xfrm>
            <a:off x="684360" y="1197000"/>
            <a:ext cx="48020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三峡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三峡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如梦的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如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痴</a:t>
            </a: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的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时</a:t>
            </a: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再登巫山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唱支山歌唤羊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时</a:t>
            </a: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再登夔峡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喊一声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号子</a:t>
            </a:r>
            <a:r>
              <a:rPr b="1" lang="zh-CN" sz="3200" spc="-1" strike="noStrike">
                <a:solidFill>
                  <a:srgbClr val="395b68"/>
                </a:solidFill>
                <a:latin typeface="楷体_GB2312"/>
                <a:ea typeface="楷体_GB2312"/>
              </a:rPr>
              <a:t>驾船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4" descr="F:\word\MEDIA\CAGCAT10\j0293828.wmf"/>
          <p:cNvPicPr/>
          <p:nvPr/>
        </p:nvPicPr>
        <p:blipFill>
          <a:blip r:embed="rId1"/>
          <a:stretch/>
        </p:blipFill>
        <p:spPr>
          <a:xfrm>
            <a:off x="3276720" y="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9" descr="F:\word\MEDIA\CAGCAT10\j0292020.wmf"/>
          <p:cNvPicPr/>
          <p:nvPr/>
        </p:nvPicPr>
        <p:blipFill>
          <a:blip r:embed="rId2"/>
          <a:stretch/>
        </p:blipFill>
        <p:spPr>
          <a:xfrm>
            <a:off x="0" y="508464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618" name="图片 13" descr="0733.jpg"/>
          <p:cNvPicPr/>
          <p:nvPr/>
        </p:nvPicPr>
        <p:blipFill>
          <a:blip r:embed="rId3"/>
          <a:stretch/>
        </p:blipFill>
        <p:spPr>
          <a:xfrm>
            <a:off x="6357960" y="0"/>
            <a:ext cx="278604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11"/>
          <p:cNvSpPr/>
          <p:nvPr/>
        </p:nvSpPr>
        <p:spPr>
          <a:xfrm>
            <a:off x="4140360" y="549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我从</a:t>
            </a:r>
            <a:r>
              <a:rPr b="0" lang="zh-CN" sz="2400" spc="-1" strike="noStrike">
                <a:solidFill>
                  <a:srgbClr val="0070c0"/>
                </a:solidFill>
                <a:latin typeface="Arial"/>
              </a:rPr>
              <a:t>“痴”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中体会到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诗人对家乡的思恋那样深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那样重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那样迷恋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cc0000"/>
                </a:solidFill>
                <a:latin typeface="Arial"/>
              </a:rPr>
              <a:t>如醉如痴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"/>
          <p:cNvSpPr/>
          <p:nvPr/>
        </p:nvSpPr>
        <p:spPr>
          <a:xfrm>
            <a:off x="1619280" y="476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小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5" descr="sanxia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2006630953267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6"/>
          <p:cNvSpPr/>
          <p:nvPr/>
        </p:nvSpPr>
        <p:spPr>
          <a:xfrm>
            <a:off x="179280" y="260280"/>
            <a:ext cx="288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俯瞰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kàn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三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三峡像一条绿色的绸带穿行于两岸青山之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1" descr="3b464c083461208e0a7b82a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324000" y="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红叶片片的瞿塘峡之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1" descr="910878f0c55b92d87931aab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4"/>
          <p:cNvSpPr/>
          <p:nvPr/>
        </p:nvSpPr>
        <p:spPr>
          <a:xfrm>
            <a:off x="250920" y="260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映照在朝阳下的美丽三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wx074"/>
          <p:cNvPicPr/>
          <p:nvPr/>
        </p:nvPicPr>
        <p:blipFill>
          <a:blip r:embed="rId1"/>
          <a:stretch/>
        </p:blipFill>
        <p:spPr>
          <a:xfrm>
            <a:off x="0" y="4284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4"/>
          <p:cNvSpPr/>
          <p:nvPr/>
        </p:nvSpPr>
        <p:spPr>
          <a:xfrm>
            <a:off x="-354600" y="260280"/>
            <a:ext cx="13993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巫山神女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5" descr="1258_65_11214800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7" descr="xinsrc_131102211636406427922"/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395280" y="189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美丽的三峡之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1" descr="9abd513d4b1764f53d6d978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"/>
          <p:cNvSpPr/>
          <p:nvPr/>
        </p:nvSpPr>
        <p:spPr>
          <a:xfrm>
            <a:off x="611280" y="76500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0" y="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三峡中的游船往来穿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图片 1" descr="ba7f1f30bf498582a9018eb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5"/>
          <p:cNvSpPr/>
          <p:nvPr/>
        </p:nvSpPr>
        <p:spPr>
          <a:xfrm>
            <a:off x="0" y="189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美丽的西陵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Song Yujiao</cp:lastModifiedBy>
  <dcterms:modified xsi:type="dcterms:W3CDTF">2016-04-25T09:03:45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