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7F6-50A1-49EA-BD87-A7CC346A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F34-2885-4C49-A3DE-E7F7144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4B09-60E3-4ED2-B90E-8012AA5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45120-7A90-471C-B100-CABF540C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BC2A7-36E7-4E2B-9ACD-40798359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C3AD7-20A1-4D2F-83B8-1953C317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85D23-7607-4F9D-9F83-EC88B28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FBA4-E779-41C8-9649-5583D93F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709CD-3F7D-4F6A-8640-71D5C3B5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43A8C-2F75-4DF1-8ACB-8BFAE818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1F03F-1F32-45A2-A02A-22EDE27EE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5CABC-3AB5-4380-8ED1-79660FF40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F84-78E2-4EB1-8BF2-914D1D9E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F3358-8E37-4839-B67C-2656388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CC75BB-314A-4D53-BA0F-EB8A01BD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E4796-1A23-4D05-ACE2-6EC6315A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CE82A-CACA-47FD-9ECC-91DE396B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4CCB5-83AD-44AB-933B-776E439C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7936E-50A9-4A16-AA26-BF1E6F4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DF28C-5FCA-4805-B671-57CAFFA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FEB74-59E3-4C71-8527-1036C009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32475-1091-4A0D-BF31-AA5A88A0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CA073-A367-4D86-962E-C89762AD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738-6FC7-4677-A39C-2FE7285D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F4F4E-3FF6-4F6E-9236-5E1588D6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9C06B-C555-459B-BD97-D967FA58E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71950-3FE8-450F-AA46-252723FF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BA91B-5B76-4A03-B5C0-5FA07F3E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56C64-62FC-47B5-9249-01C2B916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7BA8B-A91D-411A-89A8-7E95749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7104A-87B8-4617-9EC3-91057A3F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B4FD6-A1AE-46AF-A0EC-475CF4A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390AC-27D1-4DC3-94F0-DE96A55E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57C50-01BA-4EFA-9C04-3E989A1D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E0F-38D2-4A29-9EC1-C6FE5F0A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94459-19CE-40CF-AC98-24D40A2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E0EF8-5A8C-452B-A250-E7E4F8BD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32568-E301-4D35-86B4-346F4C0B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446F0-6972-4756-850F-0768C9FA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3058B-81AF-449A-9BBB-07B74136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0E219-A689-4C53-A9EC-C698225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D7D77-D44D-41D7-A273-6DBCCA5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40B15-2214-4628-A6E8-45A15E94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7A69B-138A-4E0A-8EC1-5B9A16B2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A4700-8C74-4A23-BC87-C0ECD8F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BEB3-02EE-4839-A677-5FDFA914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9CEF8-B3E8-45A4-9DBE-283DB0B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794C0-0B0C-47FB-8398-51B4FD6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E3559-07F9-42AB-8327-A1C84DFE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144E8-ECCC-4A71-B05B-1D828476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D3F1C-1A53-47DF-99A8-E43A438B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CAD6-3D7B-479F-A2BA-2571D165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2AEB-696A-49E1-BE51-C311B86A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8000-95E7-45C8-9985-FA4D3E79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D0A-41FE-4539-B159-48ACFE7F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259A-34F0-4A49-A624-F03D1BDF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002-9115-4D1B-BB37-49DB9E06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0B73-8CC5-4425-B60E-5A38A80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95E0-236E-4E38-82D3-2631122C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E9B9-C970-4269-BB98-1A824D7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EAC5-4333-4634-9845-CC358F8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B71D-CFC9-4ABB-A8DE-02B17EE5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38A3E-280C-4F64-B520-3508E624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48C2-F57B-41A4-A0FA-8BA00E98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11D08-773F-4C12-91FA-D3D8668E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773E-0BB9-45D5-9731-D9F00553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D1DD3-0C48-4385-BE91-3654EB78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25E-55D7-490E-BCFD-BB0D1BC4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08BF-31BE-441A-9288-B2CEB2D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4F037-1989-4E7B-B0E3-A5707D29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FABA1-F307-4016-A636-B32B311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504E5-AB43-4488-A529-0D858DC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3BBC-275C-48F9-B3C3-25681B9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36F8-1EF3-49CF-89EA-48E8A73A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E098-FAF1-4070-8723-A9E633AA5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1C4B0-A431-4F05-8053-7CABC58D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D4FAC-83C6-4B80-B6C0-37ED79ED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43E5-F86E-42C0-BB7D-E4BB0B9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C16-2121-4A10-9355-06D6A49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BA89-2CEE-4EA6-956B-51D98159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0C0E8-B422-4E7A-BDA9-B754775E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54704-AF20-4FDD-84BA-07B61770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2604-D07C-4B46-ABDA-FE5B105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27FA-DAE9-4520-A23C-0BA994F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3A966-4494-4481-B68E-77ECF6F6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7F2EC-624D-4D87-8520-9E6DC25F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E2FB-EC4C-4ACF-BA0C-60EBFACD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7F9D7-1D66-4294-BA9E-67449B77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856D1-BEAE-440D-8B32-D4BEF22C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A4D-FC68-4D65-9366-D0EE3050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2F86D-E13A-4678-847A-D59E3B3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9AE79-0421-4B1B-B4E8-D3CE67C6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D2F1-EF6E-49FC-9392-39C6BDB5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3A57-A990-4377-9702-4BCF49C4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A4967-C830-4D7E-9BE1-80BDD3F5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02DBF-1955-440B-B455-B3F9AA4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0A612-90FA-428F-BEA1-14FB0E6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49B16-A8BE-4070-8563-7AFB0508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127B-833E-40E7-BEC9-BDC36BB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4508A-273F-4984-B668-7C478B37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B6E-0663-488B-9B02-61A68C9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E81ED-F276-4AF3-AB72-71210C22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78812-1022-4516-90AF-B7DDA269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328B-49C7-41EE-8DEA-F997A3E4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3A08C-C8F0-4CFD-92BB-904D1F5F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42CE8-74EB-41C7-8798-CB6E9246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C28E2-912F-49F1-AB4F-6F445F91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0C27-B6F2-4DC1-87A9-99F4F8F7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2B750-95A8-471A-871C-13439A48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2043-262C-48B1-8B3D-357C94D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7CA45-E223-459D-8DFA-F394824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4A0-BD18-4E1E-B74D-7C971E88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2654C-4541-426E-BF58-3183BF2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154E-02F3-44E6-A9AB-26077D66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48C7D-6719-4E23-9B40-AE4CD85E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A5AB8-DC05-4EEC-B8D0-D3C83709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58E5F-CD9A-4A72-959F-02EE23A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DC1B-6052-46DE-BFE0-AB9D4C0F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C7B86-F9A4-4F71-ACB5-D0593029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C061-D4B8-4720-8A07-C5A199E8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DBC86-8FD3-4E40-8235-9BFC69F1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521F2-ABBB-4C5F-BD89-540D52E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024-5BFE-42B7-97D2-58AD1F9E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F497-BDA4-41CC-A5D2-B3705937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3C78-3303-4666-8E0D-DD8BD1B1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31C74-8ECD-45AA-9964-E5BD9418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9F528-408A-4464-BCF3-C06481F6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3EB38-5693-4FA6-A96B-A2864F65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99165-044C-456F-B23F-F5B69080A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49EE8-613C-4E38-AE8D-AA541A4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E398B-6B48-460A-8914-30E46D28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78FE-B1C9-481B-BFA3-CF37216C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01BF4-F09B-4429-B3F4-ED05A831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DF4-CC6D-4A13-B38B-278FB69F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9AAEA-BA6B-4E89-9642-DC578828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953D5-B918-48C7-A6C2-8C6F3EA3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B619D-41FD-49D1-941D-16DF8F33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699D-BDE3-4BD4-B929-18E0F45D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4B726-EB53-4F10-BCCB-FF20557E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DF94A-C6D4-4B74-90DB-0E81448E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1DD32-6304-4308-B2F0-A46BF4AE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38CAF-48FC-4978-A36E-B439E733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C1A86-DBF0-4A0A-B18B-F8397103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1A8F7-C18D-4DA6-920A-24BE1DF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6D9E-18A0-4E11-BD55-FB30FB03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B62-1C8A-4B55-A9BF-C31E2E725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1DB-BF2E-4523-B9BD-F41FF354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151C-51BC-4870-BB6E-649AB3E3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4108-A16A-451F-812D-D3EE110F3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A200-10AA-45B2-A1B1-52343E8ACF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5D7-E2E7-4A44-A774-0D515DB7D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0A45-E8E4-4125-A4A4-E2F75FFF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C8F8-4819-492F-9AE5-706981D0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2484-82D3-4BF5-9788-1C284773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BD9C-FA8A-430A-A8D6-81E8AD1D2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1DD-E24B-4D6A-BF7A-22E781B4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3"/>
          <p:cNvSpPr txBox="1"/>
          <p:nvPr/>
        </p:nvSpPr>
        <p:spPr>
          <a:xfrm>
            <a:off x="1908000" y="1916280"/>
            <a:ext cx="468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父亲、树林和鸟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父亲生活得很快乐？你从中知道了什么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细读感悟"/>
          <p:cNvPicPr/>
          <p:nvPr/>
        </p:nvPicPr>
        <p:blipFill>
          <a:blip r:embed="rId1"/>
          <a:stretch/>
        </p:blipFill>
        <p:spPr>
          <a:xfrm>
            <a:off x="324000" y="47628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角色朗读父亲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对话，在反复朗读中体会父亲对鸟和树林、对大自然的热爱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细读感悟"/>
          <p:cNvPicPr/>
          <p:nvPr/>
        </p:nvPicPr>
        <p:blipFill>
          <a:blip r:embed="rId1"/>
          <a:stretch/>
        </p:blipFill>
        <p:spPr>
          <a:xfrm>
            <a:off x="250920" y="26028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隶书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我真高兴，父亲不是猎人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隶书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联系课文内容思考：如果父亲是猎人将会怎样？朗读体会这句话所表达的我也爱鸟的思想感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细读感悟"/>
          <p:cNvPicPr/>
          <p:nvPr/>
        </p:nvPicPr>
        <p:blipFill>
          <a:blip r:embed="rId1"/>
          <a:stretch/>
        </p:blipFill>
        <p:spPr>
          <a:xfrm>
            <a:off x="324000" y="40464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23320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了这篇课文，我们知道了人与自然的关系是非常密切，那么，生活中我们应该怎么做呢？谈谈你学习这篇课文的收获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想一想"/>
          <p:cNvPicPr/>
          <p:nvPr/>
        </p:nvPicPr>
        <p:blipFill>
          <a:blip r:embed="rId1"/>
          <a:stretch/>
        </p:blipFill>
        <p:spPr>
          <a:xfrm>
            <a:off x="324000" y="260280"/>
            <a:ext cx="208728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搜集有关人与大自然和睦相处的故事、资料、图片等，在全班开展以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人与自然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楷体"/>
              </a:rPr>
              <a:t>为主题的交流会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拓展学习"/>
          <p:cNvPicPr/>
          <p:nvPr/>
        </p:nvPicPr>
        <p:blipFill>
          <a:blip r:embed="rId1"/>
          <a:stretch/>
        </p:blipFill>
        <p:spPr>
          <a:xfrm>
            <a:off x="468360" y="404640"/>
            <a:ext cx="18000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2"/>
          <p:cNvSpPr txBox="1"/>
          <p:nvPr/>
        </p:nvSpPr>
        <p:spPr>
          <a:xfrm>
            <a:off x="2556000" y="1413000"/>
            <a:ext cx="3004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再见！</a:t>
            </a:r>
            <a:endParaRPr b="0" lang="en-US" sz="1800" spc="1" strike="noStrike">
              <a:ln w="19080">
                <a:solidFill>
                  <a:srgbClr val="9933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7244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56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66"/>
                </a:solidFill>
                <a:latin typeface="Arial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8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会本课生字及新词，通过品词析句，领悟课文内容，体会关键词句在表情达意方面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正确、流利、有感情地朗读课文，体会父亲热爱大自然的情感，感受大自然的神奇美妙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55640" y="1341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运用多种形式读课文，勾画生字新词，借助拼音自主识字，说说你从这篇课文中了解到哪些内容？你还有哪些不明白的问题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" descr="初读感知"/>
          <p:cNvPicPr/>
          <p:nvPr/>
        </p:nvPicPr>
        <p:blipFill>
          <a:blip r:embed="rId1"/>
          <a:stretch/>
        </p:blipFill>
        <p:spPr>
          <a:xfrm>
            <a:off x="468360" y="549360"/>
            <a:ext cx="2079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黎   喃   翎   猎   幽   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茫然  宁神静气  舒畅   惊愕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916360" y="47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00000" y="14130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自己喜欢的方式细读课文，一边读一边勾画出自己认为最能说明父亲喜欢林子和鸟的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组交流：把自己勾画的句子读给同学听，并说说你的体会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细读感悟"/>
          <p:cNvPicPr/>
          <p:nvPr/>
        </p:nvPicPr>
        <p:blipFill>
          <a:blip r:embed="rId1"/>
          <a:stretch/>
        </p:blipFill>
        <p:spPr>
          <a:xfrm>
            <a:off x="250920" y="40464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课文中找出我的态度变化的词句，联系上下文抓住父亲的语言，通过朗读体会父亲爱鸟，积累了许多经验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（茫然、惊愕、真高兴、上上下下、望了又望、宁神静气。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细读感悟"/>
          <p:cNvPicPr/>
          <p:nvPr/>
        </p:nvPicPr>
        <p:blipFill>
          <a:blip r:embed="rId1"/>
          <a:stretch/>
        </p:blipFill>
        <p:spPr>
          <a:xfrm>
            <a:off x="324000" y="40464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54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树林里有不少鸟。”父亲喃喃地说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还有鸟味。”父亲轻声说，他生怕惊动了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3" descr="细读感悟"/>
          <p:cNvPicPr/>
          <p:nvPr/>
        </p:nvPicPr>
        <p:blipFill>
          <a:blip r:embed="rId1"/>
          <a:stretch/>
        </p:blipFill>
        <p:spPr>
          <a:xfrm>
            <a:off x="395280" y="47628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066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华文楷体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0099ff"/>
                </a:solidFill>
                <a:latin typeface="华文楷体"/>
                <a:ea typeface="华文楷体"/>
              </a:rPr>
              <a:t>同学们结合上下文说说鸟有什么气味？联系生活实际说说你的体会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细读感悟"/>
          <p:cNvPicPr/>
          <p:nvPr/>
        </p:nvPicPr>
        <p:blipFill>
          <a:blip r:embed="rId1"/>
          <a:stretch/>
        </p:blipFill>
        <p:spPr>
          <a:xfrm>
            <a:off x="250920" y="189000"/>
            <a:ext cx="21589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要准备唱歌了。”父亲和我坐在树林边，鸟真的唱了起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对我说：“鸟最快活的时刻，向天空飞离树枝的那一瞬间，最容易被猎人打中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细读感悟"/>
          <p:cNvPicPr/>
          <p:nvPr/>
        </p:nvPicPr>
        <p:blipFill>
          <a:blip r:embed="rId1"/>
          <a:stretch/>
        </p:blipFill>
        <p:spPr>
          <a:xfrm>
            <a:off x="179280" y="260280"/>
            <a:ext cx="21592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ong Yujiao</cp:lastModifiedBy>
  <dcterms:modified xsi:type="dcterms:W3CDTF">2016-04-25T09:06:2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