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A43-FCC9-4892-ABDF-F6B67967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80BE-9563-4A12-873C-6798A572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C17FB-E0DD-4F07-A0E0-9D68BA81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DF296-F4F8-4779-AF31-8A6EB3F7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FB9AE-FAF4-4032-9BD3-CC2CBED2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82778A-5103-4739-9852-98DDEF1B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4FAEA-0298-420F-A0C7-6F377B7B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4B4D3-25C8-4EBD-A8A4-D9E034ED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7CC6A-2F4D-46F3-BCD0-9963DCD9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75AD9-B67A-4B09-A225-80C937D9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62D8E-F8AD-4942-A90C-3028C9F7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962BC-F2BB-4A55-84B0-21893EF2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416C-E13F-4BBC-9A86-BB9A75C6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4A5F0-1C53-4F95-9C07-D0B6E644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6E8ED-5062-44ED-91A0-BA818DD4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C5CFB8-FD8A-42A5-ADB0-DA4BA85B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155B92-06BD-4CC4-BAAF-015D6B42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A7412-5F3B-4B35-BC52-19265D7A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66143-4B61-42F4-BB05-8C32AB40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0CFDD-DB17-4689-928F-16BC1220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B27664-5634-41E3-BA55-AC2767BB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84F77-BEFF-431D-AA05-8C2579A2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41223-051B-4830-9DB9-047FE3BA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73D-3AAB-4615-A4C6-82039022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10EFB-9D87-41CF-B6AD-97BEB415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E9E56-CC8A-40A6-AB10-32279053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8BD1F-F6A8-462F-BF5E-4A37ECD9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F8F68-9265-4271-8B5E-67328466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67AEA-3880-41D5-9F9C-591DBCB0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6B69C-7646-4381-8564-E06B29DB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14A31-0EBF-42E7-B227-2305B70B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F4412-04C8-46AD-BA6F-82B4F7A4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84FB4-836E-4366-92D4-7558B5C1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CD7D3-2FD8-4BDE-B42F-53301C55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8C8C-D289-4A03-BE9A-0DE4AD8B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7FF2B-B395-4EA6-A021-CB81D3F5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EBE73-F516-4C27-ADDD-41D32114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9FCE0-6531-443D-80CB-602334870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1E814-1FBF-4AE2-9BAA-F63A7E5A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C132DB-5491-4FE4-89DB-4B0154EE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F2E5B-408A-43B3-88CC-987890744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594EB-7E2B-4456-8E9C-4B21E138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E77DA-0D69-47CF-88C5-3E860BFC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22532-3802-47C5-B024-8B039334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69668-143E-4527-B0CF-94EC5D63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A20B-28D8-4BAD-9814-F10CEFFC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3CF68-26D3-439F-8FFF-5C40142A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D95CE-5B5E-4900-93F0-E25B98B3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794C8-B8CB-4494-A69A-5660DFED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78D56-6A00-44F8-9B13-0B360A9C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428CEF-9659-45B6-A28F-ED2248F3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313C-4DBD-4810-AF01-884A885A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DA25-43BB-4AB3-A2CA-E419E284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554E-E9BB-4E4D-B909-73F29D62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930A-D72B-4A64-BA9C-4FC00714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5ACA-A6F0-4B01-A4D9-50D325B8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B3E-CAC2-4E05-92FB-8BD185E9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5D64B-ACC4-4F97-9987-19C05572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51E5-4D73-41C7-80BD-85DEAE2F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AFB5-3282-4971-8767-FFEB575B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37B8-CA42-483D-8AE7-ECAD3362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E164-D321-4B6D-9661-053D6A1F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03FCA-616D-40DC-95C2-0F8BCE03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2635-1607-463C-A4D4-65C51415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CC467-05C7-4C1E-A0B2-AB3D5C25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C6A23-1834-4ED9-BE24-F5C0C6C7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4BB6F-7E2C-46F1-A292-CA1168F9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814A-FE93-4FC8-A459-4B5CB613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19A28-007D-43B5-AA70-431DDAB7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81EBA-3147-48B3-990B-2A323E53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E86D5-587A-4174-9201-9BA4706E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C8E2-B9F7-4CD7-A6FF-73B94AC7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3FBEF-57C7-44DD-B22E-AF01D95F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B2C2-3394-4CB2-921B-604BC79F7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A533C-D622-4766-87C0-2F9A5F97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9FB39-E17F-481E-957C-EB402345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9B34A-AB10-40F5-BB02-A6AED217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1261-C746-4C63-95F8-57B703D3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168-4138-4055-8F07-50428920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3D73-0AB1-4D41-9878-D6B17816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DE4D4-F156-4B25-8232-8B82950A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AB845-2B20-4429-B10E-7F479672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C417B-C3D0-49B1-9EA1-C3A5AAD6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F0AB7-B594-4797-9485-437C9A69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99F02-D0C5-4729-ACB4-24330018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4E386-BD9D-47A8-973C-E8A66A8B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DBF02-2230-4BC7-B0E4-46C34340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72DCA-0309-45E4-9907-64EF5AA7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05AF3-659B-4819-81EF-E5D9BA75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704C-4D3A-47EC-8C84-67138883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3AC6B-E137-401B-B564-85EF7D75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9B8F1-6701-41D9-9C4C-FBD50A2B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A1F1C-1F37-4262-9C3A-0DD148F8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32B3E-565E-46CD-91D3-64D1DEDE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DBE02-8CBE-4E2D-BE0B-18B9E58A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5EF53-E4FA-47F2-9A6D-681E766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C8623-8AAC-4CF8-B201-0983977B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2C2ED-717C-4D5D-B00D-C67D7E72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A734F-3646-4D7A-90C9-213B4951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2F12A-C6CD-4CA0-986A-4E08F0DF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74F-2FBE-49FC-B53D-8DF87288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DCFEC-CDFB-43C7-BC41-267F4FDE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7D0E6-2E92-4D31-B64D-96F8F561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A2283-1547-40EA-BF39-4FA137D1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540FE-C76E-4769-915A-22BE6FB7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D01B8-31DE-4A98-A622-70B267FC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5ED8A-AB6F-4403-ACE7-E6946E10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292C0-E93D-4377-B2C2-13CB04E2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1A3AA-C49F-4418-A5B8-F4A25648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6BD16-C306-4ECE-AD49-786E7EAE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19350-A740-4906-9EF9-FE68D012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55F-CBA3-4D37-9AA7-654A8B2E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115C9-4A7B-4D03-9FAE-85ED86CF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0155B-191B-47A8-BBEB-3FEDB870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76A4F-DC99-4DDE-9FEE-CFB7FC12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98857-99A0-4793-9BA4-1D678248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90170-CE0D-4B34-B22B-9F15E08F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84031-5F7D-4F8E-B5EF-BBD7D499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41B8A-0CF7-4C64-B4C7-2377CE22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E3FEA-C9B1-41A9-827F-E1D4EA16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7262C-6B7D-42E7-9747-0CC1333F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8C655-1C99-4733-93FA-A41EA33F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278-CF9C-4661-A78F-04BC2646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C7DE5-1BFE-4A0D-B352-DA12A616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D70C4-6E9B-4FCF-85D8-B1C90DC7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5AB61-D10A-43A2-803F-628C3F0F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41F7C-E3BD-4285-87F8-AB6E080D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6A380-AD67-4FA5-A865-0FEA41C7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E7A91-CD2A-4EE0-B97F-8E0BB210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4A4B0-4115-4137-A519-4B43AA83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5763F-B0D8-47D4-8358-0BC82F8C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FAA5E1-F3F2-4C2C-B0C9-9D2D6C5B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6DDD9-4A7E-4CE9-B233-27E333BA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E95-EC11-4FAE-8EBD-BDDAA051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866DA-9E94-4F8A-9BCA-2183A6C24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0A5D8-04A5-4CE1-97D1-FCCB0C45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A7FFF-0058-48BF-AB90-C418EDC0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8750C-9915-4254-BD99-63FE7CF6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3764C-77A4-49D1-9479-692CBB7F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CE704-ADDE-4747-84F7-BAE6D2D0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19AF0-F833-4E85-B42F-70D948CA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476EB-5938-45F7-A21D-9FC83FCB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D4E69-FC0E-442C-BF40-4BDB0135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5258E-5087-491E-82DE-2AFD7C07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C56D-1616-4F85-AA9E-1C89EDF3A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C450-1DEC-43DC-B1AF-5B12B9504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C22B-DB34-42AA-96A2-840B4AEB2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5210-38C8-4157-AEE4-CAD6432CB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2224-DE07-4D61-8111-E40DF0D1A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467D-1DA2-40B1-8FA1-2C524F8F4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42B5-4A12-4261-9C02-452FE46FC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9FF4-6DF5-4C6C-8625-F189E42C3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A967-4598-4A0B-832D-0B9F75E97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09C6-ADCF-4AEF-9F0D-0353FD980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FFBC-E963-42A1-9DDD-3972F3127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6C37-517F-432C-A800-95F9E4A9D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6"/>
          <p:cNvSpPr/>
          <p:nvPr/>
        </p:nvSpPr>
        <p:spPr>
          <a:xfrm>
            <a:off x="2209680" y="236232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32 </a:t>
            </a:r>
            <a:r>
              <a:rPr b="1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当炸弹在身边响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帮导合探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第一次爆炸：             第二次爆炸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地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威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帮导合探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在如此危急的情况下，毛泽东怎样面对这一切的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快速阅读课文，勾出毛泽东是怎么说的？怎么做的？你从中体会到了什么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帮导合探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比较句式：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．只见毛泽东左手端着茶杯，右手仍在画图，好像刚才什么都没发生似的。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．只见毛泽东左手稳稳地端着茶杯，（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连一星半点水也没有洒落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，右手的那支笔仍在地图上移动，（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画的线一点儿也没有打折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，好像刚才什么都没发生似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   ①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对比读句子。</a:t>
            </a: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②说说哪一句话写得好？好在哪里？（引导学生从对比中体会具体细致的描写，让人更真切地感觉到他的临危不惧、镇定自若）这一句话抓住了毛泽东的什么来写？（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板书：动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你从中体会到了什么？（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沉着、冷静、乐观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帮导合探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还有哪些描写毛泽东动作、语言的句子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33520" y="2819520"/>
            <a:ext cx="62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“</a:t>
            </a:r>
            <a:r>
              <a:rPr b="0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客人走了吧！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”“</a:t>
            </a:r>
            <a:r>
              <a:rPr b="0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飞机呀，真讨厌！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仿宋_GB2312"/>
              </a:rPr>
              <a:t>”“</a:t>
            </a:r>
            <a:r>
              <a:rPr b="0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嗯，这东西可以打两把菜刀呢！去，你赶紧去查查群众受到些什么从中你体会到了主席怎样的精神呢？这主要抓住毛泽东的什么来写？</a:t>
            </a:r>
            <a:r>
              <a:rPr b="0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板书：</a:t>
            </a:r>
            <a:r>
              <a:rPr b="0" lang="zh-CN" sz="32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语言</a:t>
            </a:r>
            <a:r>
              <a:rPr b="0" lang="en-US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3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帮导合探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第二次炸弹在身边响起时，毛泽东是怎么面对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762120" y="3048120"/>
            <a:ext cx="748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只见毛泽东轻轻掸去身上的灰尘，笑道：“他们的风不行，连我一个人也吹不动，我们的风刮起来就不得了，要将他们连根拔哩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掸”指什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?          (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轻轻地扫或拍打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他们的风”指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我们的风”指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连根拔”是什么意思？这主要抓住毛泽东的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动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和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神态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来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3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归结深探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．读了课文，你觉得毛泽东是一个什么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．你对毛泽东还有哪些了解？师生交流课前收集的资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测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指名正确、流利、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填空并回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只见毛泽东左手稳稳地端着茶杯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），右手的那支笔仍在地图上移动，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                   )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，好像刚才什么都没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一句话抓住了毛泽东的（     ）来写，从中体会到了毛泽东的（    ）、（     ）、（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测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只见毛泽东轻轻掸去身上的灰尘，笑道：“（       ），连我一个人也吹不动，我们的风（           ，要将他们（        ）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掸”的意思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他们的风”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我们的风”指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连根拔”是什么意思？这主要抓住毛泽东的（     ）和（        ）来写。体现毛主席（        ），（        ）的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次炸弹在身边响起时，毛泽东是怎么面对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4" descr="Blue hills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  <p:sp>
        <p:nvSpPr>
          <p:cNvPr id="538" name="WordArt 5"/>
          <p:cNvSpPr txBox="1"/>
          <p:nvPr/>
        </p:nvSpPr>
        <p:spPr>
          <a:xfrm>
            <a:off x="609480" y="1981080"/>
            <a:ext cx="853452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毛主席1"/>
          <p:cNvPicPr/>
          <p:nvPr/>
        </p:nvPicPr>
        <p:blipFill>
          <a:blip r:embed="rId1"/>
          <a:stretch/>
        </p:blipFill>
        <p:spPr>
          <a:xfrm>
            <a:off x="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494" name="WordArt 3"/>
          <p:cNvSpPr txBox="1"/>
          <p:nvPr/>
        </p:nvSpPr>
        <p:spPr>
          <a:xfrm>
            <a:off x="4343400" y="685800"/>
            <a:ext cx="4800600" cy="914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0919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宋体"/>
              </a:rPr>
              <a:t>毛泽东简介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宋体"/>
              <a:ea typeface="宋体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4267080" y="1981080"/>
            <a:ext cx="455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毛泽东</a:t>
            </a:r>
            <a:r>
              <a:rPr b="0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(189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仿宋_GB2312"/>
              </a:rPr>
              <a:t>—</a:t>
            </a:r>
            <a:r>
              <a:rPr b="0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976),</a:t>
            </a:r>
            <a:r>
              <a:rPr b="0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湖南湘潭人</a:t>
            </a:r>
            <a:r>
              <a:rPr b="0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伟大的马克思主义者、战略家、理论家</a:t>
            </a:r>
            <a:r>
              <a:rPr b="0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中国共产党、中国人民解放军和中华人民共和国的主要缔造者。</a:t>
            </a:r>
            <a:r>
              <a:rPr b="0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949</a:t>
            </a:r>
            <a:r>
              <a:rPr b="0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年</a:t>
            </a:r>
            <a:r>
              <a:rPr b="0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0</a:t>
            </a:r>
            <a:r>
              <a:rPr b="0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月</a:t>
            </a:r>
            <a:r>
              <a:rPr b="0" lang="en-US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日，中华人民共和国建立，当选为中央人民政府主席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预设自探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这篇课文主要写了一件什么事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947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月，国民党军队大举进攻延安，面对敌人的狂轰滥炸，毛泽东镇定自若，临危不惧，表现了老一辈无产阶级革命家在危险时刻心里仍然装着人民，装着的是全国大局的崇高风范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从什么地方可以体现毛泽东的镇定自若、幽默风趣、谈笑风生的大无畏精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4" descr="151"/>
          <p:cNvPicPr/>
          <p:nvPr/>
        </p:nvPicPr>
        <p:blipFill>
          <a:blip r:embed="rId1"/>
          <a:stretch/>
        </p:blipFill>
        <p:spPr>
          <a:xfrm>
            <a:off x="1371600" y="990720"/>
            <a:ext cx="4191120" cy="54385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5" descr="1"/>
          <p:cNvPicPr/>
          <p:nvPr/>
        </p:nvPicPr>
        <p:blipFill>
          <a:blip r:embed="rId2"/>
          <a:stretch/>
        </p:blipFill>
        <p:spPr>
          <a:xfrm>
            <a:off x="304920" y="677880"/>
            <a:ext cx="8381880" cy="61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"/>
          <p:cNvSpPr/>
          <p:nvPr/>
        </p:nvSpPr>
        <p:spPr>
          <a:xfrm>
            <a:off x="4207320" y="3245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课堂测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u=369685878,1731889930&amp;fm=23&amp;gp=0"/>
          <p:cNvPicPr/>
          <p:nvPr/>
        </p:nvPicPr>
        <p:blipFill>
          <a:blip r:embed="rId1"/>
          <a:stretch/>
        </p:blipFill>
        <p:spPr>
          <a:xfrm>
            <a:off x="0" y="457200"/>
            <a:ext cx="3429000" cy="57913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" descr="u=925077844,1357119134&amp;fm=23&amp;gp=0"/>
          <p:cNvPicPr/>
          <p:nvPr/>
        </p:nvPicPr>
        <p:blipFill>
          <a:blip r:embed="rId2"/>
          <a:stretch/>
        </p:blipFill>
        <p:spPr>
          <a:xfrm>
            <a:off x="3352680" y="533520"/>
            <a:ext cx="5791320" cy="32763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u=472492021,3955382453&amp;fm=23&amp;gp=0"/>
          <p:cNvPicPr/>
          <p:nvPr/>
        </p:nvPicPr>
        <p:blipFill>
          <a:blip r:embed="rId3"/>
          <a:stretch/>
        </p:blipFill>
        <p:spPr>
          <a:xfrm>
            <a:off x="3276720" y="3886200"/>
            <a:ext cx="57150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2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帮导合探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读课文，画出描写毛泽东神态、语言、动作的词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课文描述了炸弹几次在毛泽东身边响起？哪些段写第一次？哪些段写第二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帮导合探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突然，一颗重磅炸弹在窑洞门口爆炸了，顷刻硝烟弥漫，遍地是弹片和烧黑的石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"/>
          <p:cNvSpPr/>
          <p:nvPr/>
        </p:nvSpPr>
        <p:spPr>
          <a:xfrm>
            <a:off x="609480" y="377964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顷刻”是什么意思？以前我们学过意思相近的词：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瞬间、刹那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读了这句话，你体会到了什么？你从哪些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体会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带着你的独特的理解，再读这句话，注意读出紧张危急的语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4" dur="2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Song Yujiao</cp:lastModifiedBy>
  <dcterms:modified xsi:type="dcterms:W3CDTF">2016-02-29T09:04:26Z</dcterms:modified>
  <cp:revision>3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