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D7C-A2A4-4391-9832-10CD8596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34F-E0B7-4F35-BB9F-E1EEBC85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C12-3DA8-4793-92C7-AE84AD29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451-9482-4BB1-902B-841F278D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FDD-A76D-4906-8041-D12C820C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8B9-B43F-4457-BA1C-FE1020C7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129-CE40-4614-B045-0ABF63A1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225-BD58-49D2-BBDD-8BDF8BBF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7B9-6962-4792-923C-FE660498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A2C-6827-43ED-B223-9F8CF91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4E2-B82A-4EDF-867C-A672DE83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FEC-8D03-4374-BA69-0E5A78A6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CBAF-F39A-4381-8B95-742C44147C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小溪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爱唱歌的小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3049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湘教版三年级语文下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读一读，认一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源  苔  滑  莹  杜  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雕  爬  烫  翻  虽  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词语释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淌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流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性格、举止等）文雅、安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争先恐后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争着向前，唯恐落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浑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朴实雄厚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5"/>
          <p:cNvPicPr/>
          <p:nvPr/>
        </p:nvPicPr>
        <p:blipFill>
          <a:blip r:embed="rId2"/>
          <a:stretch/>
        </p:blipFill>
        <p:spPr>
          <a:xfrm>
            <a:off x="4495680" y="-34920"/>
            <a:ext cx="4648320" cy="689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f857109a76ba08f0b7b82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探究释疑、交流感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学习课文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全班齐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释疑：村里的人为什么把溪流称作“歌溪”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因为这条溪流爱唱歌，所以村里的人叫它“歌溪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学习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男生读，女生听。想想：为什么说歌溪像一个调皮的孩子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理解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源头的水是清亮的，闪着光，从长满苔藓的山崖上跳下来，溅起一蓬蓬亮晶晶的水花。这时候，歌溪像一个调皮的孩子，它的歌声有点儿野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br>
              <a:rPr sz="24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歌溪源头的水银亮闪光，从长满苔藓的山上流下来，溅起一蓬蓬亮晶晶的水花，就像一个调皮的孩子）</a:t>
            </a:r>
            <a:br>
              <a:rPr sz="24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体会作者用词的准确性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从长满苔藓的山崖上跳下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水从长满苔藓的山崖上流下来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。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女生读，男生听。思考：为什么说歌溪像一个调皮的孩子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闭上眼睛，想像歌溪欢快、活泼的样子，然后说给同学听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理解句子。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板上披盖着长长的青苔，像鲜绿的丝线，又像姐姐的长发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这一句把青苔比作丝线，是颜色上存在相同之处，都有“绿”的特点。把它比作姐姐的长发是从“长、亮”两个特点来描写青苔的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口头练习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齐读课文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讨论交流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这一自然段写出歌溪什么样的特点？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文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指文雅、安静，说明歌溪流动缓慢，气势小，发出的声音较小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这一自然段还着重写了什么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溪边树林里的各种鸟叫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想像一下百鸟歌唱的欢快场景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金翅鸟、杜鹃鸟、画眉鸟、大山雀、白头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自由朗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歌溪带给我们哪些欢乐呢？带着这个问题到课文中找一找，画一画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7315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br>
              <a:rPr sz="44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、会写课文生字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课文内容。背诵自己喜欢的部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略歌溪的生命力，体会作者对小溪、对家乡的热爱之情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深化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次朗读全文，加深对课文的理解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完课文，你想对歌溪说哪些话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小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295280" y="1523880"/>
            <a:ext cx="3886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同学们，一条会唱歌的溪流，它会给村里的人带来什么呢？让我们随着这条欢快的溪流一起去看一看，它会给人们带来哪些欢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小溪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小溪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消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ubo021"/>
          <p:cNvPicPr/>
          <p:nvPr/>
        </p:nvPicPr>
        <p:blipFill>
          <a:blip r:embed="rId1"/>
          <a:stretch/>
        </p:blipFill>
        <p:spPr>
          <a:xfrm>
            <a:off x="0" y="-54000"/>
            <a:ext cx="9220320" cy="691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读课文，整体感知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读课文。注意把字音读准，标出不认识的生字、新词，把课文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桌互相检查朗读情况，互相正音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604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字探究，识记生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读准下列生字的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源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注意不能读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滑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能误读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á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声母是平舌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是翘舌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08:42:22Z</dcterms:created>
  <dc:creator/>
  <dc:description/>
  <cp:keywords/>
  <dc:language>en-US</dc:language>
  <cp:lastModifiedBy>Administrator</cp:lastModifiedBy>
  <dcterms:modified xsi:type="dcterms:W3CDTF">2015-04-04T09:00:19Z</dcterms:modified>
  <cp:revision>22</cp:revision>
  <dc:subject/>
  <dc:title>爱唱歌的小溪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