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E95C-8798-4BEF-9796-CC090C30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A73-59A3-49E3-BA2A-1752B486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3D2-BCB9-4B7D-874B-D9FC371E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341-E0EC-454B-991A-8F7C1CB5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DC79-5787-49DE-847D-6B043695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EA6C-D468-4F3E-B986-B5D31A7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49C3-EAF7-4B5B-8F11-3357ED3E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9AB4-BF8F-4040-B69D-C9F147BE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B997-B23B-4DA8-B9C3-585F18C0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9455-8B84-4E70-A606-D223FD41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502B-798A-46A9-8400-1917692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DC7D-713F-482F-A891-4232F11E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9290-430B-49A2-B60A-731F5625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2D88-1E45-4C31-9E62-C8375CC5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B00C-394F-4183-80F5-5CB9774B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9596-5502-40B9-BC2B-2563EBA0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6C96-343D-432B-9A46-49132375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84295-F809-43DD-B01A-0DBCE2DC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2E66-3B48-431E-91EE-64E74049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B694-2AAD-43D9-8521-42F7855D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4A77A-4EC5-4547-B4E1-0CFE81D4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A3E4-DF2D-476D-A3BB-56C1F4B4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740-A6B7-4DE0-B09C-4DA11983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55A9B-385B-430A-BC4D-39D88BB8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4EBDE-5F04-4457-B294-B2540DA9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EDB4-D418-4D11-8CC0-5E27253E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4B04-495D-4395-A98F-BC13DCC6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E65E4-B856-40F3-B4D2-6E1474A5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A950-3EF6-4715-AFAF-ABB63B4B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344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6080" y="11206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7116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344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6080" y="3896280"/>
            <a:ext cx="27162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BEB5-0352-46F9-BDCF-C7647875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EE4-F5FC-48BE-B4EF-1FDDB189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A35-3833-4BB9-A678-BE5E1BCF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166680"/>
            <a:ext cx="843588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6DA-D511-4A8E-89F4-35E597A4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E09-E177-48B6-A3D2-CE30FC88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8962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120-FC51-4044-A1AE-3E2E386A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120680"/>
            <a:ext cx="411660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896280"/>
            <a:ext cx="8435880" cy="25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B1A-5435-4871-8351-DC472FDC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8868-D3E9-40F0-861F-9F15EBC3E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42" name="矩形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组合 9"/>
            <p:cNvGrpSpPr/>
            <p:nvPr/>
          </p:nvGrpSpPr>
          <p:grpSpPr>
            <a:xfrm>
              <a:off x="0" y="6676920"/>
              <a:ext cx="9144000" cy="193680"/>
              <a:chOff x="0" y="6676920"/>
              <a:chExt cx="9144000" cy="193680"/>
            </a:xfrm>
          </p:grpSpPr>
          <p:sp>
            <p:nvSpPr>
              <p:cNvPr id="44" name="矩形 10"/>
              <p:cNvSpPr/>
              <p:nvPr/>
            </p:nvSpPr>
            <p:spPr>
              <a:xfrm>
                <a:off x="0" y="6676920"/>
                <a:ext cx="2297160" cy="193680"/>
              </a:xfrm>
              <a:prstGeom prst="rect">
                <a:avLst/>
              </a:prstGeom>
              <a:solidFill>
                <a:srgbClr val="adb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矩形 11"/>
              <p:cNvSpPr/>
              <p:nvPr/>
            </p:nvSpPr>
            <p:spPr>
              <a:xfrm>
                <a:off x="2288160" y="6676920"/>
                <a:ext cx="2279160" cy="193680"/>
              </a:xfrm>
              <a:prstGeom prst="rect">
                <a:avLst/>
              </a:prstGeom>
              <a:solidFill>
                <a:srgbClr val="087a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2"/>
              <p:cNvSpPr/>
              <p:nvPr/>
            </p:nvSpPr>
            <p:spPr>
              <a:xfrm>
                <a:off x="4558680" y="6676920"/>
                <a:ext cx="2297160" cy="193680"/>
              </a:xfrm>
              <a:prstGeom prst="rect">
                <a:avLst/>
              </a:prstGeom>
              <a:solidFill>
                <a:srgbClr val="cb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13"/>
              <p:cNvSpPr/>
              <p:nvPr/>
            </p:nvSpPr>
            <p:spPr>
              <a:xfrm>
                <a:off x="6846840" y="6676920"/>
                <a:ext cx="2297160" cy="193680"/>
              </a:xfrm>
              <a:prstGeom prst="rect">
                <a:avLst/>
              </a:prstGeom>
              <a:solidFill>
                <a:srgbClr val="2a32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029040" y="646740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173A-3856-41FB-BF94-C860A683494A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6a1e0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3d3f4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5"/>
          <p:cNvGrpSpPr/>
          <p:nvPr/>
        </p:nvGrpSpPr>
        <p:grpSpPr>
          <a:xfrm>
            <a:off x="3203640" y="-12600"/>
            <a:ext cx="2606760" cy="1428480"/>
            <a:chOff x="3203640" y="-12600"/>
            <a:chExt cx="2606760" cy="1428480"/>
          </a:xfrm>
        </p:grpSpPr>
        <p:sp>
          <p:nvSpPr>
            <p:cNvPr id="91" name="椭圆 16"/>
            <p:cNvSpPr/>
            <p:nvPr/>
          </p:nvSpPr>
          <p:spPr>
            <a:xfrm>
              <a:off x="3203640" y="764640"/>
              <a:ext cx="651600" cy="651240"/>
            </a:xfrm>
            <a:prstGeom prst="ellipse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3203640" y="-12600"/>
              <a:ext cx="651600" cy="110304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3855240" y="764640"/>
              <a:ext cx="651600" cy="651240"/>
            </a:xfrm>
            <a:prstGeom prst="ellipse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9"/>
            <p:cNvSpPr/>
            <p:nvPr/>
          </p:nvSpPr>
          <p:spPr>
            <a:xfrm>
              <a:off x="3855240" y="-12600"/>
              <a:ext cx="651600" cy="1103040"/>
            </a:xfrm>
            <a:prstGeom prst="rect">
              <a:avLst/>
            </a:prstGeom>
            <a:solidFill>
              <a:srgbClr val="097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20"/>
            <p:cNvSpPr/>
            <p:nvPr/>
          </p:nvSpPr>
          <p:spPr>
            <a:xfrm>
              <a:off x="4507200" y="764640"/>
              <a:ext cx="651600" cy="651240"/>
            </a:xfrm>
            <a:prstGeom prst="ellipse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1"/>
            <p:cNvSpPr/>
            <p:nvPr/>
          </p:nvSpPr>
          <p:spPr>
            <a:xfrm>
              <a:off x="4507200" y="-12600"/>
              <a:ext cx="651600" cy="110304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22"/>
            <p:cNvSpPr/>
            <p:nvPr/>
          </p:nvSpPr>
          <p:spPr>
            <a:xfrm>
              <a:off x="5158800" y="764640"/>
              <a:ext cx="651600" cy="651240"/>
            </a:xfrm>
            <a:prstGeom prst="ellipse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23"/>
            <p:cNvSpPr/>
            <p:nvPr/>
          </p:nvSpPr>
          <p:spPr>
            <a:xfrm>
              <a:off x="5158800" y="-12600"/>
              <a:ext cx="651600" cy="1103040"/>
            </a:xfrm>
            <a:prstGeom prst="rect">
              <a:avLst/>
            </a:prstGeom>
            <a:solidFill>
              <a:srgbClr val="1a1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24"/>
          <p:cNvGrpSpPr/>
          <p:nvPr/>
        </p:nvGrpSpPr>
        <p:grpSpPr>
          <a:xfrm>
            <a:off x="0" y="6676920"/>
            <a:ext cx="9144000" cy="193680"/>
            <a:chOff x="0" y="6676920"/>
            <a:chExt cx="9144000" cy="193680"/>
          </a:xfrm>
        </p:grpSpPr>
        <p:sp>
          <p:nvSpPr>
            <p:cNvPr id="100" name="矩形 25"/>
            <p:cNvSpPr/>
            <p:nvPr/>
          </p:nvSpPr>
          <p:spPr>
            <a:xfrm>
              <a:off x="0" y="6676920"/>
              <a:ext cx="2297160" cy="193680"/>
            </a:xfrm>
            <a:prstGeom prst="rect">
              <a:avLst/>
            </a:prstGeom>
            <a:solidFill>
              <a:srgbClr val="adb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6"/>
            <p:cNvSpPr/>
            <p:nvPr/>
          </p:nvSpPr>
          <p:spPr>
            <a:xfrm>
              <a:off x="2288160" y="6676920"/>
              <a:ext cx="2279160" cy="193680"/>
            </a:xfrm>
            <a:prstGeom prst="rect">
              <a:avLst/>
            </a:prstGeom>
            <a:solidFill>
              <a:srgbClr val="087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7"/>
            <p:cNvSpPr/>
            <p:nvPr/>
          </p:nvSpPr>
          <p:spPr>
            <a:xfrm>
              <a:off x="4558680" y="6676920"/>
              <a:ext cx="2297160" cy="193680"/>
            </a:xfrm>
            <a:prstGeom prst="rect">
              <a:avLst/>
            </a:prstGeom>
            <a:solidFill>
              <a:srgbClr val="cbd1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8"/>
            <p:cNvSpPr/>
            <p:nvPr/>
          </p:nvSpPr>
          <p:spPr>
            <a:xfrm>
              <a:off x="6846840" y="6676920"/>
              <a:ext cx="2297160" cy="193680"/>
            </a:xfrm>
            <a:prstGeom prst="rect">
              <a:avLst/>
            </a:prstGeom>
            <a:solidFill>
              <a:srgbClr val="2a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d3f41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d3f4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4BE9-5D2A-42B9-B6D7-7387E2BA0C96}" type="slidenum">
              <a:rPr b="0" lang="en-US" sz="1200" spc="-1" strike="noStrike">
                <a:solidFill>
                  <a:srgbClr val="3d3f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title"/>
          </p:nvPr>
        </p:nvSpPr>
        <p:spPr>
          <a:xfrm>
            <a:off x="1130040" y="2282760"/>
            <a:ext cx="70102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8" name="副标题 6"/>
          <p:cNvSpPr/>
          <p:nvPr/>
        </p:nvSpPr>
        <p:spPr>
          <a:xfrm>
            <a:off x="2287440" y="3282840"/>
            <a:ext cx="4581720" cy="384120"/>
          </a:xfrm>
          <a:prstGeom prst="roundRect">
            <a:avLst>
              <a:gd name="adj" fmla="val 50000"/>
            </a:avLst>
          </a:prstGeom>
          <a:solidFill>
            <a:srgbClr val="adb6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d3f41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3d3f41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3d3f41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3d3f41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3d3f41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d3f41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3d3f4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362320" y="762120"/>
            <a:ext cx="4572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rnd" w="9360">
                  <a:solidFill>
                    <a:srgbClr val="3d3f41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华文彩云"/>
              </a:rPr>
              <a:t>白公鹅</a:t>
            </a:r>
            <a:endParaRPr b="1" lang="en-US" sz="1800" spc="-1" strike="noStrike">
              <a:ln cap="rnd" w="9360">
                <a:solidFill>
                  <a:srgbClr val="3d3f41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华文彩云"/>
              <a:ea typeface="华文彩云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36" b="-1249"/>
          <a:stretch/>
        </p:blipFill>
        <p:spPr>
          <a:xfrm>
            <a:off x="2286000" y="2395440"/>
            <a:ext cx="47242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95280" y="15238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落步之前，它总要先把脚掌往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抬抬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，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上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掌蹼，就像收起张开的扇面一样；然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摆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一小会儿这个姿势，再不慌不忙地把脚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放到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地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95280" y="1600200"/>
            <a:ext cx="6400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当白鹅在浅水滩里挺直身子、扇动起两只长长的有力的翅膀时，水面上便泛起层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涟漪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，岸边的芦苇也会沙沙作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这一段体现了白公鹅什么特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71600" y="15238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15238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523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这只白鹅在整片河湾里最引人注目。它过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忧无虑，自由自在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。青草茂密的河岸属于它，水边最洁净的沙滩也属于它。</a:t>
            </a:r>
            <a:r>
              <a:rPr b="0" lang="en-US" sz="3600" spc="-1" strike="noStrike">
                <a:solidFill>
                  <a:srgbClr val="3d3f4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微软雅黑"/>
              </a:rPr>
              <a:t>作者怎样写白公鹅在水里水中自由自在的？</a:t>
            </a:r>
            <a:endParaRPr b="1" lang="en-US" sz="36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1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、抢占地盘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2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、直奔鱼竿，在河里嬉戏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3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、厮打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4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、公然吞吃鱼饵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251460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2743200"/>
            <a:ext cx="25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无忧无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由自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可最糟糕的是，白鹅把我下了鱼饵的一片水面，也划为自己的地盘。我们为这片水面打了好长时间官司，它根本没把我放在眼里。有时它率领一伙公鹅横成一排，直奔鱼竿，而且还要赖在那里；有时它们在河对岸洗澡，大声叫唤，拍打翅膀，互相嬉戏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3d3f4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19320" y="16002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要不，它就与邻近的鹅群来上一场厮打，弄得满河里漂浮着撕咬下来的乱羽。如果赶上这么一场用以耀武扬威的乱子，你就甭想有鱼咬钩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1447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有多少次，它径直把我的罐头筒里的鱼饵咽进了肚里，有时还拖走鱼饵的钓绳。</a:t>
            </a:r>
            <a:r>
              <a:rPr b="0" lang="en-US" sz="40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d3f41"/>
                </a:solidFill>
                <a:latin typeface="Arial"/>
              </a:rPr>
              <a:t> 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种勾当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它从不偷偷摸摸，总是从从容容、不紧不慢的，因为它自认为是这条河的主宰。</a:t>
            </a:r>
            <a:r>
              <a:rPr b="0" lang="en-US" sz="4000" spc="-1" strike="noStrike">
                <a:solidFill>
                  <a:srgbClr val="3d3f4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137160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002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它要是知道了连它自己也属于村里的少年斯焦普卡——他愿意的话，就可以把它抓起来，交给母亲，用它和鲜白菜一起熬汤喝——那可就要大吃一惊了。</a:t>
            </a:r>
            <a:r>
              <a:rPr b="0" lang="en-US" sz="4000" spc="-1" strike="noStrike">
                <a:solidFill>
                  <a:srgbClr val="3d3f4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23880" y="1447920"/>
            <a:ext cx="58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143000"/>
            <a:ext cx="66294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【解析】</a:t>
            </a:r>
            <a:r>
              <a:rPr b="1" lang="zh-CN" sz="4000" spc="-1" strike="noStrike">
                <a:solidFill>
                  <a:srgbClr val="990099"/>
                </a:solidFill>
                <a:latin typeface="Arial"/>
              </a:rPr>
              <a:t>这是作者调侃的话。</a:t>
            </a:r>
            <a:r>
              <a:rPr b="1" lang="zh-CN" sz="4000" spc="-1" strike="noStrike">
                <a:solidFill>
                  <a:srgbClr val="3366cc"/>
                </a:solidFill>
                <a:latin typeface="Arial"/>
              </a:rPr>
              <a:t>对近似“霸道”的鹅，作者虽然无可奈何，却不憎恨它，之所以这样说，是出于一种喜爱。因为喜爱，才留心鹅的一举一动，做种种的遐想，用人的心理去推测鹅的心理，更突出了鹅的行为的放肆，增加了幽默的效果，使人觉得很好笑，很有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微软雅黑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微软雅黑"/>
              </a:rPr>
              <a:t>这究竟是只什么样的白鹅？请大家再次默读课文，概括一下。 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42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42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42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（                 ）的白公鹅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42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42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（                 ）的白公鹅</a:t>
            </a:r>
            <a:br>
              <a:rPr sz="3600"/>
            </a:b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42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（                 ）的白公鹅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2666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耀武扬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3809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威风凛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4952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派头十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微软雅黑"/>
              </a:rPr>
              <a:t>有什么不同之处？</a:t>
            </a:r>
            <a:endParaRPr b="1" lang="en-US" sz="6600" spc="-1" strike="noStrike">
              <a:solidFill>
                <a:srgbClr val="0070c0"/>
              </a:solidFill>
              <a:latin typeface="微软雅黑"/>
            </a:endParaRPr>
          </a:p>
        </p:txBody>
      </p:sp>
      <p:pic>
        <p:nvPicPr>
          <p:cNvPr id="149" name="KSO_BC1" descr=""/>
          <p:cNvPicPr/>
          <p:nvPr/>
        </p:nvPicPr>
        <p:blipFill>
          <a:blip r:embed="rId1"/>
          <a:srcRect l="3632" t="4480" r="3059" b="6598"/>
          <a:stretch/>
        </p:blipFill>
        <p:spPr>
          <a:xfrm>
            <a:off x="168120" y="1604880"/>
            <a:ext cx="4337280" cy="3100320"/>
          </a:xfrm>
          <a:prstGeom prst="rect">
            <a:avLst/>
          </a:prstGeom>
          <a:ln w="0">
            <a:noFill/>
          </a:ln>
        </p:spPr>
      </p:pic>
      <p:pic>
        <p:nvPicPr>
          <p:cNvPr id="150" name="KSO_BC1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495680" cy="2998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876920" y="1600200"/>
            <a:ext cx="3124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公鹅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680" y="5181480"/>
            <a:ext cx="3333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母鹅</a:t>
            </a:r>
            <a:r>
              <a:rPr b="1" lang="en-US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--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7200" spc="-1" strike="noStrike">
                <a:solidFill>
                  <a:srgbClr val="6a63cb"/>
                </a:solidFill>
                <a:latin typeface="微软雅黑"/>
              </a:rPr>
              <a:t>积累</a:t>
            </a:r>
            <a:r>
              <a:rPr b="1" lang="zh-CN" sz="7200" spc="-1" strike="noStrike">
                <a:solidFill>
                  <a:srgbClr val="6a63cb"/>
                </a:solidFill>
                <a:latin typeface="微软雅黑"/>
              </a:rPr>
              <a:t>:</a:t>
            </a:r>
            <a:endParaRPr b="1" lang="en-US" sz="7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11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幼圆"/>
              </a:rPr>
              <a:t>慢条斯理   不慌不忙   </a:t>
            </a:r>
            <a:endParaRPr b="1" lang="en-US" sz="6000" spc="-1" strike="noStrike">
              <a:solidFill>
                <a:srgbClr val="0070c0"/>
              </a:solidFill>
              <a:latin typeface="幼圆"/>
            </a:endParaRPr>
          </a:p>
          <a:p>
            <a:pPr marL="311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幼圆"/>
              </a:rPr>
              <a:t>车辙凌乱   一动不动  </a:t>
            </a:r>
            <a:endParaRPr b="1" lang="en-US" sz="6000" spc="-1" strike="noStrike">
              <a:solidFill>
                <a:srgbClr val="0070c0"/>
              </a:solidFill>
              <a:latin typeface="幼圆"/>
            </a:endParaRPr>
          </a:p>
          <a:p>
            <a:pPr marL="311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幼圆"/>
              </a:rPr>
              <a:t>引人注目   无忧无虑   </a:t>
            </a:r>
            <a:endParaRPr b="1" lang="en-US" sz="6000" spc="-1" strike="noStrike">
              <a:solidFill>
                <a:srgbClr val="0070c0"/>
              </a:solidFill>
              <a:latin typeface="幼圆"/>
            </a:endParaRPr>
          </a:p>
          <a:p>
            <a:pPr marL="311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幼圆"/>
              </a:rPr>
              <a:t>自由自在   耀武扬威   </a:t>
            </a:r>
            <a:endParaRPr b="1" lang="en-US" sz="6000" spc="-1" strike="noStrike">
              <a:solidFill>
                <a:srgbClr val="0070c0"/>
              </a:solidFill>
              <a:latin typeface="幼圆"/>
            </a:endParaRPr>
          </a:p>
          <a:p>
            <a:pPr marL="311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幼圆"/>
              </a:rPr>
              <a:t>偷偷摸摸   从从容容   </a:t>
            </a:r>
            <a:endParaRPr b="1" lang="en-US" sz="6000" spc="-1" strike="noStrike">
              <a:solidFill>
                <a:srgbClr val="0070c0"/>
              </a:solidFill>
              <a:latin typeface="幼圆"/>
            </a:endParaRPr>
          </a:p>
          <a:p>
            <a:pPr marL="31104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幼圆"/>
              </a:rPr>
              <a:t>不紧不慢</a:t>
            </a:r>
            <a:r>
              <a:rPr b="1" lang="zh-CN" sz="6000" spc="-1" strike="noStrike">
                <a:solidFill>
                  <a:srgbClr val="0070c0"/>
                </a:solidFill>
                <a:latin typeface="幼圆"/>
              </a:rPr>
              <a:t> </a:t>
            </a:r>
            <a:endParaRPr b="1" lang="en-US" sz="60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3,99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[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近义词</a:t>
            </a:r>
            <a:r>
              <a:rPr b="1" lang="zh-CN" sz="3200" spc="-1" strike="noStrike">
                <a:solidFill>
                  <a:srgbClr val="0070c0"/>
                </a:solidFill>
                <a:latin typeface="微软雅黑"/>
              </a:rPr>
              <a:t>]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-35784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荣膺——荣获       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78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慢条斯理——不慌不忙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7840" indent="-35784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率领——带领       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78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自由自在——无拘无束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7840" indent="-35784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[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反义词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]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57840" indent="-357840" algn="just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凌乱——整齐       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578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无忧无虑——忧心忡忡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6788" t="4465" r="11669" b="10739"/>
          <a:stretch/>
        </p:blipFill>
        <p:spPr>
          <a:xfrm>
            <a:off x="5334120" y="457200"/>
            <a:ext cx="34797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微软雅黑"/>
              </a:rPr>
              <a:t>认识生字词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幼圆"/>
              </a:rPr>
              <a:t>qiāng      dīan       lián yī   </a:t>
            </a:r>
            <a:endParaRPr b="1" lang="en-US" sz="28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腔调    掂量     涟漪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              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lǜ    shǔ   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无忧无虑    属于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     </a:t>
            </a: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zǎi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幼圆"/>
              </a:rPr>
              <a:t>  </a:t>
            </a:r>
            <a:r>
              <a:rPr b="1" lang="zh-CN" sz="3600" spc="-1" strike="noStrike">
                <a:solidFill>
                  <a:srgbClr val="0070c0"/>
                </a:solidFill>
                <a:latin typeface="幼圆"/>
              </a:rPr>
              <a:t>主宰 </a:t>
            </a:r>
            <a:endParaRPr b="1" lang="en-US" sz="36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1752480"/>
            <a:ext cx="7162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d3f41"/>
                </a:solidFill>
                <a:latin typeface="Arial"/>
              </a:rPr>
              <a:t>荣膺   慢条斯理   车辙     凌乱     细翎     率领   直奔鱼竿   厮打     耀武扬威   崩         勾当     从从容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  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相同点：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幼圆"/>
              </a:rPr>
              <a:t>前者抓住一个特点──高傲，围绕总写句（好一个高傲的动物）从三个方面（叫声、步态、吃相）突出其高傲；后者先写大白鹅应当荣膺海军上将衔，然后再写为什么应当荣膺？在解释说明中写出了白鹅的特点。</a:t>
            </a: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</p:txBody>
      </p:sp>
      <p:sp>
        <p:nvSpPr>
          <p:cNvPr id="157" name=""/>
          <p:cNvSpPr/>
          <p:nvPr/>
        </p:nvSpPr>
        <p:spPr>
          <a:xfrm>
            <a:off x="2305080" y="76212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抓特点，围绕特点来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82880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不同点</a:t>
            </a:r>
            <a:r>
              <a:rPr b="0" lang="zh-CN" sz="3200" spc="-1" strike="noStrike">
                <a:solidFill>
                  <a:srgbClr val="3d3f41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幼圆"/>
              </a:rPr>
              <a:t>课文从哪几方面写白公鹅的特点？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幼圆"/>
              </a:rPr>
              <a:t>A</a:t>
            </a:r>
            <a:r>
              <a:rPr b="1" lang="zh-CN" sz="4000" spc="-1" strike="noStrike">
                <a:solidFill>
                  <a:srgbClr val="cc0000"/>
                </a:solidFill>
                <a:latin typeface="幼圆"/>
              </a:rPr>
              <a:t>白公鹅走路的姿态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幼圆"/>
              </a:rPr>
              <a:t>B</a:t>
            </a:r>
            <a:r>
              <a:rPr b="1" lang="zh-CN" sz="4000" spc="-1" strike="noStrike">
                <a:solidFill>
                  <a:srgbClr val="cc0000"/>
                </a:solidFill>
                <a:latin typeface="幼圆"/>
              </a:rPr>
              <a:t>白公鹅平时的活动</a:t>
            </a: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0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16002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447920"/>
            <a:ext cx="6781680" cy="22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Arial"/>
              </a:rPr>
              <a:t>它走起路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慢条斯理</a:t>
            </a:r>
            <a:r>
              <a:rPr b="1" lang="zh-CN" sz="4400" spc="-1" strike="noStrike">
                <a:solidFill>
                  <a:srgbClr val="3d3f41"/>
                </a:solidFill>
                <a:latin typeface="Arial"/>
              </a:rPr>
              <a:t>，仔细掂量着每一步</a:t>
            </a:r>
            <a:r>
              <a:rPr b="1" lang="zh-CN" sz="2800" spc="-1" strike="noStrike">
                <a:solidFill>
                  <a:srgbClr val="3d3f41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Arial"/>
              </a:rPr>
              <a:t>哪些地方体现出它的慢条斯理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71160" y="166680"/>
            <a:ext cx="843588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微软雅黑"/>
              </a:rPr>
              <a:t>作者怎样写白公鹅的走路？</a:t>
            </a:r>
            <a:endParaRPr b="1" lang="en-US" sz="32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71160" y="1120680"/>
            <a:ext cx="84358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1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、落步的时候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2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、过路的时候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070c0"/>
              </a:buClr>
              <a:buSzPct val="6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3</a:t>
            </a:r>
            <a:r>
              <a:rPr b="1" lang="zh-CN" sz="4400" spc="-1" strike="noStrike">
                <a:solidFill>
                  <a:srgbClr val="0070c0"/>
                </a:solidFill>
                <a:latin typeface="幼圆"/>
              </a:rPr>
              <a:t>、被狗追赶时的缓慢行走</a:t>
            </a:r>
            <a:endParaRPr b="1" lang="en-US" sz="4400" spc="-1" strike="noStrike">
              <a:solidFill>
                <a:srgbClr val="0070c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1447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落步之前，它总要先把脚掌往上抬抬，再合上掌蹼，就像收起张开的扇面一样；然后摆一小会儿这个姿势，再不慌不忙地把脚掌放到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2:07:36Z</dcterms:created>
  <dc:creator>Administrator</dc:creator>
  <dc:description/>
  <dc:language>en-US</dc:language>
  <cp:lastModifiedBy/>
  <dcterms:modified xsi:type="dcterms:W3CDTF">2015-08-20T02:49:18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