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A29-0226-4F6A-8791-ED2AAF74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F6D-8094-4A1F-B89B-E4A6C6AB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3A4-B9A7-4657-B037-0832A097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F83-4235-401E-B8D6-39349A03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B2378-3CA0-4CC0-856A-22D2A150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23A93-4789-40C8-9CE5-FDFEEFC5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C55C8-ADC6-47E8-969E-8DD6DFDF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0CA05-52A6-475B-BB83-3DED8FDC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A8A8B-2921-42C5-A0AA-4D00C160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E2769-32AC-449D-8F2D-0FBD477B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5A9EE-63CE-4BDE-8FE5-B907A98F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B22-AEA3-4E73-B123-D27231DC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918EF-B6B2-47B4-A6FF-4335965C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283EE-FDAC-4EEB-8C63-5D3947AB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33AC1-1917-41EE-9B1A-4202B9E6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ACEB9-9C05-4580-A134-E2258330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8FD79-BA7B-400F-99BA-025243F0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2CAC-2A89-4935-992C-CC6F6BB0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B4DC-EB9F-4914-8720-D4551888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B23A4-78C6-4BA8-89BD-A9A6CA58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A3B5-B48E-4D5C-A08E-360E603B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B474-EB1C-4EAC-B263-16BE48AA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D9C-109A-42B3-8DEC-2703D0A1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2E3F8-8D09-4B26-935E-610F4D46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D7A6F-F6A0-40D3-9773-45076C4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A375-8A90-47E0-A4F2-DBA6599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D5FA-5996-45F6-BFAE-3557EDC1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6CD3-00DB-4DA9-B324-5D50A8C2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C06B-B913-4628-AD76-076B1C6F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A1D2-4C9D-4426-AEFB-8D9C2119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D16AF-C2E2-4FB2-BB0D-F4DA402C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C05C0-985D-4776-96D1-7E5D50D0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0754E-BD57-44F5-90AA-62DABC74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F5B-B888-4FD6-96E5-557AB97B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56A34-6A2A-4721-8B30-136E7ECD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43416-B0C3-40D2-9C30-17A08C57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A8CD8-785A-4F11-8BE3-AFE645F5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07E72-F2A4-4251-B2DF-375F8F11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DD753-0F07-4D02-BB36-CD616F4C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AB6E4-B2EF-41DA-9D1B-139D2EFA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09AF1-E9B8-48DA-9F65-B69211B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6BE7A-DB26-4040-8E26-271AE845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DFC319-9639-471D-AC0E-06F5ACC5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9BD0B-7331-4DA9-AB3D-08667BC6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BC4-621D-4553-927E-2BCF0E24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EE2B6-588C-4151-B649-BAC821BB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18B25-38E5-4D09-B445-7D36A1BC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C2C3D-8BA4-4A59-A803-7DAB321E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D61C8-0109-4B6A-B923-4EA493DB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8395-0513-42AE-AEE8-1C99AA56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C0225-D031-4B38-B405-02F41E49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D2377-DF43-4CCA-90E8-35EE8525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885E4-5221-4FBA-B3C2-0E555090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D1808-A2A7-4EF0-B9BB-76713268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1D09F-9485-46A7-99DA-E2C5736C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3E3-D1E8-477B-98AD-1B413033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5155-A8BE-465A-9451-205B4406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E1D44-2169-4D69-BC37-B3716CC6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05A47-6788-40E7-8E9C-B6400430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DEEC0-720B-4226-887C-15C3F4F2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90EEC-8DD7-4C2A-B7F1-08BFC86C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3414B-DB82-4574-9652-2FCBF8EC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90E9E-45F6-49E2-B0CD-72253764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EB0A0-BF02-43D1-84EB-DD2B684B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C1D26-B415-4344-AAAB-E577260B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07973-8BB0-4B4B-9E20-BE260F1A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C13-DE28-45FB-8E45-A411E316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AB0C3-F842-43D4-8354-2D68476B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C96C2-A69C-47CF-B036-5031A30D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DC6F8-B541-4214-97EA-79054EB7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34F4B-8A31-4C04-8639-9A6A127F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FD888-F03F-427E-9E99-507F05ED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CBB05-1301-42F8-A896-1D505C0B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85225-0ABB-47F3-9B87-6FECD2CC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15A90-D5ED-4922-84F2-0067B055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5774D-EF4B-4CB6-A1B0-8E0DFFBC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5EB86-76AB-4EAF-BAE9-FE2B4999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91E-3655-40D7-9681-A77BE8AC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19122E-0E36-41E1-A095-99AC0D01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0EE96-F7DD-4B9F-9266-E2468596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FE26C-703B-4219-9FE4-0AB96173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F15AA-AE34-4C9D-BD21-559C2AC6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0082B-F9AD-4BF3-88B1-EB61402E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208-EF0C-46D4-BCBF-A8D6E345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C5F1-2011-452D-B15A-94B10CF61A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27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3A68-F405-4493-9882-EF0D4FBD5C60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2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2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27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8F5F-B5BF-42AE-A709-DFECD8C2FAD5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直接连接符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27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1E1B-BED0-4499-A29B-37D6C0E0E046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2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2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2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dec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7dec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7de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7de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7728-E7B8-43A3-8AA9-7DB104EB2557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27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2BB0-D326-4A78-82A5-B53577783C09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直接连接符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11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2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271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8761-6E6B-4DE7-9E3C-1D24C270758B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图片 1" descr="tu5.jpg"/>
          <p:cNvPicPr/>
          <p:nvPr/>
        </p:nvPicPr>
        <p:blipFill>
          <a:blip r:embed="rId2"/>
          <a:stretch/>
        </p:blipFill>
        <p:spPr>
          <a:xfrm>
            <a:off x="4427640" y="4094280"/>
            <a:ext cx="4716360" cy="2763720"/>
          </a:xfrm>
          <a:prstGeom prst="rect">
            <a:avLst/>
          </a:prstGeom>
          <a:ln w="0">
            <a:noFill/>
          </a:ln>
        </p:spPr>
      </p:pic>
      <p:sp>
        <p:nvSpPr>
          <p:cNvPr id="339" name="WordArt 5"/>
          <p:cNvSpPr txBox="1"/>
          <p:nvPr/>
        </p:nvSpPr>
        <p:spPr>
          <a:xfrm>
            <a:off x="2124000" y="2852640"/>
            <a:ext cx="4248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南辕北辙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2857680" y="2214720"/>
            <a:ext cx="523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个人要去南方，却往北行驶，有人告诉他方向错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个人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劝了他几次？怎么劝的？那个朋友又是怎么说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0"/>
          <p:cNvPicPr/>
          <p:nvPr/>
        </p:nvPicPr>
        <p:blipFill>
          <a:blip r:embed="rId2"/>
          <a:stretch/>
        </p:blipFill>
        <p:spPr>
          <a:xfrm>
            <a:off x="0" y="0"/>
            <a:ext cx="2697120" cy="24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500" autoRev="1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1" dur="500" autoRev="1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6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南辕北辙</a:t>
            </a:r>
            <a:br>
              <a:rPr sz="3200"/>
            </a:br>
            <a:r>
              <a:rPr b="1" lang="zh-CN" sz="2400" spc="-1" strike="noStrike">
                <a:solidFill>
                  <a:srgbClr val="4f81bd"/>
                </a:solidFill>
                <a:latin typeface="Calibri"/>
              </a:rPr>
              <a:t>季梁走在路上，遇到他的一位朋友正坐着车向北行驶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季梁问：“你要到哪里去啊？”</a:t>
            </a:r>
            <a:br>
              <a:rPr sz="2400"/>
            </a:br>
            <a:r>
              <a:rPr b="1" lang="zh-CN" sz="2400" spc="-1" strike="noStrike">
                <a:solidFill>
                  <a:srgbClr val="cc66ff"/>
                </a:solidFill>
                <a:latin typeface="Calibri"/>
              </a:rPr>
              <a:t>朋友说：“我要去楚国去。”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季梁不解地问：“你去楚国应该往南走，怎么反而向北奔驰呢？”</a:t>
            </a:r>
            <a:br>
              <a:rPr sz="2400"/>
            </a:br>
            <a:r>
              <a:rPr b="1" lang="zh-CN" sz="2400" spc="-1" strike="noStrike">
                <a:solidFill>
                  <a:srgbClr val="cc66ff"/>
                </a:solidFill>
                <a:latin typeface="Calibri"/>
              </a:rPr>
              <a:t>朋友说：“不怕，我的马好”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季梁告诉他：“马虽然好，可这不是去楚国的路。”</a:t>
            </a:r>
            <a:br>
              <a:rPr sz="2400"/>
            </a:br>
            <a:r>
              <a:rPr b="1" lang="zh-CN" sz="2400" spc="-1" strike="noStrike">
                <a:solidFill>
                  <a:srgbClr val="cc66ff"/>
                </a:solidFill>
                <a:latin typeface="Calibri"/>
              </a:rPr>
              <a:t>朋友回答：“没关系，我的旅费很多。”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季梁再次诚恳地说：“旅费再多，向北走，无论如何也到不了楚国。”</a:t>
            </a:r>
            <a:br>
              <a:rPr sz="2400"/>
            </a:br>
            <a:r>
              <a:rPr b="1" lang="zh-CN" sz="2400" spc="-1" strike="noStrike">
                <a:solidFill>
                  <a:srgbClr val="cc66ff"/>
                </a:solidFill>
                <a:latin typeface="Calibri"/>
              </a:rPr>
              <a:t>朋友却固执己见：“你不用担心，我的车夫驾车技术非常高。”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4f81bd"/>
                </a:solidFill>
                <a:latin typeface="Calibri"/>
              </a:rPr>
              <a:t>车上的朋友不明白，方向错了，马好、旅费多、车夫技术高，这几个条件越好，他离要去的楚国就会越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1908000" y="1413000"/>
            <a:ext cx="604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思考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季梁是一个什么样的人呢？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季梁劝了车上的朋友三次，那么这个人接受了吗？像这样总是顽固地坚持自己的想法而不听别人意见的人，我们用一个成语来形容他，叫做什么？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1"/>
          <p:cNvSpPr/>
          <p:nvPr/>
        </p:nvSpPr>
        <p:spPr>
          <a:xfrm>
            <a:off x="1042920" y="3789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理解“固执己见”的意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0"/>
          <p:cNvPicPr/>
          <p:nvPr/>
        </p:nvPicPr>
        <p:blipFill>
          <a:blip r:embed="rId2"/>
          <a:stretch/>
        </p:blipFill>
        <p:spPr>
          <a:xfrm>
            <a:off x="6429240" y="4749840"/>
            <a:ext cx="2357640" cy="2108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2771640" y="1052640"/>
            <a:ext cx="410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季梁：诚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朋友：固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矩形 7" descr=""/>
          <p:cNvPicPr/>
          <p:nvPr/>
        </p:nvPicPr>
        <p:blipFill>
          <a:blip r:embed="rId2"/>
          <a:stretch/>
        </p:blipFill>
        <p:spPr>
          <a:xfrm>
            <a:off x="49320" y="2523960"/>
            <a:ext cx="9186840" cy="27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1042920" y="1382760"/>
            <a:ext cx="734544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说一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们身边有人犯南辕北辙的错误，想想你见过吗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2000160"/>
            <a:ext cx="82821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通过这篇课文你明白了什么道理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2"/>
          <p:cNvSpPr/>
          <p:nvPr/>
        </p:nvSpPr>
        <p:spPr>
          <a:xfrm>
            <a:off x="684360" y="765000"/>
            <a:ext cx="7775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识本课生字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正确流利有感情地朗读课文。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理解课文寓意，明白无论做什么事都必须先把方向搞正确，知道要听众朋友的提醒和忠告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172360" y="1773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Calibri"/>
              </a:rPr>
              <a:t>生字：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辕   辙   梁   驶   楚   驰        恳   旅   固   执   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南   该   虽   系  担   错  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"/>
          <p:cNvSpPr/>
          <p:nvPr/>
        </p:nvSpPr>
        <p:spPr>
          <a:xfrm>
            <a:off x="428760" y="428760"/>
            <a:ext cx="792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辕”是古代车马前面的两根车杠。这里代指驾车，赶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辙”是车轮走过之后，路面压成的痕迹。这里代指行车走的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0"/>
          <p:cNvPicPr/>
          <p:nvPr/>
        </p:nvPicPr>
        <p:blipFill>
          <a:blip r:embed="rId1"/>
          <a:stretch/>
        </p:blipFill>
        <p:spPr>
          <a:xfrm>
            <a:off x="6446880" y="4446720"/>
            <a:ext cx="2697120" cy="24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1" descr="tu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214200" y="1071720"/>
            <a:ext cx="835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a6d7d"/>
                </a:solidFill>
                <a:latin typeface="黑体"/>
                <a:ea typeface="黑体"/>
              </a:rPr>
              <a:t>自读课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6d7d"/>
                </a:solidFill>
                <a:latin typeface="黑体"/>
                <a:ea typeface="黑体"/>
              </a:rPr>
              <a:t>1.</a:t>
            </a:r>
            <a:r>
              <a:rPr b="1" lang="zh-CN" sz="5400" spc="-1" strike="noStrike">
                <a:solidFill>
                  <a:srgbClr val="2a6d7d"/>
                </a:solidFill>
                <a:latin typeface="黑体"/>
                <a:ea typeface="黑体"/>
              </a:rPr>
              <a:t>找出自己不理解的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6d7d"/>
                </a:solidFill>
                <a:latin typeface="黑体"/>
                <a:ea typeface="黑体"/>
              </a:rPr>
              <a:t>2.</a:t>
            </a:r>
            <a:r>
              <a:rPr b="1" lang="zh-CN" sz="5400" spc="-1" strike="noStrike">
                <a:solidFill>
                  <a:srgbClr val="2a6d7d"/>
                </a:solidFill>
                <a:latin typeface="黑体"/>
                <a:ea typeface="黑体"/>
              </a:rPr>
              <a:t>思考：这则寓言讲了一件什么事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0"/>
          <p:cNvPicPr/>
          <p:nvPr/>
        </p:nvPicPr>
        <p:blipFill>
          <a:blip r:embed="rId1"/>
          <a:stretch/>
        </p:blipFill>
        <p:spPr>
          <a:xfrm>
            <a:off x="6215040" y="4446720"/>
            <a:ext cx="2697120" cy="24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468360" y="260280"/>
            <a:ext cx="86756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无论条件多么好，他的方向走错了，也永远不会到达他要去的地方，所以我们不管做什么都要先弄清方向，不然就不能到达目的地，就成了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南辕北辙。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0"/>
          <p:cNvPicPr/>
          <p:nvPr/>
        </p:nvPicPr>
        <p:blipFill>
          <a:blip r:embed="rId1"/>
          <a:stretch/>
        </p:blipFill>
        <p:spPr>
          <a:xfrm>
            <a:off x="5796000" y="4437000"/>
            <a:ext cx="28432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6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南辕北辙</a:t>
            </a:r>
            <a:br>
              <a:rPr sz="3200"/>
            </a:br>
            <a:r>
              <a:rPr b="1" lang="zh-CN" sz="2400" spc="-1" strike="noStrike">
                <a:solidFill>
                  <a:srgbClr val="4f81bd"/>
                </a:solidFill>
                <a:latin typeface="Calibri"/>
              </a:rPr>
              <a:t>季梁走在路上，遇到他的一位朋友正坐着车向北行驶</a:t>
            </a:r>
            <a:r>
              <a:rPr b="1" lang="zh-CN" sz="2400" spc="-1" strike="noStrike">
                <a:solidFill>
                  <a:srgbClr val="c0504d"/>
                </a:solidFill>
                <a:latin typeface="Calibri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季梁问：“你要到哪里去啊？”</a:t>
            </a:r>
            <a:br>
              <a:rPr sz="2400"/>
            </a:br>
            <a:r>
              <a:rPr b="1" lang="zh-CN" sz="2400" spc="-1" strike="noStrike">
                <a:solidFill>
                  <a:srgbClr val="cc66ff"/>
                </a:solidFill>
                <a:latin typeface="Calibri"/>
              </a:rPr>
              <a:t>朋友说：“我要去楚国去。”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季梁不解地问：“你去楚国应该往南走，怎么反而向北奔驰呢？”</a:t>
            </a:r>
            <a:br>
              <a:rPr sz="2400"/>
            </a:br>
            <a:r>
              <a:rPr b="1" lang="zh-CN" sz="2400" spc="-1" strike="noStrike">
                <a:solidFill>
                  <a:srgbClr val="cc66ff"/>
                </a:solidFill>
                <a:latin typeface="Calibri"/>
              </a:rPr>
              <a:t>朋友说：“不怕，我的马好”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季梁告诉他：“马虽然好，可这不是去楚国的路。”</a:t>
            </a:r>
            <a:br>
              <a:rPr sz="2400"/>
            </a:br>
            <a:r>
              <a:rPr b="1" lang="zh-CN" sz="2400" spc="-1" strike="noStrike">
                <a:solidFill>
                  <a:srgbClr val="cc66ff"/>
                </a:solidFill>
                <a:latin typeface="Calibri"/>
              </a:rPr>
              <a:t>朋友回答：“没关系，我的旅费很多。”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季梁再次诚恳地说：“旅费再多，向北走，无论如何也到不了楚国。”</a:t>
            </a:r>
            <a:br>
              <a:rPr sz="2400"/>
            </a:br>
            <a:r>
              <a:rPr b="1" lang="zh-CN" sz="2400" spc="-1" strike="noStrike">
                <a:solidFill>
                  <a:srgbClr val="cc66ff"/>
                </a:solidFill>
                <a:latin typeface="Calibri"/>
              </a:rPr>
              <a:t>朋友却固执己见：“你不用担心，我的车夫驾车技术非常高。”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4f81bd"/>
                </a:solidFill>
                <a:latin typeface="Calibri"/>
              </a:rPr>
              <a:t>车上的朋友不明白，方向错了，马好、旅费多、车夫技术高，这几个条件越好，他离要去的楚国就会越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1"/>
          <p:cNvSpPr/>
          <p:nvPr/>
        </p:nvSpPr>
        <p:spPr>
          <a:xfrm>
            <a:off x="1476360" y="306864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楚国在南边，他    </a:t>
            </a: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硬要</a:t>
            </a: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往北边走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0"/>
          <p:cNvPicPr/>
          <p:nvPr/>
        </p:nvPicPr>
        <p:blipFill>
          <a:blip r:embed="rId2"/>
          <a:stretch/>
        </p:blipFill>
        <p:spPr>
          <a:xfrm>
            <a:off x="0" y="0"/>
            <a:ext cx="2697120" cy="24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500" autoRev="1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7T09:59:45Z</dcterms:modified>
  <cp:revision>22</cp:revision>
  <dc:subject/>
  <dc:title>幻灯片 1</dc:title>
</cp:coreProperties>
</file>