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8BA4-4B28-4050-9B18-49174596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3D29-D0A3-42D8-86CB-E5F4A1FA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3EF5-9361-4ADB-B0A4-CF8A9C94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2A76-66DB-4D18-B960-52975B3C9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9F76-6CBD-492C-BE74-C722AF6D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69B6-8446-4312-ABDE-45FACDD3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EC22-A1F1-4646-B62B-3C5A47BB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51CD-00B1-4877-A9B5-FC6842DC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A2CF-EB17-4543-90BC-5523C2EC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F90A-3FF9-46E9-A20A-780FFBDD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BBEE-000A-47BC-9CB5-FD651A2B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EEA7-9CDD-4244-A3C6-F9D9AEA2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C37F-700D-41B0-823F-73DC63A81A9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片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412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 rot="5400000">
            <a:off x="3526200" y="2026080"/>
            <a:ext cx="5184720" cy="2230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0">
                  <a:noFill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成语故事会</a:t>
            </a:r>
            <a:endParaRPr b="0" lang="en-US" sz="9600" spc="1" strike="noStrike">
              <a:ln w="0">
                <a:noFill/>
              </a:ln>
              <a:solidFill>
                <a:srgbClr val="008080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1114401JV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1187280" y="1670040"/>
            <a:ext cx="3384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9344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言简意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900000" y="2535120"/>
            <a:ext cx="4103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9344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易学易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187280" y="3357720"/>
            <a:ext cx="3600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9344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形象具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268360" y="549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华文隶书"/>
              </a:rPr>
              <a:t>成语的特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324000" y="490140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　　成语是我国汉语语言文化宝库中的奇葩，它言简意赅，含义深刻，其背后的有趣故事常常令人深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-69840" y="838080"/>
            <a:ext cx="9212400" cy="54849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0" y="0"/>
            <a:ext cx="46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华文新魏"/>
              </a:rPr>
              <a:t>看图猜成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724360" y="83664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华文隶书"/>
              </a:rPr>
              <a:t>狐假虎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403280" y="621648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比喻凭借别人的威势欺压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刻舟求剑"/>
          <p:cNvPicPr/>
          <p:nvPr/>
        </p:nvPicPr>
        <p:blipFill>
          <a:blip r:embed="rId1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187200" y="5950080"/>
            <a:ext cx="928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讽刺了片面、静止，不知变通、墨守成规的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292720" y="458136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华文隶书"/>
              </a:rPr>
              <a:t>刻舟求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59976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684360" y="6021360"/>
            <a:ext cx="81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不要盲目模仿他人，这样只会适得其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796000" y="620640"/>
            <a:ext cx="298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华文隶书"/>
              </a:rPr>
              <a:t>东施效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928800" y="557208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比喻对不懂事理的人讲道理或言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709640" y="1609560"/>
            <a:ext cx="5724720" cy="36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24000" y="980640"/>
            <a:ext cx="8640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从前，宋国有个农夫正在田里翻土。突然，他看见有一只野兔从旁边的草丛里慌慌张张地窜出来，一头撞在田边的树墩子上，便倒在那儿一动也不动了。农夫走过去一看：兔子死了。因为它奔跑的速度太快，把脖子都撞折（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sh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é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了。农夫高兴极了，他一点力气没花，就白捡了一只又肥又大的野兔。他心想：要是天天都能捡到野兔，日子就好过了。从此，他再也不肯出力气种地了。每天，他就躺在那里，等待着第二只、第三只野兔自己撞到这树墩子上来。但是世上哪有那么多便宜事啊。农夫再没有捡到撞死的野兔，而他的田地却荒芜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203640" y="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守株待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>
            <a:off x="1476360" y="1413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2771640" y="1413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>
            <a:off x="4429080" y="1413000"/>
            <a:ext cx="863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1-10052923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324000" y="238212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讲成语故事要讲清楚故事发生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时间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地点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人物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故事情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起因、发展、结局），还可以讲讲故事给人们的启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539640" y="549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讲故事的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写作要求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395280" y="16869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从故事会中选择一个自己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最喜欢、印象深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故事写下来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24000" y="294408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２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用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自己的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再现一个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完整、具体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成语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324000" y="42411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３、在某个成语故事的基础上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续写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段新的故事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05:51:13Z</dcterms:created>
  <dc:creator/>
  <dc:description/>
  <cp:keywords/>
  <dc:language>en-US</dc:language>
  <cp:lastModifiedBy>Administrator</cp:lastModifiedBy>
  <dcterms:modified xsi:type="dcterms:W3CDTF">2015-04-07T09:34:30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199</vt:lpwstr>
  </property>
</Properties>
</file>