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4.png" ContentType="image/pn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12FE-8064-45E8-883D-4B10F996B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99A5-8A72-4691-B735-4C160AFA5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CC27-C6D0-4506-98D4-DCBD86051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3F49-B5E8-4D5B-BEE9-2EE4A00B0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63E42-0726-4B3D-A535-639080EDE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FC016-16CB-453E-8944-A08241CC8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A4CC5-75F8-465E-A1A6-869EB35C7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BCFC3-D2BC-47AE-B0E4-84D688F88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E2BDE-29CA-4123-9746-7443EC48C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B0D1E-11DB-4936-AA66-2FC838B24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D812D-4679-4033-BC51-359091C15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C032-6974-4CE7-B650-4C50200A8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16259-1A87-41EA-949A-0DB904DE4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93894-9E1A-4EE2-A2E1-22853FFF5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B1FA0-4251-4F2D-BA5D-C760B1F19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C262A-18CF-4A50-BEBD-AFDD582D8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019A0-C151-4476-B884-683997BD6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7778B0-C40A-45AB-8B5B-940FAAAF2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BD58B2-3FFD-4695-80DA-88BB7F7F6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62F623-FF94-4BC6-8212-031D2BF73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661FC2-12C8-4447-9D25-B00617FB7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1319A8-A4B1-4FDB-9264-23F597B95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8806-82EF-4917-8CCF-2A2AA2903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6B63E6-6B3C-4C5E-AC89-2ADE369B1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6477DB-7D2A-4CAF-B936-FA0790D65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E390D3-0B79-4E55-9EA1-85B47FABC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FE315F-FCB5-4290-A1F1-65BFF0067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2F3D1A-779E-4229-A5F0-A80B9649B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D75EA1-2ED1-4103-B269-43A630216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1C6057-990E-441E-8A7E-FF8C8CF9D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0F7A-11CD-4504-9C18-E95AF1F85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516B-DBA3-4605-AD76-721CA1CD1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961B-5DD4-480A-881F-4F4AF4476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0E80-BBB3-4F86-B4C2-3D8F339A2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165C-2410-4899-8548-EB22B6D18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B491-B9AF-409F-A785-C062CC20A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1CF93-0C8D-4310-993E-1F52BCA289C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00721-62CA-46F3-A60F-E30AF55F9BA8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90" name="Group 3"/>
            <p:cNvGrpSpPr/>
            <p:nvPr/>
          </p:nvGrpSpPr>
          <p:grpSpPr>
            <a:xfrm>
              <a:off x="290520" y="2546280"/>
              <a:ext cx="712440" cy="474480"/>
              <a:chOff x="290520" y="2546280"/>
              <a:chExt cx="712440" cy="474480"/>
            </a:xfrm>
          </p:grpSpPr>
          <p:sp>
            <p:nvSpPr>
              <p:cNvPr id="91" name="Rectangle 4"/>
              <p:cNvSpPr/>
              <p:nvPr/>
            </p:nvSpPr>
            <p:spPr>
              <a:xfrm>
                <a:off x="290520" y="2546280"/>
                <a:ext cx="438480" cy="4744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Rectangle 5"/>
              <p:cNvSpPr/>
              <p:nvPr/>
            </p:nvSpPr>
            <p:spPr>
              <a:xfrm>
                <a:off x="674280" y="2546280"/>
                <a:ext cx="328680" cy="47448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" name="Group 6"/>
            <p:cNvGrpSpPr/>
            <p:nvPr/>
          </p:nvGrpSpPr>
          <p:grpSpPr>
            <a:xfrm>
              <a:off x="414360" y="2968560"/>
              <a:ext cx="739800" cy="474480"/>
              <a:chOff x="414360" y="2968560"/>
              <a:chExt cx="739800" cy="474480"/>
            </a:xfrm>
          </p:grpSpPr>
          <p:sp>
            <p:nvSpPr>
              <p:cNvPr id="94" name="Rectangle 7"/>
              <p:cNvSpPr/>
              <p:nvPr/>
            </p:nvSpPr>
            <p:spPr>
              <a:xfrm>
                <a:off x="414360" y="2968560"/>
                <a:ext cx="422640" cy="47448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Rectangle 8"/>
              <p:cNvSpPr/>
              <p:nvPr/>
            </p:nvSpPr>
            <p:spPr>
              <a:xfrm>
                <a:off x="784440" y="2968560"/>
                <a:ext cx="369720" cy="47448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11"/>
            <p:cNvSpPr/>
            <p:nvPr/>
          </p:nvSpPr>
          <p:spPr>
            <a:xfrm flipV="1">
              <a:off x="316080" y="3259440"/>
              <a:ext cx="8692920" cy="5580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0F17E-F625-446F-9E6B-94589169FEAB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无标题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133360" y="2666880"/>
            <a:ext cx="47242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春的消息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380880" y="30492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湘教版三年级语文下册第一单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4" descr="蝶2"/>
          <p:cNvPicPr/>
          <p:nvPr/>
        </p:nvPicPr>
        <p:blipFill>
          <a:blip r:embed="rId1"/>
          <a:stretch/>
        </p:blipFill>
        <p:spPr>
          <a:xfrm>
            <a:off x="0" y="0"/>
            <a:ext cx="9144000" cy="75438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春姑娘把小朋友们的好主意让一位诗人写成了一首诗来传达“春的消息”。我们来读一读，看看谁能收到这些消息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533520" y="213372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新  牵  怜  禁   跃   认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唤  累  躺  顶   耀   痒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2819520" y="609480"/>
            <a:ext cx="3657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黑体"/>
              </a:rPr>
              <a:t>生字学习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4" descr="春华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4" descr="spring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品悟诗情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．再读诗歌，边读边想，读完课文后，你感受到的春的消息在哪里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．交流读后的感受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抓住自己观点的支撑点，通过感情朗读来表达出来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第一节中春的消息是指春风、春水、树枝、水鸭；抓住“盼望”“整整”体会孩子们渴望和欣喜的感情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第二节中春的消息是指换上春装；“飞过”“飞上”表达了孩子们寻找春天的欢快和急切之情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第三节中春的消息是指蝴蝶飞舞；抓住“爱怜”体会孩子们对自然万物的爱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第四节中春的消息是指雏菊开放；抓住“雀跃”体会孩子长高的自豪和欣喜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第五节中春的消息是指吐出绿苞、溪水唱歌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第六节中春的消息是指太阳照耀、被嫩草搔痒的面颊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456840" y="579240"/>
            <a:ext cx="838188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拓展延伸，积累实践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关于春的消息还有很多很多，只要你做一个细心观察的孩子，你一定能发现的更多！去找一找相关描写春天的儿歌、古诗、歌曲读一读、背一背、唱一唱。也可以自己动手画一画，剪一剪美丽的春天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积累诗歌中描写的生动的词语或句子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2" descr="2005930103356244"/>
          <p:cNvPicPr/>
          <p:nvPr/>
        </p:nvPicPr>
        <p:blipFill>
          <a:blip r:embed="rId1"/>
          <a:stretch/>
        </p:blipFill>
        <p:spPr>
          <a:xfrm>
            <a:off x="0" y="3505320"/>
            <a:ext cx="9144000" cy="335268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3"/>
          <p:cNvSpPr/>
          <p:nvPr/>
        </p:nvSpPr>
        <p:spPr>
          <a:xfrm>
            <a:off x="2143800" y="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黑体"/>
              </a:rPr>
              <a:t>１、积累描写春天的词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4"/>
          <p:cNvSpPr/>
          <p:nvPr/>
        </p:nvSpPr>
        <p:spPr>
          <a:xfrm>
            <a:off x="304920" y="838080"/>
            <a:ext cx="83055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ahoma"/>
                <a:ea typeface="黑体"/>
              </a:rPr>
              <a:t>春风拂面    春光明媚    春回大地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ahoma"/>
                <a:ea typeface="黑体"/>
              </a:rPr>
              <a:t>春花烂漫    春雷滚滚    春雨绵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ahoma"/>
                <a:ea typeface="黑体"/>
              </a:rPr>
              <a:t>春暖花开    春意盎然    春色满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ahoma"/>
                <a:ea typeface="黑体"/>
              </a:rPr>
              <a:t>桃红柳绿    万紫千红    生机勃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ahoma"/>
                <a:ea typeface="黑体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3"/>
          <p:cNvSpPr/>
          <p:nvPr/>
        </p:nvSpPr>
        <p:spPr>
          <a:xfrm>
            <a:off x="1828800" y="533520"/>
            <a:ext cx="4191120" cy="34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春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 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晓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     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唐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  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孟浩然</a:t>
            </a:r>
            <a:br>
              <a:rPr sz="4800"/>
            </a:b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春眠不觉晓，处处闻啼鸟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夜来风雨声，花落知多少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-360" y="4572000"/>
            <a:ext cx="88390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近四十年来，结集出版的有诗歌、童话、散文、幼儿文学、文学评论以及诗词歌曲集四十余种，选集有《金波儿童诗选》《金波儿童诗集》《金波童话》《金波儿歌》《金波作品精选》等。作品获中国作家协会第一、二、三届全国优秀儿童文学奖，全国第一、二届幼儿图书奖，第二届冰心儿童图书新作奖大奖，第四届宋庆龄儿童文学奖等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99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被推荐为国际安徒生奖候选人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3" descr="金波"/>
          <p:cNvPicPr/>
          <p:nvPr/>
        </p:nvPicPr>
        <p:blipFill>
          <a:blip r:embed="rId2"/>
          <a:stretch/>
        </p:blipFill>
        <p:spPr>
          <a:xfrm>
            <a:off x="228600" y="228600"/>
            <a:ext cx="4876920" cy="416556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4"/>
          <p:cNvSpPr/>
          <p:nvPr/>
        </p:nvSpPr>
        <p:spPr>
          <a:xfrm>
            <a:off x="5105520" y="75240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金波 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93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生于北京，祖籍河北冀县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957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考入北京师范学院中文系。读书期间，开始发表作品。毕业后留校任教，先后在中文系、音乐系授课。现为首都师范大学教授，中国作家协会儿童文学委员会委员，北京作家协会儿童文学创作委员会主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5943600" y="15228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作者简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3"/>
          <p:cNvSpPr/>
          <p:nvPr/>
        </p:nvSpPr>
        <p:spPr>
          <a:xfrm>
            <a:off x="1828800" y="533520"/>
            <a:ext cx="5181480" cy="420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</a:t>
            </a:r>
            <a:r>
              <a:rPr b="1" lang="zh-CN" sz="4800" spc="-1" strike="noStrike">
                <a:solidFill>
                  <a:srgbClr val="9900ff"/>
                </a:solidFill>
                <a:latin typeface="楷体_GB2312"/>
                <a:ea typeface="楷体_GB2312"/>
              </a:rPr>
              <a:t>绝句 </a:t>
            </a:r>
            <a:r>
              <a:rPr b="1" lang="zh-CN" sz="4800" spc="-1" strike="noStrike">
                <a:solidFill>
                  <a:srgbClr val="9900ff"/>
                </a:solidFill>
                <a:latin typeface="Arial"/>
                <a:ea typeface="楷体_GB2312"/>
              </a:rPr>
              <a:t>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ff"/>
                </a:solidFill>
                <a:latin typeface="楷体_GB2312"/>
                <a:ea typeface="楷体_GB2312"/>
              </a:rPr>
              <a:t>              </a:t>
            </a:r>
            <a:r>
              <a:rPr b="1" lang="zh-CN" sz="2800" spc="-1" strike="noStrike">
                <a:solidFill>
                  <a:srgbClr val="9900ff"/>
                </a:solidFill>
                <a:latin typeface="楷体_GB2312"/>
                <a:ea typeface="楷体_GB2312"/>
              </a:rPr>
              <a:t>唐 </a:t>
            </a:r>
            <a:r>
              <a:rPr b="1" lang="zh-CN" sz="2800" spc="-1" strike="noStrike">
                <a:solidFill>
                  <a:srgbClr val="9900ff"/>
                </a:solidFill>
                <a:latin typeface="Arial"/>
                <a:ea typeface="楷体_GB2312"/>
              </a:rPr>
              <a:t>  </a:t>
            </a:r>
            <a:r>
              <a:rPr b="1" lang="zh-CN" sz="2800" spc="-1" strike="noStrike">
                <a:solidFill>
                  <a:srgbClr val="9900ff"/>
                </a:solidFill>
                <a:latin typeface="楷体_GB2312"/>
                <a:ea typeface="楷体_GB2312"/>
              </a:rPr>
              <a:t>杜甫</a:t>
            </a:r>
            <a:br>
              <a:rPr sz="4800"/>
            </a:br>
            <a:r>
              <a:rPr b="1" lang="zh-CN" sz="4800" spc="-1" strike="noStrike">
                <a:solidFill>
                  <a:srgbClr val="9900ff"/>
                </a:solidFill>
                <a:latin typeface="楷体_GB2312"/>
                <a:ea typeface="楷体_GB2312"/>
              </a:rPr>
              <a:t>两个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黄鹂</a:t>
            </a:r>
            <a:r>
              <a:rPr b="1" lang="zh-CN" sz="4800" spc="-1" strike="noStrike">
                <a:solidFill>
                  <a:srgbClr val="9900ff"/>
                </a:solidFill>
                <a:latin typeface="楷体_GB2312"/>
                <a:ea typeface="楷体_GB2312"/>
              </a:rPr>
              <a:t>鸣</a:t>
            </a:r>
            <a:r>
              <a:rPr b="1" lang="zh-CN" sz="4800" spc="-1" strike="noStrike">
                <a:solidFill>
                  <a:srgbClr val="33cc33"/>
                </a:solidFill>
                <a:latin typeface="楷体_GB2312"/>
                <a:ea typeface="楷体_GB2312"/>
              </a:rPr>
              <a:t>翠柳</a:t>
            </a:r>
            <a:r>
              <a:rPr b="1" lang="zh-CN" sz="4800" spc="-1" strike="noStrike">
                <a:solidFill>
                  <a:srgbClr val="9900ff"/>
                </a:solidFill>
                <a:latin typeface="楷体_GB2312"/>
                <a:ea typeface="楷体_GB2312"/>
              </a:rPr>
              <a:t>，一行</a:t>
            </a:r>
            <a:r>
              <a:rPr b="1" lang="zh-CN" sz="4800" spc="-1" strike="noStrike">
                <a:solidFill>
                  <a:srgbClr val="ffcf01"/>
                </a:solidFill>
                <a:latin typeface="楷体_GB2312"/>
                <a:ea typeface="楷体_GB2312"/>
              </a:rPr>
              <a:t>白鹭</a:t>
            </a:r>
            <a:r>
              <a:rPr b="1" lang="zh-CN" sz="4800" spc="-1" strike="noStrike">
                <a:solidFill>
                  <a:srgbClr val="9900ff"/>
                </a:solidFill>
                <a:latin typeface="楷体_GB2312"/>
                <a:ea typeface="楷体_GB2312"/>
              </a:rPr>
              <a:t>上</a:t>
            </a:r>
            <a:r>
              <a:rPr b="1" lang="zh-CN" sz="4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青天</a:t>
            </a:r>
            <a:r>
              <a:rPr b="1" lang="zh-CN" sz="4800" spc="-1" strike="noStrike">
                <a:solidFill>
                  <a:srgbClr val="9900ff"/>
                </a:solidFill>
                <a:latin typeface="楷体_GB2312"/>
                <a:ea typeface="楷体_GB2312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窗</a:t>
            </a:r>
            <a:r>
              <a:rPr b="1" lang="zh-CN" sz="4800" spc="-1" strike="noStrike">
                <a:solidFill>
                  <a:srgbClr val="9900ff"/>
                </a:solidFill>
                <a:latin typeface="楷体_GB2312"/>
                <a:ea typeface="楷体_GB2312"/>
              </a:rPr>
              <a:t>含</a:t>
            </a:r>
            <a:r>
              <a:rPr b="1" lang="zh-CN" sz="48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西</a:t>
            </a:r>
            <a:r>
              <a:rPr b="1" lang="zh-CN" sz="4800" spc="-1" strike="noStrike">
                <a:solidFill>
                  <a:srgbClr val="9900ff"/>
                </a:solidFill>
                <a:latin typeface="楷体_GB2312"/>
                <a:ea typeface="楷体_GB2312"/>
              </a:rPr>
              <a:t>岭</a:t>
            </a:r>
            <a:r>
              <a:rPr b="1" lang="zh-CN" sz="48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千</a:t>
            </a:r>
            <a:r>
              <a:rPr b="1" lang="zh-CN" sz="4800" spc="-1" strike="noStrike">
                <a:solidFill>
                  <a:srgbClr val="9900ff"/>
                </a:solidFill>
                <a:latin typeface="楷体_GB2312"/>
                <a:ea typeface="楷体_GB2312"/>
              </a:rPr>
              <a:t>秋</a:t>
            </a:r>
            <a:r>
              <a:rPr b="1" lang="zh-CN" sz="4800" spc="-1" strike="noStrike">
                <a:solidFill>
                  <a:srgbClr val="ff9999"/>
                </a:solidFill>
                <a:latin typeface="楷体_GB2312"/>
                <a:ea typeface="楷体_GB2312"/>
              </a:rPr>
              <a:t>雪</a:t>
            </a:r>
            <a:r>
              <a:rPr b="1" lang="zh-CN" sz="4800" spc="-1" strike="noStrike">
                <a:solidFill>
                  <a:srgbClr val="9900ff"/>
                </a:solidFill>
                <a:latin typeface="楷体_GB2312"/>
                <a:ea typeface="楷体_GB2312"/>
              </a:rPr>
              <a:t>，</a:t>
            </a:r>
            <a:r>
              <a:rPr b="1" lang="zh-CN" sz="48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门</a:t>
            </a:r>
            <a:r>
              <a:rPr b="1" lang="zh-CN" sz="4800" spc="-1" strike="noStrike">
                <a:solidFill>
                  <a:srgbClr val="9900ff"/>
                </a:solidFill>
                <a:latin typeface="楷体_GB2312"/>
                <a:ea typeface="楷体_GB2312"/>
              </a:rPr>
              <a:t>泊</a:t>
            </a:r>
            <a:r>
              <a:rPr b="1" lang="zh-CN" sz="48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东</a:t>
            </a:r>
            <a:r>
              <a:rPr b="1" lang="zh-CN" sz="4800" spc="-1" strike="noStrike">
                <a:solidFill>
                  <a:srgbClr val="9900ff"/>
                </a:solidFill>
                <a:latin typeface="楷体_GB2312"/>
                <a:ea typeface="楷体_GB2312"/>
              </a:rPr>
              <a:t>吴</a:t>
            </a:r>
            <a:r>
              <a:rPr b="1" lang="zh-CN" sz="48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万</a:t>
            </a:r>
            <a:r>
              <a:rPr b="1" lang="zh-CN" sz="4800" spc="-1" strike="noStrike">
                <a:solidFill>
                  <a:srgbClr val="9900ff"/>
                </a:solidFill>
                <a:latin typeface="楷体_GB2312"/>
                <a:ea typeface="楷体_GB2312"/>
              </a:rPr>
              <a:t>里</a:t>
            </a:r>
            <a:r>
              <a:rPr b="1" lang="zh-CN" sz="4800" spc="-1" strike="noStrike">
                <a:solidFill>
                  <a:srgbClr val="006699"/>
                </a:solidFill>
                <a:latin typeface="楷体_GB2312"/>
                <a:ea typeface="楷体_GB2312"/>
              </a:rPr>
              <a:t>船</a:t>
            </a:r>
            <a:r>
              <a:rPr b="1" lang="zh-CN" sz="4800" spc="-1" strike="noStrike">
                <a:solidFill>
                  <a:srgbClr val="9900ff"/>
                </a:solidFill>
                <a:latin typeface="楷体_GB2312"/>
                <a:ea typeface="楷体_GB2312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无标题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3"/>
          <p:cNvSpPr/>
          <p:nvPr/>
        </p:nvSpPr>
        <p:spPr>
          <a:xfrm>
            <a:off x="2743200" y="1905120"/>
            <a:ext cx="5181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Arial"/>
                <a:ea typeface="黑体"/>
              </a:rPr>
              <a:t>谢谢指导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学习目标</a:t>
            </a:r>
            <a:br>
              <a:rPr sz="44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认识、会写本课生字，理解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消息、漂白、牵引、爱怜、雏菊、禁不住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等词语的意思。　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能正确、流利、有感情的朗读全诗，背诵诗歌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通过朗读诗歌，增强对诗歌的理解，提高想象力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80880" y="68580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同学们，你们知道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消息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是什么意思呢？能说说你对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消息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理解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3" descr="200610210257402794823"/>
          <p:cNvPicPr/>
          <p:nvPr/>
        </p:nvPicPr>
        <p:blipFill>
          <a:blip r:embed="rId1"/>
          <a:stretch/>
        </p:blipFill>
        <p:spPr>
          <a:xfrm>
            <a:off x="2057400" y="1752480"/>
            <a:ext cx="4495680" cy="34783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创设情景，激发兴趣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春姑娘就要来了，她想给小朋友们发一个春天到来的好消息，你帮她想一想：春姑娘可以怎么告诉我们这个好消息呢？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楷体_GB2312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　　　　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200709240642212414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4" descr="鸟"/>
          <p:cNvPicPr/>
          <p:nvPr/>
        </p:nvPicPr>
        <p:blipFill>
          <a:blip r:embed="rId1"/>
          <a:stretch/>
        </p:blipFill>
        <p:spPr>
          <a:xfrm>
            <a:off x="0" y="0"/>
            <a:ext cx="9144000" cy="70502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" descr="鸟2"/>
          <p:cNvPicPr/>
          <p:nvPr/>
        </p:nvPicPr>
        <p:blipFill>
          <a:blip r:embed="rId1"/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4" descr="蝶"/>
          <p:cNvPicPr/>
          <p:nvPr/>
        </p:nvPicPr>
        <p:blipFill>
          <a:blip r:embed="rId1"/>
          <a:stretch/>
        </p:blipFill>
        <p:spPr>
          <a:xfrm>
            <a:off x="0" y="0"/>
            <a:ext cx="9144000" cy="71438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7T13:22:41Z</dcterms:created>
  <dc:creator/>
  <dc:description/>
  <cp:keywords/>
  <dc:language>en-US</dc:language>
  <cp:lastModifiedBy>Administrator</cp:lastModifiedBy>
  <dcterms:modified xsi:type="dcterms:W3CDTF">2015-04-04T09:04:36Z</dcterms:modified>
  <cp:revision>21</cp:revision>
  <dc:subject/>
  <dc:title>春的消息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42</vt:lpwstr>
  </property>
  <property fmtid="{D5CDD505-2E9C-101B-9397-08002B2CF9AE}" pid="3" name="Version">
    <vt:r8>1</vt:r8>
  </property>
</Properties>
</file>