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50.gif" ContentType="image/gif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7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F39D-3FB9-435D-8BBA-F53E89C0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A184-EE04-4B3F-8690-56E01229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BDC-A5D0-42F2-9DFA-8165192A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8DE-36BB-448A-93B1-45C0319A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BEE-CCA0-4970-9C93-16F5FBBF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579B-F6EF-453E-9FCD-32250CF4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950-3AC3-4FD1-9834-B0233141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69C-384A-4DF8-B8CC-95481DC6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6C9-5923-4C9C-9E61-BB245F28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1EDD-7C22-40AD-961E-E8AA1183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D0B2-E401-4627-BDBF-C49EEFA1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407-80DD-4E82-9E8B-B5CEF1F6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50AB-E550-4123-B83D-8691C34F0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4800600"/>
            <a:ext cx="9144000" cy="152388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990720" y="26668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课  春天的小雨滴滴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2"/>
          <p:cNvSpPr/>
          <p:nvPr/>
        </p:nvSpPr>
        <p:spPr>
          <a:xfrm>
            <a:off x="1447920" y="3733920"/>
            <a:ext cx="6476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505320" y="57150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文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  三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9480" y="1994040"/>
            <a:ext cx="79218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同样是从天而落的雨，为什么会发出不一样的声响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733920"/>
            <a:ext cx="807696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春天的小雨都落在了不同的地方，所以发出了不同的声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5"/>
          <p:cNvSpPr/>
          <p:nvPr/>
        </p:nvSpPr>
        <p:spPr>
          <a:xfrm>
            <a:off x="304920" y="380880"/>
            <a:ext cx="2590560" cy="762120"/>
          </a:xfrm>
          <a:custGeom>
            <a:avLst/>
            <a:gdLst>
              <a:gd name="textAreaLeft" fmla="*/ 89640 w 2590560"/>
              <a:gd name="textAreaRight" fmla="*/ 2500920 w 259056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733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9797" y="21600"/>
                </a:lnTo>
                <a:arcTo wR="3600" hR="3600" stAng="10800000" swAng="5400000"/>
                <a:lnTo>
                  <a:pt x="73397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课文解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14400" y="3733920"/>
            <a:ext cx="7391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篷顶的波浪板上       树叶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铁皮屋顶上               雨伞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地面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371600"/>
            <a:ext cx="807696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春天的小雨都落在了哪些地方？它们的声音有什么不同呢？默读课文，仔细地找一找，在文中标画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971800" y="9907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会找朋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2208240"/>
            <a:ext cx="3886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篷顶的波浪板上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树叶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铁皮屋顶上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雨伞上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地面上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2208240"/>
            <a:ext cx="3886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叮叮咚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滴滴答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嗵——嗵——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啪啪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淅淅沥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2514600"/>
            <a:ext cx="1447920" cy="289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327672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971800" y="2590920"/>
            <a:ext cx="22860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472428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286000" y="4038480"/>
            <a:ext cx="28954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06480" y="2865240"/>
            <a:ext cx="77803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叮叮咚咚”是春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发出的声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“________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春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发出的声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这么多声音交汇在一起，你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93920" y="9144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想一想，说一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2120" y="1905120"/>
            <a:ext cx="7238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除了描写春天小雨的声音，在文中还写出了作者眼中小雨的样子。你能找到这些语句吗？通过朗读这些语句，你想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4838760"/>
            <a:ext cx="20574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3429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在楼顶上看雨，雨丝细细的，密密的，随风飘洒，如同轻轻地把种子撒在大地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7524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雨滴在树叶上集合起来，成为一颗大水珠，顺着叶脉滑下来，打小鼓似的；啪！嗵—嗵—嗵！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咚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39083" r="0" b="0"/>
          <a:stretch/>
        </p:blipFill>
        <p:spPr>
          <a:xfrm>
            <a:off x="5105520" y="4724280"/>
            <a:ext cx="380988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26200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咚——咚——咚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之间的横线什么意思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36108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表示声音的延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5289480"/>
            <a:ext cx="23479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09480" y="182772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文中不仅写到了春雨的样子，还写到了春雨的味道，读一读，找出相关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240" y="3352680"/>
            <a:ext cx="5867640" cy="3267000"/>
            <a:chOff x="228240" y="3352680"/>
            <a:chExt cx="5867640" cy="3267000"/>
          </a:xfrm>
        </p:grpSpPr>
        <p:grpSp>
          <p:nvGrpSpPr>
            <p:cNvPr id="126" name=""/>
            <p:cNvGrpSpPr/>
            <p:nvPr/>
          </p:nvGrpSpPr>
          <p:grpSpPr>
            <a:xfrm>
              <a:off x="2666880" y="3352680"/>
              <a:ext cx="3429000" cy="1905120"/>
              <a:chOff x="2666880" y="3352680"/>
              <a:chExt cx="3429000" cy="1905120"/>
            </a:xfrm>
          </p:grpSpPr>
          <p:sp>
            <p:nvSpPr>
              <p:cNvPr id="127" name=""/>
              <p:cNvSpPr/>
              <p:nvPr/>
            </p:nvSpPr>
            <p:spPr>
              <a:xfrm>
                <a:off x="2666880" y="3352680"/>
                <a:ext cx="3429000" cy="190512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124080" y="3885120"/>
                <a:ext cx="2819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你找到了吗？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 flipH="1">
              <a:off x="228240" y="3352680"/>
              <a:ext cx="2971800" cy="326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994480"/>
            <a:ext cx="76201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仰着脸，让雨打在脸上；我伸出舌头，品尝一下这大地的乳汁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凉丝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甜蜜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5"/>
          <p:cNvSpPr/>
          <p:nvPr/>
        </p:nvSpPr>
        <p:spPr>
          <a:xfrm>
            <a:off x="380880" y="380880"/>
            <a:ext cx="2438640" cy="762120"/>
          </a:xfrm>
          <a:custGeom>
            <a:avLst/>
            <a:gdLst>
              <a:gd name="textAreaLeft" fmla="*/ 89640 w 2438640"/>
              <a:gd name="textAreaRight" fmla="*/ 2349000 w 243864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909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5493" y="21600"/>
                </a:lnTo>
                <a:arcTo wR="3600" hR="3600" stAng="10800000" swAng="5400000"/>
                <a:lnTo>
                  <a:pt x="69093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课堂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181160"/>
            <a:ext cx="8229600" cy="65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扩词练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(     )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(     )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括号里填写合适的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路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花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大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雨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27280" y="182880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水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1828800"/>
            <a:ext cx="13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沟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1828800"/>
            <a:ext cx="13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山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1828800"/>
            <a:ext cx="12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动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98880" y="2438280"/>
            <a:ext cx="13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亲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27280" y="243828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秘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0" y="2438280"/>
            <a:ext cx="12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广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2438280"/>
            <a:ext cx="13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播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16120" y="4788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美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41781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笔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97040" y="5354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广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89120" y="59547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晶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837720" y="205704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雨是一幅优美的画，将生机勃勃的大自然装点得分外美丽，充满诗情画意；春雨是一首动听的歌，它在树林里演奏，在大地上播种，将整个世界变得如此美妙。听，春天的小雨滴滴滴，滋润着万物，也滋润着我们的心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5"/>
          <p:cNvSpPr/>
          <p:nvPr/>
        </p:nvSpPr>
        <p:spPr>
          <a:xfrm>
            <a:off x="304920" y="380880"/>
            <a:ext cx="2743200" cy="762120"/>
          </a:xfrm>
          <a:custGeom>
            <a:avLst/>
            <a:gdLst>
              <a:gd name="textAreaLeft" fmla="*/ 89640 w 2743200"/>
              <a:gd name="textAreaRight" fmla="*/ 2653560 w 274320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7772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4121" y="21600"/>
                </a:lnTo>
                <a:arcTo wR="3600" hR="3600" stAng="10800000" swAng="5400000"/>
                <a:lnTo>
                  <a:pt x="7772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新课导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762120"/>
            <a:ext cx="84582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课文内容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在楼顶上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丝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如同轻轻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种子 （      ）大地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2209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21654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细细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52640" y="353376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密密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43200" y="35337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随风飘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97360" y="4871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撒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95280" y="1087920"/>
            <a:ext cx="601992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阅读课文片段，回答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662560"/>
            <a:ext cx="739152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淅淅沥沥打在篷顶的波浪板上。滴滴答答打在树林里的叶子上。叮叮咚咚打在铁皮屋顶上。于是，屋子前面小水沟里的水流动起来了，像一股从地底下涌出来的清泉，高兴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哗啦哗啦，哗啦哗啦，你推我挤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文一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句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描写雨声的词语下面画“      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“         ”画出文中的比喻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497520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4441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523960" y="5786280"/>
            <a:ext cx="1599840" cy="366840"/>
            <a:chOff x="2523960" y="5786280"/>
            <a:chExt cx="1599840" cy="366840"/>
          </a:xfrm>
        </p:grpSpPr>
        <p:sp>
          <p:nvSpPr>
            <p:cNvPr id="156" name=""/>
            <p:cNvSpPr/>
            <p:nvPr/>
          </p:nvSpPr>
          <p:spPr>
            <a:xfrm>
              <a:off x="2523960" y="5817960"/>
              <a:ext cx="1317600" cy="68400"/>
            </a:xfrm>
            <a:custGeom>
              <a:avLst/>
              <a:gdLst/>
              <a:ahLst/>
              <a:rect l="l" t="t" r="r" b="b"/>
              <a:pathLst>
                <a:path w="912" h="104">
                  <a:moveTo>
                    <a:pt x="0" y="56"/>
                  </a:moveTo>
                  <a:cubicBezTo>
                    <a:pt x="32" y="28"/>
                    <a:pt x="64" y="0"/>
                    <a:pt x="96" y="8"/>
                  </a:cubicBezTo>
                  <a:cubicBezTo>
                    <a:pt x="128" y="16"/>
                    <a:pt x="160" y="104"/>
                    <a:pt x="192" y="104"/>
                  </a:cubicBezTo>
                  <a:cubicBezTo>
                    <a:pt x="224" y="104"/>
                    <a:pt x="256" y="8"/>
                    <a:pt x="288" y="8"/>
                  </a:cubicBezTo>
                  <a:cubicBezTo>
                    <a:pt x="320" y="8"/>
                    <a:pt x="352" y="104"/>
                    <a:pt x="384" y="104"/>
                  </a:cubicBezTo>
                  <a:cubicBezTo>
                    <a:pt x="416" y="104"/>
                    <a:pt x="448" y="8"/>
                    <a:pt x="480" y="8"/>
                  </a:cubicBezTo>
                  <a:cubicBezTo>
                    <a:pt x="512" y="8"/>
                    <a:pt x="544" y="104"/>
                    <a:pt x="576" y="104"/>
                  </a:cubicBezTo>
                  <a:cubicBezTo>
                    <a:pt x="608" y="104"/>
                    <a:pt x="640" y="8"/>
                    <a:pt x="672" y="8"/>
                  </a:cubicBezTo>
                  <a:cubicBezTo>
                    <a:pt x="704" y="8"/>
                    <a:pt x="728" y="104"/>
                    <a:pt x="768" y="104"/>
                  </a:cubicBezTo>
                  <a:cubicBezTo>
                    <a:pt x="808" y="104"/>
                    <a:pt x="888" y="24"/>
                    <a:pt x="912" y="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23960" y="5786280"/>
              <a:ext cx="159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447920" y="21556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460600"/>
            <a:ext cx="13716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5127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2460600"/>
            <a:ext cx="13716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441680"/>
            <a:ext cx="13716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4441680"/>
            <a:ext cx="13716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2994120"/>
            <a:ext cx="13716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3832200"/>
            <a:ext cx="6933960" cy="152280"/>
          </a:xfrm>
          <a:custGeom>
            <a:avLst/>
            <a:gdLst/>
            <a:ahLst/>
            <a:rect l="l" t="t" r="r" b="b"/>
            <a:pathLst>
              <a:path w="4368" h="152">
                <a:moveTo>
                  <a:pt x="0" y="144"/>
                </a:moveTo>
                <a:cubicBezTo>
                  <a:pt x="32" y="120"/>
                  <a:pt x="64" y="96"/>
                  <a:pt x="96" y="96"/>
                </a:cubicBezTo>
                <a:cubicBezTo>
                  <a:pt x="128" y="96"/>
                  <a:pt x="160" y="144"/>
                  <a:pt x="192" y="144"/>
                </a:cubicBezTo>
                <a:cubicBezTo>
                  <a:pt x="224" y="144"/>
                  <a:pt x="256" y="96"/>
                  <a:pt x="288" y="96"/>
                </a:cubicBezTo>
                <a:cubicBezTo>
                  <a:pt x="320" y="96"/>
                  <a:pt x="352" y="144"/>
                  <a:pt x="384" y="144"/>
                </a:cubicBezTo>
                <a:cubicBezTo>
                  <a:pt x="416" y="144"/>
                  <a:pt x="448" y="96"/>
                  <a:pt x="480" y="96"/>
                </a:cubicBezTo>
                <a:cubicBezTo>
                  <a:pt x="512" y="96"/>
                  <a:pt x="544" y="144"/>
                  <a:pt x="576" y="144"/>
                </a:cubicBezTo>
                <a:cubicBezTo>
                  <a:pt x="608" y="144"/>
                  <a:pt x="640" y="96"/>
                  <a:pt x="672" y="96"/>
                </a:cubicBezTo>
                <a:cubicBezTo>
                  <a:pt x="704" y="96"/>
                  <a:pt x="728" y="152"/>
                  <a:pt x="768" y="144"/>
                </a:cubicBezTo>
                <a:cubicBezTo>
                  <a:pt x="808" y="136"/>
                  <a:pt x="864" y="48"/>
                  <a:pt x="912" y="48"/>
                </a:cubicBezTo>
                <a:cubicBezTo>
                  <a:pt x="960" y="48"/>
                  <a:pt x="1008" y="136"/>
                  <a:pt x="1056" y="144"/>
                </a:cubicBezTo>
                <a:cubicBezTo>
                  <a:pt x="1104" y="152"/>
                  <a:pt x="1160" y="96"/>
                  <a:pt x="1200" y="96"/>
                </a:cubicBezTo>
                <a:cubicBezTo>
                  <a:pt x="1240" y="96"/>
                  <a:pt x="1256" y="144"/>
                  <a:pt x="1296" y="144"/>
                </a:cubicBezTo>
                <a:cubicBezTo>
                  <a:pt x="1336" y="144"/>
                  <a:pt x="1400" y="96"/>
                  <a:pt x="1440" y="96"/>
                </a:cubicBezTo>
                <a:cubicBezTo>
                  <a:pt x="1480" y="96"/>
                  <a:pt x="1496" y="152"/>
                  <a:pt x="1536" y="144"/>
                </a:cubicBezTo>
                <a:cubicBezTo>
                  <a:pt x="1576" y="136"/>
                  <a:pt x="1640" y="48"/>
                  <a:pt x="1680" y="48"/>
                </a:cubicBezTo>
                <a:cubicBezTo>
                  <a:pt x="1720" y="48"/>
                  <a:pt x="1744" y="136"/>
                  <a:pt x="1776" y="144"/>
                </a:cubicBezTo>
                <a:cubicBezTo>
                  <a:pt x="1808" y="152"/>
                  <a:pt x="1840" y="104"/>
                  <a:pt x="1872" y="96"/>
                </a:cubicBezTo>
                <a:cubicBezTo>
                  <a:pt x="1904" y="88"/>
                  <a:pt x="1944" y="88"/>
                  <a:pt x="1968" y="96"/>
                </a:cubicBezTo>
                <a:cubicBezTo>
                  <a:pt x="1992" y="104"/>
                  <a:pt x="1992" y="152"/>
                  <a:pt x="2016" y="144"/>
                </a:cubicBezTo>
                <a:cubicBezTo>
                  <a:pt x="2040" y="136"/>
                  <a:pt x="2080" y="48"/>
                  <a:pt x="2112" y="48"/>
                </a:cubicBezTo>
                <a:cubicBezTo>
                  <a:pt x="2144" y="48"/>
                  <a:pt x="2168" y="144"/>
                  <a:pt x="2208" y="144"/>
                </a:cubicBezTo>
                <a:cubicBezTo>
                  <a:pt x="2248" y="144"/>
                  <a:pt x="2304" y="48"/>
                  <a:pt x="2352" y="48"/>
                </a:cubicBezTo>
                <a:cubicBezTo>
                  <a:pt x="2400" y="48"/>
                  <a:pt x="2448" y="144"/>
                  <a:pt x="2496" y="144"/>
                </a:cubicBezTo>
                <a:cubicBezTo>
                  <a:pt x="2544" y="144"/>
                  <a:pt x="2592" y="48"/>
                  <a:pt x="2640" y="48"/>
                </a:cubicBezTo>
                <a:cubicBezTo>
                  <a:pt x="2688" y="48"/>
                  <a:pt x="2736" y="144"/>
                  <a:pt x="2784" y="144"/>
                </a:cubicBezTo>
                <a:cubicBezTo>
                  <a:pt x="2832" y="144"/>
                  <a:pt x="2880" y="48"/>
                  <a:pt x="2928" y="48"/>
                </a:cubicBezTo>
                <a:cubicBezTo>
                  <a:pt x="2976" y="48"/>
                  <a:pt x="3032" y="144"/>
                  <a:pt x="3072" y="144"/>
                </a:cubicBezTo>
                <a:cubicBezTo>
                  <a:pt x="3112" y="144"/>
                  <a:pt x="3120" y="48"/>
                  <a:pt x="3168" y="48"/>
                </a:cubicBezTo>
                <a:cubicBezTo>
                  <a:pt x="3216" y="48"/>
                  <a:pt x="3312" y="144"/>
                  <a:pt x="3360" y="144"/>
                </a:cubicBezTo>
                <a:cubicBezTo>
                  <a:pt x="3408" y="144"/>
                  <a:pt x="3416" y="48"/>
                  <a:pt x="3456" y="48"/>
                </a:cubicBezTo>
                <a:cubicBezTo>
                  <a:pt x="3496" y="48"/>
                  <a:pt x="3552" y="144"/>
                  <a:pt x="3600" y="144"/>
                </a:cubicBezTo>
                <a:cubicBezTo>
                  <a:pt x="3648" y="144"/>
                  <a:pt x="3688" y="48"/>
                  <a:pt x="3744" y="48"/>
                </a:cubicBezTo>
                <a:cubicBezTo>
                  <a:pt x="3800" y="48"/>
                  <a:pt x="3888" y="144"/>
                  <a:pt x="3936" y="144"/>
                </a:cubicBezTo>
                <a:cubicBezTo>
                  <a:pt x="3984" y="144"/>
                  <a:pt x="3984" y="48"/>
                  <a:pt x="4032" y="48"/>
                </a:cubicBezTo>
                <a:cubicBezTo>
                  <a:pt x="4080" y="48"/>
                  <a:pt x="4168" y="152"/>
                  <a:pt x="4224" y="144"/>
                </a:cubicBezTo>
                <a:cubicBezTo>
                  <a:pt x="4280" y="136"/>
                  <a:pt x="4344" y="24"/>
                  <a:pt x="4368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3375000"/>
            <a:ext cx="5029200" cy="76320"/>
          </a:xfrm>
          <a:custGeom>
            <a:avLst/>
            <a:gdLst/>
            <a:ahLst/>
            <a:rect l="l" t="t" r="r" b="b"/>
            <a:pathLst>
              <a:path w="4368" h="152">
                <a:moveTo>
                  <a:pt x="0" y="144"/>
                </a:moveTo>
                <a:cubicBezTo>
                  <a:pt x="32" y="120"/>
                  <a:pt x="64" y="96"/>
                  <a:pt x="96" y="96"/>
                </a:cubicBezTo>
                <a:cubicBezTo>
                  <a:pt x="128" y="96"/>
                  <a:pt x="160" y="144"/>
                  <a:pt x="192" y="144"/>
                </a:cubicBezTo>
                <a:cubicBezTo>
                  <a:pt x="224" y="144"/>
                  <a:pt x="256" y="96"/>
                  <a:pt x="288" y="96"/>
                </a:cubicBezTo>
                <a:cubicBezTo>
                  <a:pt x="320" y="96"/>
                  <a:pt x="352" y="144"/>
                  <a:pt x="384" y="144"/>
                </a:cubicBezTo>
                <a:cubicBezTo>
                  <a:pt x="416" y="144"/>
                  <a:pt x="448" y="96"/>
                  <a:pt x="480" y="96"/>
                </a:cubicBezTo>
                <a:cubicBezTo>
                  <a:pt x="512" y="96"/>
                  <a:pt x="544" y="144"/>
                  <a:pt x="576" y="144"/>
                </a:cubicBezTo>
                <a:cubicBezTo>
                  <a:pt x="608" y="144"/>
                  <a:pt x="640" y="96"/>
                  <a:pt x="672" y="96"/>
                </a:cubicBezTo>
                <a:cubicBezTo>
                  <a:pt x="704" y="96"/>
                  <a:pt x="728" y="152"/>
                  <a:pt x="768" y="144"/>
                </a:cubicBezTo>
                <a:cubicBezTo>
                  <a:pt x="808" y="136"/>
                  <a:pt x="864" y="48"/>
                  <a:pt x="912" y="48"/>
                </a:cubicBezTo>
                <a:cubicBezTo>
                  <a:pt x="960" y="48"/>
                  <a:pt x="1008" y="136"/>
                  <a:pt x="1056" y="144"/>
                </a:cubicBezTo>
                <a:cubicBezTo>
                  <a:pt x="1104" y="152"/>
                  <a:pt x="1160" y="96"/>
                  <a:pt x="1200" y="96"/>
                </a:cubicBezTo>
                <a:cubicBezTo>
                  <a:pt x="1240" y="96"/>
                  <a:pt x="1256" y="144"/>
                  <a:pt x="1296" y="144"/>
                </a:cubicBezTo>
                <a:cubicBezTo>
                  <a:pt x="1336" y="144"/>
                  <a:pt x="1400" y="96"/>
                  <a:pt x="1440" y="96"/>
                </a:cubicBezTo>
                <a:cubicBezTo>
                  <a:pt x="1480" y="96"/>
                  <a:pt x="1496" y="152"/>
                  <a:pt x="1536" y="144"/>
                </a:cubicBezTo>
                <a:cubicBezTo>
                  <a:pt x="1576" y="136"/>
                  <a:pt x="1640" y="48"/>
                  <a:pt x="1680" y="48"/>
                </a:cubicBezTo>
                <a:cubicBezTo>
                  <a:pt x="1720" y="48"/>
                  <a:pt x="1744" y="136"/>
                  <a:pt x="1776" y="144"/>
                </a:cubicBezTo>
                <a:cubicBezTo>
                  <a:pt x="1808" y="152"/>
                  <a:pt x="1840" y="104"/>
                  <a:pt x="1872" y="96"/>
                </a:cubicBezTo>
                <a:cubicBezTo>
                  <a:pt x="1904" y="88"/>
                  <a:pt x="1944" y="88"/>
                  <a:pt x="1968" y="96"/>
                </a:cubicBezTo>
                <a:cubicBezTo>
                  <a:pt x="1992" y="104"/>
                  <a:pt x="1992" y="152"/>
                  <a:pt x="2016" y="144"/>
                </a:cubicBezTo>
                <a:cubicBezTo>
                  <a:pt x="2040" y="136"/>
                  <a:pt x="2080" y="48"/>
                  <a:pt x="2112" y="48"/>
                </a:cubicBezTo>
                <a:cubicBezTo>
                  <a:pt x="2144" y="48"/>
                  <a:pt x="2168" y="144"/>
                  <a:pt x="2208" y="144"/>
                </a:cubicBezTo>
                <a:cubicBezTo>
                  <a:pt x="2248" y="144"/>
                  <a:pt x="2304" y="48"/>
                  <a:pt x="2352" y="48"/>
                </a:cubicBezTo>
                <a:cubicBezTo>
                  <a:pt x="2400" y="48"/>
                  <a:pt x="2448" y="144"/>
                  <a:pt x="2496" y="144"/>
                </a:cubicBezTo>
                <a:cubicBezTo>
                  <a:pt x="2544" y="144"/>
                  <a:pt x="2592" y="48"/>
                  <a:pt x="2640" y="48"/>
                </a:cubicBezTo>
                <a:cubicBezTo>
                  <a:pt x="2688" y="48"/>
                  <a:pt x="2736" y="144"/>
                  <a:pt x="2784" y="144"/>
                </a:cubicBezTo>
                <a:cubicBezTo>
                  <a:pt x="2832" y="144"/>
                  <a:pt x="2880" y="48"/>
                  <a:pt x="2928" y="48"/>
                </a:cubicBezTo>
                <a:cubicBezTo>
                  <a:pt x="2976" y="48"/>
                  <a:pt x="3032" y="144"/>
                  <a:pt x="3072" y="144"/>
                </a:cubicBezTo>
                <a:cubicBezTo>
                  <a:pt x="3112" y="144"/>
                  <a:pt x="3120" y="48"/>
                  <a:pt x="3168" y="48"/>
                </a:cubicBezTo>
                <a:cubicBezTo>
                  <a:pt x="3216" y="48"/>
                  <a:pt x="3312" y="144"/>
                  <a:pt x="3360" y="144"/>
                </a:cubicBezTo>
                <a:cubicBezTo>
                  <a:pt x="3408" y="144"/>
                  <a:pt x="3416" y="48"/>
                  <a:pt x="3456" y="48"/>
                </a:cubicBezTo>
                <a:cubicBezTo>
                  <a:pt x="3496" y="48"/>
                  <a:pt x="3552" y="144"/>
                  <a:pt x="3600" y="144"/>
                </a:cubicBezTo>
                <a:cubicBezTo>
                  <a:pt x="3648" y="144"/>
                  <a:pt x="3688" y="48"/>
                  <a:pt x="3744" y="48"/>
                </a:cubicBezTo>
                <a:cubicBezTo>
                  <a:pt x="3800" y="48"/>
                  <a:pt x="3888" y="144"/>
                  <a:pt x="3936" y="144"/>
                </a:cubicBezTo>
                <a:cubicBezTo>
                  <a:pt x="3984" y="144"/>
                  <a:pt x="3984" y="48"/>
                  <a:pt x="4032" y="48"/>
                </a:cubicBezTo>
                <a:cubicBezTo>
                  <a:pt x="4080" y="48"/>
                  <a:pt x="4168" y="152"/>
                  <a:pt x="4224" y="144"/>
                </a:cubicBezTo>
                <a:cubicBezTo>
                  <a:pt x="4280" y="136"/>
                  <a:pt x="4344" y="24"/>
                  <a:pt x="4368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4289400"/>
            <a:ext cx="5334120" cy="152280"/>
          </a:xfrm>
          <a:custGeom>
            <a:avLst/>
            <a:gdLst/>
            <a:ahLst/>
            <a:rect l="l" t="t" r="r" b="b"/>
            <a:pathLst>
              <a:path w="4368" h="152">
                <a:moveTo>
                  <a:pt x="0" y="144"/>
                </a:moveTo>
                <a:cubicBezTo>
                  <a:pt x="32" y="120"/>
                  <a:pt x="64" y="96"/>
                  <a:pt x="96" y="96"/>
                </a:cubicBezTo>
                <a:cubicBezTo>
                  <a:pt x="128" y="96"/>
                  <a:pt x="160" y="144"/>
                  <a:pt x="192" y="144"/>
                </a:cubicBezTo>
                <a:cubicBezTo>
                  <a:pt x="224" y="144"/>
                  <a:pt x="256" y="96"/>
                  <a:pt x="288" y="96"/>
                </a:cubicBezTo>
                <a:cubicBezTo>
                  <a:pt x="320" y="96"/>
                  <a:pt x="352" y="144"/>
                  <a:pt x="384" y="144"/>
                </a:cubicBezTo>
                <a:cubicBezTo>
                  <a:pt x="416" y="144"/>
                  <a:pt x="448" y="96"/>
                  <a:pt x="480" y="96"/>
                </a:cubicBezTo>
                <a:cubicBezTo>
                  <a:pt x="512" y="96"/>
                  <a:pt x="544" y="144"/>
                  <a:pt x="576" y="144"/>
                </a:cubicBezTo>
                <a:cubicBezTo>
                  <a:pt x="608" y="144"/>
                  <a:pt x="640" y="96"/>
                  <a:pt x="672" y="96"/>
                </a:cubicBezTo>
                <a:cubicBezTo>
                  <a:pt x="704" y="96"/>
                  <a:pt x="728" y="152"/>
                  <a:pt x="768" y="144"/>
                </a:cubicBezTo>
                <a:cubicBezTo>
                  <a:pt x="808" y="136"/>
                  <a:pt x="864" y="48"/>
                  <a:pt x="912" y="48"/>
                </a:cubicBezTo>
                <a:cubicBezTo>
                  <a:pt x="960" y="48"/>
                  <a:pt x="1008" y="136"/>
                  <a:pt x="1056" y="144"/>
                </a:cubicBezTo>
                <a:cubicBezTo>
                  <a:pt x="1104" y="152"/>
                  <a:pt x="1160" y="96"/>
                  <a:pt x="1200" y="96"/>
                </a:cubicBezTo>
                <a:cubicBezTo>
                  <a:pt x="1240" y="96"/>
                  <a:pt x="1256" y="144"/>
                  <a:pt x="1296" y="144"/>
                </a:cubicBezTo>
                <a:cubicBezTo>
                  <a:pt x="1336" y="144"/>
                  <a:pt x="1400" y="96"/>
                  <a:pt x="1440" y="96"/>
                </a:cubicBezTo>
                <a:cubicBezTo>
                  <a:pt x="1480" y="96"/>
                  <a:pt x="1496" y="152"/>
                  <a:pt x="1536" y="144"/>
                </a:cubicBezTo>
                <a:cubicBezTo>
                  <a:pt x="1576" y="136"/>
                  <a:pt x="1640" y="48"/>
                  <a:pt x="1680" y="48"/>
                </a:cubicBezTo>
                <a:cubicBezTo>
                  <a:pt x="1720" y="48"/>
                  <a:pt x="1744" y="136"/>
                  <a:pt x="1776" y="144"/>
                </a:cubicBezTo>
                <a:cubicBezTo>
                  <a:pt x="1808" y="152"/>
                  <a:pt x="1840" y="104"/>
                  <a:pt x="1872" y="96"/>
                </a:cubicBezTo>
                <a:cubicBezTo>
                  <a:pt x="1904" y="88"/>
                  <a:pt x="1944" y="88"/>
                  <a:pt x="1968" y="96"/>
                </a:cubicBezTo>
                <a:cubicBezTo>
                  <a:pt x="1992" y="104"/>
                  <a:pt x="1992" y="152"/>
                  <a:pt x="2016" y="144"/>
                </a:cubicBezTo>
                <a:cubicBezTo>
                  <a:pt x="2040" y="136"/>
                  <a:pt x="2080" y="48"/>
                  <a:pt x="2112" y="48"/>
                </a:cubicBezTo>
                <a:cubicBezTo>
                  <a:pt x="2144" y="48"/>
                  <a:pt x="2168" y="144"/>
                  <a:pt x="2208" y="144"/>
                </a:cubicBezTo>
                <a:cubicBezTo>
                  <a:pt x="2248" y="144"/>
                  <a:pt x="2304" y="48"/>
                  <a:pt x="2352" y="48"/>
                </a:cubicBezTo>
                <a:cubicBezTo>
                  <a:pt x="2400" y="48"/>
                  <a:pt x="2448" y="144"/>
                  <a:pt x="2496" y="144"/>
                </a:cubicBezTo>
                <a:cubicBezTo>
                  <a:pt x="2544" y="144"/>
                  <a:pt x="2592" y="48"/>
                  <a:pt x="2640" y="48"/>
                </a:cubicBezTo>
                <a:cubicBezTo>
                  <a:pt x="2688" y="48"/>
                  <a:pt x="2736" y="144"/>
                  <a:pt x="2784" y="144"/>
                </a:cubicBezTo>
                <a:cubicBezTo>
                  <a:pt x="2832" y="144"/>
                  <a:pt x="2880" y="48"/>
                  <a:pt x="2928" y="48"/>
                </a:cubicBezTo>
                <a:cubicBezTo>
                  <a:pt x="2976" y="48"/>
                  <a:pt x="3032" y="144"/>
                  <a:pt x="3072" y="144"/>
                </a:cubicBezTo>
                <a:cubicBezTo>
                  <a:pt x="3112" y="144"/>
                  <a:pt x="3120" y="48"/>
                  <a:pt x="3168" y="48"/>
                </a:cubicBezTo>
                <a:cubicBezTo>
                  <a:pt x="3216" y="48"/>
                  <a:pt x="3312" y="144"/>
                  <a:pt x="3360" y="144"/>
                </a:cubicBezTo>
                <a:cubicBezTo>
                  <a:pt x="3408" y="144"/>
                  <a:pt x="3416" y="48"/>
                  <a:pt x="3456" y="48"/>
                </a:cubicBezTo>
                <a:cubicBezTo>
                  <a:pt x="3496" y="48"/>
                  <a:pt x="3552" y="144"/>
                  <a:pt x="3600" y="144"/>
                </a:cubicBezTo>
                <a:cubicBezTo>
                  <a:pt x="3648" y="144"/>
                  <a:pt x="3688" y="48"/>
                  <a:pt x="3744" y="48"/>
                </a:cubicBezTo>
                <a:cubicBezTo>
                  <a:pt x="3800" y="48"/>
                  <a:pt x="3888" y="144"/>
                  <a:pt x="3936" y="144"/>
                </a:cubicBezTo>
                <a:cubicBezTo>
                  <a:pt x="3984" y="144"/>
                  <a:pt x="3984" y="48"/>
                  <a:pt x="4032" y="48"/>
                </a:cubicBezTo>
                <a:cubicBezTo>
                  <a:pt x="4080" y="48"/>
                  <a:pt x="4168" y="152"/>
                  <a:pt x="4224" y="144"/>
                </a:cubicBezTo>
                <a:cubicBezTo>
                  <a:pt x="4280" y="136"/>
                  <a:pt x="4344" y="24"/>
                  <a:pt x="4368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看看图，用几句话描述你见过的雨景，感受春雨的美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502920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站在</a:t>
            </a:r>
            <a:r>
              <a:rPr b="1" lang="en-US" sz="3600" spc="-1" strike="noStrike" u="sng">
                <a:solidFill>
                  <a:srgbClr val="800000"/>
                </a:solidFill>
                <a:uFillTx/>
                <a:latin typeface="宋体"/>
              </a:rPr>
              <a:t>          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看雨，雨</a:t>
            </a:r>
            <a:r>
              <a:rPr b="1" lang="en-US" sz="3600" spc="-1" strike="noStrike" u="sng">
                <a:solidFill>
                  <a:srgbClr val="800000"/>
                </a:solidFill>
                <a:uFillTx/>
                <a:latin typeface="宋体"/>
              </a:rPr>
              <a:t>           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，如同</a:t>
            </a:r>
            <a:r>
              <a:rPr b="1" lang="en-US" sz="3600" spc="-1" strike="noStrike" u="sng">
                <a:solidFill>
                  <a:srgbClr val="800000"/>
                </a:solidFill>
                <a:uFillTx/>
                <a:latin typeface="宋体"/>
              </a:rPr>
              <a:t>             </a:t>
            </a:r>
            <a:r>
              <a:rPr b="1" lang="en-US" sz="3600" spc="-1" strike="noStrike">
                <a:solidFill>
                  <a:srgbClr val="800000"/>
                </a:solidFill>
                <a:latin typeface="宋体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274320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505320" y="1066680"/>
            <a:ext cx="220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会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5"/>
          <p:cNvSpPr/>
          <p:nvPr/>
        </p:nvSpPr>
        <p:spPr>
          <a:xfrm>
            <a:off x="380880" y="380880"/>
            <a:ext cx="2362320" cy="762120"/>
          </a:xfrm>
          <a:custGeom>
            <a:avLst/>
            <a:gdLst>
              <a:gd name="textAreaLeft" fmla="*/ 89640 w 2362320"/>
              <a:gd name="textAreaRight" fmla="*/ 2272680 w 236232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693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3331" y="21600"/>
                </a:lnTo>
                <a:arcTo wR="3600" hR="3600" stAng="10800000" swAng="5400000"/>
                <a:lnTo>
                  <a:pt x="6693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生字全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1157400" cy="1379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600200" y="3657600"/>
            <a:ext cx="1160640" cy="1395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600200" y="52578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124080" y="2209680"/>
            <a:ext cx="3981600" cy="47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81280" y="2895480"/>
            <a:ext cx="3210120" cy="371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352680" y="3886200"/>
            <a:ext cx="3229200" cy="390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3429000" y="4495680"/>
            <a:ext cx="3152880" cy="33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rcRect l="0" t="0" r="0" b="9001"/>
          <a:stretch/>
        </p:blipFill>
        <p:spPr>
          <a:xfrm>
            <a:off x="3124080" y="5410080"/>
            <a:ext cx="4714920" cy="363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886200" y="6019920"/>
            <a:ext cx="32194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00200" y="2209680"/>
            <a:ext cx="1147680" cy="1359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781680" y="3733920"/>
            <a:ext cx="1135080" cy="1376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98400" y="609480"/>
            <a:ext cx="1138320" cy="137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781680" y="5257800"/>
            <a:ext cx="1140120" cy="1384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362320" y="838080"/>
            <a:ext cx="4029120" cy="400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2743200" y="1600200"/>
            <a:ext cx="3191040" cy="352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133720" y="2362320"/>
            <a:ext cx="5114880" cy="428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2895480" y="2971800"/>
            <a:ext cx="3210120" cy="38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1676520" y="3886200"/>
            <a:ext cx="4124160" cy="428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2743200" y="4495680"/>
            <a:ext cx="3238560" cy="343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1447920" y="5410080"/>
            <a:ext cx="4819680" cy="447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2"/>
          <a:stretch/>
        </p:blipFill>
        <p:spPr>
          <a:xfrm>
            <a:off x="2362320" y="5943600"/>
            <a:ext cx="34099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113328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1119240" cy="1424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24680" y="3660840"/>
            <a:ext cx="1128600" cy="1444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010280" y="5254560"/>
            <a:ext cx="1143000" cy="1441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2514600" y="914400"/>
            <a:ext cx="4829040" cy="466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3276720" y="1600200"/>
            <a:ext cx="3200400" cy="380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2514600" y="2590920"/>
            <a:ext cx="4905360" cy="352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3200400" y="3200400"/>
            <a:ext cx="3228840" cy="352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1828800" y="3962520"/>
            <a:ext cx="5038560" cy="390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2666880" y="4495680"/>
            <a:ext cx="3219480" cy="390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1600200" y="5410080"/>
            <a:ext cx="5210280" cy="447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2666880" y="5943600"/>
            <a:ext cx="33051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1190880" cy="1514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57320" y="4114800"/>
            <a:ext cx="1228680" cy="1447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895480" y="2362320"/>
            <a:ext cx="3562560" cy="428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048120" y="2971800"/>
            <a:ext cx="3333600" cy="361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819520" y="4267080"/>
            <a:ext cx="3743280" cy="409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3048120" y="4952880"/>
            <a:ext cx="323856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505320" y="1523520"/>
            <a:ext cx="2209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会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3000240"/>
            <a:ext cx="1133280" cy="1609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0" y="3000240"/>
            <a:ext cx="1152360" cy="1590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886200" y="2971800"/>
            <a:ext cx="1123920" cy="1628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438880" y="3000240"/>
            <a:ext cx="1114200" cy="1600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953400" y="3029040"/>
            <a:ext cx="11239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45"/>
          <p:cNvSpPr/>
          <p:nvPr/>
        </p:nvSpPr>
        <p:spPr>
          <a:xfrm>
            <a:off x="380880" y="380880"/>
            <a:ext cx="2438640" cy="762120"/>
          </a:xfrm>
          <a:custGeom>
            <a:avLst/>
            <a:gdLst>
              <a:gd name="textAreaLeft" fmla="*/ 89640 w 2438640"/>
              <a:gd name="textAreaRight" fmla="*/ 2349000 w 243864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909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5493" y="21600"/>
                </a:lnTo>
                <a:arcTo wR="3600" hR="3600" stAng="10800000" swAng="5400000"/>
                <a:lnTo>
                  <a:pt x="69093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词语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422360"/>
            <a:ext cx="7848720" cy="49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淅淅沥沥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象声词，形容轻微的风声、雨声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落叶声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清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清澈的泉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仿佛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好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如同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好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飘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飘舞着落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演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乐器表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播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播撒种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品尝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仔细地辨别；尝试（滋味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1981080"/>
            <a:ext cx="81532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仔细听课文朗读，思考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作者分别是在哪些地方听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05640" y="4343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"/>
              </a:rPr>
              <a:t>屋前听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0240" y="4387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"/>
              </a:rPr>
              <a:t>林中听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34840" y="4387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"/>
              </a:rPr>
              <a:t>楼顶听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5"/>
          <p:cNvSpPr/>
          <p:nvPr/>
        </p:nvSpPr>
        <p:spPr>
          <a:xfrm>
            <a:off x="304920" y="380880"/>
            <a:ext cx="2743200" cy="762120"/>
          </a:xfrm>
          <a:custGeom>
            <a:avLst/>
            <a:gdLst>
              <a:gd name="textAreaLeft" fmla="*/ 89640 w 2743200"/>
              <a:gd name="textAreaRight" fmla="*/ 2653560 w 274320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7772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4121" y="21600"/>
                </a:lnTo>
                <a:arcTo wR="3600" hR="3600" stAng="10800000" swAng="5400000"/>
                <a:lnTo>
                  <a:pt x="7772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08:07:28Z</dcterms:created>
  <dc:creator>Administrator</dc:creator>
  <dc:description/>
  <dc:language>en-US</dc:language>
  <cp:lastModifiedBy/>
  <dcterms:modified xsi:type="dcterms:W3CDTF">2016-04-25T08:07:4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