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5.gif" ContentType="image/gif"/>
  <Override PartName="/ppt/media/image16.gif" ContentType="image/gi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353-241F-4187-9CE3-BC297ACA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4E96-8724-4A36-A7EF-D78880D7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7CB-A54F-4140-A310-48EF2E86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7B3-BD83-4242-AAC2-D78B9E5D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2643-E46A-46C1-8FE6-4438AA7A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BF8-A60E-4C23-893E-14AC72A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7D9-E8EF-4245-AB1B-DE9E84C9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39F-9DAF-4323-8101-DFE8E1E0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AA8-D7DA-41C7-A49E-D3841BFF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0C2-97DB-4858-AD60-07C58AB0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AFB-3E86-4A9B-85E3-9F21324C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936-A311-4B60-BBEA-F45658FD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8A35-DCB7-4B91-90B2-CA3731D61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694" t="0" r="0" b="6112"/>
          <a:stretch/>
        </p:blipFill>
        <p:spPr>
          <a:xfrm>
            <a:off x="76320" y="457200"/>
            <a:ext cx="898848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2168" t="6983" r="-66" b="12354"/>
          <a:stretch/>
        </p:blipFill>
        <p:spPr>
          <a:xfrm>
            <a:off x="76320" y="838080"/>
            <a:ext cx="89517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解题：春夜喜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54100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春天的夜晚下了一场雨，作者的心里很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重点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qián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ìng 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 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润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ùn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ò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节奏划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好雨／知／时节，当春／乃／发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随风／潜／入夜，润物／细／无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野径／云／俱黑，江船／火／独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晓／看／红湿处，花／重／锦官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首联：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好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雨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华文行楷"/>
              </a:rPr>
              <a:t>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时节，当春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华文行楷"/>
              </a:rPr>
              <a:t>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发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时节：节令，节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当：正当、正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乃：于是，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发生：产生、出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颔联：随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入夜，润物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细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无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潜：悄悄地，不被察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润：滋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颈联：野径云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俱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江船火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华文行楷"/>
              </a:rPr>
              <a:t>独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野径：野外的小路。径，小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俱：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尾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红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处，花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行楷"/>
              </a:rPr>
              <a:t>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锦官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红湿：指雨后有水珠的花朵。红，这里指代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花重：花儿由于沾上了雨水，显得沉甸甸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锦官城：今四川省成都市。因为古代成都曾经住过织锦的官，所以又叫锦官城。锦，一种有花纹的丝织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古诗今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好的雨水仿佛知道时令节气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到春天它就会及时地来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伴随着微风悄悄地进入夜幕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滋润万物细小得听不见声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95" b="1982"/>
          <a:stretch/>
        </p:blipFill>
        <p:spPr>
          <a:xfrm>
            <a:off x="0" y="0"/>
            <a:ext cx="9126360" cy="67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00600" y="144756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田野的小路同乌云一样漆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只有江船上的灯火独自闪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685800"/>
            <a:ext cx="403848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早晨看那被雨水淋湿的红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朵朵沉甸甸地装扮着锦官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810" b="9909"/>
          <a:stretch/>
        </p:blipFill>
        <p:spPr>
          <a:xfrm>
            <a:off x="0" y="304920"/>
            <a:ext cx="4535640" cy="61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87280" y="2349360"/>
            <a:ext cx="6048720" cy="36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50920" y="549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50760" y="1104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843280" y="620640"/>
            <a:ext cx="3381480" cy="101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春夜喜雨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55640" y="242100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好雨知时节，当春乃发生。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516720" y="1628640"/>
            <a:ext cx="2089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【唐】杜甫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2120" y="4495680"/>
            <a:ext cx="62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野径云俱黑，江船火独明。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84360" y="350028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随风潜入夜，润物细无声。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84360" y="5661000"/>
            <a:ext cx="62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汉仪雪峰体简"/>
              </a:rPr>
              <a:t>晓看红湿处，花重锦官城。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汉仪雪峰体简"/>
              <a:ea typeface="汉仪雪峰体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76360" y="981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好 雨 知 时 节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 春 乃 发 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81400" y="2057400"/>
            <a:ext cx="56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思考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哪个字是诗人对眼前这场春雨的总体评价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3429000"/>
            <a:ext cx="743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“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好”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个”好”字既是作者对春雨的赞誉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也流露出作者欣喜的心情</a:t>
            </a:r>
            <a:r>
              <a:rPr b="0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39560" y="522936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”知”字说明运用了拟人的修辞手法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71640" y="220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随 风 潜 入 夜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润 物 细 无 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4267080"/>
            <a:ext cx="81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听觉的角度写春雨的可喜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人用”潜”字写春雨静静飘洒的情景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用”细”字写出春雨轻柔润物的情景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形象的写出春雨随着和风在夜间悄然而来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无声的滋润万物的自然景象</a:t>
            </a:r>
            <a:r>
              <a:rPr b="0" lang="en-US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46160" y="98100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野 径 云 俱 黑 ，江 船 火 独 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8200" y="4649760"/>
            <a:ext cx="76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从视角的角度写春雨中的夜色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描绘出了一幅色彩鲜明、形象生动的春江夜雨图</a:t>
            </a:r>
            <a:r>
              <a:rPr b="0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284328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041200" y="522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晓 看 红 湿 处 ，花 重 锦 官 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4340160"/>
            <a:ext cx="76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借助想象描绘雨后的春色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创造出一个清新绚丽美妙的新世界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达了诗人对这场好雨由衷的赞美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诗人心中则更是喜不胜喜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07840" y="155736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晓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234936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朵饱含雨水古曰”重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916360" y="1052640"/>
            <a:ext cx="3095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88520" y="65736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题思想</a:t>
            </a:r>
            <a:r>
              <a:rPr b="0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2438280"/>
            <a:ext cx="786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是一首描绘并赞美春雨的诗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”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喜”字统摄全篇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表现作者因雨下得及时而喜悦的心情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赞美了春雨给大地带来了蓬勃生机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人们带来了丰收的希望</a:t>
            </a:r>
            <a:r>
              <a:rPr b="0" lang="en-US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47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仿宋_GB2312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10526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这首诗布局是严谨的，从顺序上说，是按照什么样的顺序写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9480" y="2328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1989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它从夜晚写到晓，从物写到花，又从听觉写到视觉，从实景写到虚景，步步移动，层层深入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299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情景交融，构成诗歌的意境，情与景，也是构成诗歌两个要素，《春夜喜雨》通篇写景，是否就没有写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43700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是，王国维《人间词话》说：“一切景语皆情语也。”诗人写景，是情中之景，而情，又是景中之情，全诗情景交融，不着痕迹，才使得诗歌本身含蓄蕴藉，使人读之，悠然神往。也使得诗歌耐人寻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43920" y="160020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布置作业</a:t>
            </a:r>
            <a:r>
              <a:rPr b="0" lang="en-US" sz="3200" spc="-1" strike="noStrike">
                <a:solidFill>
                  <a:srgbClr val="ff0066"/>
                </a:solidFill>
                <a:latin typeface="仿宋_GB2312"/>
                <a:ea typeface="仿宋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04840" y="2387520"/>
            <a:ext cx="305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诵并默写这首诗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2130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集积累有关描写春雨得诗句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与同学交流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0" r="-162" b="6035"/>
          <a:stretch/>
        </p:blipFill>
        <p:spPr>
          <a:xfrm>
            <a:off x="-76320" y="76320"/>
            <a:ext cx="915984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4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隶书"/>
              </a:rPr>
              <a:t>春夜喜雨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杜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（唐）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走近杜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5181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12—77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唐代诗人，字子美，自称“少陵野老”。唐肃宗时，曾任检校工部员外郎，故世称“杜工部”。祖籍襄阳（今湖北省襄樊），出生于河南巩县（今河南巩义市）。他年轻时曾两度漫游中国，后来在长安生活了十年，穷困潦倒，晚年又在夔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u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州等地居住了一段时期。后来携带全家出蜀，病死在去湘江途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90960" y="13716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791320" y="304920"/>
            <a:ext cx="2971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732720" y="0"/>
            <a:ext cx="241128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90920" cy="1844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22560" y="-149400"/>
            <a:ext cx="32367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1574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是中国文学史上伟大的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现实主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。他长期与下层人民生活在一起，安史之乱中看到了许多国破后的惨象。他的诗反映了唐代由盛转衰的广阔社会面貌，故被称为“诗史”。风格多样，而以沉郁顿挫为主，被后人称为“诗圣”，与李白并称为“李杜”，分别代表着我国古代诗歌的两座高峰。现存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首。有《杜工部集》传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291" t="0" r="0" b="3464"/>
          <a:stretch/>
        </p:blipFill>
        <p:spPr>
          <a:xfrm>
            <a:off x="76320" y="228600"/>
            <a:ext cx="911700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01:14:58Z</dcterms:created>
  <dc:creator/>
  <dc:description/>
  <dc:language>en-US</dc:language>
  <cp:lastModifiedBy>pc</cp:lastModifiedBy>
  <dcterms:modified xsi:type="dcterms:W3CDTF">2015-07-01T03:21:36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