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0.png" ContentType="image/png"/>
  <Override PartName="/ppt/media/image42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50.jpeg" ContentType="image/jpeg"/>
  <Override PartName="/ppt/media/image13.png" ContentType="image/png"/>
  <Override PartName="/ppt/media/image51.png" ContentType="image/png"/>
  <Override PartName="/ppt/media/image43.png" ContentType="image/png"/>
  <Override PartName="/ppt/media/image47.jpeg" ContentType="image/jpeg"/>
  <Override PartName="/ppt/media/image52.jpeg" ContentType="image/jpeg"/>
  <Override PartName="/ppt/media/image38.png" ContentType="image/png"/>
  <Override PartName="/ppt/media/image8.png" ContentType="image/png"/>
  <Override PartName="/ppt/media/image41.png" ContentType="image/png"/>
  <Override PartName="/ppt/media/image48.jpeg" ContentType="image/jpeg"/>
  <Override PartName="/ppt/media/image53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4975-9C98-45BE-BD01-BD4780F4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D996-C465-4933-84B6-2977A1A9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9FBC-CFE0-4870-9239-56B73531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7CBE-ED02-4E06-89BE-CF955B71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85E0-1907-44D1-ABD6-E6F7B82D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0C0B-F03F-44AF-89E9-021263F2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0AEC-5E4E-46E4-AE19-D6321009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9AB7-4CD2-4583-ABF9-6828A9DB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9EE1-BD78-40A7-BD94-DF251778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B50A-57A0-4D17-9175-94CA3B11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09A1-3158-459C-891D-7500BF44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A1B9-6B31-4236-9BC2-0F43C481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013F-9D27-42EC-81EF-A9AD20717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2666880"/>
            <a:ext cx="9144000" cy="1524240"/>
          </a:xfrm>
          <a:prstGeom prst="rect">
            <a:avLst/>
          </a:prstGeom>
          <a:solidFill>
            <a:srgbClr val="bbe0e3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2362320" y="304812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课  翠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2"/>
          <p:cNvSpPr/>
          <p:nvPr/>
        </p:nvSpPr>
        <p:spPr>
          <a:xfrm>
            <a:off x="2286000" y="51814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581280" y="5257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文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  三年级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895480" y="1600200"/>
            <a:ext cx="30481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会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00040" y="2981160"/>
            <a:ext cx="132408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686040" y="2981160"/>
            <a:ext cx="1343160" cy="1886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972040" y="2981160"/>
            <a:ext cx="134316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45"/>
          <p:cNvSpPr/>
          <p:nvPr/>
        </p:nvSpPr>
        <p:spPr>
          <a:xfrm>
            <a:off x="304920" y="380880"/>
            <a:ext cx="2895480" cy="762120"/>
          </a:xfrm>
          <a:custGeom>
            <a:avLst/>
            <a:gdLst>
              <a:gd name="textAreaLeft" fmla="*/ 89640 w 2895480"/>
              <a:gd name="textAreaRight" fmla="*/ 2805840 w 28954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203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8435" y="21600"/>
                </a:lnTo>
                <a:arcTo wR="3600" hR="3600" stAng="10800000" swAng="5400000"/>
                <a:lnTo>
                  <a:pt x="8203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词语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1905120"/>
            <a:ext cx="8076960" cy="40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橄榄色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和橄榄颜色一样的绿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小巧玲珑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容小而灵巧、精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清脆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声音）清楚悦耳；（食物）脆而清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疾飞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飞得很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注视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地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荡漾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水波）一起一伏地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陡峭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山势等）坡度很大，直上直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3"/>
          <p:cNvSpPr/>
          <p:nvPr/>
        </p:nvSpPr>
        <p:spPr>
          <a:xfrm>
            <a:off x="457200" y="2362320"/>
            <a:ext cx="28465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第一自然段</a:t>
            </a:r>
            <a:r>
              <a:rPr b="1" lang="en-US" sz="3200" spc="-1" strike="noStrike">
                <a:solidFill>
                  <a:srgbClr val="ff33cc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第二自然段</a:t>
            </a:r>
            <a:r>
              <a:rPr b="1" lang="en-US" sz="3200" spc="-1" strike="noStrike">
                <a:solidFill>
                  <a:srgbClr val="ff33cc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第三自然段</a:t>
            </a:r>
            <a:r>
              <a:rPr b="1" lang="en-US" sz="3200" spc="-1" strike="noStrike">
                <a:solidFill>
                  <a:srgbClr val="ff33cc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第四自然段</a:t>
            </a:r>
            <a:r>
              <a:rPr b="1" lang="en-US" sz="3200" spc="-1" strike="noStrike">
                <a:solidFill>
                  <a:srgbClr val="ff33cc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第五自然段</a:t>
            </a:r>
            <a:r>
              <a:rPr b="1" lang="en-US" sz="3200" spc="-1" strike="noStrike">
                <a:solidFill>
                  <a:srgbClr val="ff33cc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2743200" y="2438280"/>
            <a:ext cx="57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翠鸟的颜色鲜艳、小巧玲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2743200" y="3154320"/>
            <a:ext cx="622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翠鸟鸣声清脆，爱贴着水面疾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2743200" y="3833640"/>
            <a:ext cx="584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翠鸟捕鱼时动作迅速、敏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2743200" y="461484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翠鸟的家在陡峭的石壁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2743200" y="5288040"/>
            <a:ext cx="531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我们”把翠鸟当成朋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80880" y="129528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再读课文，想一想课文每一段写了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457200" y="1752480"/>
            <a:ext cx="83818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　　正确、流利、有感情地朗读课文，想一想：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◎翠鸟在外形上有什么特点？作者是怎样描写的，为什么说翠鸟的颜色非常鲜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◎翠鸟的动作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9698" r="0" b="0"/>
          <a:stretch/>
        </p:blipFill>
        <p:spPr>
          <a:xfrm>
            <a:off x="6181560" y="4183200"/>
            <a:ext cx="2962440" cy="267480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45"/>
          <p:cNvSpPr/>
          <p:nvPr/>
        </p:nvSpPr>
        <p:spPr>
          <a:xfrm>
            <a:off x="304920" y="380880"/>
            <a:ext cx="2895480" cy="762120"/>
          </a:xfrm>
          <a:custGeom>
            <a:avLst/>
            <a:gdLst>
              <a:gd name="textAreaLeft" fmla="*/ 89640 w 2895480"/>
              <a:gd name="textAreaRight" fmla="*/ 2805840 w 28954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203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8435" y="21600"/>
                </a:lnTo>
                <a:arcTo wR="3600" hR="3600" stAng="10800000" swAng="5400000"/>
                <a:lnTo>
                  <a:pt x="8203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课文解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762120" y="1371600"/>
            <a:ext cx="1163520" cy="47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爪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头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背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腹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眼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Times New Roman"/>
                <a:ea typeface="楷体_GB2312"/>
              </a:rPr>
              <a:t>嘴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055960" y="2149560"/>
            <a:ext cx="194472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橄榄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070000" y="3489480"/>
            <a:ext cx="1944720" cy="5205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浅绿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2068560" y="4137120"/>
            <a:ext cx="194472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赤褐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2033640" y="4799160"/>
            <a:ext cx="21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透亮灵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2033640" y="544824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又尖又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055960" y="1494000"/>
            <a:ext cx="195732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红　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2055960" y="2697120"/>
            <a:ext cx="1944720" cy="5205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翠绿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-1952" t="0" r="0" b="7416"/>
          <a:stretch/>
        </p:blipFill>
        <p:spPr>
          <a:xfrm>
            <a:off x="4952880" y="1371600"/>
            <a:ext cx="3807000" cy="2160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-808" t="0" r="0" b="10632"/>
          <a:stretch/>
        </p:blipFill>
        <p:spPr>
          <a:xfrm>
            <a:off x="5121360" y="3886200"/>
            <a:ext cx="3436920" cy="228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609480" y="1447920"/>
            <a:ext cx="734544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自由读第一自然段，思考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242880" y="281952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	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你认为第一自然段中哪句话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的好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-4591" t="0" r="0" b="6726"/>
          <a:stretch/>
        </p:blipFill>
        <p:spPr>
          <a:xfrm>
            <a:off x="3276720" y="4038480"/>
            <a:ext cx="3247920" cy="26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2" descr="鸟3"/>
          <p:cNvPicPr/>
          <p:nvPr/>
        </p:nvPicPr>
        <p:blipFill>
          <a:blip r:embed="rId1"/>
          <a:srcRect l="11366" t="18268" r="5665" b="0"/>
          <a:stretch/>
        </p:blipFill>
        <p:spPr>
          <a:xfrm>
            <a:off x="5133960" y="1447920"/>
            <a:ext cx="3673440" cy="280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5"/>
          <p:cNvSpPr/>
          <p:nvPr/>
        </p:nvSpPr>
        <p:spPr>
          <a:xfrm>
            <a:off x="380880" y="1447920"/>
            <a:ext cx="846000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的颜色非常鲜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头上的羽毛像橄榄色的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巾，绣满了翠绿色的花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背上的羽毛像浅绿色的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衣。腹部的羽毛像赤褐色的衬衫。它小巧玲珑，一双透亮灵活的眼睛下面，长着一张又尖又长的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1946160" y="2232000"/>
            <a:ext cx="4800600" cy="1601640"/>
            <a:chOff x="1946160" y="2232000"/>
            <a:chExt cx="4800600" cy="1601640"/>
          </a:xfrm>
        </p:grpSpPr>
        <p:sp>
          <p:nvSpPr>
            <p:cNvPr id="123" name="Text Box 7"/>
            <p:cNvSpPr/>
            <p:nvPr/>
          </p:nvSpPr>
          <p:spPr>
            <a:xfrm>
              <a:off x="1946160" y="2232000"/>
              <a:ext cx="480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把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华文中宋"/>
                  <a:ea typeface="华文中宋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    比作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华文中宋"/>
                  <a:ea typeface="华文中宋"/>
                </a:rPr>
                <a:t>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7"/>
            <p:cNvSpPr/>
            <p:nvPr/>
          </p:nvSpPr>
          <p:spPr>
            <a:xfrm>
              <a:off x="1946160" y="2751120"/>
              <a:ext cx="480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把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华文中宋"/>
                  <a:ea typeface="华文中宋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    比作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华文中宋"/>
                  <a:ea typeface="华文中宋"/>
                </a:rPr>
                <a:t>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7"/>
            <p:cNvSpPr/>
            <p:nvPr/>
          </p:nvSpPr>
          <p:spPr>
            <a:xfrm>
              <a:off x="1946160" y="3313080"/>
              <a:ext cx="480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把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华文中宋"/>
                  <a:ea typeface="华文中宋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    比作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华文中宋"/>
                  <a:ea typeface="华文中宋"/>
                </a:rPr>
                <a:t>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Picture 3" descr="11"/>
          <p:cNvPicPr/>
          <p:nvPr/>
        </p:nvPicPr>
        <p:blipFill>
          <a:blip r:embed="rId1"/>
          <a:stretch/>
        </p:blipFill>
        <p:spPr>
          <a:xfrm>
            <a:off x="6732720" y="1752480"/>
            <a:ext cx="2388960" cy="2492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09840" y="1436760"/>
            <a:ext cx="790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羽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3"/>
          <p:cNvGrpSpPr/>
          <p:nvPr/>
        </p:nvGrpSpPr>
        <p:grpSpPr>
          <a:xfrm>
            <a:off x="3180960" y="1959120"/>
            <a:ext cx="2400840" cy="1800360"/>
            <a:chOff x="3180960" y="1959120"/>
            <a:chExt cx="2400840" cy="1800360"/>
          </a:xfrm>
        </p:grpSpPr>
        <p:sp>
          <p:nvSpPr>
            <p:cNvPr id="129" name="Text Box 20"/>
            <p:cNvSpPr/>
            <p:nvPr/>
          </p:nvSpPr>
          <p:spPr>
            <a:xfrm>
              <a:off x="3189960" y="1959120"/>
              <a:ext cx="2324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腹部的羽毛       衬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3180960" y="2163600"/>
              <a:ext cx="23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头上的羽毛       头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2"/>
            <p:cNvSpPr/>
            <p:nvPr/>
          </p:nvSpPr>
          <p:spPr>
            <a:xfrm>
              <a:off x="3256920" y="2697120"/>
              <a:ext cx="232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背上的羽毛       外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6"/>
          <p:cNvGrpSpPr/>
          <p:nvPr/>
        </p:nvGrpSpPr>
        <p:grpSpPr>
          <a:xfrm>
            <a:off x="1012680" y="2184480"/>
            <a:ext cx="0" cy="1752480"/>
            <a:chOff x="1012680" y="2184480"/>
            <a:chExt cx="0" cy="1752480"/>
          </a:xfrm>
        </p:grpSpPr>
        <p:sp>
          <p:nvSpPr>
            <p:cNvPr id="133" name="Line 24"/>
            <p:cNvSpPr/>
            <p:nvPr/>
          </p:nvSpPr>
          <p:spPr>
            <a:xfrm>
              <a:off x="1012680" y="21844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5"/>
            <p:cNvSpPr/>
            <p:nvPr/>
          </p:nvSpPr>
          <p:spPr>
            <a:xfrm>
              <a:off x="1012680" y="33274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27"/>
          <p:cNvSpPr/>
          <p:nvPr/>
        </p:nvSpPr>
        <p:spPr>
          <a:xfrm>
            <a:off x="685800" y="5029200"/>
            <a:ext cx="748980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黑体"/>
              </a:rPr>
              <a:t>按顺序描写翠鸟的外形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8"/>
          <p:cNvSpPr/>
          <p:nvPr/>
        </p:nvSpPr>
        <p:spPr>
          <a:xfrm>
            <a:off x="403200" y="1544760"/>
            <a:ext cx="2209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爪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9"/>
          <p:cNvSpPr/>
          <p:nvPr/>
        </p:nvSpPr>
        <p:spPr>
          <a:xfrm>
            <a:off x="250920" y="386064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眼睛、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380880" y="2209680"/>
            <a:ext cx="83059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翠鸟爱什么样的活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找出翠鸟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飞得快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词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翠鸟是怎样捕鱼的？找出表示翠鸟捕鱼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动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翠鸟捕鱼的本领与外形有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5"/>
          <p:cNvSpPr/>
          <p:nvPr/>
        </p:nvSpPr>
        <p:spPr>
          <a:xfrm>
            <a:off x="304920" y="380880"/>
            <a:ext cx="2895480" cy="762120"/>
          </a:xfrm>
          <a:custGeom>
            <a:avLst/>
            <a:gdLst>
              <a:gd name="textAreaLeft" fmla="*/ 89640 w 2895480"/>
              <a:gd name="textAreaRight" fmla="*/ 2805840 w 28954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203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8435" y="21600"/>
                </a:lnTo>
                <a:arcTo wR="3600" hR="3600" stAng="10800000" swAng="5400000"/>
                <a:lnTo>
                  <a:pt x="8203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合作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7"/>
          <p:cNvSpPr/>
          <p:nvPr/>
        </p:nvSpPr>
        <p:spPr>
          <a:xfrm>
            <a:off x="554040" y="140328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翠鸟爱贴着水面疾飞，一眨眼，又轻轻地落在苇秆上了。它一动不动地注视着泛着微波的水面，等待游来的小鱼。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鱼悄悄地把头露出水面，吹了个小泡泡。尽管它这样机灵，还是难以逃脱翠鸟锐利的目光。翠鸟蹬开苇秆，像箭一样射出去，叼起小鱼，贴着水面往远处飞走了。只有苇秆还在摇晃，水波还在荡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14760" y="1965240"/>
            <a:ext cx="792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4226040" y="2470320"/>
            <a:ext cx="180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7610400" y="1965240"/>
            <a:ext cx="865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4299120" y="1965240"/>
            <a:ext cx="936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45"/>
          <p:cNvSpPr/>
          <p:nvPr/>
        </p:nvSpPr>
        <p:spPr>
          <a:xfrm>
            <a:off x="304920" y="380880"/>
            <a:ext cx="2971800" cy="762120"/>
          </a:xfrm>
          <a:custGeom>
            <a:avLst/>
            <a:gdLst>
              <a:gd name="textAreaLeft" fmla="*/ 89640 w 2971800"/>
              <a:gd name="textAreaRight" fmla="*/ 2882160 w 297180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41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0597" y="21600"/>
                </a:lnTo>
                <a:arcTo wR="3600" hR="3600" stAng="10800000" swAng="5400000"/>
                <a:lnTo>
                  <a:pt x="84197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新课导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2296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它有着一身五彩斑斓的花外衣，色泽鲜艳明亮；它有着一双锐利的眼睛，即使是偷溜到水面吹泡泡的机灵小鱼，也难逃它那锐利的目光；它把家安在荒凉陡峭的石壁上，喜欢停在水边的苇秆上，关于它的知识还有很多很多……一起去认识一下这美丽又可爱的小家伙——翠鸟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395280" y="1130400"/>
            <a:ext cx="842472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一读下面两组句子，说说哪个句子写得好，为什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263600" y="2438280"/>
            <a:ext cx="77011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翠鸟离开苇秆，很快地飞过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翠鸟蹬开苇秆，像箭一样射过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翠鸟鸣声清脆，爱贴着水面</a:t>
            </a:r>
            <a:r>
              <a:rPr b="1" lang="zh-CN" sz="3200" spc="-1" strike="noStrike">
                <a:solidFill>
                  <a:srgbClr val="008b00"/>
                </a:solidFill>
                <a:latin typeface="Times New Roman"/>
                <a:ea typeface="楷体_GB2312"/>
              </a:rPr>
              <a:t>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翠鸟鸣声清脆，爱在水面上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左大括号 6"/>
          <p:cNvSpPr/>
          <p:nvPr/>
        </p:nvSpPr>
        <p:spPr>
          <a:xfrm>
            <a:off x="830160" y="265428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285920"/>
              <a:gd name="textAreaBottom" fmla="*/ 127872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左大括号 7"/>
          <p:cNvSpPr/>
          <p:nvPr/>
        </p:nvSpPr>
        <p:spPr>
          <a:xfrm>
            <a:off x="901800" y="4751280"/>
            <a:ext cx="214200" cy="121464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1214640"/>
              <a:gd name="textAreaBottom" fmla="*/ 120924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395280" y="1428840"/>
            <a:ext cx="856944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翠鸟能停在苇杆上一动不动是因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　　　　　                    ），能发现小鱼是因为（　　　　　　　　  ），它能迅速叼起小鱼是因（　　　　　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826920" y="222084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它的爪子紧紧抓住苇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808280" y="279720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960000" y="29415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它有一双灵活的眼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5918400" y="36608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它有一张又尖又长的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-1969" t="0" r="0" b="4787"/>
          <a:stretch/>
        </p:blipFill>
        <p:spPr>
          <a:xfrm>
            <a:off x="5791320" y="4495680"/>
            <a:ext cx="3168360" cy="197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609480" y="1828800"/>
            <a:ext cx="79916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◇课文中有很多描写翠鸟的优美词句，找一找，抄下来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◇以“我最喜欢的鸟”为主题，介绍自己熟悉的鸟的外形、活动特点、生活习性等知识，也可以讲述自己和鸟之间发生的有趣的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5"/>
          <p:cNvSpPr/>
          <p:nvPr/>
        </p:nvSpPr>
        <p:spPr>
          <a:xfrm>
            <a:off x="304920" y="380880"/>
            <a:ext cx="2895480" cy="762120"/>
          </a:xfrm>
          <a:custGeom>
            <a:avLst/>
            <a:gdLst>
              <a:gd name="textAreaLeft" fmla="*/ 89640 w 2895480"/>
              <a:gd name="textAreaRight" fmla="*/ 2805840 w 28954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203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8435" y="21600"/>
                </a:lnTo>
                <a:arcTo wR="3600" hR="3600" stAng="10800000" swAng="5400000"/>
                <a:lnTo>
                  <a:pt x="8203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课堂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84978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翠鸟中为数最多、分布最广的是</a:t>
            </a:r>
            <a:r>
              <a:rPr b="1" lang="zh-CN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欧亚翠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种鸟在我国东部、南部常见，也叫钓鱼郎。翠鸟体长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头大，体小。翠鸟常常蹲在河溪、水塘、湖泊、海湾的水面上，或盘旋在上空，只要鱼鳞银光一闪，</a:t>
            </a:r>
            <a:r>
              <a:rPr b="1" lang="zh-CN" sz="28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它便紧夹双翼，尾上头下，全身笔直插入水中，双喙像镊子一样张开，钳住小鱼，随即张开双翼，龟缩着脑袋，掉头振翅浮出水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整个过程前后不过几秒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198900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翠鸟把抓住的小鱼往自己爪上狠狠打几下，再将鱼抛向空中，张大嘴接住，美餐一顿。翠鸟这种高超的捕鱼本领，来自它独特的身体构造。它的羽毛里，隐藏着许多</a:t>
            </a:r>
            <a:r>
              <a:rPr b="1" lang="zh-CN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气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尾部有分泌防水油的</a:t>
            </a:r>
            <a:r>
              <a:rPr b="1" lang="zh-CN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腺体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借此可在水中迅速潜游而不致弄湿羽毛。翠鸟在插入水中的瞬间，能够精确调节因光线的折射而造成的视差。进水之后，仍能保持</a:t>
            </a:r>
            <a:r>
              <a:rPr b="1" lang="zh-CN" sz="28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极佳视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5"/>
          <p:cNvSpPr/>
          <p:nvPr/>
        </p:nvSpPr>
        <p:spPr>
          <a:xfrm>
            <a:off x="304920" y="380880"/>
            <a:ext cx="2895480" cy="762120"/>
          </a:xfrm>
          <a:custGeom>
            <a:avLst/>
            <a:gdLst>
              <a:gd name="textAreaLeft" fmla="*/ 89640 w 2895480"/>
              <a:gd name="textAreaRight" fmla="*/ 2805840 w 28954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203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8435" y="21600"/>
                </a:lnTo>
                <a:arcTo wR="3600" hR="3600" stAng="10800000" swAng="5400000"/>
                <a:lnTo>
                  <a:pt x="8203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知识链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160" y="1746360"/>
            <a:ext cx="8280360" cy="38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一篇自己喜欢的鸟的描写，可以仿写《翠鸟》这篇课文。题目自拟。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找一些鸟的资料，明天检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一幅翠鸟的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背诵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0626000">
            <a:off x="6736680" y="2932200"/>
            <a:ext cx="1865160" cy="1216080"/>
          </a:xfrm>
          <a:prstGeom prst="cloudCallout">
            <a:avLst>
              <a:gd name="adj1" fmla="val 51504"/>
              <a:gd name="adj2" fmla="val -10249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 Black"/>
              </a:rPr>
              <a:t>你一定行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277" t="277" r="277" b="3488"/>
          <a:stretch/>
        </p:blipFill>
        <p:spPr>
          <a:xfrm>
            <a:off x="4724280" y="4038480"/>
            <a:ext cx="2346480" cy="227016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45"/>
          <p:cNvSpPr/>
          <p:nvPr/>
        </p:nvSpPr>
        <p:spPr>
          <a:xfrm>
            <a:off x="304920" y="380880"/>
            <a:ext cx="2895480" cy="762120"/>
          </a:xfrm>
          <a:custGeom>
            <a:avLst/>
            <a:gdLst>
              <a:gd name="textAreaLeft" fmla="*/ 89640 w 2895480"/>
              <a:gd name="textAreaRight" fmla="*/ 2805840 w 28954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203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8435" y="21600"/>
                </a:lnTo>
                <a:arcTo wR="3600" hR="3600" stAng="10800000" swAng="5400000"/>
                <a:lnTo>
                  <a:pt x="8203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课后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45"/>
          <p:cNvSpPr/>
          <p:nvPr/>
        </p:nvSpPr>
        <p:spPr>
          <a:xfrm>
            <a:off x="304920" y="380880"/>
            <a:ext cx="2895480" cy="762120"/>
          </a:xfrm>
          <a:custGeom>
            <a:avLst/>
            <a:gdLst>
              <a:gd name="textAreaLeft" fmla="*/ 89640 w 2895480"/>
              <a:gd name="textAreaRight" fmla="*/ 2805840 w 28954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203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8435" y="21600"/>
                </a:lnTo>
                <a:arcTo wR="3600" hR="3600" stAng="10800000" swAng="5400000"/>
                <a:lnTo>
                  <a:pt x="8203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生字全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371600"/>
            <a:ext cx="30481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1438200" cy="1743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419720"/>
            <a:ext cx="1438200" cy="1724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971800" y="2743200"/>
            <a:ext cx="4295880" cy="495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200400" y="5257800"/>
            <a:ext cx="4000680" cy="419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819520" y="4495680"/>
            <a:ext cx="4562280" cy="561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124080" y="3429000"/>
            <a:ext cx="40291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1457280" cy="1752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743200" y="2057400"/>
            <a:ext cx="5877000" cy="552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581280" y="2819520"/>
            <a:ext cx="3905280" cy="466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43000" y="3886200"/>
            <a:ext cx="1447920" cy="1771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819520" y="4114800"/>
            <a:ext cx="5362560" cy="523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3657600" y="4876920"/>
            <a:ext cx="386712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1466640" cy="1743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219320" y="4048200"/>
            <a:ext cx="1447560" cy="1743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971800" y="2133720"/>
            <a:ext cx="4476600" cy="523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276720" y="2819520"/>
            <a:ext cx="3886200" cy="466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048120" y="4267080"/>
            <a:ext cx="4533840" cy="581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3352680" y="5105520"/>
            <a:ext cx="400068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1447920" cy="1733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895480" y="1828800"/>
            <a:ext cx="5276880" cy="485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429000" y="2514600"/>
            <a:ext cx="4076640" cy="523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143000" y="3886200"/>
            <a:ext cx="1447920" cy="1743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200400" y="4048200"/>
            <a:ext cx="4067280" cy="514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3276720" y="4809960"/>
            <a:ext cx="40100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1476360" cy="1761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895480" y="1752480"/>
            <a:ext cx="4848480" cy="542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429000" y="2438280"/>
            <a:ext cx="3990960" cy="457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066680" y="3809880"/>
            <a:ext cx="1476360" cy="1762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2743200" y="4114800"/>
            <a:ext cx="5753160" cy="523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3581280" y="4876920"/>
            <a:ext cx="4077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1495440" cy="1743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590920" y="2057400"/>
            <a:ext cx="5962680" cy="542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352680" y="2743200"/>
            <a:ext cx="3990960" cy="523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990720" y="4191120"/>
            <a:ext cx="1495440" cy="1771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971800" y="4419720"/>
            <a:ext cx="4572000" cy="600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3886200" y="5181480"/>
            <a:ext cx="280044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1476360" cy="1762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5848200" cy="60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581280" y="2666880"/>
            <a:ext cx="4038840" cy="486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914400" y="4038480"/>
            <a:ext cx="1447920" cy="1743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2666880" y="4343400"/>
            <a:ext cx="5324760" cy="542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3962520" y="5105520"/>
            <a:ext cx="29620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5T08:11:15Z</dcterms:created>
  <dc:creator>Administrator</dc:creator>
  <dc:description/>
  <dc:language>en-US</dc:language>
  <cp:lastModifiedBy/>
  <dcterms:modified xsi:type="dcterms:W3CDTF">2016-04-25T08:11:3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