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526-A3AE-4003-B69B-CF1D5706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3B4-304C-4846-AE85-24CCADB2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07E-46E8-4667-B8EB-A13350D7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371-55E7-48D1-9EB4-08BA58B0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082A-8674-4A54-B187-A3F6B77D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7E28-FD50-42FC-8CD4-7938D57A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F2BF-ECD8-4CD8-8804-B144FF41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A2FD-0E10-4E08-A040-EA270AB8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8385-E83E-4790-98AD-4166ADCB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8673-0C55-40C3-95DB-7F87BFE9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2B2F-A14D-4E4F-A5D1-516EB591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8AD-9D29-48F2-A4ED-A74D410C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7E00-1A8B-4C20-B4F6-D5E3D5C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FEEE-0DEF-45BD-86DE-A1D2F5F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587B-833B-4531-9769-C220353A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41B1-E597-4B6A-B767-D8985BEB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1DF6-8F68-4459-AC6C-60B88BBB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F75-CAEA-4CA3-A1B9-D223C301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783-14E6-4EDF-B078-DEAF4E71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196-DF69-49FF-986A-29ADA8DD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D8E-759E-47BF-BC0D-42C63B2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9DF-1AB3-4273-A2CA-B4E5966A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992-D56C-4D14-82B2-F1FCB10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775-0272-4734-8058-9A7E778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E6B1-26C8-4026-B368-47FFC32D0F5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6387-5019-453C-B891-A6894E072BD4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692360" y="184464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8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搭  石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3536280"/>
            <a:ext cx="77058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90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的家乡有一条无名小溪，五六个小村庄分布在小溪的两岸。小溪的流水常年不断。每年汛期，山洪暴发，溪水猛涨。山洪过后，人们出工、收工、赶集、访友，来来去去，必须脱鞋绾裤。进入秋天，天气变凉，家乡的人们会根据水的深浅，从河的两岸找来一些平整方正的石头，按照二尺左右的间隔，在小溪里横着摆上一排，让人们从上面踏过，这就是搭石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916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洪过后，人们出工、收工、赶集、访友，来来去去，必须脱鞋绾裤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620640"/>
            <a:ext cx="8137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，如果没有搭石的话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出工就必须（             ），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收工就必须（             ）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赶集就必须（             ）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访友就必须（             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句话，人们在溪上来来往往都必须（              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549360"/>
            <a:ext cx="8137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，如果没有搭石的话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出工就必须（脱鞋绾裤）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收工就必须（脱鞋绾裤）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赶集就必须（脱鞋绾裤）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访友就必须（脱鞋绾裤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句话，人们在溪上来来往往都必须（脱鞋绾裤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9640" y="476280"/>
            <a:ext cx="72201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那，如果没有搭石的话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就必须（     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就必须（     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学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就必须（      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)(  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就必须（      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句话，人们在溪上来来往往都必须（     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3536280"/>
            <a:ext cx="77058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90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的家乡有一条无名小溪，五六个小村庄分布在小溪的两岸。小溪的流水常年不断。每年汛期，山洪暴发，溪水猛涨。山洪过后，人们出工、收工、赶集、访友，来来去去，必须脱鞋绾裤。进入秋天，天气变凉，家乡的人们会根据水的深浅，从河的两岸找来一些平整方正的石头，按照二尺左右的间隔，在小溪里横着摆上一排，让人们从上面踏过，这就是搭石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3323160"/>
            <a:ext cx="770580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90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的家乡有一条无名小溪，五六个小村庄分布在小溪的两岸。小溪的流水常年不断。每年汛期，山洪暴发，溪水猛涨。山洪过后，人们出工、收工、赶集、访友，来来去去，必须脱鞋绾裤。进入秋天，天气变凉，家乡的人们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根据水的深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从河的两岸找来一些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平整方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石头，按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尺左右的间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在小溪里横着摆上一排，让人们从上面踏过，这就是搭石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1197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搭石，构成了家乡的一道风景。秋凉以后，人们早早地将搭石摆放好。如果别处都有搭石，唯独这一处没有，人们会谴责这里的人懒惰。上了点年岁的人，无论怎样急着赶路，只要发现哪块搭石不平稳，一定会放下带的东西，找来合适的石头搭上，再在上边踏上几个来回，直到满意了才肯离去。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了点年岁的人，无论怎样急着赶路，只要发现哪块搭石不平稳，一定会放下带的东西，找来合适的石头搭上，再在上边踏上几个来回，直到满意了才肯离去。</a:t>
            </a:r>
            <a:r>
              <a:rPr b="0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了点年岁的人，无论怎样急着赶路，只要发现哪块搭石不平稳，一定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下带的东西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合适的石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，再在上边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几个来回，直到满意了才肯离去。</a:t>
            </a:r>
            <a:r>
              <a:rPr b="0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6920" y="206064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自由朗读课文，要求读准字音，读通课文，并且试着解决提出的问题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1916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了点年岁的人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无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怎样急着赶路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发现哪块搭石不平稳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下带的东西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合适的石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，再在上边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几个来回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直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满意了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肯离去。</a:t>
            </a:r>
            <a:r>
              <a:rPr b="0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119700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搭石，构成了家乡的一道风景。秋凉以后，人们早早地将搭石摆放好。如果别处都有搭石，唯独这一处没有，人们会谴责这里的人懒惰。上了点年岁的人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无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怎样急着赶路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只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现哪块搭石不平稳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带的东西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来合适的石头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，再在上边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几个来回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直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满意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肯离去。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2720" y="2060640"/>
            <a:ext cx="5905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1341360"/>
            <a:ext cx="806436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责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懒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惰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平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衡  联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结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溪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猛涨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脱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绾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裤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人影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绰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绰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清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漾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漾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山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洪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发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调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序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620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cc"/>
                </a:solidFill>
                <a:latin typeface="Arial"/>
              </a:rPr>
              <a:t>我会读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17720" y="1268280"/>
            <a:ext cx="1651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涨 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zhǎ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1. 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水量增加，水面高起来：～潮。～落。～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2. 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价格提高：～价。～钱。物价飞～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涨 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zhàng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1. 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体积增大：豆子泡～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2. 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他～红了脸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32000" y="5013360"/>
            <a:ext cx="223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784836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间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ji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间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jiàn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1.  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空隙：～隙。亲密无～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2.  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隔开，不连接：～隔。～断。～接。黑白相～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3.  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挑拨使人不和：离～。～谍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341360"/>
            <a:ext cx="806436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责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懒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惰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平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衡  联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结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溪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猛涨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脱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绾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裤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人影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绰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绰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清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漾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漾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山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洪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发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调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序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620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cc"/>
                </a:solidFill>
                <a:latin typeface="Arial"/>
              </a:rPr>
              <a:t>我会读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85760" y="620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30720" y="1699200"/>
            <a:ext cx="476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宽绰     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体态柔美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30139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影绰绰中绰的意思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0755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绰绰有余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绰的意思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5760" y="620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绰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30720" y="1699200"/>
            <a:ext cx="476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宽绰     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体态柔美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99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影绰绰中绰的意思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体态柔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26000" y="4075560"/>
            <a:ext cx="519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绰绰有余中绰的意思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宽     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341360"/>
            <a:ext cx="806436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责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懒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惰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平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衡 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联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结</a:t>
            </a:r>
            <a:r>
              <a:rPr b="1" lang="en-US" sz="4400" spc="-1" strike="noStrike">
                <a:solidFill>
                  <a:srgbClr val="0033cc"/>
                </a:solidFill>
                <a:latin typeface="宋体"/>
              </a:rPr>
              <a:t> 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溪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猛涨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脱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绾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裤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人影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绰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绰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清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漾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漾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山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洪暴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发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调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序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620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cc"/>
                </a:solidFill>
                <a:latin typeface="Arial"/>
              </a:rPr>
              <a:t>我会读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1:41:41Z</dcterms:created>
  <dc:creator>Administrator</dc:creator>
  <dc:description/>
  <dc:language>en-US</dc:language>
  <cp:lastModifiedBy/>
  <dcterms:modified xsi:type="dcterms:W3CDTF">2015-08-19T06:13:50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