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20.png" ContentType="image/png"/>
  <Override PartName="/ppt/media/image2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8435-FABF-4159-B698-1DC8C6F3E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3910-1C40-409F-8588-7F886C633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0DB3-77A6-4937-B777-C14C29411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A09A-F8D9-46EB-9177-1D4E56074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3700-8C79-440A-BCD8-4BB70638F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1ED1-FC91-4823-B5D4-A10405C58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2AF4-0FE7-485C-9CA0-EFA12DB4C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9B49-5810-4FC7-A048-56CD81423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7C8D-FB78-4CA5-AFD1-FE8B792D5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6AD5-AC12-44B4-A3BC-C9D811F4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E4CE-53E0-4C91-9EE5-01B4D849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F6F7-6AC2-4E3F-B27F-70B7948C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FBCA4-E475-4DF2-9624-976691A1A1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0" y="4114800"/>
            <a:ext cx="9144000" cy="1523880"/>
          </a:xfrm>
          <a:prstGeom prst="rect">
            <a:avLst/>
          </a:prstGeom>
          <a:solidFill>
            <a:srgbClr val="ffffff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2286000" y="251460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课  大象保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12"/>
          <p:cNvSpPr/>
          <p:nvPr/>
        </p:nvSpPr>
        <p:spPr>
          <a:xfrm>
            <a:off x="2438280" y="3581280"/>
            <a:ext cx="4191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3505320" y="403848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语文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  三年级下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41200" y="2209680"/>
            <a:ext cx="806472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课讲述了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搏斗，保护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故事。赞扬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主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精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46520" y="24382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大象加芝柏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748560" y="2438280"/>
            <a:ext cx="11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鬣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32120" y="3200400"/>
            <a:ext cx="263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主人孩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74720" y="4038480"/>
            <a:ext cx="126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大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41600" y="4038480"/>
            <a:ext cx="45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忠诚和恪尽职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1752480"/>
            <a:ext cx="7924680" cy="36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黑体"/>
              </a:rPr>
              <a:t>第一部分：</a:t>
            </a:r>
            <a:br>
              <a:rPr sz="32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—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自然段写大象帮助主人做事；</a:t>
            </a:r>
            <a:br>
              <a:rPr sz="2800"/>
            </a:br>
            <a:br>
              <a:rPr sz="3200"/>
            </a:br>
            <a:r>
              <a:rPr b="1" lang="en-US" sz="3200" spc="-1" strike="noStrike">
                <a:solidFill>
                  <a:srgbClr val="ff33cc"/>
                </a:solidFill>
                <a:latin typeface="Arial"/>
                <a:ea typeface="黑体"/>
              </a:rPr>
              <a:t> 第二部分：</a:t>
            </a:r>
            <a:br>
              <a:rPr sz="32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—2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自然段写大象怎样保护主人的孩子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2209680"/>
            <a:ext cx="7924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默读课文第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自然段，思考以下问题：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在主人眼中，这头大象有什么特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平时大象是怎样照看孩子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5"/>
          <p:cNvSpPr/>
          <p:nvPr/>
        </p:nvSpPr>
        <p:spPr>
          <a:xfrm>
            <a:off x="304920" y="380880"/>
            <a:ext cx="2971800" cy="762120"/>
          </a:xfrm>
          <a:custGeom>
            <a:avLst/>
            <a:gdLst>
              <a:gd name="textAreaLeft" fmla="*/ 89640 w 2971800"/>
              <a:gd name="textAreaRight" fmla="*/ 2882160 w 2971800"/>
              <a:gd name="textAreaTop" fmla="*/ 89640 h 762120"/>
              <a:gd name="textAreaBottom" fmla="*/ 672480 h 762120"/>
            </a:gdLst>
            <a:ahLst/>
            <a:rect l="textAreaLeft" t="textAreaTop" r="textAreaRight" b="textAreaBottom"/>
            <a:pathLst>
              <a:path w="8419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0597" y="21600"/>
                </a:lnTo>
                <a:arcTo wR="3600" hR="3600" stAng="10800000" swAng="5400000"/>
                <a:lnTo>
                  <a:pt x="84197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黑体"/>
              </a:rPr>
              <a:t>课文解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90720" y="39625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勇敢，对主人忠心耿耿，特别温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90720" y="533412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当孩子要爬出圈子时，就用长鼻子轻轻地拦住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12193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学习第一部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7200" y="1523880"/>
            <a:ext cx="8153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阅读提示：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大象是怎样保护主人的娃娃的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哪部分最使你感动？把自己感动的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画出来，并说说你从中感受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05120" y="6858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学习第二部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57200" y="2666880"/>
            <a:ext cx="77724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在森林里，太阳下山了，天色慢慢暗了下来。当“三只鬣狗听到婴儿的哭声，朝这儿跑了过来”时，大象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</a:rPr>
              <a:t>　　　　　　　　　　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当一只鬣狗“贪婪地盯着娃娃，另外两只则开始在后面兜圈子”时，大象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____________;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</a:rPr>
              <a:t>　　　　　　　　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133992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读课文，根据课文填空，了解大象保护孩子的详细过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09480" y="1295280"/>
            <a:ext cx="7772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当“鬣狗饥饿难熬，开始冒险逼近”时，大象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__________________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当“鬣狗的气味把大象惊醒了。娃娃已经爬到了它够不着的地方”时，大象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_____________________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；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当“鬣狗一见，趁机向孩子猛扑过来”时，大象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__________________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吓得鬣狗夹着尾巴逃走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86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交流：大象是怎样保护主人的娃娃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2280" y="1905120"/>
            <a:ext cx="8723520" cy="45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主人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交给大象，鬣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象和鬣狗进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其中一只鬣狗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大象继续和鬣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最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398680" y="18288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娃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361200" y="1828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想吞吃娃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52680" y="29718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搏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5520" y="411480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大象踏成肉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10280" y="41911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搏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84120" y="533412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保护了孩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14400" y="1295280"/>
            <a:ext cx="716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哪部分最使你感动？把自己感动的内容画出来，并说说你从中感受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0" t="254" r="0" b="1569"/>
          <a:stretch/>
        </p:blipFill>
        <p:spPr>
          <a:xfrm>
            <a:off x="2438280" y="2819520"/>
            <a:ext cx="472464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5800" y="16002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它向着鬃狗发出几声咆哮，并愤怒地来回走动着，把拴它的铁链拉得紧绷绷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30481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大象立即向前猛冲，铁链勒得它皮开肉绽，鲜血直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44197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他们扒开树枝，只见大象闭着眼睛，满足而安详地躺着，身下流了一滩血。而孩子正甜甜地睡在它卷曲的鼻子中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14400" y="1295280"/>
            <a:ext cx="7162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发挥想象：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大象后来会怎么样？卡林夫妇看到眼前的场景会说些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62120" y="3809880"/>
            <a:ext cx="2908080" cy="27432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971800" y="3581280"/>
            <a:ext cx="5486400" cy="1371600"/>
          </a:xfrm>
          <a:prstGeom prst="cloudCallout">
            <a:avLst>
              <a:gd name="adj1" fmla="val -46990"/>
              <a:gd name="adj2" fmla="val 791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他们会说什么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45"/>
          <p:cNvSpPr/>
          <p:nvPr/>
        </p:nvSpPr>
        <p:spPr>
          <a:xfrm>
            <a:off x="304920" y="380880"/>
            <a:ext cx="2971800" cy="762120"/>
          </a:xfrm>
          <a:custGeom>
            <a:avLst/>
            <a:gdLst>
              <a:gd name="textAreaLeft" fmla="*/ 89640 w 2971800"/>
              <a:gd name="textAreaRight" fmla="*/ 2882160 w 2971800"/>
              <a:gd name="textAreaTop" fmla="*/ 89640 h 762120"/>
              <a:gd name="textAreaBottom" fmla="*/ 672480 h 762120"/>
            </a:gdLst>
            <a:ahLst/>
            <a:rect l="textAreaLeft" t="textAreaTop" r="textAreaRight" b="textAreaBottom"/>
            <a:pathLst>
              <a:path w="8419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0597" y="21600"/>
                </a:lnTo>
                <a:arcTo wR="3600" hR="3600" stAng="10800000" swAng="5400000"/>
                <a:lnTo>
                  <a:pt x="84197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黑体"/>
              </a:rPr>
              <a:t>新课导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057400"/>
            <a:ext cx="7772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耳朵像蒲扇，身子像堵墙，腿粗像柱子，鼻子长有力，这就是我们眼中的大象。你能将这样一个庞然大物和温柔细心的保姆联系起来吗？有一头叫做加芝柏提的大象不但能替主人当保姆，而且它的保姆工作还做得有声有色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2590920"/>
            <a:ext cx="716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我不是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黑体"/>
              </a:rPr>
              <a:t>昆虫学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不知道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黑体"/>
              </a:rPr>
              <a:t>蚂蚁的救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行为是一种偶然还是出自本能。但我觉得在这一点上，它们确实表现出了一种我们人类所应该具有的道德品质——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黑体"/>
              </a:rPr>
              <a:t>相互关爱、相互帮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895480" y="990720"/>
            <a:ext cx="2519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楷体_GB2312"/>
              </a:rPr>
              <a:t>我会仿写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09480" y="1905120"/>
            <a:ext cx="815364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我不是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  <a:ea typeface="黑体"/>
              </a:rPr>
              <a:t>_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学家，不知道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  <a:ea typeface="黑体"/>
              </a:rPr>
              <a:t>_______________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行为是一种偶然还是出自本能。但我觉得在这一点上，它们确实表现出了一种我们人类所应该具有的道德品质——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  <a:ea typeface="黑体"/>
              </a:rPr>
              <a:t>____________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71800" y="1935000"/>
            <a:ext cx="11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黑体"/>
              </a:rPr>
              <a:t>动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259092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黑体"/>
              </a:rPr>
              <a:t>大象舍命保护孩子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44720" y="4449600"/>
            <a:ext cx="317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黑体"/>
              </a:rPr>
              <a:t>忠诚、勇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AutoShape 45"/>
          <p:cNvSpPr/>
          <p:nvPr/>
        </p:nvSpPr>
        <p:spPr>
          <a:xfrm>
            <a:off x="304920" y="380880"/>
            <a:ext cx="2971800" cy="762120"/>
          </a:xfrm>
          <a:custGeom>
            <a:avLst/>
            <a:gdLst>
              <a:gd name="textAreaLeft" fmla="*/ 89640 w 2971800"/>
              <a:gd name="textAreaRight" fmla="*/ 2882160 w 2971800"/>
              <a:gd name="textAreaTop" fmla="*/ 89640 h 762120"/>
              <a:gd name="textAreaBottom" fmla="*/ 672480 h 762120"/>
            </a:gdLst>
            <a:ahLst/>
            <a:rect l="textAreaLeft" t="textAreaTop" r="textAreaRight" b="textAreaBottom"/>
            <a:pathLst>
              <a:path w="8419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0597" y="21600"/>
                </a:lnTo>
                <a:arcTo wR="3600" hR="3600" stAng="10800000" swAng="5400000"/>
                <a:lnTo>
                  <a:pt x="84197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黑体"/>
              </a:rPr>
              <a:t>相关知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447920"/>
            <a:ext cx="5791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大象是现存世界最大的陆栖动物，它头大，耳大如扇。四肢粗大如圆柱，膝关节不能自由屈曲。鼻长几乎与体长相等，呈圆筒状，伸屈自如；鼻孔开口在末端，鼻尖有指状突起，能拣拾细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895480" cy="2171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rcRect l="32000" t="0" r="0" b="0"/>
          <a:stretch/>
        </p:blipFill>
        <p:spPr>
          <a:xfrm>
            <a:off x="6248520" y="3886200"/>
            <a:ext cx="274320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990720"/>
            <a:ext cx="83818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鬣狗是一种强悍的中型猛兽，它们集体猎食斑马、角马等大中型草食动物，甚至可以杀死半吨重的非洲野水牛。鬣狗是夜行性猛兽，它们白天在草丛中或洞穴中休息，夜间出来四处游荡，到处觅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876920" y="3657600"/>
            <a:ext cx="3504960" cy="2538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rcRect l="5276" t="4410" r="6717" b="5497"/>
          <a:stretch/>
        </p:blipFill>
        <p:spPr>
          <a:xfrm>
            <a:off x="762120" y="3657600"/>
            <a:ext cx="37335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1447920"/>
            <a:ext cx="77724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猎狗：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用于追猎的狗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具有下垂的大耳朵、深沉的叫声和利用嗅迹跟踪猎物的本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09480" y="3497400"/>
            <a:ext cx="3810240" cy="2239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rcRect l="0" t="0" r="0" b="4453"/>
          <a:stretch/>
        </p:blipFill>
        <p:spPr>
          <a:xfrm>
            <a:off x="4572000" y="3505320"/>
            <a:ext cx="3505320" cy="22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45"/>
          <p:cNvSpPr/>
          <p:nvPr/>
        </p:nvSpPr>
        <p:spPr>
          <a:xfrm>
            <a:off x="304920" y="380880"/>
            <a:ext cx="2971800" cy="762120"/>
          </a:xfrm>
          <a:custGeom>
            <a:avLst/>
            <a:gdLst>
              <a:gd name="textAreaLeft" fmla="*/ 89640 w 2971800"/>
              <a:gd name="textAreaRight" fmla="*/ 2882160 w 2971800"/>
              <a:gd name="textAreaTop" fmla="*/ 89640 h 762120"/>
              <a:gd name="textAreaBottom" fmla="*/ 672480 h 762120"/>
            </a:gdLst>
            <a:ahLst/>
            <a:rect l="textAreaLeft" t="textAreaTop" r="textAreaRight" b="textAreaBottom"/>
            <a:pathLst>
              <a:path w="8419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0597" y="21600"/>
                </a:lnTo>
                <a:arcTo wR="3600" hR="3600" stAng="10800000" swAng="5400000"/>
                <a:lnTo>
                  <a:pt x="84197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黑体"/>
              </a:rPr>
              <a:t>生字全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16765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我会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71440" y="2602080"/>
            <a:ext cx="1105200" cy="15620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467080" y="2629080"/>
            <a:ext cx="1123920" cy="1562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838680" y="2612880"/>
            <a:ext cx="1123920" cy="1562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5210280" y="2612880"/>
            <a:ext cx="1114200" cy="15717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6581880" y="2612880"/>
            <a:ext cx="1114200" cy="1562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1154160" y="4495680"/>
            <a:ext cx="1095480" cy="15717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7"/>
          <a:stretch/>
        </p:blipFill>
        <p:spPr>
          <a:xfrm>
            <a:off x="2514600" y="4506840"/>
            <a:ext cx="1123920" cy="1552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3863880" y="4495680"/>
            <a:ext cx="1123920" cy="1552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5210280" y="4484520"/>
            <a:ext cx="1114200" cy="1562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0"/>
          <a:stretch/>
        </p:blipFill>
        <p:spPr>
          <a:xfrm>
            <a:off x="6607080" y="4484520"/>
            <a:ext cx="111456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24080" y="13716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多音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362320" y="2666880"/>
            <a:ext cx="4086000" cy="10191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362320" y="4114800"/>
            <a:ext cx="405756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45"/>
          <p:cNvSpPr/>
          <p:nvPr/>
        </p:nvSpPr>
        <p:spPr>
          <a:xfrm>
            <a:off x="304920" y="380880"/>
            <a:ext cx="2971800" cy="762120"/>
          </a:xfrm>
          <a:custGeom>
            <a:avLst/>
            <a:gdLst>
              <a:gd name="textAreaLeft" fmla="*/ 89640 w 2971800"/>
              <a:gd name="textAreaRight" fmla="*/ 2882160 w 2971800"/>
              <a:gd name="textAreaTop" fmla="*/ 89640 h 762120"/>
              <a:gd name="textAreaBottom" fmla="*/ 672480 h 762120"/>
            </a:gdLst>
            <a:ahLst/>
            <a:rect l="textAreaLeft" t="textAreaTop" r="textAreaRight" b="textAreaBottom"/>
            <a:pathLst>
              <a:path w="8419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0597" y="21600"/>
                </a:lnTo>
                <a:arcTo wR="3600" hR="3600" stAng="10800000" swAng="5400000"/>
                <a:lnTo>
                  <a:pt x="84197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黑体"/>
              </a:rPr>
              <a:t>词语解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1676520"/>
            <a:ext cx="8839080" cy="44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黑体"/>
              </a:rPr>
              <a:t>忠心耿耿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形容特别忠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黑体"/>
              </a:rPr>
              <a:t>温顺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温和顺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黑体"/>
              </a:rPr>
              <a:t>咆哮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猛兽）怒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黑体"/>
              </a:rPr>
              <a:t>不知所措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知道该怎么办才好，形容受窘或发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黑体"/>
              </a:rPr>
              <a:t>逃窜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逃跑流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黑体"/>
              </a:rPr>
              <a:t>气喘吁吁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形容大声喘气的样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黑体"/>
              </a:rPr>
              <a:t>安详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从容不迫，稳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黑体"/>
              </a:rPr>
              <a:t>夺眶而出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形容眼泪一下子流了出来，止都止不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914400" y="1676520"/>
            <a:ext cx="7696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听课文朗读，思考问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本文讲了一件什么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课文可以分为几个部分，概括每部分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的大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4648320"/>
            <a:ext cx="243828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5T08:11:46Z</dcterms:created>
  <dc:creator>Administrator</dc:creator>
  <dc:description/>
  <dc:language>en-US</dc:language>
  <cp:lastModifiedBy/>
  <dcterms:modified xsi:type="dcterms:W3CDTF">2016-04-25T08:12:04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</Properties>
</file>