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8C0A2-66D6-4948-A195-3C9042859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9E7D-CE22-4E9E-9C13-207B4C7B3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97140-5530-4BB4-9F37-B0769D64E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B8E56-06D4-4D6E-94DA-72B7F99E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1590-466E-411C-AB96-E92CB047C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9CC1-4C36-4B19-968F-45C6DDA2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1365F-52C6-4DB4-BB44-7DC22CD9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62097-5E1D-4471-A846-9578109D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E8F2-DC61-47C9-B5F2-7AC44D64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B1DE8-5063-4BEB-968C-F0EE4718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26CE-D83C-4CA1-905F-01127B75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6D62-2114-45D2-8B37-AD4E361C0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26CB-3A6F-46F7-A327-280E2CC63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41"/>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286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带着鬼子捉迷藏</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3" name="Text Box 7"/>
          <p:cNvSpPr/>
          <p:nvPr/>
        </p:nvSpPr>
        <p:spPr>
          <a:xfrm>
            <a:off x="1108440" y="3049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湘教版三年级下册第三单元</a:t>
            </a:r>
            <a:endParaRPr b="0" lang="en-US" sz="3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189080"/>
            <a:ext cx="8229600" cy="5440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ea typeface="黑体"/>
              </a:rPr>
              <a:t>自读课文，了解强子与敌人捉迷藏的经过。</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默读课文，思考下面的问题：</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强子是怎样带着鬼子捉迷藏的？</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分别用</a:t>
            </a:r>
            <a:r>
              <a:rPr b="1" lang="zh-CN" sz="3200" spc="-1" strike="noStrike">
                <a:solidFill>
                  <a:srgbClr val="000000"/>
                </a:solidFill>
                <a:latin typeface="Arial"/>
                <a:ea typeface="楷体_GB2312"/>
              </a:rPr>
              <a:t>“</a:t>
            </a:r>
            <a:r>
              <a:rPr b="1" lang="en-US" sz="3200" spc="-1" strike="noStrike">
                <a:solidFill>
                  <a:srgbClr val="000000"/>
                </a:solidFill>
                <a:latin typeface="楷体_GB2312"/>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和</a:t>
            </a:r>
            <a:r>
              <a:rPr b="1" lang="zh-CN" sz="3200" spc="-1" strike="noStrike">
                <a:solidFill>
                  <a:srgbClr val="000000"/>
                </a:solidFill>
                <a:latin typeface="Arial"/>
                <a:ea typeface="楷体_GB2312"/>
              </a:rPr>
              <a:t>“</a:t>
            </a:r>
            <a:r>
              <a:rPr b="1" lang="en-US" sz="3200" spc="-1" strike="noStrike">
                <a:solidFill>
                  <a:srgbClr val="000000"/>
                </a:solidFill>
                <a:latin typeface="Arial"/>
              </a:rPr>
              <a:t>………</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画出文中带问号和感叹号的句子，自由地读一读，体会人物的内心活动。</a:t>
            </a:r>
            <a:br>
              <a:rPr sz="3200"/>
            </a:b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再读课文，体会强子的内心活动。</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自读课文，找出课文哪几段重点写了强子带着鬼子捉迷藏？</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用</a:t>
            </a:r>
            <a:r>
              <a:rPr b="1" lang="zh-CN" sz="3200" spc="-1" strike="noStrike">
                <a:solidFill>
                  <a:srgbClr val="000000"/>
                </a:solidFill>
                <a:latin typeface="Arial"/>
                <a:ea typeface="楷体_GB2312"/>
              </a:rPr>
              <a:t>“</a:t>
            </a:r>
            <a:r>
              <a:rPr b="1" lang="en-US" sz="3200" spc="-1" strike="noStrike">
                <a:solidFill>
                  <a:srgbClr val="000000"/>
                </a:solidFill>
                <a:latin typeface="楷体_GB2312"/>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画出文中表现强子机智勇敢的语句，自由读一读，并与同桌交流自己的理解。</a:t>
            </a:r>
            <a:br>
              <a:rPr sz="3200"/>
            </a:br>
            <a:endParaRPr b="0" lang="en-US" sz="3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          </a:t>
            </a:r>
            <a:r>
              <a:rPr b="1" lang="zh-CN" sz="4400" spc="-1" strike="noStrike">
                <a:solidFill>
                  <a:srgbClr val="000000"/>
                </a:solidFill>
                <a:latin typeface="Arial"/>
                <a:ea typeface="黑体"/>
              </a:rPr>
              <a:t>品读感悟</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方正黑体_GBK"/>
              </a:rPr>
              <a:t>1.</a:t>
            </a:r>
            <a:r>
              <a:rPr b="1" lang="zh-CN" sz="2800" spc="-1" strike="noStrike">
                <a:solidFill>
                  <a:srgbClr val="000000"/>
                </a:solidFill>
                <a:latin typeface="Arial"/>
                <a:ea typeface="方正黑体_GBK"/>
              </a:rPr>
              <a:t>分句品读：读出表现强子机智勇敢的句子。如：</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在敌人的威逼下，他只好弓着腰往里钻</a:t>
            </a:r>
            <a:r>
              <a:rPr b="1" lang="en-US" sz="2800" spc="-1" strike="noStrike">
                <a:solidFill>
                  <a:srgbClr val="000000"/>
                </a:solidFill>
                <a:latin typeface="宋体"/>
              </a:rPr>
              <a:t>……</a:t>
            </a:r>
            <a:r>
              <a:rPr b="1" lang="zh-CN" sz="2800" spc="-1" strike="noStrike">
                <a:solidFill>
                  <a:srgbClr val="000000"/>
                </a:solidFill>
                <a:latin typeface="Arial"/>
              </a:rPr>
              <a:t>什么也没有！</a:t>
            </a:r>
            <a:r>
              <a:rPr b="1" lang="zh-CN" sz="2800" spc="-1" strike="noStrike">
                <a:solidFill>
                  <a:srgbClr val="000000"/>
                </a:solidFill>
                <a:latin typeface="宋体"/>
              </a:rPr>
              <a:t>”</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自由读，说说自己的理解。</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比较品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强子望着远去的鬼子，笑了。他把兜里的糖拿出来，狠狠地摔到地上。</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强子望着远去的鬼子，笑了。他把兜里的糖拿出来，狠狠地丢到地上。</a:t>
            </a:r>
            <a:br>
              <a:rPr sz="2400"/>
            </a:b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强子为什么笑了？</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把句中的“摔”改为“丢”好吗？说说你的看法。</a:t>
            </a:r>
            <a:br>
              <a:rPr sz="2800"/>
            </a:br>
            <a:endParaRPr b="0" lang="en-US" sz="2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914400" y="1066680"/>
            <a:ext cx="7315200" cy="4983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ea typeface="黑体"/>
              </a:rPr>
              <a:t>精读课文，再现强子机智勇敢的形象</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分角色朗读课文。</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鬼子的话应读出凶恶的语气；强子的话应读出机智勇敢的语气。重点围绕强子带着鬼子捉迷藏的经过。</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人物评析。小组内互相说说对强子的印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小组讨论，自由发言。</a:t>
            </a:r>
            <a:endParaRPr b="0" lang="en-US" sz="2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914400"/>
            <a:ext cx="723888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拓展延伸，讲小英雄故事</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这个故事讲给家里人或院里的小朋友听。</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讲述抗日小英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的故事。</a:t>
            </a:r>
            <a:br>
              <a:rPr sz="3200"/>
            </a:br>
            <a:br>
              <a:rPr sz="3200"/>
            </a:br>
            <a:endParaRPr b="0" lang="en-US" sz="3200" spc="-1" strike="noStrike">
              <a:solidFill>
                <a:srgbClr val="000000"/>
              </a:solidFill>
              <a:latin typeface="Arial"/>
            </a:endParaRPr>
          </a:p>
        </p:txBody>
      </p:sp>
      <p:pic>
        <p:nvPicPr>
          <p:cNvPr id="58" name="Picture 4" descr="三毛"/>
          <p:cNvPicPr/>
          <p:nvPr/>
        </p:nvPicPr>
        <p:blipFill>
          <a:blip r:embed="rId1"/>
          <a:stretch/>
        </p:blipFill>
        <p:spPr>
          <a:xfrm>
            <a:off x="4495680" y="2971800"/>
            <a:ext cx="3962520" cy="2873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民族魂"/>
          <p:cNvPicPr/>
          <p:nvPr/>
        </p:nvPicPr>
        <p:blipFill>
          <a:blip r:embed="rId1"/>
          <a:stretch/>
        </p:blipFill>
        <p:spPr>
          <a:xfrm>
            <a:off x="2590920" y="990720"/>
            <a:ext cx="3732120" cy="48765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2666880"/>
            <a:ext cx="624852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黑体"/>
              </a:rPr>
              <a:t>谢谢指导</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      </a:t>
            </a:r>
            <a:r>
              <a:rPr b="1" lang="zh-CN" sz="4400" spc="-1" strike="noStrike">
                <a:solidFill>
                  <a:srgbClr val="000000"/>
                </a:solidFill>
                <a:latin typeface="Arial"/>
                <a:ea typeface="黑体"/>
              </a:rPr>
              <a:t>学习目标</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认识，会写</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抗、强、鬼、沟、军、奖、晃、腰、臭、狠</a:t>
            </a:r>
            <a:r>
              <a:rPr b="1" lang="zh-CN" sz="2800" spc="-1" strike="noStrike">
                <a:solidFill>
                  <a:srgbClr val="000000"/>
                </a:solidFill>
                <a:latin typeface="Arial"/>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个生字；辨析多音字</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给</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默读课文，说说强子带着鬼子捉迷藏的经过。</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理解课文内容，体会强子的机智勇敢，学习他的爱国之情。 </a:t>
            </a:r>
            <a:endParaRPr b="0"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布鲁塞尔的小英雄于连用他的勇敢机智和沉着冷静保住了布鲁塞尔城和全城市民，成为了家喻户晓的小英雄。在我们中国，也出现了许多像于连一样机智勇敢的小英雄。你们都知道哪些抗日小英雄呢？</a:t>
            </a:r>
            <a:endParaRPr b="0" lang="en-US" sz="3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小英雄雨来"/>
          <p:cNvPicPr/>
          <p:nvPr/>
        </p:nvPicPr>
        <p:blipFill>
          <a:blip r:embed="rId1"/>
          <a:stretch/>
        </p:blipFill>
        <p:spPr>
          <a:xfrm>
            <a:off x="0" y="0"/>
            <a:ext cx="9144000" cy="685800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鸡毛信"/>
          <p:cNvPicPr/>
          <p:nvPr/>
        </p:nvPicPr>
        <p:blipFill>
          <a:blip r:embed="rId1"/>
          <a:stretch/>
        </p:blipFill>
        <p:spPr>
          <a:xfrm>
            <a:off x="0" y="0"/>
            <a:ext cx="9144000" cy="68580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王二小"/>
          <p:cNvPicPr/>
          <p:nvPr/>
        </p:nvPicPr>
        <p:blipFill>
          <a:blip r:embed="rId1"/>
          <a:stretch/>
        </p:blipFill>
        <p:spPr>
          <a:xfrm>
            <a:off x="2286000" y="838080"/>
            <a:ext cx="5029200" cy="501660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33520" y="2362320"/>
            <a:ext cx="8229600" cy="266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00"/>
                </a:solidFill>
                <a:latin typeface="Arial"/>
                <a:ea typeface="楷体_GB2312"/>
              </a:rPr>
              <a:t>今天，老师向你们介绍一位叫强子的爱国少年，让我们一起去读读</a:t>
            </a:r>
            <a:r>
              <a:rPr b="1" lang="en-US" sz="4400" spc="-1" strike="noStrike">
                <a:solidFill>
                  <a:srgbClr val="000000"/>
                </a:solidFill>
                <a:latin typeface="Arial"/>
                <a:ea typeface="楷体_GB2312"/>
              </a:rPr>
              <a:t>《</a:t>
            </a:r>
            <a:r>
              <a:rPr b="1" lang="zh-CN" sz="4400" spc="-1" strike="noStrike">
                <a:solidFill>
                  <a:srgbClr val="000000"/>
                </a:solidFill>
                <a:latin typeface="Arial"/>
                <a:ea typeface="楷体_GB2312"/>
              </a:rPr>
              <a:t>带着鬼子捉迷藏</a:t>
            </a:r>
            <a:r>
              <a:rPr b="1" lang="en-US" sz="4400" spc="-1" strike="noStrike">
                <a:solidFill>
                  <a:srgbClr val="000000"/>
                </a:solidFill>
                <a:latin typeface="Arial"/>
                <a:ea typeface="楷体_GB2312"/>
              </a:rPr>
              <a:t>》</a:t>
            </a:r>
            <a:r>
              <a:rPr b="1" lang="zh-CN" sz="4400" spc="-1" strike="noStrike">
                <a:solidFill>
                  <a:srgbClr val="000000"/>
                </a:solidFill>
                <a:latin typeface="Arial"/>
                <a:ea typeface="楷体_GB2312"/>
              </a:rPr>
              <a:t>。</a:t>
            </a:r>
            <a:br>
              <a:rPr sz="4400"/>
            </a:br>
            <a:endParaRPr b="0" lang="en-US" sz="4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        </a:t>
            </a:r>
            <a:r>
              <a:rPr b="1" lang="zh-CN" sz="4000" spc="-1" strike="noStrike">
                <a:solidFill>
                  <a:srgbClr val="000000"/>
                </a:solidFill>
                <a:latin typeface="Arial"/>
                <a:ea typeface="黑体"/>
              </a:rPr>
              <a:t>初读课文，整体感知</a:t>
            </a:r>
            <a:br>
              <a:rPr sz="4000"/>
            </a:br>
            <a:endParaRPr b="0" lang="en-US" sz="4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自读课文，要求读通顺，不添字，不漏字。</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画出文中的生字、生词，仔细拼读生字，熟读生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子是个怎样的孩子</a:t>
            </a:r>
            <a:r>
              <a:rPr b="0" lang="zh-CN" sz="2800" spc="-1" strike="noStrike">
                <a:solidFill>
                  <a:srgbClr val="000000"/>
                </a:solidFill>
                <a:latin typeface="Arial"/>
              </a:rPr>
              <a:t>？</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371600" y="1676520"/>
            <a:ext cx="6324480" cy="358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àng   qiáng   guǐ   gōu    jū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抗     强    鬼   沟   军</a:t>
            </a:r>
            <a:endParaRPr b="0" lang="en-US" sz="32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jiǎng   huàng   yāo   chòu   hě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奖     晃    腰   臭    狠</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dministrator</cp:lastModifiedBy>
  <dcterms:modified xsi:type="dcterms:W3CDTF">2015-04-04T09:08:27Z</dcterms:modified>
  <cp:revision>13</cp:revision>
  <dc:subject/>
  <dc:title>带着鬼子捉迷藏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