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58C-8B92-498D-973C-94030EA3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BED7-CD18-4707-9423-B20FD35E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217-AF63-420C-A989-C8C64915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4AA-79BD-435D-8BB7-7F1A2BFB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5BE0-6143-4FAD-934C-F5DA2F43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6BC5-2995-41BC-B74F-343055D0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C127-BBFC-42BB-BCE7-B7901FCF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2543-9AE2-42A3-83EF-37F74320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140E-76D2-440A-8A6F-E41FDC89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1922-190F-4A94-9626-D52B789D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0D77-B2A8-4309-8A84-CA871A4D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13F-2E00-4F43-85DF-4270CDBF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4FB9-72C8-4C8C-8724-5B0BC0A6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BA84-FEA2-4896-9A6E-D9DA39C1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DF9A-EA36-4721-ABD3-3C2C5558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45E6-2929-49DC-9D52-9DDFA9AE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808A-206F-47A5-A073-5079EC02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A5A-E95A-4961-B758-220967FD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3D98-89EE-42B4-B570-262E25E3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2F6-6D23-4E77-8C13-7E28E77C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5D5-0730-4ED3-9A3B-9E10F8A3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BE0F-ED02-4C08-A93F-E05AC14C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1E4D-8F1B-4967-8B34-248B66EB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E17-4E1F-4160-AC9E-1B6FAD30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E017-EE4D-4272-B5B3-EE4869AF2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1383-E0A0-4890-A15F-FC3F454D80BF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g88.net/A002/G0046/Wallpapers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8.jpeg"/><Relationship Id="rId3" Type="http://schemas.openxmlformats.org/officeDocument/2006/relationships/slide" Target="slide10.xml"/><Relationship Id="rId4" Type="http://schemas.openxmlformats.org/officeDocument/2006/relationships/image" Target="../media/image9.jpeg"/><Relationship Id="rId5" Type="http://schemas.openxmlformats.org/officeDocument/2006/relationships/slide" Target="slide14.xm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i.baidu.com/baket/album/item/e51d354329acb00b72f05dec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.nipic.com/ke1986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gg88.net/A002/G0046/Wallpapers.htm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g88.net/A002/G0046/Wallpapers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GG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-1440" y="274680"/>
            <a:ext cx="673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413440" y="2061000"/>
            <a:ext cx="431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Arial"/>
              </a:rPr>
              <a:t>14</a:t>
            </a:r>
            <a:r>
              <a:rPr b="1" lang="zh-CN" sz="5400" spc="-1" strike="noStrike">
                <a:solidFill>
                  <a:srgbClr val="cc0066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cc0066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cc0066"/>
                </a:solidFill>
                <a:latin typeface="Arial"/>
              </a:rPr>
              <a:t>登上企鹅岛</a:t>
            </a:r>
            <a:r>
              <a:rPr b="1" lang="en-US" sz="5400" spc="-1" strike="noStrike">
                <a:solidFill>
                  <a:srgbClr val="cc0066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627920" y="213480"/>
            <a:ext cx="57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义务教育课程标准实验教科书小学语文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版第六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aodai"/>
          <p:cNvPicPr/>
          <p:nvPr/>
        </p:nvPicPr>
        <p:blipFill>
          <a:blip r:embed="rId1"/>
          <a:srcRect l="18079" t="15247" r="0" b="9079"/>
          <a:stretch/>
        </p:blipFill>
        <p:spPr>
          <a:xfrm>
            <a:off x="611280" y="-38160"/>
            <a:ext cx="4464000" cy="6346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24000" y="4581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116760" y="390600"/>
            <a:ext cx="2314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还有一种企鹅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颈部有一圈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毛，好像系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帽子带儿，叫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帽带儿企鹅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它们</a:t>
            </a:r>
            <a:r>
              <a:rPr b="1" lang="zh-CN" sz="4000" spc="-1" strike="noStrike" u="sng">
                <a:solidFill>
                  <a:srgbClr val="663300"/>
                </a:solidFill>
                <a:uFillTx/>
                <a:latin typeface="Arial"/>
              </a:rPr>
              <a:t>彬彬有礼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站在远处向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们点头，像欢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迎我们似的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840328023898"/>
          <p:cNvPicPr/>
          <p:nvPr/>
        </p:nvPicPr>
        <p:blipFill>
          <a:blip r:embed="rId1"/>
          <a:stretch/>
        </p:blipFill>
        <p:spPr>
          <a:xfrm>
            <a:off x="324000" y="549360"/>
            <a:ext cx="3887640" cy="6092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4211640" y="765000"/>
            <a:ext cx="4654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最</a:t>
            </a:r>
            <a:r>
              <a:rPr b="1" lang="zh-CN" sz="4400" spc="-1" strike="noStrike" u="sng">
                <a:solidFill>
                  <a:srgbClr val="663300"/>
                </a:solidFill>
                <a:uFillTx/>
                <a:latin typeface="Arial"/>
              </a:rPr>
              <a:t>凶猛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的是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阿德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雷企鹅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，我刚迈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进它们的“领地”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一只企鹅就尖叫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着把我驱逐“出境”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它们的叫声很像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毛驴，所以又叫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驴企鹅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qe28">
            <a:hlinkClick r:id="rId1" action="ppaction://hlinksldjump"/>
          </p:cNvPr>
          <p:cNvPicPr/>
          <p:nvPr/>
        </p:nvPicPr>
        <p:blipFill>
          <a:blip r:embed="rId2"/>
          <a:srcRect l="31543" t="23415" r="23423" b="20463"/>
          <a:stretch/>
        </p:blipFill>
        <p:spPr>
          <a:xfrm>
            <a:off x="844560" y="230040"/>
            <a:ext cx="2160720" cy="26226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6227640" y="3213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阿德雷企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" name="Picture 6" descr="maodai">
            <a:hlinkClick r:id="rId3" action="ppaction://hlinksldjump"/>
          </p:cNvPr>
          <p:cNvPicPr/>
          <p:nvPr/>
        </p:nvPicPr>
        <p:blipFill>
          <a:blip r:embed="rId4"/>
          <a:srcRect l="18079" t="15247" r="0" b="9079"/>
          <a:stretch/>
        </p:blipFill>
        <p:spPr>
          <a:xfrm>
            <a:off x="3635280" y="230040"/>
            <a:ext cx="2376720" cy="266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84032802389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32720" y="230040"/>
            <a:ext cx="2003400" cy="2664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3419640" y="3284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帽带儿企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844560" y="328464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金企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979640" y="5229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抓住特点，展开想象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2507400"/>
            <a:ext cx="88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岛上最漂亮的是金企鹅，嘴是金红色的，头部有两块白毛，又叫花脸企鹅。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还有一种企鹅，颈（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jǐnɡ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部有一圈黑毛，好像系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[jì]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着帽子带儿，叫帽带儿企鹅。它们彬（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bīn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）彬有礼，站在远处向我们点头，像欢迎我们似的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最凶猛的是阿德雷企鹅，我刚迈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ài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进它们的“领地”，一只企鹅就尖叫着把我驱逐“出境”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它们的叫声很像毛驴，所以又叫驴企鹅。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0" y="14400"/>
            <a:ext cx="9172440" cy="68436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5110200" y="-46800"/>
            <a:ext cx="373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帝企鹅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1231200" y="5229000"/>
            <a:ext cx="2922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33cc"/>
                </a:solidFill>
                <a:latin typeface="Arial"/>
              </a:rPr>
              <a:t>黑脚企鹅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275560" y="4797000"/>
            <a:ext cx="3411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33cc"/>
                </a:solidFill>
                <a:latin typeface="Arial"/>
              </a:rPr>
              <a:t>黄眼企鹅</a:t>
            </a:r>
            <a:endParaRPr b="0" lang="en-US" sz="10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050920" y="566784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Arial"/>
              </a:rPr>
              <a:t>皇家企鹅</a:t>
            </a:r>
            <a:r>
              <a:rPr b="0" lang="zh-CN" sz="5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1312560" y="764640"/>
            <a:ext cx="316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cc"/>
                </a:solidFill>
                <a:latin typeface="Arial"/>
              </a:rPr>
              <a:t>竖冠企鹅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-181080" y="4710240"/>
            <a:ext cx="9325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厚厚的  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毛茸茸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彬彬有礼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42920" y="746280"/>
            <a:ext cx="889308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企鹅        呈现        凶猛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一般        迈进        腹部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042920" y="3213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驱逐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建立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有趣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6" name="Picture 4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68680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我抱起一只全身灰色的小企鹅。高伯伯告诉我们，这只毛茸茸的的小企鹅还不能下海捕食，只能吃企鹅妈妈嘴里的食物。果然，我看到有的小企鹅紧紧地追着企鹅妈妈，并用嘴挠它的脖子。挠了几次以后，企鹅妈妈张开嘴，让小企鹅把嘴伸到它嘴里，吃它呕（</a:t>
            </a: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ǒu</a:t>
            </a:r>
            <a:r>
              <a:rPr b="0" lang="zh-CN" sz="4800" spc="-1" strike="noStrike">
                <a:solidFill>
                  <a:srgbClr val="0033cc"/>
                </a:solidFill>
                <a:latin typeface="Arial"/>
              </a:rPr>
              <a:t>）出来的食物。</a:t>
            </a:r>
            <a:br>
              <a:rPr sz="4800"/>
            </a:br>
            <a:br>
              <a:rPr sz="3600"/>
            </a:b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229600" cy="70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我抱起一只全身灰色的小企鹅。高伯伯告诉我们，这只毛茸茸的的小企鹅还不能下海捕食，只能吃企鹅妈妈嘴里的食物。果然，我看到有的小企鹅紧紧地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追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着企鹅妈妈，并用嘴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挠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它的脖子。挠了几次以后，企鹅妈妈张开嘴，让小企鹅把嘴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伸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到它嘴里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吃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它呕（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ǒu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）出来的食物。</a:t>
            </a:r>
            <a:br>
              <a:rPr sz="4400"/>
            </a:b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QIE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学习提示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我是一只小企鹅，刚刚出生不久，还不能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......,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只能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......,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过几个月，我就要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......,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换毛以后才能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再过几个月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......,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长出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就是成年企鹅了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971640" y="836640"/>
            <a:ext cx="7705800" cy="13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阿德雷岛难见阿德雷企鹅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66560" y="2224080"/>
            <a:ext cx="86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本报讯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:1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24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日上午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时，奇骏南极科学考察队登陆阿德雷岛，发现原本种群数量最多的阿德雷企鹅几近“绝迹”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644f7939e5b42ee93b87ce0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324000" y="387180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Arial"/>
              </a:rPr>
              <a:t>爱护环境，保护地球！</a:t>
            </a: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92407fd6c86d983807088b92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1403280" y="3789360"/>
            <a:ext cx="4680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电影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帝企鹅日记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文章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有趣的企鹅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南极风光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395280" y="0"/>
            <a:ext cx="5472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084720" y="0"/>
            <a:ext cx="30592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403280" y="1268280"/>
            <a:ext cx="7129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作者从哪些方面写出了企鹅的有趣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你从那些语句段落感受到了企鹅的有趣，在书上画一画，再读一读，说说原因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选择小组内同学最喜欢的内容介绍给同学们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84360" y="506520"/>
            <a:ext cx="30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学习提示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010000000205216-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6" name="Picture 3" descr="e51d354329acb00b72f05dec">
            <a:hlinkClick r:id="rId1"/>
          </p:cNvPr>
          <p:cNvPicPr/>
          <p:nvPr/>
        </p:nvPicPr>
        <p:blipFill>
          <a:blip r:embed="rId2"/>
          <a:srcRect l="24513" t="9924" r="30394" b="138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4788000" y="15573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流线型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908000" y="155736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身体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780000" y="1557360"/>
            <a:ext cx="122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呈 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788000" y="15573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Arial"/>
                <a:ea typeface="楷体_GB2312"/>
              </a:rPr>
              <a:t>流线型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908000" y="1557360"/>
            <a:ext cx="22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Arial"/>
                <a:ea typeface="楷体_GB2312"/>
              </a:rPr>
              <a:t>身体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2" name="Picture 7" descr="200859183625379_1">
            <a:hlinkClick r:id="rId1"/>
          </p:cNvPr>
          <p:cNvPicPr/>
          <p:nvPr/>
        </p:nvPicPr>
        <p:blipFill>
          <a:blip r:embed="rId2"/>
          <a:srcRect l="22505" t="-4989" r="28682" b="22827"/>
          <a:stretch/>
        </p:blipFill>
        <p:spPr>
          <a:xfrm>
            <a:off x="6156360" y="3573360"/>
            <a:ext cx="86688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GG88">
            <a:hlinkClick r:id="rId3"/>
          </p:cNvPr>
          <p:cNvPicPr/>
          <p:nvPr/>
        </p:nvPicPr>
        <p:blipFill>
          <a:blip r:embed="rId4"/>
          <a:srcRect l="75979" t="65728" r="9859" b="0"/>
          <a:stretch/>
        </p:blipFill>
        <p:spPr>
          <a:xfrm>
            <a:off x="1836720" y="3094200"/>
            <a:ext cx="129528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GG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324000" y="1062360"/>
            <a:ext cx="82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这个岛上的成年企鹅一般（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bān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）六十多厘（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lí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）米高，长着鱼鳞状的羽毛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未成年的只有小猫那么大，全身是绒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ón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毛。它们的躯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q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体呈流线型，背部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黑色，腹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ù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部白色，对比很鲜明，走起路来一摇一摆。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qe28"/>
          <p:cNvPicPr/>
          <p:nvPr/>
        </p:nvPicPr>
        <p:blipFill>
          <a:blip r:embed="rId1"/>
          <a:srcRect l="31543" t="23415" r="23423" b="20463"/>
          <a:stretch/>
        </p:blipFill>
        <p:spPr>
          <a:xfrm>
            <a:off x="755640" y="0"/>
            <a:ext cx="4824360" cy="6669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>
            <a:off x="5580000" y="66600"/>
            <a:ext cx="439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岛上</a:t>
            </a:r>
            <a:r>
              <a:rPr b="1" lang="zh-CN" sz="4800" spc="-1" strike="noStrike" u="sng">
                <a:solidFill>
                  <a:srgbClr val="663300"/>
                </a:solidFill>
                <a:uFillTx/>
                <a:latin typeface="Arial"/>
              </a:rPr>
              <a:t>最漂亮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的是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金企鹅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，嘴是金红色的，头部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两块白毛，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又叫花脸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鹅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1:00:57Z</dcterms:created>
  <dc:creator/>
  <dc:description/>
  <dc:language>en-US</dc:language>
  <cp:lastModifiedBy>dreamsummit</cp:lastModifiedBy>
  <dcterms:modified xsi:type="dcterms:W3CDTF">2015-01-07T07:09:11Z</dcterms:modified>
  <cp:revision>34</cp:revision>
  <dc:subject/>
  <dc:title>幻灯片 1</dc:title>
</cp:coreProperties>
</file>