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919-BB3A-44E8-84CF-E192B03C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745-FD15-4F6A-9B81-10DDE173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DB979-F55B-4E74-B176-09B55AFE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B9ADA-042C-4862-ACA8-CD24B066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55AD8-9991-4582-A1AD-91E8FEFF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7704D-E48B-4891-B4F8-D9430D78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7AFEC-6C60-43CD-92B5-8E11F33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E837-1729-4762-995C-3E8DE263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9CF5F-F9C3-463F-B21D-5055ACBE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EAB44-07F6-484E-B595-6C49C565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CD6C4-21AD-4712-A59D-69D7EFF1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77429-622E-4247-BFEB-793EFA71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707-60A9-4CBC-A7A3-135CA266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13BB2-04F7-454E-9B24-3933FB45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D9652-2625-4864-9872-521A26C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C6245-9435-4AD0-87F5-0A990B0C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A32C8-D9AF-4D5E-BEBF-4278D9DC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D7B52-7790-45DE-A283-9D020A29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6311E-B992-4F0D-946C-D209397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D99FB-9F85-43E7-A2EF-74EDFF6E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08B44-6981-4715-94A6-7736F06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09A6C-935D-4500-A54C-3B486033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F8A3E-46A8-471B-8996-052D3052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902-CAEB-49D5-832C-5D57B919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ED78D-FE28-4C54-B626-0261252A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AF38E-D940-4043-9A49-9110BAA2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E9A61-1254-445D-992B-99C64D70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49B0F-4CFD-4A89-9655-410EA4A0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B592A-DCF0-4C43-B434-B81CD8DC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F9ECA-76B9-4D32-9626-D0B309D2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B59A4-81F3-4478-AD87-B2AD8F81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FAE62-C95D-4CDB-BFAF-B3FAE058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FD663-A0C3-484B-81FD-68E6D6E5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BB997-2119-4725-BD87-84E69314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07BA-92F0-49FB-9C6E-1C61C686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9230F-9431-46DD-BC57-FA2DCF16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8C281-296F-432C-956B-766173DF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7EDB1-291A-42D8-8BE1-BCAD848E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007A0E-1A70-4A6F-9D6A-8DB886C5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AF319D-C2B2-49CE-8B61-CE751565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7F49FD-3E13-4BE1-821C-74782489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9FB8C7-3A2B-42B5-99D8-3A2289C7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E01AE8-1DCF-4FE0-9A85-CC4075F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BC6056-D73A-4C76-B725-95D1582A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D7B96B-5749-49AD-8DB5-3A9A5973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477D-2CD8-4C9C-8148-E129A7A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6448EA-CBA7-4823-947A-7462FA8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2BB0AA-60E3-4BF2-A68B-E8F3559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A0563B-9050-4389-895B-D80B03AA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405425-61C5-406B-9A34-CA18E256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3655D7-B08D-4BD8-9B23-83D1219C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D1022-9A0C-4891-98A2-A8170C0F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8D511-7B69-4A7F-A787-5940CFE1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22C28-1406-44EE-8F67-30ACD77B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8BF77-96B1-4E90-BA73-BDF528C8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8EEF5-5729-498B-B92E-EB3C2144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7786-61DE-49F5-B551-C5E72F8B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D4417-7087-4949-A054-30B88B9C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68CDF-68C9-450C-89B7-77A61DA2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746DF-D13F-46F8-A023-5B723FD4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0CEA5-954A-4561-9B36-F702902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F3E92-D740-42B7-B425-F2DDF3C3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5878C-6EE3-4909-9721-030674B9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CBEED-0116-4856-A9D4-8969DC98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C0C5-CBC8-4710-84FB-E50C908E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4360-1366-4D41-A7E9-52E1B78F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B3F4-F76F-4604-8694-61F4EBA4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AD97-59BF-436D-B5C9-C729DC38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E5E-338E-4F6C-9F92-673C972B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1D25-09DF-4C1D-B839-97ADB28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D6BA-6B34-4BF0-82A9-FC660E43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ED74-AB13-4194-920C-4E97C81C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BAFA-E6EB-4D38-8F40-25498148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1D8E-C022-4C01-9BBD-FBA3BE79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C5111-2E86-4178-B771-9D00CA5E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0E60-D71F-4EBA-854A-7FD75A5C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7C7C-45BA-4463-BFF8-9ACE3EB0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B8C5D-ADAB-42CE-9DD6-28859140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29FD-278A-4CBA-BE62-1F8D5246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666-7298-4931-B302-EEBE6B5C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A038-B158-4886-B454-114037D6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D997-65D9-4645-896F-C6BDBEB0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0F17-FE6C-41FA-B65F-DBB21928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3EFD-51DD-484D-8798-CE2B76DF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DF70-01DA-4808-9EA8-827CE5D8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903B-232E-42BC-9BF2-F6453BD1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89F8-EC13-4CE7-97AE-5B18527E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8E55-6831-4251-8ADB-074E95E4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70F10-4CEA-4FF9-8C16-686E2452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9280-76A4-41BD-9D95-234FC34A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231-B571-4E80-87BC-B323341C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B7CD-6F66-4343-887C-B5773635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A27E8-D203-45C1-9422-546495E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E72EA-BCCB-40ED-936A-4EC5B767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836B4-44E9-4BF8-B389-4CEC95B1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43BC7-8824-4B8B-B9C3-04ADCA3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9F77-5FF0-4414-8705-BB956D0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DDA2-FD9A-4D92-A77F-D4FFF9E9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EFEF-7C76-4D6A-9125-EAD09F29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DBA7-A8CD-4AFD-A63C-BCABB2B4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31F3A-8D4F-4FB2-BB59-D92EA9C4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4A4-BDE2-44DE-ACC7-991C1AD9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6F72-E39C-4A7B-9B51-23858F0C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BFDE0-8B8E-40BB-924A-FC672A93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ED524-478C-4BFF-AF03-703DB1CD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EB5A-DEEE-46F2-9408-7B6FB95A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712EA-2969-4F6F-B448-D7A3BE22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1C36B-62B4-45C8-9B5F-6444EBA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46E1-9F3B-4DCC-BE43-E82BBE03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AA420-0639-4324-8B75-55D6FD65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8AD90-1EA0-49C3-94BE-0AC6CD37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E9486-319A-4E75-BF57-1F614059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921-0176-4EAC-B495-67B224BE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861B7-82C4-448D-B6A8-6D677892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5BF94-0EDB-4E28-A3E0-278AAA78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BD97-E432-4F57-BE80-98584666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32562-8235-4E0F-8049-0A7427A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596CA-DA83-420F-B45A-23505D4C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36AB6-C073-4091-9639-6796017A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483E9-5976-46E7-AA6C-818597E0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300CC-8868-4204-A6B5-2F8549D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22244-DE18-4351-93AC-647BB2F5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277A-9D1F-4841-889C-A2365F09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EB3-F141-4651-841A-2AEBCEE5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CACAA-B1B2-4569-8B93-2F47E583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B91E8-D0B3-4D3B-BB81-FA87D120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A31ED-70B3-45F5-9582-8CA63AA0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B62AF-C367-4A6E-AEBE-FBF0DAEE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9FB11-C2C5-4469-908A-24772317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CE425-13CB-43CD-9E27-84C52BAD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5FBCE-A5F1-46F4-A0A9-6CF246B7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6EDEE-5DF9-4C1A-A541-8FF794BA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1D160-4A48-4A39-8E19-CB764B8B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E45B4-AA4F-4183-9467-6BC607EE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DB0-1432-4116-B62E-56E2551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3846F8-C0DC-45BA-A224-B18298E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804DF-BB1B-4B45-8C57-100B460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BC8C3-20D6-43F5-8FAE-A97412B8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37A52-6F15-4352-A31F-9D2C82A7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8AF8C-781E-4D12-B19A-F33CB616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10AAA-361C-471A-B257-C316EDCA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80407-6860-40CF-84B1-BB19D397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EA852-9947-4528-8184-35CC2EA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A45E9-3B26-4F65-8BA6-90820CE0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4E1C8-DAAA-4643-8F80-BB338FD9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C5A-8A0C-466C-BAA4-4F42ED1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979FB-3A69-4571-9FF6-E101EABB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8CC48-8EC1-42D6-A3EA-BDBF189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27FE5-9D43-48B7-AC60-AD290F41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6D005-D325-4DA3-929B-2442F2E9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7417-20FA-4B8A-8BFC-A162AE21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3E548-FDD6-4C5C-B5AB-A7E3CC19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D6569-5996-47C1-85F0-2896B9DD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4564C-B08E-403C-86E0-DB567EB9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EA72A-1D4B-4BD9-B983-414ADEC1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C820A-BF92-443C-94F5-B4538ECE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2759-8328-4ED7-B700-26C2DABA92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7727-AF59-480B-8D26-3F38AE69D8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57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60B5-6C35-4142-9339-35FFA15F39C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未知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DE6-6FF7-4E9D-BB0F-6C05ECDA6C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0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0005-0FC0-4903-AB38-65457EA18352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9C63-2F0D-4879-B7D0-87A5A203BB47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80CC-C7DA-4E1F-8D8C-8770EF09C9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E4B6-E327-4DD3-958B-DADB6CE9C5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79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57C2-C4B0-43A4-91BF-0B660929BEC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5D61-4DE5-4775-853F-DD714FB7C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397A-9D02-4782-B2D9-B6EEEEF9563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1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2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A977-ED10-4D39-91E7-F0BA7522DADF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65" name="Group 3"/>
            <p:cNvGrpSpPr/>
            <p:nvPr/>
          </p:nvGrpSpPr>
          <p:grpSpPr>
            <a:xfrm>
              <a:off x="290520" y="2546280"/>
              <a:ext cx="712440" cy="474480"/>
              <a:chOff x="290520" y="2546280"/>
              <a:chExt cx="712440" cy="474480"/>
            </a:xfrm>
          </p:grpSpPr>
          <p:sp>
            <p:nvSpPr>
              <p:cNvPr id="366" name="Rectangle 4"/>
              <p:cNvSpPr/>
              <p:nvPr/>
            </p:nvSpPr>
            <p:spPr>
              <a:xfrm>
                <a:off x="290520" y="254628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5"/>
              <p:cNvSpPr/>
              <p:nvPr/>
            </p:nvSpPr>
            <p:spPr>
              <a:xfrm>
                <a:off x="67428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6"/>
            <p:cNvGrpSpPr/>
            <p:nvPr/>
          </p:nvGrpSpPr>
          <p:grpSpPr>
            <a:xfrm>
              <a:off x="414360" y="2968560"/>
              <a:ext cx="739800" cy="474480"/>
              <a:chOff x="414360" y="2968560"/>
              <a:chExt cx="739800" cy="474480"/>
            </a:xfrm>
          </p:grpSpPr>
          <p:sp>
            <p:nvSpPr>
              <p:cNvPr id="369" name="Rectangle 7"/>
              <p:cNvSpPr/>
              <p:nvPr/>
            </p:nvSpPr>
            <p:spPr>
              <a:xfrm>
                <a:off x="414360" y="296856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8"/>
              <p:cNvSpPr/>
              <p:nvPr/>
            </p:nvSpPr>
            <p:spPr>
              <a:xfrm>
                <a:off x="78444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B282-B3C6-449F-B1E9-FBD4D7BA166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80880" y="5335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湘教版三年级下册第八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3"/>
          <p:cNvSpPr txBox="1"/>
          <p:nvPr/>
        </p:nvSpPr>
        <p:spPr>
          <a:xfrm>
            <a:off x="1981080" y="2743200"/>
            <a:ext cx="579132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读不完的大书 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初读课文，感知内容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自由朗读，把课文读通顺、流畅，思考课文有几个自然段，每段写什么。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交流学习体会，谈谈学字学词收获。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1433880" y="2286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2896560" y="2286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260600" y="2286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5661000" y="2286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769800" y="22860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1517760" y="3965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001320" y="3962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4391640" y="3962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708228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5756040" y="3998880"/>
            <a:ext cx="435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1496880" y="26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3"/>
          <p:cNvSpPr/>
          <p:nvPr/>
        </p:nvSpPr>
        <p:spPr>
          <a:xfrm>
            <a:off x="2973240" y="26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4"/>
          <p:cNvSpPr/>
          <p:nvPr/>
        </p:nvSpPr>
        <p:spPr>
          <a:xfrm>
            <a:off x="4403520" y="26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5"/>
          <p:cNvSpPr/>
          <p:nvPr/>
        </p:nvSpPr>
        <p:spPr>
          <a:xfrm>
            <a:off x="5708520" y="26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6"/>
          <p:cNvSpPr/>
          <p:nvPr/>
        </p:nvSpPr>
        <p:spPr>
          <a:xfrm>
            <a:off x="6983280" y="2655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7"/>
          <p:cNvSpPr/>
          <p:nvPr/>
        </p:nvSpPr>
        <p:spPr>
          <a:xfrm>
            <a:off x="1572840" y="4349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8"/>
          <p:cNvSpPr/>
          <p:nvPr/>
        </p:nvSpPr>
        <p:spPr>
          <a:xfrm>
            <a:off x="2938320" y="4343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9"/>
          <p:cNvSpPr/>
          <p:nvPr/>
        </p:nvSpPr>
        <p:spPr>
          <a:xfrm>
            <a:off x="4401720" y="4343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0"/>
          <p:cNvSpPr/>
          <p:nvPr/>
        </p:nvSpPr>
        <p:spPr>
          <a:xfrm>
            <a:off x="5673600" y="4343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1"/>
          <p:cNvSpPr/>
          <p:nvPr/>
        </p:nvSpPr>
        <p:spPr>
          <a:xfrm>
            <a:off x="7024320" y="4419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2"/>
          <p:cNvSpPr/>
          <p:nvPr/>
        </p:nvSpPr>
        <p:spPr>
          <a:xfrm>
            <a:off x="1934280" y="990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一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3"/>
          <p:cNvSpPr/>
          <p:nvPr/>
        </p:nvSpPr>
        <p:spPr>
          <a:xfrm>
            <a:off x="3408120" y="762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探究领悟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课文哪几个自然段具体写大自然中好玩的东西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然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默读第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然段。找出作者具体写了大自然中哪些好玩的东西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精读赏析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说说作者最喜欢什么，你从哪个自然段看出来的。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课文第</a:t>
            </a:r>
            <a:r>
              <a:rPr b="1" lang="en-US" sz="20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自然段具体描述了蚂蚁搬家时井然有序、尽心尽力以及两军对垒时你死我活的勇敢忠诚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方正楷体_GBK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令人不可思议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）大自然有写昆虫虽然很小，但它们的行为却往往让人不可思议，读蚂蚁搬家的情景，该用怎样的语气读呢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惊讶　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　　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）蚂蚁两军对垒时表现怎样？表达了作者怎样的感情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敬佩之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小麻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老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4" descr="蚂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533520" y="2590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666699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作者还写了大自然中哪些有趣的现象？他最喜欢什么，为什么？</a:t>
            </a:r>
            <a:br>
              <a:rPr sz="3600"/>
            </a:br>
            <a:r>
              <a:rPr b="0" lang="zh-CN" sz="3200" spc="-1" strike="noStrike">
                <a:solidFill>
                  <a:srgbClr val="666699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4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4" descr="梨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学习目标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1.</a:t>
            </a:r>
            <a:r>
              <a:rPr b="1" lang="zh-CN" sz="24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熟读、会写课文生字；掌握由生字组成的词语，积累好词佳句。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2.</a:t>
            </a:r>
            <a:r>
              <a:rPr b="1" lang="zh-CN" sz="24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联系生活实际，感悟课文内容，培养观察能力及审美情趣。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3.</a:t>
            </a:r>
            <a:r>
              <a:rPr b="1" lang="zh-CN" sz="24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激发热爱大自然的情感，探究大自然的奥秘。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总结升华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什么说大自然是一本读不完的大书，看不完的大画册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联系课文内容。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什么说大自然里有无穷的奥秘，无尽的乐趣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联系自己生活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拓展延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联系课文内容和平时的生活积累，说说大自然中有哪些奥秘。你能提出哪些问题？你能回答哪些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选择自己喜欢的段落，展开想像，用彩笔画下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带自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9" name="WordArt 3"/>
          <p:cNvSpPr txBox="1"/>
          <p:nvPr/>
        </p:nvSpPr>
        <p:spPr>
          <a:xfrm>
            <a:off x="1981080" y="1905120"/>
            <a:ext cx="50292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谢谢指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914040" y="141768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同学们，老师想考考你们有关大自然的知识。你们能答得上来吗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方正楷体_GBK"/>
              </a:rPr>
              <a:t>有头没有颈，身上冷冰冰，有翅不能飞，无脚也能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方正楷体_GBK"/>
              </a:rPr>
              <a:t>团结劳动是模范，全家住在格子里，常到花丛去工作，造出产品比糖甜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蜜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方正楷体_GBK"/>
              </a:rPr>
              <a:t>身披花棉袄，唱歌呱呱叫，田里捉害虫，丰收立功劳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青蛙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　　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蜜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青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　   有位作者也写到了许多大自然中好玩的东西，让我们去看一看大自然这个</a:t>
            </a:r>
            <a:r>
              <a:rPr b="1" lang="en-US" sz="40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《</a:t>
            </a:r>
            <a:r>
              <a:rPr b="1" lang="zh-CN" sz="40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读不完的大书 </a:t>
            </a:r>
            <a:r>
              <a:rPr b="1" lang="en-US" sz="40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》</a:t>
            </a:r>
            <a:r>
              <a:rPr b="1" lang="zh-CN" sz="4000" spc="-1" strike="noStrike">
                <a:solidFill>
                  <a:srgbClr val="003366"/>
                </a:solidFill>
                <a:latin typeface="方正楷体_GBK"/>
                <a:ea typeface="方正楷体_GBK"/>
              </a:rPr>
              <a:t>吧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3782fbebdbd4c0cad539c9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09c413a8c378af115cecb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1:38:03Z</dcterms:created>
  <dc:creator/>
  <dc:description/>
  <cp:keywords/>
  <dc:language>en-US</dc:language>
  <cp:lastModifiedBy>Administrator</cp:lastModifiedBy>
  <dcterms:modified xsi:type="dcterms:W3CDTF">2015-04-04T09:08:5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