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C63-3A24-42B8-803A-D67FFAD5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6E3-A776-4BDE-B269-4D330001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CA4-8F5B-4436-9E68-D8CA46A1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893-8919-409E-B227-7BC82183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C9E-DFD5-4781-8E44-7A3BF361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D13-BAF5-4B7A-82AA-73AF662B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51D-CC37-4D56-8CBF-1F93C6F0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97F-678B-418A-8F30-F915B376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42B-2EFB-4287-ADC3-A20C2722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2BD-1378-4D65-986C-7750E55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5C0-B209-4BCF-999D-188D714D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70A-FD72-4AE9-9BE7-B9329DB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1875-66FF-4142-B860-134C4E3A0B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黑体"/>
              </a:rPr>
              <a:t>短文两篇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219320" y="3049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湘教版三年级语文下册第五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再读短文，深入探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找一找作者描写了竹林中的哪些景物？为什么作者会抓住这些景物描写？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作者描写了竹林中的雾、露珠、小鸟、阳光、月亮、风等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者又是怎么样描写这些景物的？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雾纱笼罩、小鸟欢叫，遮挡阳光、玩游戏，皎洁的阳光、竹林沉睡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抓住这些景物描写有什么好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作者抓住这些景物进行动态和静态的描写，突出了竹林生机勃勃、美丽动人的特点，说明作者观察事物非常仔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日积月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轻声读短文，画出自己喜欢的句子。想想为什么喜欢这些句子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23619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刚才我们学习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竹林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，知道作者仔细观察了竹林，所以能写得这么美。接下来，我们接着学习课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。你们能说说平时看到的松树又是什么样的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松鼠1"/>
          <p:cNvPicPr/>
          <p:nvPr/>
        </p:nvPicPr>
        <p:blipFill>
          <a:blip r:embed="rId1"/>
          <a:stretch/>
        </p:blipFill>
        <p:spPr>
          <a:xfrm>
            <a:off x="762120" y="1371600"/>
            <a:ext cx="74102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松树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封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组进行自学，老师想请几位同学来说说学习文章的收获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要了解文章的描述顺序，首先要找出关键的词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说说课文中哪些词语用得好，为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895480" y="105084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学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自学了课文，说能总结一下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课文是按照季节变化的顺序来写松树，围绕着“一年四季，它都青葱苍翠”的特点，运用了比较、拟人等方法把文章写得生动有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会写课文生字，积累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、流利、有感情地朗读课文，感受语言的美；找出表示时间或季节推移的词句，了解课文的记叙顺序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课文的记叙，体会竹林和松树不同的美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识迁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秋风过后，许多树木披上了黄衣裳；往日顽皮的小草，也显得有些憔悴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这个拟人句写得真好，谁能来点评一下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这句话把树木、小草当作人来写，写得格外有趣，把季节人格化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能仿照这个句子，也说一说这样的拟人句吗？找出文中的其他拟人句，多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全文总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这节课我们学习了两篇文字优美的文章，作者抓住不同时间或不同季节中的景色进行了生动有趣描写，希望同学们今后也能养成仔细观察、认真思考的好习惯，也能写出这么美丽动人的文章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谢谢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zhào  zhuó    jiàng   jiǎo    n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罩       灼       降        皎      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ì      péng    qiáo   cuì      wěi      t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       蓬       憔       悴       萎       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66320" y="266652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同学们，你们一定都见过竹子吧？你能说说竹子的样子吗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竹子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竹子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竹子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285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方正楷体_GBK"/>
              </a:rPr>
              <a:t>图上的竹子好看吗？如果一大片这样的竹子生长在一起会是什么样？今天就就来学习课文的第一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方正楷体_GBK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方正楷体_GBK"/>
              </a:rPr>
              <a:t>竹子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方正楷体_GBK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方正楷体_GBK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676520" y="15238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自读课文，学习生字新词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生字新词，在课文中画出带生字词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不理解的词语，注意做好标记，小组讨论解决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07:50:41Z</dcterms:modified>
  <cp:revision>14</cp:revision>
  <dc:subject/>
  <dc:title>短文两篇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