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20C-863C-4664-8457-3EBB09F7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593-E64B-44B4-80D7-DC8B42F2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E7D-4C3D-4F84-8DE2-850AF945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2E7-EC45-4518-978E-C79A0162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9AFD-1258-44F5-AE41-A6958228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387-72D9-4F75-A109-8627712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CC6-D571-41F9-A13D-0FEE1213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7F4-49E6-4F6A-918D-8CE8D2DC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67E6-D5E8-4D73-BD25-7DA04CC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FB42-2175-4504-B555-ED79F8F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994-F933-4C83-A59C-502DFFC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892-C74C-47D5-91D8-16603718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F87-2F71-406F-9DCA-52E30E7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CF2-1A07-4124-AD0A-CD2E14DC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B0B-1242-40A7-9E57-696AB7A9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C218-E8EA-42AC-A5EC-53F817E7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D95B-C02D-4BD2-BD83-BF92237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2725-B5C9-4CA1-8EE7-64EAA9DC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0D12-0718-4A27-8303-A217B24A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CE43-21B2-4491-B8FC-C0A9E30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EDBB-979F-4CAF-94B8-CA33946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B253-257D-4F45-A4C1-17A3821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82E-8858-440B-877B-10BC55C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C6CA-C255-45E3-A355-2056DCB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DB1C-DF3D-4CA8-9AB9-79B63E3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D615-9710-48F0-831B-186D779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9B1C-5C44-4B71-B599-6181127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12FB-64D0-4073-95DD-681FBD6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FE2B-D2B3-4542-8E00-7548B71E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ACA4-BA60-4F48-B25A-BD86EEE1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6856-6A11-4880-9ADA-27BFAF8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7421-ACA6-44BF-BF32-0FDA0FC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5E1C-FF9A-4F4F-A2E9-6B7B90EA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F2E-3842-4DC8-982E-F04B3AC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0505-85A5-4C54-AE2E-10E39EA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3145-5D22-402D-B958-E596027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0899-5C44-4EE1-90E4-107A3F9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CD9B-810B-4B5F-962E-273FC3C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E3F1-1AA3-4C4D-A13E-CD2976D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69D8-0A34-44DE-AC0E-6DE35EB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4AF1-2B73-4310-B048-4DC539A0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3C3E-19EC-407B-89E3-8015F065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2C5E-6849-4B7C-937F-906D888B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A0A4-5724-4695-8294-0B71715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FF7-CD61-4354-9DEE-412B587A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85A6-2893-45F5-BB0A-7819CF5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28AC-3A9F-47CB-8983-CF058BFF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0722-4E39-4C1E-B599-DD973A9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921D-1FE1-4D49-A2C1-434CE01B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48ED-33D3-4EC1-90E4-4B3CF0C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0508-1EA0-4137-8233-FC29F8E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7A7B-69C4-4E79-BB0B-E8CB658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303FB-92F8-4900-8F45-57FEBFD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7373-ABBB-4871-BB39-19A1146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2387-C59B-4833-8D70-C55CBAF5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250-211E-4AA3-A9E0-5FF1C19D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9D87-DF0E-4ABB-9D25-D30983C1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01C6-F942-4B94-A09B-A3D4ABC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773D-13EF-4FB2-9233-5BD9D2B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AF0E-47CF-4AC7-B36F-BAC35EE5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79A4-EB79-454C-9CA5-3C8C2CD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77DF0-67C2-406F-A3EA-3854849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000" y="27756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7EC7-7159-4BC6-8ED3-1DC23D0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A2D07-BE99-4788-926D-FAA8DF49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02CE1-A19F-4262-89DA-949916D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258D-C982-4171-AAB6-89CABFF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646-64D0-4F65-9BD4-BDEC3F8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FF0E-42A5-4CBD-A24B-D05977F8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83903-1EB7-4401-8A2B-1DE4928B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684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5320" y="10587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00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684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5320" y="35359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0EFA7-B1EE-4886-9B94-824B96B7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5359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089-C7AD-4EE7-94EE-AA55915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0587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5359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CDA-8669-4DDF-A5EB-F3609A8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96B-DEDD-4F21-8C94-F40117E7B3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FAB-F0A1-43B6-975B-056DE93B6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95E5-4E91-45AD-BEEB-958498334B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948-6263-4902-9EBD-D52DD65699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640A-657A-473D-BC4A-0BC94E5F76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FCFB-5A33-43E3-B4FE-2D513F4CC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515520" cy="7153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595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000" y="1395360"/>
            <a:ext cx="82184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f6fc6"/>
              </a:buClr>
              <a:buSzPct val="7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A3B3-8CC3-4625-81BC-6289350E82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CF17-5055-4302-8BEA-A8323167AC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2"/>
          <p:cNvSpPr/>
          <p:nvPr/>
        </p:nvSpPr>
        <p:spPr>
          <a:xfrm>
            <a:off x="0" y="0"/>
            <a:ext cx="9177480" cy="6885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018be9"/>
              </a:buClr>
              <a:buSzPct val="70000"/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1" marL="357120">
              <a:spcBef>
                <a:spcPts val="18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8be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A398-2FF8-49A5-B727-A3330C043224}" type="datetime">
              <a:rPr b="0" lang="zh-CN" sz="1400" spc="-1" strike="noStrike">
                <a:solidFill>
                  <a:srgbClr val="7f7f7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35A-4FBD-4DCB-8505-995900D24EC2}" type="slidenum">
              <a:rPr b="0" lang="zh-CN" sz="14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23720" y="1801800"/>
            <a:ext cx="472428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BAF-A77E-4DFC-8263-FC3971B62A8D}" type="datetime">
              <a:rPr b="0" lang="zh-CN" sz="1400" spc="-1" strike="noStrike">
                <a:solidFill>
                  <a:srgbClr val="7f7f7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2B56-8FA9-4A7C-A9A1-AA2F0845B466}" type="slidenum">
              <a:rPr b="0" lang="zh-CN" sz="14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f7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6c6f72"/>
              </a:solidFill>
              <a:latin typeface="Arial"/>
            </a:endParaRPr>
          </a:p>
          <a:p>
            <a:pPr lvl="1" marL="35712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23720" y="1801800"/>
            <a:ext cx="472428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发愤立志</a:t>
            </a:r>
            <a:br>
              <a:rPr sz="5400"/>
            </a:br>
            <a:r>
              <a:rPr b="1" lang="zh-CN" sz="3600" spc="-1" strike="noStrike">
                <a:solidFill>
                  <a:srgbClr val="018be9"/>
                </a:solidFill>
                <a:latin typeface="Arial"/>
              </a:rPr>
              <a:t>第一课时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58560" y="441000"/>
            <a:ext cx="832932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8be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18be9"/>
                </a:solidFill>
                <a:latin typeface="Arial"/>
                <a:ea typeface="楷体_GB2312"/>
              </a:rPr>
              <a:t>苏东坡</a:t>
            </a:r>
            <a:r>
              <a:rPr b="1" lang="zh-CN" sz="4000" spc="-1" strike="noStrike">
                <a:solidFill>
                  <a:srgbClr val="ff6699"/>
                </a:solidFill>
                <a:latin typeface="Arial"/>
                <a:ea typeface="楷体_GB2312"/>
              </a:rPr>
              <a:t>呆若木鸡</a:t>
            </a:r>
            <a:r>
              <a:rPr b="1" lang="zh-CN" sz="4000" spc="-1" strike="noStrike">
                <a:solidFill>
                  <a:srgbClr val="018be9"/>
                </a:solidFill>
                <a:latin typeface="Arial"/>
                <a:ea typeface="楷体_GB2312"/>
              </a:rPr>
              <a:t>，一时都忘了送客。等缓过神来，他才</a:t>
            </a:r>
            <a:r>
              <a:rPr b="1" lang="zh-CN" sz="4000" spc="-1" strike="noStrike">
                <a:solidFill>
                  <a:srgbClr val="ff6699"/>
                </a:solidFill>
                <a:latin typeface="Arial"/>
                <a:ea typeface="楷体_GB2312"/>
              </a:rPr>
              <a:t>恍然大悟</a:t>
            </a:r>
            <a:r>
              <a:rPr b="1" lang="zh-CN" sz="4000" spc="-1" strike="noStrike">
                <a:solidFill>
                  <a:srgbClr val="018be9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恍然大悟：一下子明白过来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Arial"/>
              </a:rPr>
              <a:t>呆若木鸡：形容因惊异而发愣的样子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8be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18be9"/>
                </a:solidFill>
                <a:latin typeface="Arial"/>
                <a:ea typeface="楷体_GB2312"/>
              </a:rPr>
              <a:t>见了苏东坡，老人说：“听说苏才子学问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楷体_GB2312"/>
              </a:rPr>
              <a:t>盖世无双</a:t>
            </a:r>
            <a:r>
              <a:rPr b="1" lang="zh-CN" sz="4400" spc="-1" strike="noStrike">
                <a:solidFill>
                  <a:srgbClr val="018be9"/>
                </a:solidFill>
                <a:latin typeface="Arial"/>
                <a:ea typeface="楷体_GB2312"/>
              </a:rPr>
              <a:t>，老朽特来请教。”</a:t>
            </a:r>
            <a:endParaRPr b="0" lang="en-US" sz="44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盖世无双：才能当代第一，没有人能比得上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890720" y="1812960"/>
            <a:ext cx="605952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敬请指导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71880" y="988920"/>
            <a:ext cx="1642680" cy="4218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遍天下字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40280" y="990720"/>
            <a:ext cx="911520" cy="421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尽人间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8be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18be9"/>
                </a:solidFill>
                <a:latin typeface="Arial"/>
                <a:ea typeface="微软雅黑"/>
              </a:rPr>
              <a:t>苏轼，字子瞻，号东坡居士。宋代重要的文学家、书画家，宋代文学最高成就的代表。其诗题材广阔，善用夸张比喻，独具风格，代表作有《念奴娇》、《水调歌头》。著有《东坡七集》、《东坡乐府》等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18be9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18be9"/>
                </a:solidFill>
                <a:latin typeface="Arial"/>
                <a:ea typeface="Arial"/>
              </a:rPr>
              <a:t>zūn     sū      zhàng    jiàn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8be9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18be9"/>
                </a:solidFill>
                <a:latin typeface="楷体_GB2312"/>
                <a:ea typeface="楷体_GB2312"/>
              </a:rPr>
              <a:t>尊   苏   仗    渐</a:t>
            </a:r>
            <a:endParaRPr b="0" lang="en-US" sz="4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31880" y="1058760"/>
            <a:ext cx="6210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71880" y="988920"/>
            <a:ext cx="1642680" cy="501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愤识遍天下字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19400" y="988920"/>
            <a:ext cx="911520" cy="501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志读尽人间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85880" y="1195560"/>
            <a:ext cx="3972240" cy="4000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22560" y="164628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9040" y="1660680"/>
            <a:ext cx="3016080" cy="3200400"/>
          </a:xfrm>
          <a:custGeom>
            <a:avLst/>
            <a:gdLst/>
            <a:ahLst/>
            <a:rect l="l" t="t" r="r" b="b"/>
            <a:pathLst>
              <a:path w="3799" h="4032">
                <a:moveTo>
                  <a:pt x="1168" y="202"/>
                </a:moveTo>
                <a:lnTo>
                  <a:pt x="1168" y="196"/>
                </a:lnTo>
                <a:lnTo>
                  <a:pt x="1168" y="190"/>
                </a:lnTo>
                <a:lnTo>
                  <a:pt x="1170" y="185"/>
                </a:lnTo>
                <a:lnTo>
                  <a:pt x="1174" y="181"/>
                </a:lnTo>
                <a:lnTo>
                  <a:pt x="1178" y="177"/>
                </a:lnTo>
                <a:lnTo>
                  <a:pt x="1182" y="171"/>
                </a:lnTo>
                <a:lnTo>
                  <a:pt x="1187" y="167"/>
                </a:lnTo>
                <a:lnTo>
                  <a:pt x="1193" y="164"/>
                </a:lnTo>
                <a:lnTo>
                  <a:pt x="1201" y="160"/>
                </a:lnTo>
                <a:lnTo>
                  <a:pt x="1210" y="158"/>
                </a:lnTo>
                <a:lnTo>
                  <a:pt x="1220" y="154"/>
                </a:lnTo>
                <a:lnTo>
                  <a:pt x="1230" y="150"/>
                </a:lnTo>
                <a:lnTo>
                  <a:pt x="1241" y="146"/>
                </a:lnTo>
                <a:lnTo>
                  <a:pt x="1255" y="144"/>
                </a:lnTo>
                <a:lnTo>
                  <a:pt x="1268" y="141"/>
                </a:lnTo>
                <a:lnTo>
                  <a:pt x="1281" y="139"/>
                </a:lnTo>
                <a:lnTo>
                  <a:pt x="1295" y="135"/>
                </a:lnTo>
                <a:lnTo>
                  <a:pt x="1308" y="133"/>
                </a:lnTo>
                <a:lnTo>
                  <a:pt x="1322" y="133"/>
                </a:lnTo>
                <a:lnTo>
                  <a:pt x="1335" y="131"/>
                </a:lnTo>
                <a:lnTo>
                  <a:pt x="1349" y="133"/>
                </a:lnTo>
                <a:lnTo>
                  <a:pt x="1364" y="133"/>
                </a:lnTo>
                <a:lnTo>
                  <a:pt x="1379" y="135"/>
                </a:lnTo>
                <a:lnTo>
                  <a:pt x="1395" y="137"/>
                </a:lnTo>
                <a:lnTo>
                  <a:pt x="1412" y="141"/>
                </a:lnTo>
                <a:lnTo>
                  <a:pt x="1429" y="144"/>
                </a:lnTo>
                <a:lnTo>
                  <a:pt x="1447" y="150"/>
                </a:lnTo>
                <a:lnTo>
                  <a:pt x="1466" y="156"/>
                </a:lnTo>
                <a:lnTo>
                  <a:pt x="1485" y="162"/>
                </a:lnTo>
                <a:lnTo>
                  <a:pt x="1504" y="169"/>
                </a:lnTo>
                <a:lnTo>
                  <a:pt x="1525" y="177"/>
                </a:lnTo>
                <a:lnTo>
                  <a:pt x="1546" y="187"/>
                </a:lnTo>
                <a:lnTo>
                  <a:pt x="1564" y="194"/>
                </a:lnTo>
                <a:lnTo>
                  <a:pt x="1581" y="204"/>
                </a:lnTo>
                <a:lnTo>
                  <a:pt x="1596" y="215"/>
                </a:lnTo>
                <a:lnTo>
                  <a:pt x="1610" y="225"/>
                </a:lnTo>
                <a:lnTo>
                  <a:pt x="1623" y="236"/>
                </a:lnTo>
                <a:lnTo>
                  <a:pt x="1636" y="246"/>
                </a:lnTo>
                <a:lnTo>
                  <a:pt x="1648" y="258"/>
                </a:lnTo>
                <a:lnTo>
                  <a:pt x="1658" y="269"/>
                </a:lnTo>
                <a:lnTo>
                  <a:pt x="1667" y="283"/>
                </a:lnTo>
                <a:lnTo>
                  <a:pt x="1677" y="294"/>
                </a:lnTo>
                <a:lnTo>
                  <a:pt x="1684" y="307"/>
                </a:lnTo>
                <a:lnTo>
                  <a:pt x="1692" y="321"/>
                </a:lnTo>
                <a:lnTo>
                  <a:pt x="1698" y="334"/>
                </a:lnTo>
                <a:lnTo>
                  <a:pt x="1702" y="348"/>
                </a:lnTo>
                <a:lnTo>
                  <a:pt x="1706" y="363"/>
                </a:lnTo>
                <a:lnTo>
                  <a:pt x="1709" y="377"/>
                </a:lnTo>
                <a:lnTo>
                  <a:pt x="1709" y="407"/>
                </a:lnTo>
                <a:lnTo>
                  <a:pt x="1707" y="434"/>
                </a:lnTo>
                <a:lnTo>
                  <a:pt x="1706" y="448"/>
                </a:lnTo>
                <a:lnTo>
                  <a:pt x="1704" y="459"/>
                </a:lnTo>
                <a:lnTo>
                  <a:pt x="1700" y="471"/>
                </a:lnTo>
                <a:lnTo>
                  <a:pt x="1698" y="482"/>
                </a:lnTo>
                <a:lnTo>
                  <a:pt x="1694" y="494"/>
                </a:lnTo>
                <a:lnTo>
                  <a:pt x="1690" y="505"/>
                </a:lnTo>
                <a:lnTo>
                  <a:pt x="1686" y="515"/>
                </a:lnTo>
                <a:lnTo>
                  <a:pt x="1683" y="522"/>
                </a:lnTo>
                <a:lnTo>
                  <a:pt x="1677" y="532"/>
                </a:lnTo>
                <a:lnTo>
                  <a:pt x="1673" y="540"/>
                </a:lnTo>
                <a:lnTo>
                  <a:pt x="1667" y="547"/>
                </a:lnTo>
                <a:lnTo>
                  <a:pt x="1661" y="553"/>
                </a:lnTo>
                <a:lnTo>
                  <a:pt x="1652" y="561"/>
                </a:lnTo>
                <a:lnTo>
                  <a:pt x="1642" y="568"/>
                </a:lnTo>
                <a:lnTo>
                  <a:pt x="1631" y="574"/>
                </a:lnTo>
                <a:lnTo>
                  <a:pt x="1621" y="578"/>
                </a:lnTo>
                <a:lnTo>
                  <a:pt x="1608" y="580"/>
                </a:lnTo>
                <a:lnTo>
                  <a:pt x="1596" y="580"/>
                </a:lnTo>
                <a:lnTo>
                  <a:pt x="1583" y="580"/>
                </a:lnTo>
                <a:lnTo>
                  <a:pt x="1569" y="578"/>
                </a:lnTo>
                <a:lnTo>
                  <a:pt x="1556" y="574"/>
                </a:lnTo>
                <a:lnTo>
                  <a:pt x="1541" y="568"/>
                </a:lnTo>
                <a:lnTo>
                  <a:pt x="1525" y="561"/>
                </a:lnTo>
                <a:lnTo>
                  <a:pt x="1508" y="553"/>
                </a:lnTo>
                <a:lnTo>
                  <a:pt x="1491" y="543"/>
                </a:lnTo>
                <a:lnTo>
                  <a:pt x="1471" y="532"/>
                </a:lnTo>
                <a:lnTo>
                  <a:pt x="1452" y="519"/>
                </a:lnTo>
                <a:lnTo>
                  <a:pt x="1431" y="505"/>
                </a:lnTo>
                <a:lnTo>
                  <a:pt x="1410" y="490"/>
                </a:lnTo>
                <a:lnTo>
                  <a:pt x="1389" y="476"/>
                </a:lnTo>
                <a:lnTo>
                  <a:pt x="1372" y="461"/>
                </a:lnTo>
                <a:lnTo>
                  <a:pt x="1352" y="448"/>
                </a:lnTo>
                <a:lnTo>
                  <a:pt x="1337" y="434"/>
                </a:lnTo>
                <a:lnTo>
                  <a:pt x="1322" y="421"/>
                </a:lnTo>
                <a:lnTo>
                  <a:pt x="1306" y="409"/>
                </a:lnTo>
                <a:lnTo>
                  <a:pt x="1293" y="398"/>
                </a:lnTo>
                <a:lnTo>
                  <a:pt x="1280" y="386"/>
                </a:lnTo>
                <a:lnTo>
                  <a:pt x="1268" y="375"/>
                </a:lnTo>
                <a:lnTo>
                  <a:pt x="1257" y="363"/>
                </a:lnTo>
                <a:lnTo>
                  <a:pt x="1247" y="352"/>
                </a:lnTo>
                <a:lnTo>
                  <a:pt x="1239" y="342"/>
                </a:lnTo>
                <a:lnTo>
                  <a:pt x="1230" y="332"/>
                </a:lnTo>
                <a:lnTo>
                  <a:pt x="1224" y="323"/>
                </a:lnTo>
                <a:lnTo>
                  <a:pt x="1216" y="313"/>
                </a:lnTo>
                <a:lnTo>
                  <a:pt x="1209" y="306"/>
                </a:lnTo>
                <a:lnTo>
                  <a:pt x="1199" y="296"/>
                </a:lnTo>
                <a:lnTo>
                  <a:pt x="1193" y="288"/>
                </a:lnTo>
                <a:lnTo>
                  <a:pt x="1186" y="281"/>
                </a:lnTo>
                <a:lnTo>
                  <a:pt x="1180" y="273"/>
                </a:lnTo>
                <a:lnTo>
                  <a:pt x="1176" y="265"/>
                </a:lnTo>
                <a:lnTo>
                  <a:pt x="1170" y="258"/>
                </a:lnTo>
                <a:lnTo>
                  <a:pt x="1168" y="252"/>
                </a:lnTo>
                <a:lnTo>
                  <a:pt x="1164" y="244"/>
                </a:lnTo>
                <a:lnTo>
                  <a:pt x="1163" y="238"/>
                </a:lnTo>
                <a:lnTo>
                  <a:pt x="1163" y="233"/>
                </a:lnTo>
                <a:lnTo>
                  <a:pt x="1161" y="227"/>
                </a:lnTo>
                <a:lnTo>
                  <a:pt x="1163" y="219"/>
                </a:lnTo>
                <a:lnTo>
                  <a:pt x="1163" y="213"/>
                </a:lnTo>
                <a:lnTo>
                  <a:pt x="1164" y="208"/>
                </a:lnTo>
                <a:lnTo>
                  <a:pt x="1168" y="202"/>
                </a:lnTo>
                <a:lnTo>
                  <a:pt x="1168" y="202"/>
                </a:lnTo>
                <a:close/>
                <a:moveTo>
                  <a:pt x="1694" y="568"/>
                </a:moveTo>
                <a:lnTo>
                  <a:pt x="1786" y="557"/>
                </a:lnTo>
                <a:lnTo>
                  <a:pt x="1874" y="545"/>
                </a:lnTo>
                <a:lnTo>
                  <a:pt x="1920" y="540"/>
                </a:lnTo>
                <a:lnTo>
                  <a:pt x="1963" y="532"/>
                </a:lnTo>
                <a:lnTo>
                  <a:pt x="2007" y="526"/>
                </a:lnTo>
                <a:lnTo>
                  <a:pt x="2049" y="520"/>
                </a:lnTo>
                <a:lnTo>
                  <a:pt x="2091" y="515"/>
                </a:lnTo>
                <a:lnTo>
                  <a:pt x="2133" y="509"/>
                </a:lnTo>
                <a:lnTo>
                  <a:pt x="2174" y="503"/>
                </a:lnTo>
                <a:lnTo>
                  <a:pt x="2214" y="497"/>
                </a:lnTo>
                <a:lnTo>
                  <a:pt x="2254" y="492"/>
                </a:lnTo>
                <a:lnTo>
                  <a:pt x="2293" y="486"/>
                </a:lnTo>
                <a:lnTo>
                  <a:pt x="2331" y="478"/>
                </a:lnTo>
                <a:lnTo>
                  <a:pt x="2368" y="472"/>
                </a:lnTo>
                <a:lnTo>
                  <a:pt x="2440" y="461"/>
                </a:lnTo>
                <a:lnTo>
                  <a:pt x="2477" y="457"/>
                </a:lnTo>
                <a:lnTo>
                  <a:pt x="2513" y="451"/>
                </a:lnTo>
                <a:lnTo>
                  <a:pt x="2548" y="448"/>
                </a:lnTo>
                <a:lnTo>
                  <a:pt x="2582" y="444"/>
                </a:lnTo>
                <a:lnTo>
                  <a:pt x="2617" y="440"/>
                </a:lnTo>
                <a:lnTo>
                  <a:pt x="2650" y="436"/>
                </a:lnTo>
                <a:lnTo>
                  <a:pt x="2682" y="434"/>
                </a:lnTo>
                <a:lnTo>
                  <a:pt x="2715" y="432"/>
                </a:lnTo>
                <a:lnTo>
                  <a:pt x="2746" y="430"/>
                </a:lnTo>
                <a:lnTo>
                  <a:pt x="2776" y="428"/>
                </a:lnTo>
                <a:lnTo>
                  <a:pt x="2807" y="426"/>
                </a:lnTo>
                <a:lnTo>
                  <a:pt x="2838" y="426"/>
                </a:lnTo>
                <a:lnTo>
                  <a:pt x="2866" y="425"/>
                </a:lnTo>
                <a:lnTo>
                  <a:pt x="2893" y="425"/>
                </a:lnTo>
                <a:lnTo>
                  <a:pt x="2922" y="425"/>
                </a:lnTo>
                <a:lnTo>
                  <a:pt x="2949" y="426"/>
                </a:lnTo>
                <a:lnTo>
                  <a:pt x="2974" y="426"/>
                </a:lnTo>
                <a:lnTo>
                  <a:pt x="2999" y="428"/>
                </a:lnTo>
                <a:lnTo>
                  <a:pt x="3024" y="430"/>
                </a:lnTo>
                <a:lnTo>
                  <a:pt x="3047" y="432"/>
                </a:lnTo>
                <a:lnTo>
                  <a:pt x="3068" y="436"/>
                </a:lnTo>
                <a:lnTo>
                  <a:pt x="3089" y="438"/>
                </a:lnTo>
                <a:lnTo>
                  <a:pt x="3110" y="444"/>
                </a:lnTo>
                <a:lnTo>
                  <a:pt x="3129" y="448"/>
                </a:lnTo>
                <a:lnTo>
                  <a:pt x="3149" y="453"/>
                </a:lnTo>
                <a:lnTo>
                  <a:pt x="3166" y="459"/>
                </a:lnTo>
                <a:lnTo>
                  <a:pt x="3181" y="465"/>
                </a:lnTo>
                <a:lnTo>
                  <a:pt x="3197" y="472"/>
                </a:lnTo>
                <a:lnTo>
                  <a:pt x="3210" y="480"/>
                </a:lnTo>
                <a:lnTo>
                  <a:pt x="3223" y="490"/>
                </a:lnTo>
                <a:lnTo>
                  <a:pt x="3235" y="497"/>
                </a:lnTo>
                <a:lnTo>
                  <a:pt x="3246" y="507"/>
                </a:lnTo>
                <a:lnTo>
                  <a:pt x="3256" y="517"/>
                </a:lnTo>
                <a:lnTo>
                  <a:pt x="3266" y="524"/>
                </a:lnTo>
                <a:lnTo>
                  <a:pt x="3275" y="534"/>
                </a:lnTo>
                <a:lnTo>
                  <a:pt x="3283" y="542"/>
                </a:lnTo>
                <a:lnTo>
                  <a:pt x="3291" y="551"/>
                </a:lnTo>
                <a:lnTo>
                  <a:pt x="3296" y="559"/>
                </a:lnTo>
                <a:lnTo>
                  <a:pt x="3302" y="567"/>
                </a:lnTo>
                <a:lnTo>
                  <a:pt x="3308" y="574"/>
                </a:lnTo>
                <a:lnTo>
                  <a:pt x="3312" y="582"/>
                </a:lnTo>
                <a:lnTo>
                  <a:pt x="3315" y="590"/>
                </a:lnTo>
                <a:lnTo>
                  <a:pt x="3317" y="597"/>
                </a:lnTo>
                <a:lnTo>
                  <a:pt x="3319" y="605"/>
                </a:lnTo>
                <a:lnTo>
                  <a:pt x="3321" y="611"/>
                </a:lnTo>
                <a:lnTo>
                  <a:pt x="3321" y="616"/>
                </a:lnTo>
                <a:lnTo>
                  <a:pt x="3321" y="628"/>
                </a:lnTo>
                <a:lnTo>
                  <a:pt x="3319" y="638"/>
                </a:lnTo>
                <a:lnTo>
                  <a:pt x="3315" y="647"/>
                </a:lnTo>
                <a:lnTo>
                  <a:pt x="3312" y="655"/>
                </a:lnTo>
                <a:lnTo>
                  <a:pt x="3306" y="662"/>
                </a:lnTo>
                <a:lnTo>
                  <a:pt x="3300" y="668"/>
                </a:lnTo>
                <a:lnTo>
                  <a:pt x="3289" y="680"/>
                </a:lnTo>
                <a:lnTo>
                  <a:pt x="3285" y="682"/>
                </a:lnTo>
                <a:lnTo>
                  <a:pt x="3281" y="684"/>
                </a:lnTo>
                <a:lnTo>
                  <a:pt x="3277" y="685"/>
                </a:lnTo>
                <a:lnTo>
                  <a:pt x="3271" y="687"/>
                </a:lnTo>
                <a:lnTo>
                  <a:pt x="3266" y="687"/>
                </a:lnTo>
                <a:lnTo>
                  <a:pt x="3258" y="689"/>
                </a:lnTo>
                <a:lnTo>
                  <a:pt x="3250" y="691"/>
                </a:lnTo>
                <a:lnTo>
                  <a:pt x="3243" y="693"/>
                </a:lnTo>
                <a:lnTo>
                  <a:pt x="3233" y="693"/>
                </a:lnTo>
                <a:lnTo>
                  <a:pt x="3223" y="695"/>
                </a:lnTo>
                <a:lnTo>
                  <a:pt x="3214" y="697"/>
                </a:lnTo>
                <a:lnTo>
                  <a:pt x="3202" y="697"/>
                </a:lnTo>
                <a:lnTo>
                  <a:pt x="3191" y="699"/>
                </a:lnTo>
                <a:lnTo>
                  <a:pt x="3179" y="701"/>
                </a:lnTo>
                <a:lnTo>
                  <a:pt x="3166" y="701"/>
                </a:lnTo>
                <a:lnTo>
                  <a:pt x="3150" y="703"/>
                </a:lnTo>
                <a:lnTo>
                  <a:pt x="3137" y="703"/>
                </a:lnTo>
                <a:lnTo>
                  <a:pt x="3122" y="705"/>
                </a:lnTo>
                <a:lnTo>
                  <a:pt x="3104" y="707"/>
                </a:lnTo>
                <a:lnTo>
                  <a:pt x="3089" y="707"/>
                </a:lnTo>
                <a:lnTo>
                  <a:pt x="3072" y="707"/>
                </a:lnTo>
                <a:lnTo>
                  <a:pt x="3053" y="709"/>
                </a:lnTo>
                <a:lnTo>
                  <a:pt x="3033" y="709"/>
                </a:lnTo>
                <a:lnTo>
                  <a:pt x="3014" y="710"/>
                </a:lnTo>
                <a:lnTo>
                  <a:pt x="2993" y="710"/>
                </a:lnTo>
                <a:lnTo>
                  <a:pt x="2972" y="710"/>
                </a:lnTo>
                <a:lnTo>
                  <a:pt x="2949" y="710"/>
                </a:lnTo>
                <a:lnTo>
                  <a:pt x="2928" y="712"/>
                </a:lnTo>
                <a:lnTo>
                  <a:pt x="2903" y="712"/>
                </a:lnTo>
                <a:lnTo>
                  <a:pt x="2880" y="712"/>
                </a:lnTo>
                <a:lnTo>
                  <a:pt x="2855" y="712"/>
                </a:lnTo>
                <a:lnTo>
                  <a:pt x="2828" y="712"/>
                </a:lnTo>
                <a:lnTo>
                  <a:pt x="2774" y="712"/>
                </a:lnTo>
                <a:lnTo>
                  <a:pt x="2721" y="714"/>
                </a:lnTo>
                <a:lnTo>
                  <a:pt x="2663" y="716"/>
                </a:lnTo>
                <a:lnTo>
                  <a:pt x="2606" y="718"/>
                </a:lnTo>
                <a:lnTo>
                  <a:pt x="2546" y="722"/>
                </a:lnTo>
                <a:lnTo>
                  <a:pt x="2485" y="724"/>
                </a:lnTo>
                <a:lnTo>
                  <a:pt x="2421" y="730"/>
                </a:lnTo>
                <a:lnTo>
                  <a:pt x="2358" y="733"/>
                </a:lnTo>
                <a:lnTo>
                  <a:pt x="2291" y="739"/>
                </a:lnTo>
                <a:lnTo>
                  <a:pt x="2224" y="745"/>
                </a:lnTo>
                <a:lnTo>
                  <a:pt x="2153" y="753"/>
                </a:lnTo>
                <a:lnTo>
                  <a:pt x="2082" y="758"/>
                </a:lnTo>
                <a:lnTo>
                  <a:pt x="2007" y="766"/>
                </a:lnTo>
                <a:lnTo>
                  <a:pt x="1932" y="776"/>
                </a:lnTo>
                <a:lnTo>
                  <a:pt x="1855" y="783"/>
                </a:lnTo>
                <a:lnTo>
                  <a:pt x="1815" y="787"/>
                </a:lnTo>
                <a:lnTo>
                  <a:pt x="1777" y="793"/>
                </a:lnTo>
                <a:lnTo>
                  <a:pt x="1736" y="797"/>
                </a:lnTo>
                <a:lnTo>
                  <a:pt x="1698" y="801"/>
                </a:lnTo>
                <a:lnTo>
                  <a:pt x="1660" y="806"/>
                </a:lnTo>
                <a:lnTo>
                  <a:pt x="1623" y="810"/>
                </a:lnTo>
                <a:lnTo>
                  <a:pt x="1587" y="814"/>
                </a:lnTo>
                <a:lnTo>
                  <a:pt x="1552" y="820"/>
                </a:lnTo>
                <a:lnTo>
                  <a:pt x="1519" y="824"/>
                </a:lnTo>
                <a:lnTo>
                  <a:pt x="1487" y="827"/>
                </a:lnTo>
                <a:lnTo>
                  <a:pt x="1454" y="831"/>
                </a:lnTo>
                <a:lnTo>
                  <a:pt x="1423" y="837"/>
                </a:lnTo>
                <a:lnTo>
                  <a:pt x="1393" y="841"/>
                </a:lnTo>
                <a:lnTo>
                  <a:pt x="1364" y="845"/>
                </a:lnTo>
                <a:lnTo>
                  <a:pt x="1335" y="849"/>
                </a:lnTo>
                <a:lnTo>
                  <a:pt x="1308" y="852"/>
                </a:lnTo>
                <a:lnTo>
                  <a:pt x="1283" y="856"/>
                </a:lnTo>
                <a:lnTo>
                  <a:pt x="1258" y="860"/>
                </a:lnTo>
                <a:lnTo>
                  <a:pt x="1234" y="864"/>
                </a:lnTo>
                <a:lnTo>
                  <a:pt x="1210" y="868"/>
                </a:lnTo>
                <a:lnTo>
                  <a:pt x="1187" y="872"/>
                </a:lnTo>
                <a:lnTo>
                  <a:pt x="1166" y="874"/>
                </a:lnTo>
                <a:lnTo>
                  <a:pt x="1147" y="877"/>
                </a:lnTo>
                <a:lnTo>
                  <a:pt x="1128" y="881"/>
                </a:lnTo>
                <a:lnTo>
                  <a:pt x="1109" y="883"/>
                </a:lnTo>
                <a:lnTo>
                  <a:pt x="1092" y="887"/>
                </a:lnTo>
                <a:lnTo>
                  <a:pt x="1074" y="889"/>
                </a:lnTo>
                <a:lnTo>
                  <a:pt x="1059" y="891"/>
                </a:lnTo>
                <a:lnTo>
                  <a:pt x="1045" y="895"/>
                </a:lnTo>
                <a:lnTo>
                  <a:pt x="1030" y="897"/>
                </a:lnTo>
                <a:lnTo>
                  <a:pt x="1019" y="898"/>
                </a:lnTo>
                <a:lnTo>
                  <a:pt x="1007" y="900"/>
                </a:lnTo>
                <a:lnTo>
                  <a:pt x="996" y="902"/>
                </a:lnTo>
                <a:lnTo>
                  <a:pt x="986" y="904"/>
                </a:lnTo>
                <a:lnTo>
                  <a:pt x="969" y="906"/>
                </a:lnTo>
                <a:lnTo>
                  <a:pt x="951" y="910"/>
                </a:lnTo>
                <a:lnTo>
                  <a:pt x="934" y="914"/>
                </a:lnTo>
                <a:lnTo>
                  <a:pt x="919" y="916"/>
                </a:lnTo>
                <a:lnTo>
                  <a:pt x="903" y="918"/>
                </a:lnTo>
                <a:lnTo>
                  <a:pt x="888" y="922"/>
                </a:lnTo>
                <a:lnTo>
                  <a:pt x="875" y="923"/>
                </a:lnTo>
                <a:lnTo>
                  <a:pt x="861" y="925"/>
                </a:lnTo>
                <a:lnTo>
                  <a:pt x="848" y="927"/>
                </a:lnTo>
                <a:lnTo>
                  <a:pt x="836" y="929"/>
                </a:lnTo>
                <a:lnTo>
                  <a:pt x="825" y="931"/>
                </a:lnTo>
                <a:lnTo>
                  <a:pt x="813" y="933"/>
                </a:lnTo>
                <a:lnTo>
                  <a:pt x="792" y="935"/>
                </a:lnTo>
                <a:lnTo>
                  <a:pt x="773" y="935"/>
                </a:lnTo>
                <a:lnTo>
                  <a:pt x="763" y="935"/>
                </a:lnTo>
                <a:lnTo>
                  <a:pt x="754" y="935"/>
                </a:lnTo>
                <a:lnTo>
                  <a:pt x="744" y="933"/>
                </a:lnTo>
                <a:lnTo>
                  <a:pt x="735" y="929"/>
                </a:lnTo>
                <a:lnTo>
                  <a:pt x="725" y="927"/>
                </a:lnTo>
                <a:lnTo>
                  <a:pt x="715" y="923"/>
                </a:lnTo>
                <a:lnTo>
                  <a:pt x="706" y="920"/>
                </a:lnTo>
                <a:lnTo>
                  <a:pt x="694" y="914"/>
                </a:lnTo>
                <a:lnTo>
                  <a:pt x="683" y="908"/>
                </a:lnTo>
                <a:lnTo>
                  <a:pt x="671" y="902"/>
                </a:lnTo>
                <a:lnTo>
                  <a:pt x="660" y="897"/>
                </a:lnTo>
                <a:lnTo>
                  <a:pt x="648" y="889"/>
                </a:lnTo>
                <a:lnTo>
                  <a:pt x="635" y="881"/>
                </a:lnTo>
                <a:lnTo>
                  <a:pt x="621" y="874"/>
                </a:lnTo>
                <a:lnTo>
                  <a:pt x="606" y="866"/>
                </a:lnTo>
                <a:lnTo>
                  <a:pt x="593" y="856"/>
                </a:lnTo>
                <a:lnTo>
                  <a:pt x="577" y="847"/>
                </a:lnTo>
                <a:lnTo>
                  <a:pt x="564" y="837"/>
                </a:lnTo>
                <a:lnTo>
                  <a:pt x="552" y="829"/>
                </a:lnTo>
                <a:lnTo>
                  <a:pt x="543" y="820"/>
                </a:lnTo>
                <a:lnTo>
                  <a:pt x="533" y="812"/>
                </a:lnTo>
                <a:lnTo>
                  <a:pt x="525" y="803"/>
                </a:lnTo>
                <a:lnTo>
                  <a:pt x="520" y="795"/>
                </a:lnTo>
                <a:lnTo>
                  <a:pt x="514" y="785"/>
                </a:lnTo>
                <a:lnTo>
                  <a:pt x="510" y="778"/>
                </a:lnTo>
                <a:lnTo>
                  <a:pt x="506" y="770"/>
                </a:lnTo>
                <a:lnTo>
                  <a:pt x="504" y="762"/>
                </a:lnTo>
                <a:lnTo>
                  <a:pt x="504" y="755"/>
                </a:lnTo>
                <a:lnTo>
                  <a:pt x="504" y="749"/>
                </a:lnTo>
                <a:lnTo>
                  <a:pt x="504" y="741"/>
                </a:lnTo>
                <a:lnTo>
                  <a:pt x="506" y="735"/>
                </a:lnTo>
                <a:lnTo>
                  <a:pt x="510" y="728"/>
                </a:lnTo>
                <a:lnTo>
                  <a:pt x="512" y="728"/>
                </a:lnTo>
                <a:lnTo>
                  <a:pt x="514" y="726"/>
                </a:lnTo>
                <a:lnTo>
                  <a:pt x="518" y="724"/>
                </a:lnTo>
                <a:lnTo>
                  <a:pt x="522" y="722"/>
                </a:lnTo>
                <a:lnTo>
                  <a:pt x="525" y="720"/>
                </a:lnTo>
                <a:lnTo>
                  <a:pt x="531" y="718"/>
                </a:lnTo>
                <a:lnTo>
                  <a:pt x="537" y="716"/>
                </a:lnTo>
                <a:lnTo>
                  <a:pt x="543" y="714"/>
                </a:lnTo>
                <a:lnTo>
                  <a:pt x="550" y="712"/>
                </a:lnTo>
                <a:lnTo>
                  <a:pt x="558" y="709"/>
                </a:lnTo>
                <a:lnTo>
                  <a:pt x="568" y="707"/>
                </a:lnTo>
                <a:lnTo>
                  <a:pt x="577" y="705"/>
                </a:lnTo>
                <a:lnTo>
                  <a:pt x="587" y="703"/>
                </a:lnTo>
                <a:lnTo>
                  <a:pt x="598" y="699"/>
                </a:lnTo>
                <a:lnTo>
                  <a:pt x="610" y="697"/>
                </a:lnTo>
                <a:lnTo>
                  <a:pt x="623" y="695"/>
                </a:lnTo>
                <a:lnTo>
                  <a:pt x="635" y="691"/>
                </a:lnTo>
                <a:lnTo>
                  <a:pt x="650" y="689"/>
                </a:lnTo>
                <a:lnTo>
                  <a:pt x="664" y="687"/>
                </a:lnTo>
                <a:lnTo>
                  <a:pt x="679" y="684"/>
                </a:lnTo>
                <a:lnTo>
                  <a:pt x="694" y="682"/>
                </a:lnTo>
                <a:lnTo>
                  <a:pt x="712" y="678"/>
                </a:lnTo>
                <a:lnTo>
                  <a:pt x="729" y="676"/>
                </a:lnTo>
                <a:lnTo>
                  <a:pt x="748" y="672"/>
                </a:lnTo>
                <a:lnTo>
                  <a:pt x="767" y="670"/>
                </a:lnTo>
                <a:lnTo>
                  <a:pt x="786" y="666"/>
                </a:lnTo>
                <a:lnTo>
                  <a:pt x="808" y="664"/>
                </a:lnTo>
                <a:lnTo>
                  <a:pt x="829" y="661"/>
                </a:lnTo>
                <a:lnTo>
                  <a:pt x="850" y="659"/>
                </a:lnTo>
                <a:lnTo>
                  <a:pt x="873" y="655"/>
                </a:lnTo>
                <a:lnTo>
                  <a:pt x="896" y="651"/>
                </a:lnTo>
                <a:lnTo>
                  <a:pt x="921" y="649"/>
                </a:lnTo>
                <a:lnTo>
                  <a:pt x="1019" y="641"/>
                </a:lnTo>
                <a:lnTo>
                  <a:pt x="1118" y="634"/>
                </a:lnTo>
                <a:lnTo>
                  <a:pt x="1216" y="624"/>
                </a:lnTo>
                <a:lnTo>
                  <a:pt x="1314" y="614"/>
                </a:lnTo>
                <a:lnTo>
                  <a:pt x="1410" y="605"/>
                </a:lnTo>
                <a:lnTo>
                  <a:pt x="1506" y="593"/>
                </a:lnTo>
                <a:lnTo>
                  <a:pt x="1600" y="580"/>
                </a:lnTo>
                <a:lnTo>
                  <a:pt x="1694" y="568"/>
                </a:lnTo>
                <a:lnTo>
                  <a:pt x="1694" y="568"/>
                </a:lnTo>
                <a:close/>
                <a:moveTo>
                  <a:pt x="1546" y="664"/>
                </a:moveTo>
                <a:lnTo>
                  <a:pt x="1550" y="662"/>
                </a:lnTo>
                <a:lnTo>
                  <a:pt x="1554" y="659"/>
                </a:lnTo>
                <a:lnTo>
                  <a:pt x="1562" y="657"/>
                </a:lnTo>
                <a:lnTo>
                  <a:pt x="1569" y="655"/>
                </a:lnTo>
                <a:lnTo>
                  <a:pt x="1579" y="655"/>
                </a:lnTo>
                <a:lnTo>
                  <a:pt x="1590" y="653"/>
                </a:lnTo>
                <a:lnTo>
                  <a:pt x="1604" y="653"/>
                </a:lnTo>
                <a:lnTo>
                  <a:pt x="1617" y="653"/>
                </a:lnTo>
                <a:lnTo>
                  <a:pt x="1633" y="653"/>
                </a:lnTo>
                <a:lnTo>
                  <a:pt x="1650" y="653"/>
                </a:lnTo>
                <a:lnTo>
                  <a:pt x="1667" y="655"/>
                </a:lnTo>
                <a:lnTo>
                  <a:pt x="1686" y="655"/>
                </a:lnTo>
                <a:lnTo>
                  <a:pt x="1707" y="657"/>
                </a:lnTo>
                <a:lnTo>
                  <a:pt x="1729" y="659"/>
                </a:lnTo>
                <a:lnTo>
                  <a:pt x="1752" y="662"/>
                </a:lnTo>
                <a:lnTo>
                  <a:pt x="1777" y="664"/>
                </a:lnTo>
                <a:lnTo>
                  <a:pt x="1777" y="701"/>
                </a:lnTo>
                <a:lnTo>
                  <a:pt x="1778" y="735"/>
                </a:lnTo>
                <a:lnTo>
                  <a:pt x="1778" y="768"/>
                </a:lnTo>
                <a:lnTo>
                  <a:pt x="1780" y="803"/>
                </a:lnTo>
                <a:lnTo>
                  <a:pt x="1780" y="835"/>
                </a:lnTo>
                <a:lnTo>
                  <a:pt x="1780" y="866"/>
                </a:lnTo>
                <a:lnTo>
                  <a:pt x="1780" y="897"/>
                </a:lnTo>
                <a:lnTo>
                  <a:pt x="1778" y="927"/>
                </a:lnTo>
                <a:lnTo>
                  <a:pt x="1778" y="958"/>
                </a:lnTo>
                <a:lnTo>
                  <a:pt x="1777" y="987"/>
                </a:lnTo>
                <a:lnTo>
                  <a:pt x="1777" y="1014"/>
                </a:lnTo>
                <a:lnTo>
                  <a:pt x="1775" y="1040"/>
                </a:lnTo>
                <a:lnTo>
                  <a:pt x="1773" y="1067"/>
                </a:lnTo>
                <a:lnTo>
                  <a:pt x="1771" y="1094"/>
                </a:lnTo>
                <a:lnTo>
                  <a:pt x="1769" y="1119"/>
                </a:lnTo>
                <a:lnTo>
                  <a:pt x="1767" y="1142"/>
                </a:lnTo>
                <a:lnTo>
                  <a:pt x="1765" y="1167"/>
                </a:lnTo>
                <a:lnTo>
                  <a:pt x="1761" y="1190"/>
                </a:lnTo>
                <a:lnTo>
                  <a:pt x="1759" y="1211"/>
                </a:lnTo>
                <a:lnTo>
                  <a:pt x="1757" y="1232"/>
                </a:lnTo>
                <a:lnTo>
                  <a:pt x="1754" y="1253"/>
                </a:lnTo>
                <a:lnTo>
                  <a:pt x="1750" y="1273"/>
                </a:lnTo>
                <a:lnTo>
                  <a:pt x="1746" y="1292"/>
                </a:lnTo>
                <a:lnTo>
                  <a:pt x="1744" y="1311"/>
                </a:lnTo>
                <a:lnTo>
                  <a:pt x="1740" y="1328"/>
                </a:lnTo>
                <a:lnTo>
                  <a:pt x="1736" y="1346"/>
                </a:lnTo>
                <a:lnTo>
                  <a:pt x="1732" y="1361"/>
                </a:lnTo>
                <a:lnTo>
                  <a:pt x="1727" y="1376"/>
                </a:lnTo>
                <a:lnTo>
                  <a:pt x="1723" y="1392"/>
                </a:lnTo>
                <a:lnTo>
                  <a:pt x="1719" y="1405"/>
                </a:lnTo>
                <a:lnTo>
                  <a:pt x="1715" y="1419"/>
                </a:lnTo>
                <a:lnTo>
                  <a:pt x="1709" y="1430"/>
                </a:lnTo>
                <a:lnTo>
                  <a:pt x="1702" y="1457"/>
                </a:lnTo>
                <a:lnTo>
                  <a:pt x="1692" y="1480"/>
                </a:lnTo>
                <a:lnTo>
                  <a:pt x="1683" y="1503"/>
                </a:lnTo>
                <a:lnTo>
                  <a:pt x="1673" y="1524"/>
                </a:lnTo>
                <a:lnTo>
                  <a:pt x="1663" y="1543"/>
                </a:lnTo>
                <a:lnTo>
                  <a:pt x="1656" y="1561"/>
                </a:lnTo>
                <a:lnTo>
                  <a:pt x="1646" y="1576"/>
                </a:lnTo>
                <a:lnTo>
                  <a:pt x="1636" y="1589"/>
                </a:lnTo>
                <a:lnTo>
                  <a:pt x="1627" y="1603"/>
                </a:lnTo>
                <a:lnTo>
                  <a:pt x="1617" y="1614"/>
                </a:lnTo>
                <a:lnTo>
                  <a:pt x="1608" y="1624"/>
                </a:lnTo>
                <a:lnTo>
                  <a:pt x="1600" y="1633"/>
                </a:lnTo>
                <a:lnTo>
                  <a:pt x="1590" y="1639"/>
                </a:lnTo>
                <a:lnTo>
                  <a:pt x="1581" y="1645"/>
                </a:lnTo>
                <a:lnTo>
                  <a:pt x="1571" y="1651"/>
                </a:lnTo>
                <a:lnTo>
                  <a:pt x="1562" y="1655"/>
                </a:lnTo>
                <a:lnTo>
                  <a:pt x="1558" y="1655"/>
                </a:lnTo>
                <a:lnTo>
                  <a:pt x="1554" y="1656"/>
                </a:lnTo>
                <a:lnTo>
                  <a:pt x="1548" y="1656"/>
                </a:lnTo>
                <a:lnTo>
                  <a:pt x="1544" y="1656"/>
                </a:lnTo>
                <a:lnTo>
                  <a:pt x="1541" y="1655"/>
                </a:lnTo>
                <a:lnTo>
                  <a:pt x="1539" y="1653"/>
                </a:lnTo>
                <a:lnTo>
                  <a:pt x="1535" y="1651"/>
                </a:lnTo>
                <a:lnTo>
                  <a:pt x="1531" y="1649"/>
                </a:lnTo>
                <a:lnTo>
                  <a:pt x="1529" y="1645"/>
                </a:lnTo>
                <a:lnTo>
                  <a:pt x="1525" y="1641"/>
                </a:lnTo>
                <a:lnTo>
                  <a:pt x="1523" y="1635"/>
                </a:lnTo>
                <a:lnTo>
                  <a:pt x="1521" y="1632"/>
                </a:lnTo>
                <a:lnTo>
                  <a:pt x="1518" y="1626"/>
                </a:lnTo>
                <a:lnTo>
                  <a:pt x="1516" y="1618"/>
                </a:lnTo>
                <a:lnTo>
                  <a:pt x="1514" y="1612"/>
                </a:lnTo>
                <a:lnTo>
                  <a:pt x="1514" y="1605"/>
                </a:lnTo>
                <a:lnTo>
                  <a:pt x="1512" y="1597"/>
                </a:lnTo>
                <a:lnTo>
                  <a:pt x="1510" y="1587"/>
                </a:lnTo>
                <a:lnTo>
                  <a:pt x="1510" y="1578"/>
                </a:lnTo>
                <a:lnTo>
                  <a:pt x="1508" y="1568"/>
                </a:lnTo>
                <a:lnTo>
                  <a:pt x="1508" y="1557"/>
                </a:lnTo>
                <a:lnTo>
                  <a:pt x="1508" y="1545"/>
                </a:lnTo>
                <a:lnTo>
                  <a:pt x="1506" y="1534"/>
                </a:lnTo>
                <a:lnTo>
                  <a:pt x="1506" y="1522"/>
                </a:lnTo>
                <a:lnTo>
                  <a:pt x="1506" y="1509"/>
                </a:lnTo>
                <a:lnTo>
                  <a:pt x="1508" y="1495"/>
                </a:lnTo>
                <a:lnTo>
                  <a:pt x="1508" y="1480"/>
                </a:lnTo>
                <a:lnTo>
                  <a:pt x="1508" y="1465"/>
                </a:lnTo>
                <a:lnTo>
                  <a:pt x="1510" y="1449"/>
                </a:lnTo>
                <a:lnTo>
                  <a:pt x="1510" y="1434"/>
                </a:lnTo>
                <a:lnTo>
                  <a:pt x="1512" y="1417"/>
                </a:lnTo>
                <a:lnTo>
                  <a:pt x="1514" y="1399"/>
                </a:lnTo>
                <a:lnTo>
                  <a:pt x="1516" y="1367"/>
                </a:lnTo>
                <a:lnTo>
                  <a:pt x="1519" y="1336"/>
                </a:lnTo>
                <a:lnTo>
                  <a:pt x="1521" y="1307"/>
                </a:lnTo>
                <a:lnTo>
                  <a:pt x="1525" y="1278"/>
                </a:lnTo>
                <a:lnTo>
                  <a:pt x="1527" y="1253"/>
                </a:lnTo>
                <a:lnTo>
                  <a:pt x="1531" y="1229"/>
                </a:lnTo>
                <a:lnTo>
                  <a:pt x="1533" y="1206"/>
                </a:lnTo>
                <a:lnTo>
                  <a:pt x="1535" y="1182"/>
                </a:lnTo>
                <a:lnTo>
                  <a:pt x="1537" y="1163"/>
                </a:lnTo>
                <a:lnTo>
                  <a:pt x="1539" y="1144"/>
                </a:lnTo>
                <a:lnTo>
                  <a:pt x="1541" y="1127"/>
                </a:lnTo>
                <a:lnTo>
                  <a:pt x="1542" y="1111"/>
                </a:lnTo>
                <a:lnTo>
                  <a:pt x="1544" y="1098"/>
                </a:lnTo>
                <a:lnTo>
                  <a:pt x="1544" y="1085"/>
                </a:lnTo>
                <a:lnTo>
                  <a:pt x="1546" y="1073"/>
                </a:lnTo>
                <a:lnTo>
                  <a:pt x="1546" y="1064"/>
                </a:lnTo>
                <a:lnTo>
                  <a:pt x="1546" y="1058"/>
                </a:lnTo>
                <a:lnTo>
                  <a:pt x="1546" y="1050"/>
                </a:lnTo>
                <a:lnTo>
                  <a:pt x="1546" y="1042"/>
                </a:lnTo>
                <a:lnTo>
                  <a:pt x="1546" y="1033"/>
                </a:lnTo>
                <a:lnTo>
                  <a:pt x="1546" y="1023"/>
                </a:lnTo>
                <a:lnTo>
                  <a:pt x="1546" y="1014"/>
                </a:lnTo>
                <a:lnTo>
                  <a:pt x="1546" y="1002"/>
                </a:lnTo>
                <a:lnTo>
                  <a:pt x="1546" y="991"/>
                </a:lnTo>
                <a:lnTo>
                  <a:pt x="1546" y="977"/>
                </a:lnTo>
                <a:lnTo>
                  <a:pt x="1546" y="962"/>
                </a:lnTo>
                <a:lnTo>
                  <a:pt x="1546" y="946"/>
                </a:lnTo>
                <a:lnTo>
                  <a:pt x="1546" y="931"/>
                </a:lnTo>
                <a:lnTo>
                  <a:pt x="1546" y="914"/>
                </a:lnTo>
                <a:lnTo>
                  <a:pt x="1546" y="897"/>
                </a:lnTo>
                <a:lnTo>
                  <a:pt x="1546" y="877"/>
                </a:lnTo>
                <a:lnTo>
                  <a:pt x="1546" y="856"/>
                </a:lnTo>
                <a:lnTo>
                  <a:pt x="1542" y="835"/>
                </a:lnTo>
                <a:lnTo>
                  <a:pt x="1541" y="816"/>
                </a:lnTo>
                <a:lnTo>
                  <a:pt x="1539" y="799"/>
                </a:lnTo>
                <a:lnTo>
                  <a:pt x="1537" y="781"/>
                </a:lnTo>
                <a:lnTo>
                  <a:pt x="1535" y="766"/>
                </a:lnTo>
                <a:lnTo>
                  <a:pt x="1535" y="751"/>
                </a:lnTo>
                <a:lnTo>
                  <a:pt x="1533" y="737"/>
                </a:lnTo>
                <a:lnTo>
                  <a:pt x="1533" y="724"/>
                </a:lnTo>
                <a:lnTo>
                  <a:pt x="1533" y="712"/>
                </a:lnTo>
                <a:lnTo>
                  <a:pt x="1535" y="703"/>
                </a:lnTo>
                <a:lnTo>
                  <a:pt x="1535" y="693"/>
                </a:lnTo>
                <a:lnTo>
                  <a:pt x="1537" y="685"/>
                </a:lnTo>
                <a:lnTo>
                  <a:pt x="1539" y="678"/>
                </a:lnTo>
                <a:lnTo>
                  <a:pt x="1541" y="672"/>
                </a:lnTo>
                <a:lnTo>
                  <a:pt x="1542" y="668"/>
                </a:lnTo>
                <a:lnTo>
                  <a:pt x="1546" y="664"/>
                </a:lnTo>
                <a:lnTo>
                  <a:pt x="1546" y="664"/>
                </a:lnTo>
                <a:close/>
                <a:moveTo>
                  <a:pt x="2417" y="1367"/>
                </a:moveTo>
                <a:lnTo>
                  <a:pt x="2429" y="1372"/>
                </a:lnTo>
                <a:lnTo>
                  <a:pt x="2440" y="1378"/>
                </a:lnTo>
                <a:lnTo>
                  <a:pt x="2450" y="1386"/>
                </a:lnTo>
                <a:lnTo>
                  <a:pt x="2460" y="1392"/>
                </a:lnTo>
                <a:lnTo>
                  <a:pt x="2469" y="1397"/>
                </a:lnTo>
                <a:lnTo>
                  <a:pt x="2477" y="1403"/>
                </a:lnTo>
                <a:lnTo>
                  <a:pt x="2485" y="1411"/>
                </a:lnTo>
                <a:lnTo>
                  <a:pt x="2490" y="1417"/>
                </a:lnTo>
                <a:lnTo>
                  <a:pt x="2496" y="1424"/>
                </a:lnTo>
                <a:lnTo>
                  <a:pt x="2502" y="1430"/>
                </a:lnTo>
                <a:lnTo>
                  <a:pt x="2506" y="1438"/>
                </a:lnTo>
                <a:lnTo>
                  <a:pt x="2510" y="1445"/>
                </a:lnTo>
                <a:lnTo>
                  <a:pt x="2511" y="1453"/>
                </a:lnTo>
                <a:lnTo>
                  <a:pt x="2513" y="1461"/>
                </a:lnTo>
                <a:lnTo>
                  <a:pt x="2515" y="1470"/>
                </a:lnTo>
                <a:lnTo>
                  <a:pt x="2515" y="1478"/>
                </a:lnTo>
                <a:lnTo>
                  <a:pt x="2515" y="1488"/>
                </a:lnTo>
                <a:lnTo>
                  <a:pt x="2513" y="1495"/>
                </a:lnTo>
                <a:lnTo>
                  <a:pt x="2511" y="1503"/>
                </a:lnTo>
                <a:lnTo>
                  <a:pt x="2506" y="1511"/>
                </a:lnTo>
                <a:lnTo>
                  <a:pt x="2500" y="1518"/>
                </a:lnTo>
                <a:lnTo>
                  <a:pt x="2494" y="1524"/>
                </a:lnTo>
                <a:lnTo>
                  <a:pt x="2487" y="1530"/>
                </a:lnTo>
                <a:lnTo>
                  <a:pt x="2477" y="1536"/>
                </a:lnTo>
                <a:lnTo>
                  <a:pt x="2465" y="1541"/>
                </a:lnTo>
                <a:lnTo>
                  <a:pt x="2454" y="1545"/>
                </a:lnTo>
                <a:lnTo>
                  <a:pt x="2440" y="1549"/>
                </a:lnTo>
                <a:lnTo>
                  <a:pt x="2425" y="1553"/>
                </a:lnTo>
                <a:lnTo>
                  <a:pt x="2410" y="1555"/>
                </a:lnTo>
                <a:lnTo>
                  <a:pt x="2393" y="1557"/>
                </a:lnTo>
                <a:lnTo>
                  <a:pt x="2371" y="1559"/>
                </a:lnTo>
                <a:lnTo>
                  <a:pt x="2352" y="1559"/>
                </a:lnTo>
                <a:lnTo>
                  <a:pt x="2331" y="1559"/>
                </a:lnTo>
                <a:lnTo>
                  <a:pt x="2310" y="1557"/>
                </a:lnTo>
                <a:lnTo>
                  <a:pt x="2291" y="1555"/>
                </a:lnTo>
                <a:lnTo>
                  <a:pt x="2274" y="1553"/>
                </a:lnTo>
                <a:lnTo>
                  <a:pt x="2256" y="1549"/>
                </a:lnTo>
                <a:lnTo>
                  <a:pt x="2241" y="1545"/>
                </a:lnTo>
                <a:lnTo>
                  <a:pt x="2226" y="1541"/>
                </a:lnTo>
                <a:lnTo>
                  <a:pt x="2212" y="1536"/>
                </a:lnTo>
                <a:lnTo>
                  <a:pt x="2199" y="1532"/>
                </a:lnTo>
                <a:lnTo>
                  <a:pt x="2185" y="1524"/>
                </a:lnTo>
                <a:lnTo>
                  <a:pt x="2174" y="1518"/>
                </a:lnTo>
                <a:lnTo>
                  <a:pt x="2162" y="1511"/>
                </a:lnTo>
                <a:lnTo>
                  <a:pt x="2151" y="1503"/>
                </a:lnTo>
                <a:lnTo>
                  <a:pt x="2141" y="1495"/>
                </a:lnTo>
                <a:lnTo>
                  <a:pt x="2132" y="1488"/>
                </a:lnTo>
                <a:lnTo>
                  <a:pt x="2122" y="1478"/>
                </a:lnTo>
                <a:lnTo>
                  <a:pt x="2112" y="1468"/>
                </a:lnTo>
                <a:lnTo>
                  <a:pt x="2103" y="1457"/>
                </a:lnTo>
                <a:lnTo>
                  <a:pt x="2095" y="1443"/>
                </a:lnTo>
                <a:lnTo>
                  <a:pt x="2087" y="1428"/>
                </a:lnTo>
                <a:lnTo>
                  <a:pt x="2080" y="1411"/>
                </a:lnTo>
                <a:lnTo>
                  <a:pt x="2074" y="1392"/>
                </a:lnTo>
                <a:lnTo>
                  <a:pt x="2068" y="1371"/>
                </a:lnTo>
                <a:lnTo>
                  <a:pt x="2062" y="1349"/>
                </a:lnTo>
                <a:lnTo>
                  <a:pt x="2057" y="1324"/>
                </a:lnTo>
                <a:lnTo>
                  <a:pt x="2053" y="1300"/>
                </a:lnTo>
                <a:lnTo>
                  <a:pt x="2049" y="1271"/>
                </a:lnTo>
                <a:lnTo>
                  <a:pt x="2045" y="1242"/>
                </a:lnTo>
                <a:lnTo>
                  <a:pt x="2043" y="1213"/>
                </a:lnTo>
                <a:lnTo>
                  <a:pt x="2041" y="1181"/>
                </a:lnTo>
                <a:lnTo>
                  <a:pt x="2039" y="1146"/>
                </a:lnTo>
                <a:lnTo>
                  <a:pt x="2039" y="1111"/>
                </a:lnTo>
                <a:lnTo>
                  <a:pt x="2038" y="1046"/>
                </a:lnTo>
                <a:lnTo>
                  <a:pt x="2036" y="979"/>
                </a:lnTo>
                <a:lnTo>
                  <a:pt x="2032" y="914"/>
                </a:lnTo>
                <a:lnTo>
                  <a:pt x="2026" y="851"/>
                </a:lnTo>
                <a:lnTo>
                  <a:pt x="2020" y="785"/>
                </a:lnTo>
                <a:lnTo>
                  <a:pt x="2011" y="724"/>
                </a:lnTo>
                <a:lnTo>
                  <a:pt x="2001" y="661"/>
                </a:lnTo>
                <a:lnTo>
                  <a:pt x="1990" y="601"/>
                </a:lnTo>
                <a:lnTo>
                  <a:pt x="2270" y="601"/>
                </a:lnTo>
                <a:lnTo>
                  <a:pt x="2270" y="641"/>
                </a:lnTo>
                <a:lnTo>
                  <a:pt x="2270" y="682"/>
                </a:lnTo>
                <a:lnTo>
                  <a:pt x="2270" y="720"/>
                </a:lnTo>
                <a:lnTo>
                  <a:pt x="2270" y="758"/>
                </a:lnTo>
                <a:lnTo>
                  <a:pt x="2270" y="795"/>
                </a:lnTo>
                <a:lnTo>
                  <a:pt x="2270" y="829"/>
                </a:lnTo>
                <a:lnTo>
                  <a:pt x="2270" y="864"/>
                </a:lnTo>
                <a:lnTo>
                  <a:pt x="2270" y="897"/>
                </a:lnTo>
                <a:lnTo>
                  <a:pt x="2270" y="927"/>
                </a:lnTo>
                <a:lnTo>
                  <a:pt x="2270" y="958"/>
                </a:lnTo>
                <a:lnTo>
                  <a:pt x="2270" y="987"/>
                </a:lnTo>
                <a:lnTo>
                  <a:pt x="2270" y="1016"/>
                </a:lnTo>
                <a:lnTo>
                  <a:pt x="2270" y="1040"/>
                </a:lnTo>
                <a:lnTo>
                  <a:pt x="2270" y="1067"/>
                </a:lnTo>
                <a:lnTo>
                  <a:pt x="2272" y="1090"/>
                </a:lnTo>
                <a:lnTo>
                  <a:pt x="2272" y="1113"/>
                </a:lnTo>
                <a:lnTo>
                  <a:pt x="2272" y="1135"/>
                </a:lnTo>
                <a:lnTo>
                  <a:pt x="2272" y="1156"/>
                </a:lnTo>
                <a:lnTo>
                  <a:pt x="2274" y="1173"/>
                </a:lnTo>
                <a:lnTo>
                  <a:pt x="2274" y="1192"/>
                </a:lnTo>
                <a:lnTo>
                  <a:pt x="2274" y="1207"/>
                </a:lnTo>
                <a:lnTo>
                  <a:pt x="2275" y="1223"/>
                </a:lnTo>
                <a:lnTo>
                  <a:pt x="2275" y="1236"/>
                </a:lnTo>
                <a:lnTo>
                  <a:pt x="2275" y="1250"/>
                </a:lnTo>
                <a:lnTo>
                  <a:pt x="2277" y="1261"/>
                </a:lnTo>
                <a:lnTo>
                  <a:pt x="2277" y="1271"/>
                </a:lnTo>
                <a:lnTo>
                  <a:pt x="2279" y="1278"/>
                </a:lnTo>
                <a:lnTo>
                  <a:pt x="2279" y="1286"/>
                </a:lnTo>
                <a:lnTo>
                  <a:pt x="2281" y="1292"/>
                </a:lnTo>
                <a:lnTo>
                  <a:pt x="2283" y="1298"/>
                </a:lnTo>
                <a:lnTo>
                  <a:pt x="2283" y="1301"/>
                </a:lnTo>
                <a:lnTo>
                  <a:pt x="2285" y="1303"/>
                </a:lnTo>
                <a:lnTo>
                  <a:pt x="2289" y="1305"/>
                </a:lnTo>
                <a:lnTo>
                  <a:pt x="2293" y="1309"/>
                </a:lnTo>
                <a:lnTo>
                  <a:pt x="2297" y="1313"/>
                </a:lnTo>
                <a:lnTo>
                  <a:pt x="2302" y="1317"/>
                </a:lnTo>
                <a:lnTo>
                  <a:pt x="2306" y="1321"/>
                </a:lnTo>
                <a:lnTo>
                  <a:pt x="2312" y="1326"/>
                </a:lnTo>
                <a:lnTo>
                  <a:pt x="2320" y="1330"/>
                </a:lnTo>
                <a:lnTo>
                  <a:pt x="2327" y="1334"/>
                </a:lnTo>
                <a:lnTo>
                  <a:pt x="2335" y="1340"/>
                </a:lnTo>
                <a:lnTo>
                  <a:pt x="2345" y="1344"/>
                </a:lnTo>
                <a:lnTo>
                  <a:pt x="2354" y="1348"/>
                </a:lnTo>
                <a:lnTo>
                  <a:pt x="2364" y="1351"/>
                </a:lnTo>
                <a:lnTo>
                  <a:pt x="2375" y="1357"/>
                </a:lnTo>
                <a:lnTo>
                  <a:pt x="2389" y="1359"/>
                </a:lnTo>
                <a:lnTo>
                  <a:pt x="2402" y="1363"/>
                </a:lnTo>
                <a:lnTo>
                  <a:pt x="2417" y="1367"/>
                </a:lnTo>
                <a:lnTo>
                  <a:pt x="2417" y="1367"/>
                </a:lnTo>
                <a:close/>
                <a:moveTo>
                  <a:pt x="1151" y="2036"/>
                </a:moveTo>
                <a:lnTo>
                  <a:pt x="1147" y="1998"/>
                </a:lnTo>
                <a:lnTo>
                  <a:pt x="1145" y="1962"/>
                </a:lnTo>
                <a:lnTo>
                  <a:pt x="1141" y="1923"/>
                </a:lnTo>
                <a:lnTo>
                  <a:pt x="1139" y="1889"/>
                </a:lnTo>
                <a:lnTo>
                  <a:pt x="1136" y="1852"/>
                </a:lnTo>
                <a:lnTo>
                  <a:pt x="1132" y="1820"/>
                </a:lnTo>
                <a:lnTo>
                  <a:pt x="1130" y="1785"/>
                </a:lnTo>
                <a:lnTo>
                  <a:pt x="1126" y="1754"/>
                </a:lnTo>
                <a:lnTo>
                  <a:pt x="1122" y="1724"/>
                </a:lnTo>
                <a:lnTo>
                  <a:pt x="1120" y="1693"/>
                </a:lnTo>
                <a:lnTo>
                  <a:pt x="1116" y="1664"/>
                </a:lnTo>
                <a:lnTo>
                  <a:pt x="1115" y="1637"/>
                </a:lnTo>
                <a:lnTo>
                  <a:pt x="1111" y="1612"/>
                </a:lnTo>
                <a:lnTo>
                  <a:pt x="1107" y="1587"/>
                </a:lnTo>
                <a:lnTo>
                  <a:pt x="1105" y="1564"/>
                </a:lnTo>
                <a:lnTo>
                  <a:pt x="1101" y="1543"/>
                </a:lnTo>
                <a:lnTo>
                  <a:pt x="1097" y="1522"/>
                </a:lnTo>
                <a:lnTo>
                  <a:pt x="1095" y="1501"/>
                </a:lnTo>
                <a:lnTo>
                  <a:pt x="1092" y="1484"/>
                </a:lnTo>
                <a:lnTo>
                  <a:pt x="1086" y="1465"/>
                </a:lnTo>
                <a:lnTo>
                  <a:pt x="1082" y="1447"/>
                </a:lnTo>
                <a:lnTo>
                  <a:pt x="1076" y="1430"/>
                </a:lnTo>
                <a:lnTo>
                  <a:pt x="1072" y="1415"/>
                </a:lnTo>
                <a:lnTo>
                  <a:pt x="1067" y="1399"/>
                </a:lnTo>
                <a:lnTo>
                  <a:pt x="1061" y="1384"/>
                </a:lnTo>
                <a:lnTo>
                  <a:pt x="1055" y="1371"/>
                </a:lnTo>
                <a:lnTo>
                  <a:pt x="1049" y="1357"/>
                </a:lnTo>
                <a:lnTo>
                  <a:pt x="1044" y="1346"/>
                </a:lnTo>
                <a:lnTo>
                  <a:pt x="1038" y="1334"/>
                </a:lnTo>
                <a:lnTo>
                  <a:pt x="1032" y="1323"/>
                </a:lnTo>
                <a:lnTo>
                  <a:pt x="1024" y="1313"/>
                </a:lnTo>
                <a:lnTo>
                  <a:pt x="1019" y="1303"/>
                </a:lnTo>
                <a:lnTo>
                  <a:pt x="1011" y="1298"/>
                </a:lnTo>
                <a:lnTo>
                  <a:pt x="1001" y="1290"/>
                </a:lnTo>
                <a:lnTo>
                  <a:pt x="996" y="1282"/>
                </a:lnTo>
                <a:lnTo>
                  <a:pt x="988" y="1277"/>
                </a:lnTo>
                <a:lnTo>
                  <a:pt x="982" y="1269"/>
                </a:lnTo>
                <a:lnTo>
                  <a:pt x="976" y="1261"/>
                </a:lnTo>
                <a:lnTo>
                  <a:pt x="973" y="1253"/>
                </a:lnTo>
                <a:lnTo>
                  <a:pt x="969" y="1246"/>
                </a:lnTo>
                <a:lnTo>
                  <a:pt x="965" y="1236"/>
                </a:lnTo>
                <a:lnTo>
                  <a:pt x="961" y="1229"/>
                </a:lnTo>
                <a:lnTo>
                  <a:pt x="959" y="1219"/>
                </a:lnTo>
                <a:lnTo>
                  <a:pt x="957" y="1211"/>
                </a:lnTo>
                <a:lnTo>
                  <a:pt x="955" y="1202"/>
                </a:lnTo>
                <a:lnTo>
                  <a:pt x="953" y="1194"/>
                </a:lnTo>
                <a:lnTo>
                  <a:pt x="953" y="1175"/>
                </a:lnTo>
                <a:lnTo>
                  <a:pt x="953" y="1167"/>
                </a:lnTo>
                <a:lnTo>
                  <a:pt x="955" y="1158"/>
                </a:lnTo>
                <a:lnTo>
                  <a:pt x="959" y="1150"/>
                </a:lnTo>
                <a:lnTo>
                  <a:pt x="963" y="1142"/>
                </a:lnTo>
                <a:lnTo>
                  <a:pt x="967" y="1136"/>
                </a:lnTo>
                <a:lnTo>
                  <a:pt x="973" y="1129"/>
                </a:lnTo>
                <a:lnTo>
                  <a:pt x="980" y="1123"/>
                </a:lnTo>
                <a:lnTo>
                  <a:pt x="988" y="1117"/>
                </a:lnTo>
                <a:lnTo>
                  <a:pt x="997" y="1113"/>
                </a:lnTo>
                <a:lnTo>
                  <a:pt x="1007" y="1108"/>
                </a:lnTo>
                <a:lnTo>
                  <a:pt x="1019" y="1104"/>
                </a:lnTo>
                <a:lnTo>
                  <a:pt x="1030" y="1102"/>
                </a:lnTo>
                <a:lnTo>
                  <a:pt x="1042" y="1098"/>
                </a:lnTo>
                <a:lnTo>
                  <a:pt x="1055" y="1096"/>
                </a:lnTo>
                <a:lnTo>
                  <a:pt x="1070" y="1096"/>
                </a:lnTo>
                <a:lnTo>
                  <a:pt x="1086" y="1096"/>
                </a:lnTo>
                <a:lnTo>
                  <a:pt x="1116" y="1096"/>
                </a:lnTo>
                <a:lnTo>
                  <a:pt x="1147" y="1098"/>
                </a:lnTo>
                <a:lnTo>
                  <a:pt x="1163" y="1100"/>
                </a:lnTo>
                <a:lnTo>
                  <a:pt x="1180" y="1102"/>
                </a:lnTo>
                <a:lnTo>
                  <a:pt x="1195" y="1106"/>
                </a:lnTo>
                <a:lnTo>
                  <a:pt x="1212" y="1110"/>
                </a:lnTo>
                <a:lnTo>
                  <a:pt x="1230" y="1113"/>
                </a:lnTo>
                <a:lnTo>
                  <a:pt x="1247" y="1117"/>
                </a:lnTo>
                <a:lnTo>
                  <a:pt x="1266" y="1123"/>
                </a:lnTo>
                <a:lnTo>
                  <a:pt x="1283" y="1129"/>
                </a:lnTo>
                <a:lnTo>
                  <a:pt x="1303" y="1135"/>
                </a:lnTo>
                <a:lnTo>
                  <a:pt x="1324" y="1142"/>
                </a:lnTo>
                <a:lnTo>
                  <a:pt x="1343" y="1150"/>
                </a:lnTo>
                <a:lnTo>
                  <a:pt x="1364" y="1159"/>
                </a:lnTo>
                <a:lnTo>
                  <a:pt x="1364" y="1171"/>
                </a:lnTo>
                <a:lnTo>
                  <a:pt x="1364" y="1181"/>
                </a:lnTo>
                <a:lnTo>
                  <a:pt x="1364" y="1194"/>
                </a:lnTo>
                <a:lnTo>
                  <a:pt x="1366" y="1206"/>
                </a:lnTo>
                <a:lnTo>
                  <a:pt x="1366" y="1219"/>
                </a:lnTo>
                <a:lnTo>
                  <a:pt x="1366" y="1232"/>
                </a:lnTo>
                <a:lnTo>
                  <a:pt x="1366" y="1246"/>
                </a:lnTo>
                <a:lnTo>
                  <a:pt x="1368" y="1261"/>
                </a:lnTo>
                <a:lnTo>
                  <a:pt x="1368" y="1277"/>
                </a:lnTo>
                <a:lnTo>
                  <a:pt x="1370" y="1292"/>
                </a:lnTo>
                <a:lnTo>
                  <a:pt x="1370" y="1309"/>
                </a:lnTo>
                <a:lnTo>
                  <a:pt x="1370" y="1326"/>
                </a:lnTo>
                <a:lnTo>
                  <a:pt x="1372" y="1344"/>
                </a:lnTo>
                <a:lnTo>
                  <a:pt x="1374" y="1363"/>
                </a:lnTo>
                <a:lnTo>
                  <a:pt x="1374" y="1382"/>
                </a:lnTo>
                <a:lnTo>
                  <a:pt x="1376" y="1401"/>
                </a:lnTo>
                <a:lnTo>
                  <a:pt x="1376" y="1420"/>
                </a:lnTo>
                <a:lnTo>
                  <a:pt x="1377" y="1442"/>
                </a:lnTo>
                <a:lnTo>
                  <a:pt x="1379" y="1463"/>
                </a:lnTo>
                <a:lnTo>
                  <a:pt x="1379" y="1486"/>
                </a:lnTo>
                <a:lnTo>
                  <a:pt x="1381" y="1507"/>
                </a:lnTo>
                <a:lnTo>
                  <a:pt x="1383" y="1530"/>
                </a:lnTo>
                <a:lnTo>
                  <a:pt x="1383" y="1555"/>
                </a:lnTo>
                <a:lnTo>
                  <a:pt x="1385" y="1580"/>
                </a:lnTo>
                <a:lnTo>
                  <a:pt x="1387" y="1605"/>
                </a:lnTo>
                <a:lnTo>
                  <a:pt x="1389" y="1630"/>
                </a:lnTo>
                <a:lnTo>
                  <a:pt x="1391" y="1656"/>
                </a:lnTo>
                <a:lnTo>
                  <a:pt x="1391" y="1683"/>
                </a:lnTo>
                <a:lnTo>
                  <a:pt x="1393" y="1710"/>
                </a:lnTo>
                <a:lnTo>
                  <a:pt x="1395" y="1739"/>
                </a:lnTo>
                <a:lnTo>
                  <a:pt x="1397" y="1768"/>
                </a:lnTo>
                <a:lnTo>
                  <a:pt x="1399" y="1798"/>
                </a:lnTo>
                <a:lnTo>
                  <a:pt x="1399" y="1829"/>
                </a:lnTo>
                <a:lnTo>
                  <a:pt x="1400" y="1858"/>
                </a:lnTo>
                <a:lnTo>
                  <a:pt x="1400" y="1887"/>
                </a:lnTo>
                <a:lnTo>
                  <a:pt x="1400" y="1916"/>
                </a:lnTo>
                <a:lnTo>
                  <a:pt x="1402" y="1942"/>
                </a:lnTo>
                <a:lnTo>
                  <a:pt x="1402" y="1969"/>
                </a:lnTo>
                <a:lnTo>
                  <a:pt x="1400" y="1994"/>
                </a:lnTo>
                <a:lnTo>
                  <a:pt x="1400" y="2019"/>
                </a:lnTo>
                <a:lnTo>
                  <a:pt x="1400" y="2042"/>
                </a:lnTo>
                <a:lnTo>
                  <a:pt x="1399" y="2065"/>
                </a:lnTo>
                <a:lnTo>
                  <a:pt x="1397" y="2086"/>
                </a:lnTo>
                <a:lnTo>
                  <a:pt x="1395" y="2107"/>
                </a:lnTo>
                <a:lnTo>
                  <a:pt x="1393" y="2127"/>
                </a:lnTo>
                <a:lnTo>
                  <a:pt x="1391" y="2146"/>
                </a:lnTo>
                <a:lnTo>
                  <a:pt x="1389" y="2163"/>
                </a:lnTo>
                <a:lnTo>
                  <a:pt x="1385" y="2180"/>
                </a:lnTo>
                <a:lnTo>
                  <a:pt x="1381" y="2196"/>
                </a:lnTo>
                <a:lnTo>
                  <a:pt x="1377" y="2211"/>
                </a:lnTo>
                <a:lnTo>
                  <a:pt x="1374" y="2226"/>
                </a:lnTo>
                <a:lnTo>
                  <a:pt x="1370" y="2240"/>
                </a:lnTo>
                <a:lnTo>
                  <a:pt x="1366" y="2251"/>
                </a:lnTo>
                <a:lnTo>
                  <a:pt x="1362" y="2263"/>
                </a:lnTo>
                <a:lnTo>
                  <a:pt x="1356" y="2272"/>
                </a:lnTo>
                <a:lnTo>
                  <a:pt x="1351" y="2282"/>
                </a:lnTo>
                <a:lnTo>
                  <a:pt x="1345" y="2292"/>
                </a:lnTo>
                <a:lnTo>
                  <a:pt x="1339" y="2299"/>
                </a:lnTo>
                <a:lnTo>
                  <a:pt x="1333" y="2305"/>
                </a:lnTo>
                <a:lnTo>
                  <a:pt x="1328" y="2311"/>
                </a:lnTo>
                <a:lnTo>
                  <a:pt x="1320" y="2315"/>
                </a:lnTo>
                <a:lnTo>
                  <a:pt x="1314" y="2318"/>
                </a:lnTo>
                <a:lnTo>
                  <a:pt x="1306" y="2322"/>
                </a:lnTo>
                <a:lnTo>
                  <a:pt x="1299" y="2324"/>
                </a:lnTo>
                <a:lnTo>
                  <a:pt x="1291" y="2326"/>
                </a:lnTo>
                <a:lnTo>
                  <a:pt x="1283" y="2326"/>
                </a:lnTo>
                <a:lnTo>
                  <a:pt x="1276" y="2326"/>
                </a:lnTo>
                <a:lnTo>
                  <a:pt x="1270" y="2324"/>
                </a:lnTo>
                <a:lnTo>
                  <a:pt x="1262" y="2324"/>
                </a:lnTo>
                <a:lnTo>
                  <a:pt x="1257" y="2322"/>
                </a:lnTo>
                <a:lnTo>
                  <a:pt x="1249" y="2318"/>
                </a:lnTo>
                <a:lnTo>
                  <a:pt x="1243" y="2315"/>
                </a:lnTo>
                <a:lnTo>
                  <a:pt x="1237" y="2311"/>
                </a:lnTo>
                <a:lnTo>
                  <a:pt x="1232" y="2307"/>
                </a:lnTo>
                <a:lnTo>
                  <a:pt x="1226" y="2301"/>
                </a:lnTo>
                <a:lnTo>
                  <a:pt x="1220" y="2295"/>
                </a:lnTo>
                <a:lnTo>
                  <a:pt x="1214" y="2288"/>
                </a:lnTo>
                <a:lnTo>
                  <a:pt x="1210" y="2282"/>
                </a:lnTo>
                <a:lnTo>
                  <a:pt x="1205" y="2272"/>
                </a:lnTo>
                <a:lnTo>
                  <a:pt x="1201" y="2265"/>
                </a:lnTo>
                <a:lnTo>
                  <a:pt x="1195" y="2255"/>
                </a:lnTo>
                <a:lnTo>
                  <a:pt x="1191" y="2246"/>
                </a:lnTo>
                <a:lnTo>
                  <a:pt x="1187" y="2234"/>
                </a:lnTo>
                <a:lnTo>
                  <a:pt x="1184" y="2223"/>
                </a:lnTo>
                <a:lnTo>
                  <a:pt x="1180" y="2211"/>
                </a:lnTo>
                <a:lnTo>
                  <a:pt x="1176" y="2199"/>
                </a:lnTo>
                <a:lnTo>
                  <a:pt x="1172" y="2186"/>
                </a:lnTo>
                <a:lnTo>
                  <a:pt x="1168" y="2173"/>
                </a:lnTo>
                <a:lnTo>
                  <a:pt x="1166" y="2157"/>
                </a:lnTo>
                <a:lnTo>
                  <a:pt x="1163" y="2142"/>
                </a:lnTo>
                <a:lnTo>
                  <a:pt x="1161" y="2127"/>
                </a:lnTo>
                <a:lnTo>
                  <a:pt x="1159" y="2109"/>
                </a:lnTo>
                <a:lnTo>
                  <a:pt x="1157" y="2092"/>
                </a:lnTo>
                <a:lnTo>
                  <a:pt x="1155" y="2075"/>
                </a:lnTo>
                <a:lnTo>
                  <a:pt x="1153" y="2056"/>
                </a:lnTo>
                <a:lnTo>
                  <a:pt x="1151" y="2036"/>
                </a:lnTo>
                <a:lnTo>
                  <a:pt x="1151" y="2036"/>
                </a:lnTo>
                <a:close/>
                <a:moveTo>
                  <a:pt x="2648" y="2246"/>
                </a:moveTo>
                <a:lnTo>
                  <a:pt x="2630" y="2249"/>
                </a:lnTo>
                <a:lnTo>
                  <a:pt x="2613" y="2253"/>
                </a:lnTo>
                <a:lnTo>
                  <a:pt x="2606" y="2255"/>
                </a:lnTo>
                <a:lnTo>
                  <a:pt x="2598" y="2255"/>
                </a:lnTo>
                <a:lnTo>
                  <a:pt x="2590" y="2255"/>
                </a:lnTo>
                <a:lnTo>
                  <a:pt x="2584" y="2255"/>
                </a:lnTo>
                <a:lnTo>
                  <a:pt x="2577" y="2253"/>
                </a:lnTo>
                <a:lnTo>
                  <a:pt x="2571" y="2251"/>
                </a:lnTo>
                <a:lnTo>
                  <a:pt x="2563" y="2249"/>
                </a:lnTo>
                <a:lnTo>
                  <a:pt x="2558" y="2247"/>
                </a:lnTo>
                <a:lnTo>
                  <a:pt x="2552" y="2244"/>
                </a:lnTo>
                <a:lnTo>
                  <a:pt x="2544" y="2240"/>
                </a:lnTo>
                <a:lnTo>
                  <a:pt x="2538" y="2234"/>
                </a:lnTo>
                <a:lnTo>
                  <a:pt x="2533" y="2228"/>
                </a:lnTo>
                <a:lnTo>
                  <a:pt x="2529" y="2226"/>
                </a:lnTo>
                <a:lnTo>
                  <a:pt x="2527" y="2224"/>
                </a:lnTo>
                <a:lnTo>
                  <a:pt x="2525" y="2221"/>
                </a:lnTo>
                <a:lnTo>
                  <a:pt x="2521" y="2215"/>
                </a:lnTo>
                <a:lnTo>
                  <a:pt x="2519" y="2209"/>
                </a:lnTo>
                <a:lnTo>
                  <a:pt x="2517" y="2203"/>
                </a:lnTo>
                <a:lnTo>
                  <a:pt x="2515" y="2196"/>
                </a:lnTo>
                <a:lnTo>
                  <a:pt x="2513" y="2186"/>
                </a:lnTo>
                <a:lnTo>
                  <a:pt x="2513" y="2178"/>
                </a:lnTo>
                <a:lnTo>
                  <a:pt x="2511" y="2167"/>
                </a:lnTo>
                <a:lnTo>
                  <a:pt x="2510" y="2155"/>
                </a:lnTo>
                <a:lnTo>
                  <a:pt x="2510" y="2144"/>
                </a:lnTo>
                <a:lnTo>
                  <a:pt x="2510" y="2130"/>
                </a:lnTo>
                <a:lnTo>
                  <a:pt x="2508" y="2117"/>
                </a:lnTo>
                <a:lnTo>
                  <a:pt x="2508" y="2102"/>
                </a:lnTo>
                <a:lnTo>
                  <a:pt x="2508" y="2086"/>
                </a:lnTo>
                <a:lnTo>
                  <a:pt x="2508" y="2071"/>
                </a:lnTo>
                <a:lnTo>
                  <a:pt x="2508" y="2054"/>
                </a:lnTo>
                <a:lnTo>
                  <a:pt x="2510" y="2034"/>
                </a:lnTo>
                <a:lnTo>
                  <a:pt x="2510" y="2015"/>
                </a:lnTo>
                <a:lnTo>
                  <a:pt x="2510" y="1996"/>
                </a:lnTo>
                <a:lnTo>
                  <a:pt x="2511" y="1975"/>
                </a:lnTo>
                <a:lnTo>
                  <a:pt x="2513" y="1952"/>
                </a:lnTo>
                <a:lnTo>
                  <a:pt x="2513" y="1931"/>
                </a:lnTo>
                <a:lnTo>
                  <a:pt x="2515" y="1906"/>
                </a:lnTo>
                <a:lnTo>
                  <a:pt x="2517" y="1883"/>
                </a:lnTo>
                <a:lnTo>
                  <a:pt x="2519" y="1856"/>
                </a:lnTo>
                <a:lnTo>
                  <a:pt x="2521" y="1831"/>
                </a:lnTo>
                <a:lnTo>
                  <a:pt x="2525" y="1804"/>
                </a:lnTo>
                <a:lnTo>
                  <a:pt x="2527" y="1775"/>
                </a:lnTo>
                <a:lnTo>
                  <a:pt x="2529" y="1747"/>
                </a:lnTo>
                <a:lnTo>
                  <a:pt x="2533" y="1718"/>
                </a:lnTo>
                <a:lnTo>
                  <a:pt x="2535" y="1689"/>
                </a:lnTo>
                <a:lnTo>
                  <a:pt x="2538" y="1660"/>
                </a:lnTo>
                <a:lnTo>
                  <a:pt x="2540" y="1632"/>
                </a:lnTo>
                <a:lnTo>
                  <a:pt x="2542" y="1605"/>
                </a:lnTo>
                <a:lnTo>
                  <a:pt x="2546" y="1580"/>
                </a:lnTo>
                <a:lnTo>
                  <a:pt x="2548" y="1553"/>
                </a:lnTo>
                <a:lnTo>
                  <a:pt x="2550" y="1530"/>
                </a:lnTo>
                <a:lnTo>
                  <a:pt x="2550" y="1505"/>
                </a:lnTo>
                <a:lnTo>
                  <a:pt x="2552" y="1484"/>
                </a:lnTo>
                <a:lnTo>
                  <a:pt x="2554" y="1461"/>
                </a:lnTo>
                <a:lnTo>
                  <a:pt x="2556" y="1440"/>
                </a:lnTo>
                <a:lnTo>
                  <a:pt x="2556" y="1420"/>
                </a:lnTo>
                <a:lnTo>
                  <a:pt x="2558" y="1401"/>
                </a:lnTo>
                <a:lnTo>
                  <a:pt x="2558" y="1382"/>
                </a:lnTo>
                <a:lnTo>
                  <a:pt x="2558" y="1365"/>
                </a:lnTo>
                <a:lnTo>
                  <a:pt x="2559" y="1349"/>
                </a:lnTo>
                <a:lnTo>
                  <a:pt x="2559" y="1334"/>
                </a:lnTo>
                <a:lnTo>
                  <a:pt x="2559" y="1319"/>
                </a:lnTo>
                <a:lnTo>
                  <a:pt x="2559" y="1305"/>
                </a:lnTo>
                <a:lnTo>
                  <a:pt x="2559" y="1292"/>
                </a:lnTo>
                <a:lnTo>
                  <a:pt x="2559" y="1280"/>
                </a:lnTo>
                <a:lnTo>
                  <a:pt x="2559" y="1269"/>
                </a:lnTo>
                <a:lnTo>
                  <a:pt x="2558" y="1257"/>
                </a:lnTo>
                <a:lnTo>
                  <a:pt x="2558" y="1250"/>
                </a:lnTo>
                <a:lnTo>
                  <a:pt x="2558" y="1240"/>
                </a:lnTo>
                <a:lnTo>
                  <a:pt x="2556" y="1232"/>
                </a:lnTo>
                <a:lnTo>
                  <a:pt x="2556" y="1227"/>
                </a:lnTo>
                <a:lnTo>
                  <a:pt x="2554" y="1221"/>
                </a:lnTo>
                <a:lnTo>
                  <a:pt x="2554" y="1215"/>
                </a:lnTo>
                <a:lnTo>
                  <a:pt x="2552" y="1211"/>
                </a:lnTo>
                <a:lnTo>
                  <a:pt x="2550" y="1209"/>
                </a:lnTo>
                <a:lnTo>
                  <a:pt x="2548" y="1207"/>
                </a:lnTo>
                <a:lnTo>
                  <a:pt x="2546" y="1204"/>
                </a:lnTo>
                <a:lnTo>
                  <a:pt x="2540" y="1202"/>
                </a:lnTo>
                <a:lnTo>
                  <a:pt x="2536" y="1198"/>
                </a:lnTo>
                <a:lnTo>
                  <a:pt x="2531" y="1196"/>
                </a:lnTo>
                <a:lnTo>
                  <a:pt x="2525" y="1192"/>
                </a:lnTo>
                <a:lnTo>
                  <a:pt x="2519" y="1190"/>
                </a:lnTo>
                <a:lnTo>
                  <a:pt x="2511" y="1188"/>
                </a:lnTo>
                <a:lnTo>
                  <a:pt x="2504" y="1184"/>
                </a:lnTo>
                <a:lnTo>
                  <a:pt x="2488" y="1181"/>
                </a:lnTo>
                <a:lnTo>
                  <a:pt x="2471" y="1179"/>
                </a:lnTo>
                <a:lnTo>
                  <a:pt x="2452" y="1177"/>
                </a:lnTo>
                <a:lnTo>
                  <a:pt x="2435" y="1175"/>
                </a:lnTo>
                <a:lnTo>
                  <a:pt x="2427" y="1175"/>
                </a:lnTo>
                <a:lnTo>
                  <a:pt x="2417" y="1177"/>
                </a:lnTo>
                <a:lnTo>
                  <a:pt x="2406" y="1177"/>
                </a:lnTo>
                <a:lnTo>
                  <a:pt x="2391" y="1179"/>
                </a:lnTo>
                <a:lnTo>
                  <a:pt x="2375" y="1181"/>
                </a:lnTo>
                <a:lnTo>
                  <a:pt x="2356" y="1182"/>
                </a:lnTo>
                <a:lnTo>
                  <a:pt x="2337" y="1184"/>
                </a:lnTo>
                <a:lnTo>
                  <a:pt x="2314" y="1186"/>
                </a:lnTo>
                <a:lnTo>
                  <a:pt x="2289" y="1190"/>
                </a:lnTo>
                <a:lnTo>
                  <a:pt x="2262" y="1194"/>
                </a:lnTo>
                <a:lnTo>
                  <a:pt x="2233" y="1196"/>
                </a:lnTo>
                <a:lnTo>
                  <a:pt x="2201" y="1202"/>
                </a:lnTo>
                <a:lnTo>
                  <a:pt x="2168" y="1206"/>
                </a:lnTo>
                <a:lnTo>
                  <a:pt x="2132" y="1209"/>
                </a:lnTo>
                <a:lnTo>
                  <a:pt x="2093" y="1215"/>
                </a:lnTo>
                <a:lnTo>
                  <a:pt x="2053" y="1221"/>
                </a:lnTo>
                <a:lnTo>
                  <a:pt x="2011" y="1227"/>
                </a:lnTo>
                <a:lnTo>
                  <a:pt x="1967" y="1232"/>
                </a:lnTo>
                <a:lnTo>
                  <a:pt x="1920" y="1238"/>
                </a:lnTo>
                <a:lnTo>
                  <a:pt x="1871" y="1246"/>
                </a:lnTo>
                <a:lnTo>
                  <a:pt x="1821" y="1252"/>
                </a:lnTo>
                <a:lnTo>
                  <a:pt x="1767" y="1259"/>
                </a:lnTo>
                <a:lnTo>
                  <a:pt x="1711" y="1267"/>
                </a:lnTo>
                <a:lnTo>
                  <a:pt x="1654" y="1275"/>
                </a:lnTo>
                <a:lnTo>
                  <a:pt x="1594" y="1284"/>
                </a:lnTo>
                <a:lnTo>
                  <a:pt x="1533" y="1292"/>
                </a:lnTo>
                <a:lnTo>
                  <a:pt x="1470" y="1301"/>
                </a:lnTo>
                <a:lnTo>
                  <a:pt x="1402" y="1311"/>
                </a:lnTo>
                <a:lnTo>
                  <a:pt x="1335" y="1321"/>
                </a:lnTo>
                <a:lnTo>
                  <a:pt x="1264" y="1330"/>
                </a:lnTo>
                <a:lnTo>
                  <a:pt x="1193" y="1340"/>
                </a:lnTo>
                <a:lnTo>
                  <a:pt x="1118" y="1351"/>
                </a:lnTo>
                <a:lnTo>
                  <a:pt x="1118" y="1159"/>
                </a:lnTo>
                <a:lnTo>
                  <a:pt x="1235" y="1142"/>
                </a:lnTo>
                <a:lnTo>
                  <a:pt x="1352" y="1125"/>
                </a:lnTo>
                <a:lnTo>
                  <a:pt x="1468" y="1110"/>
                </a:lnTo>
                <a:lnTo>
                  <a:pt x="1583" y="1096"/>
                </a:lnTo>
                <a:lnTo>
                  <a:pt x="1640" y="1088"/>
                </a:lnTo>
                <a:lnTo>
                  <a:pt x="1696" y="1081"/>
                </a:lnTo>
                <a:lnTo>
                  <a:pt x="1752" y="1073"/>
                </a:lnTo>
                <a:lnTo>
                  <a:pt x="1807" y="1065"/>
                </a:lnTo>
                <a:lnTo>
                  <a:pt x="1863" y="1058"/>
                </a:lnTo>
                <a:lnTo>
                  <a:pt x="1917" y="1048"/>
                </a:lnTo>
                <a:lnTo>
                  <a:pt x="1970" y="1040"/>
                </a:lnTo>
                <a:lnTo>
                  <a:pt x="2022" y="1031"/>
                </a:lnTo>
                <a:lnTo>
                  <a:pt x="2049" y="1029"/>
                </a:lnTo>
                <a:lnTo>
                  <a:pt x="2074" y="1025"/>
                </a:lnTo>
                <a:lnTo>
                  <a:pt x="2099" y="1023"/>
                </a:lnTo>
                <a:lnTo>
                  <a:pt x="2122" y="1019"/>
                </a:lnTo>
                <a:lnTo>
                  <a:pt x="2145" y="1016"/>
                </a:lnTo>
                <a:lnTo>
                  <a:pt x="2168" y="1014"/>
                </a:lnTo>
                <a:lnTo>
                  <a:pt x="2189" y="1010"/>
                </a:lnTo>
                <a:lnTo>
                  <a:pt x="2210" y="1008"/>
                </a:lnTo>
                <a:lnTo>
                  <a:pt x="2231" y="1004"/>
                </a:lnTo>
                <a:lnTo>
                  <a:pt x="2251" y="1002"/>
                </a:lnTo>
                <a:lnTo>
                  <a:pt x="2270" y="998"/>
                </a:lnTo>
                <a:lnTo>
                  <a:pt x="2287" y="996"/>
                </a:lnTo>
                <a:lnTo>
                  <a:pt x="2306" y="993"/>
                </a:lnTo>
                <a:lnTo>
                  <a:pt x="2322" y="989"/>
                </a:lnTo>
                <a:lnTo>
                  <a:pt x="2339" y="987"/>
                </a:lnTo>
                <a:lnTo>
                  <a:pt x="2354" y="983"/>
                </a:lnTo>
                <a:lnTo>
                  <a:pt x="2368" y="981"/>
                </a:lnTo>
                <a:lnTo>
                  <a:pt x="2383" y="977"/>
                </a:lnTo>
                <a:lnTo>
                  <a:pt x="2396" y="975"/>
                </a:lnTo>
                <a:lnTo>
                  <a:pt x="2408" y="971"/>
                </a:lnTo>
                <a:lnTo>
                  <a:pt x="2419" y="969"/>
                </a:lnTo>
                <a:lnTo>
                  <a:pt x="2431" y="966"/>
                </a:lnTo>
                <a:lnTo>
                  <a:pt x="2440" y="962"/>
                </a:lnTo>
                <a:lnTo>
                  <a:pt x="2450" y="960"/>
                </a:lnTo>
                <a:lnTo>
                  <a:pt x="2460" y="956"/>
                </a:lnTo>
                <a:lnTo>
                  <a:pt x="2467" y="954"/>
                </a:lnTo>
                <a:lnTo>
                  <a:pt x="2475" y="950"/>
                </a:lnTo>
                <a:lnTo>
                  <a:pt x="2481" y="948"/>
                </a:lnTo>
                <a:lnTo>
                  <a:pt x="2487" y="945"/>
                </a:lnTo>
                <a:lnTo>
                  <a:pt x="2492" y="943"/>
                </a:lnTo>
                <a:lnTo>
                  <a:pt x="2496" y="939"/>
                </a:lnTo>
                <a:lnTo>
                  <a:pt x="2500" y="935"/>
                </a:lnTo>
                <a:lnTo>
                  <a:pt x="2513" y="925"/>
                </a:lnTo>
                <a:lnTo>
                  <a:pt x="2527" y="916"/>
                </a:lnTo>
                <a:lnTo>
                  <a:pt x="2535" y="910"/>
                </a:lnTo>
                <a:lnTo>
                  <a:pt x="2542" y="908"/>
                </a:lnTo>
                <a:lnTo>
                  <a:pt x="2550" y="904"/>
                </a:lnTo>
                <a:lnTo>
                  <a:pt x="2559" y="902"/>
                </a:lnTo>
                <a:lnTo>
                  <a:pt x="2567" y="900"/>
                </a:lnTo>
                <a:lnTo>
                  <a:pt x="2577" y="898"/>
                </a:lnTo>
                <a:lnTo>
                  <a:pt x="2584" y="898"/>
                </a:lnTo>
                <a:lnTo>
                  <a:pt x="2594" y="897"/>
                </a:lnTo>
                <a:lnTo>
                  <a:pt x="2604" y="898"/>
                </a:lnTo>
                <a:lnTo>
                  <a:pt x="2613" y="898"/>
                </a:lnTo>
                <a:lnTo>
                  <a:pt x="2621" y="900"/>
                </a:lnTo>
                <a:lnTo>
                  <a:pt x="2630" y="904"/>
                </a:lnTo>
                <a:lnTo>
                  <a:pt x="2640" y="906"/>
                </a:lnTo>
                <a:lnTo>
                  <a:pt x="2650" y="910"/>
                </a:lnTo>
                <a:lnTo>
                  <a:pt x="2661" y="914"/>
                </a:lnTo>
                <a:lnTo>
                  <a:pt x="2671" y="920"/>
                </a:lnTo>
                <a:lnTo>
                  <a:pt x="2684" y="925"/>
                </a:lnTo>
                <a:lnTo>
                  <a:pt x="2696" y="929"/>
                </a:lnTo>
                <a:lnTo>
                  <a:pt x="2709" y="937"/>
                </a:lnTo>
                <a:lnTo>
                  <a:pt x="2723" y="943"/>
                </a:lnTo>
                <a:lnTo>
                  <a:pt x="2736" y="952"/>
                </a:lnTo>
                <a:lnTo>
                  <a:pt x="2751" y="960"/>
                </a:lnTo>
                <a:lnTo>
                  <a:pt x="2767" y="969"/>
                </a:lnTo>
                <a:lnTo>
                  <a:pt x="2784" y="979"/>
                </a:lnTo>
                <a:lnTo>
                  <a:pt x="2801" y="991"/>
                </a:lnTo>
                <a:lnTo>
                  <a:pt x="2820" y="1004"/>
                </a:lnTo>
                <a:lnTo>
                  <a:pt x="2840" y="1017"/>
                </a:lnTo>
                <a:lnTo>
                  <a:pt x="2861" y="1031"/>
                </a:lnTo>
                <a:lnTo>
                  <a:pt x="2882" y="1046"/>
                </a:lnTo>
                <a:lnTo>
                  <a:pt x="2901" y="1060"/>
                </a:lnTo>
                <a:lnTo>
                  <a:pt x="2918" y="1073"/>
                </a:lnTo>
                <a:lnTo>
                  <a:pt x="2936" y="1087"/>
                </a:lnTo>
                <a:lnTo>
                  <a:pt x="2951" y="1098"/>
                </a:lnTo>
                <a:lnTo>
                  <a:pt x="2964" y="1110"/>
                </a:lnTo>
                <a:lnTo>
                  <a:pt x="2976" y="1119"/>
                </a:lnTo>
                <a:lnTo>
                  <a:pt x="2987" y="1131"/>
                </a:lnTo>
                <a:lnTo>
                  <a:pt x="2995" y="1138"/>
                </a:lnTo>
                <a:lnTo>
                  <a:pt x="3005" y="1148"/>
                </a:lnTo>
                <a:lnTo>
                  <a:pt x="3010" y="1156"/>
                </a:lnTo>
                <a:lnTo>
                  <a:pt x="3016" y="1163"/>
                </a:lnTo>
                <a:lnTo>
                  <a:pt x="3020" y="1171"/>
                </a:lnTo>
                <a:lnTo>
                  <a:pt x="3024" y="1179"/>
                </a:lnTo>
                <a:lnTo>
                  <a:pt x="3026" y="1184"/>
                </a:lnTo>
                <a:lnTo>
                  <a:pt x="3026" y="1192"/>
                </a:lnTo>
                <a:lnTo>
                  <a:pt x="3026" y="1207"/>
                </a:lnTo>
                <a:lnTo>
                  <a:pt x="3024" y="1217"/>
                </a:lnTo>
                <a:lnTo>
                  <a:pt x="3022" y="1225"/>
                </a:lnTo>
                <a:lnTo>
                  <a:pt x="3020" y="1230"/>
                </a:lnTo>
                <a:lnTo>
                  <a:pt x="3018" y="1238"/>
                </a:lnTo>
                <a:lnTo>
                  <a:pt x="3014" y="1244"/>
                </a:lnTo>
                <a:lnTo>
                  <a:pt x="3012" y="1252"/>
                </a:lnTo>
                <a:lnTo>
                  <a:pt x="3007" y="1257"/>
                </a:lnTo>
                <a:lnTo>
                  <a:pt x="3003" y="1263"/>
                </a:lnTo>
                <a:lnTo>
                  <a:pt x="2997" y="1267"/>
                </a:lnTo>
                <a:lnTo>
                  <a:pt x="2991" y="1273"/>
                </a:lnTo>
                <a:lnTo>
                  <a:pt x="2984" y="1277"/>
                </a:lnTo>
                <a:lnTo>
                  <a:pt x="2978" y="1280"/>
                </a:lnTo>
                <a:lnTo>
                  <a:pt x="2968" y="1284"/>
                </a:lnTo>
                <a:lnTo>
                  <a:pt x="2961" y="1286"/>
                </a:lnTo>
                <a:lnTo>
                  <a:pt x="2955" y="1290"/>
                </a:lnTo>
                <a:lnTo>
                  <a:pt x="2951" y="1294"/>
                </a:lnTo>
                <a:lnTo>
                  <a:pt x="2947" y="1300"/>
                </a:lnTo>
                <a:lnTo>
                  <a:pt x="2941" y="1305"/>
                </a:lnTo>
                <a:lnTo>
                  <a:pt x="2937" y="1311"/>
                </a:lnTo>
                <a:lnTo>
                  <a:pt x="2932" y="1319"/>
                </a:lnTo>
                <a:lnTo>
                  <a:pt x="2928" y="1326"/>
                </a:lnTo>
                <a:lnTo>
                  <a:pt x="2922" y="1334"/>
                </a:lnTo>
                <a:lnTo>
                  <a:pt x="2918" y="1344"/>
                </a:lnTo>
                <a:lnTo>
                  <a:pt x="2914" y="1355"/>
                </a:lnTo>
                <a:lnTo>
                  <a:pt x="2909" y="1365"/>
                </a:lnTo>
                <a:lnTo>
                  <a:pt x="2905" y="1376"/>
                </a:lnTo>
                <a:lnTo>
                  <a:pt x="2899" y="1390"/>
                </a:lnTo>
                <a:lnTo>
                  <a:pt x="2895" y="1403"/>
                </a:lnTo>
                <a:lnTo>
                  <a:pt x="2890" y="1417"/>
                </a:lnTo>
                <a:lnTo>
                  <a:pt x="2886" y="1430"/>
                </a:lnTo>
                <a:lnTo>
                  <a:pt x="2882" y="1445"/>
                </a:lnTo>
                <a:lnTo>
                  <a:pt x="2876" y="1463"/>
                </a:lnTo>
                <a:lnTo>
                  <a:pt x="2872" y="1478"/>
                </a:lnTo>
                <a:lnTo>
                  <a:pt x="2866" y="1497"/>
                </a:lnTo>
                <a:lnTo>
                  <a:pt x="2863" y="1514"/>
                </a:lnTo>
                <a:lnTo>
                  <a:pt x="2859" y="1534"/>
                </a:lnTo>
                <a:lnTo>
                  <a:pt x="2853" y="1553"/>
                </a:lnTo>
                <a:lnTo>
                  <a:pt x="2849" y="1574"/>
                </a:lnTo>
                <a:lnTo>
                  <a:pt x="2843" y="1595"/>
                </a:lnTo>
                <a:lnTo>
                  <a:pt x="2840" y="1618"/>
                </a:lnTo>
                <a:lnTo>
                  <a:pt x="2836" y="1641"/>
                </a:lnTo>
                <a:lnTo>
                  <a:pt x="2830" y="1664"/>
                </a:lnTo>
                <a:lnTo>
                  <a:pt x="2826" y="1689"/>
                </a:lnTo>
                <a:lnTo>
                  <a:pt x="2820" y="1714"/>
                </a:lnTo>
                <a:lnTo>
                  <a:pt x="2817" y="1739"/>
                </a:lnTo>
                <a:lnTo>
                  <a:pt x="2813" y="1766"/>
                </a:lnTo>
                <a:lnTo>
                  <a:pt x="2807" y="1795"/>
                </a:lnTo>
                <a:lnTo>
                  <a:pt x="2803" y="1821"/>
                </a:lnTo>
                <a:lnTo>
                  <a:pt x="2797" y="1846"/>
                </a:lnTo>
                <a:lnTo>
                  <a:pt x="2794" y="1873"/>
                </a:lnTo>
                <a:lnTo>
                  <a:pt x="2788" y="1898"/>
                </a:lnTo>
                <a:lnTo>
                  <a:pt x="2784" y="1921"/>
                </a:lnTo>
                <a:lnTo>
                  <a:pt x="2778" y="1944"/>
                </a:lnTo>
                <a:lnTo>
                  <a:pt x="2772" y="1965"/>
                </a:lnTo>
                <a:lnTo>
                  <a:pt x="2767" y="1988"/>
                </a:lnTo>
                <a:lnTo>
                  <a:pt x="2763" y="2008"/>
                </a:lnTo>
                <a:lnTo>
                  <a:pt x="2757" y="2027"/>
                </a:lnTo>
                <a:lnTo>
                  <a:pt x="2751" y="2046"/>
                </a:lnTo>
                <a:lnTo>
                  <a:pt x="2746" y="2063"/>
                </a:lnTo>
                <a:lnTo>
                  <a:pt x="2742" y="2081"/>
                </a:lnTo>
                <a:lnTo>
                  <a:pt x="2736" y="2098"/>
                </a:lnTo>
                <a:lnTo>
                  <a:pt x="2730" y="2113"/>
                </a:lnTo>
                <a:lnTo>
                  <a:pt x="2724" y="2127"/>
                </a:lnTo>
                <a:lnTo>
                  <a:pt x="2719" y="2142"/>
                </a:lnTo>
                <a:lnTo>
                  <a:pt x="2713" y="2153"/>
                </a:lnTo>
                <a:lnTo>
                  <a:pt x="2709" y="2165"/>
                </a:lnTo>
                <a:lnTo>
                  <a:pt x="2703" y="2176"/>
                </a:lnTo>
                <a:lnTo>
                  <a:pt x="2698" y="2188"/>
                </a:lnTo>
                <a:lnTo>
                  <a:pt x="2692" y="2198"/>
                </a:lnTo>
                <a:lnTo>
                  <a:pt x="2688" y="2205"/>
                </a:lnTo>
                <a:lnTo>
                  <a:pt x="2682" y="2213"/>
                </a:lnTo>
                <a:lnTo>
                  <a:pt x="2677" y="2221"/>
                </a:lnTo>
                <a:lnTo>
                  <a:pt x="2673" y="2226"/>
                </a:lnTo>
                <a:lnTo>
                  <a:pt x="2667" y="2232"/>
                </a:lnTo>
                <a:lnTo>
                  <a:pt x="2661" y="2236"/>
                </a:lnTo>
                <a:lnTo>
                  <a:pt x="2657" y="2240"/>
                </a:lnTo>
                <a:lnTo>
                  <a:pt x="2652" y="2242"/>
                </a:lnTo>
                <a:lnTo>
                  <a:pt x="2648" y="2246"/>
                </a:lnTo>
                <a:lnTo>
                  <a:pt x="2648" y="2246"/>
                </a:lnTo>
                <a:close/>
                <a:moveTo>
                  <a:pt x="1842" y="1685"/>
                </a:moveTo>
                <a:lnTo>
                  <a:pt x="1873" y="1683"/>
                </a:lnTo>
                <a:lnTo>
                  <a:pt x="1899" y="1679"/>
                </a:lnTo>
                <a:lnTo>
                  <a:pt x="1928" y="1678"/>
                </a:lnTo>
                <a:lnTo>
                  <a:pt x="1953" y="1674"/>
                </a:lnTo>
                <a:lnTo>
                  <a:pt x="1976" y="1672"/>
                </a:lnTo>
                <a:lnTo>
                  <a:pt x="1999" y="1668"/>
                </a:lnTo>
                <a:lnTo>
                  <a:pt x="2020" y="1666"/>
                </a:lnTo>
                <a:lnTo>
                  <a:pt x="2041" y="1664"/>
                </a:lnTo>
                <a:lnTo>
                  <a:pt x="2061" y="1662"/>
                </a:lnTo>
                <a:lnTo>
                  <a:pt x="2078" y="1660"/>
                </a:lnTo>
                <a:lnTo>
                  <a:pt x="2093" y="1658"/>
                </a:lnTo>
                <a:lnTo>
                  <a:pt x="2109" y="1656"/>
                </a:lnTo>
                <a:lnTo>
                  <a:pt x="2122" y="1656"/>
                </a:lnTo>
                <a:lnTo>
                  <a:pt x="2133" y="1655"/>
                </a:lnTo>
                <a:lnTo>
                  <a:pt x="2145" y="1655"/>
                </a:lnTo>
                <a:lnTo>
                  <a:pt x="2155" y="1655"/>
                </a:lnTo>
                <a:lnTo>
                  <a:pt x="2172" y="1655"/>
                </a:lnTo>
                <a:lnTo>
                  <a:pt x="2191" y="1656"/>
                </a:lnTo>
                <a:lnTo>
                  <a:pt x="2210" y="1660"/>
                </a:lnTo>
                <a:lnTo>
                  <a:pt x="2229" y="1664"/>
                </a:lnTo>
                <a:lnTo>
                  <a:pt x="2251" y="1668"/>
                </a:lnTo>
                <a:lnTo>
                  <a:pt x="2272" y="1674"/>
                </a:lnTo>
                <a:lnTo>
                  <a:pt x="2295" y="1679"/>
                </a:lnTo>
                <a:lnTo>
                  <a:pt x="2318" y="1685"/>
                </a:lnTo>
                <a:lnTo>
                  <a:pt x="2327" y="1689"/>
                </a:lnTo>
                <a:lnTo>
                  <a:pt x="2335" y="1693"/>
                </a:lnTo>
                <a:lnTo>
                  <a:pt x="2343" y="1697"/>
                </a:lnTo>
                <a:lnTo>
                  <a:pt x="2348" y="1701"/>
                </a:lnTo>
                <a:lnTo>
                  <a:pt x="2354" y="1706"/>
                </a:lnTo>
                <a:lnTo>
                  <a:pt x="2358" y="1710"/>
                </a:lnTo>
                <a:lnTo>
                  <a:pt x="2362" y="1716"/>
                </a:lnTo>
                <a:lnTo>
                  <a:pt x="2364" y="1722"/>
                </a:lnTo>
                <a:lnTo>
                  <a:pt x="2364" y="1727"/>
                </a:lnTo>
                <a:lnTo>
                  <a:pt x="2364" y="1735"/>
                </a:lnTo>
                <a:lnTo>
                  <a:pt x="2364" y="1741"/>
                </a:lnTo>
                <a:lnTo>
                  <a:pt x="2360" y="1749"/>
                </a:lnTo>
                <a:lnTo>
                  <a:pt x="2356" y="1756"/>
                </a:lnTo>
                <a:lnTo>
                  <a:pt x="2350" y="1764"/>
                </a:lnTo>
                <a:lnTo>
                  <a:pt x="2343" y="1774"/>
                </a:lnTo>
                <a:lnTo>
                  <a:pt x="2335" y="1781"/>
                </a:lnTo>
                <a:lnTo>
                  <a:pt x="2325" y="1791"/>
                </a:lnTo>
                <a:lnTo>
                  <a:pt x="2316" y="1798"/>
                </a:lnTo>
                <a:lnTo>
                  <a:pt x="2304" y="1806"/>
                </a:lnTo>
                <a:lnTo>
                  <a:pt x="2291" y="1812"/>
                </a:lnTo>
                <a:lnTo>
                  <a:pt x="2277" y="1818"/>
                </a:lnTo>
                <a:lnTo>
                  <a:pt x="2264" y="1823"/>
                </a:lnTo>
                <a:lnTo>
                  <a:pt x="2249" y="1829"/>
                </a:lnTo>
                <a:lnTo>
                  <a:pt x="2233" y="1833"/>
                </a:lnTo>
                <a:lnTo>
                  <a:pt x="2214" y="1839"/>
                </a:lnTo>
                <a:lnTo>
                  <a:pt x="2197" y="1843"/>
                </a:lnTo>
                <a:lnTo>
                  <a:pt x="2176" y="1846"/>
                </a:lnTo>
                <a:lnTo>
                  <a:pt x="2155" y="1848"/>
                </a:lnTo>
                <a:lnTo>
                  <a:pt x="2132" y="1852"/>
                </a:lnTo>
                <a:lnTo>
                  <a:pt x="2109" y="1856"/>
                </a:lnTo>
                <a:lnTo>
                  <a:pt x="2082" y="1858"/>
                </a:lnTo>
                <a:lnTo>
                  <a:pt x="2055" y="1862"/>
                </a:lnTo>
                <a:lnTo>
                  <a:pt x="2028" y="1864"/>
                </a:lnTo>
                <a:lnTo>
                  <a:pt x="2003" y="1868"/>
                </a:lnTo>
                <a:lnTo>
                  <a:pt x="1978" y="1871"/>
                </a:lnTo>
                <a:lnTo>
                  <a:pt x="1953" y="1873"/>
                </a:lnTo>
                <a:lnTo>
                  <a:pt x="1932" y="1877"/>
                </a:lnTo>
                <a:lnTo>
                  <a:pt x="1911" y="1879"/>
                </a:lnTo>
                <a:lnTo>
                  <a:pt x="1892" y="1881"/>
                </a:lnTo>
                <a:lnTo>
                  <a:pt x="1873" y="1883"/>
                </a:lnTo>
                <a:lnTo>
                  <a:pt x="1855" y="1887"/>
                </a:lnTo>
                <a:lnTo>
                  <a:pt x="1840" y="1889"/>
                </a:lnTo>
                <a:lnTo>
                  <a:pt x="1825" y="1889"/>
                </a:lnTo>
                <a:lnTo>
                  <a:pt x="1813" y="1891"/>
                </a:lnTo>
                <a:lnTo>
                  <a:pt x="1802" y="1892"/>
                </a:lnTo>
                <a:lnTo>
                  <a:pt x="1792" y="1892"/>
                </a:lnTo>
                <a:lnTo>
                  <a:pt x="1782" y="1892"/>
                </a:lnTo>
                <a:lnTo>
                  <a:pt x="1777" y="1894"/>
                </a:lnTo>
                <a:lnTo>
                  <a:pt x="1763" y="1892"/>
                </a:lnTo>
                <a:lnTo>
                  <a:pt x="1755" y="1892"/>
                </a:lnTo>
                <a:lnTo>
                  <a:pt x="1748" y="1891"/>
                </a:lnTo>
                <a:lnTo>
                  <a:pt x="1740" y="1889"/>
                </a:lnTo>
                <a:lnTo>
                  <a:pt x="1731" y="1887"/>
                </a:lnTo>
                <a:lnTo>
                  <a:pt x="1721" y="1883"/>
                </a:lnTo>
                <a:lnTo>
                  <a:pt x="1711" y="1879"/>
                </a:lnTo>
                <a:lnTo>
                  <a:pt x="1702" y="1875"/>
                </a:lnTo>
                <a:lnTo>
                  <a:pt x="1690" y="1871"/>
                </a:lnTo>
                <a:lnTo>
                  <a:pt x="1679" y="1866"/>
                </a:lnTo>
                <a:lnTo>
                  <a:pt x="1667" y="1860"/>
                </a:lnTo>
                <a:lnTo>
                  <a:pt x="1654" y="1854"/>
                </a:lnTo>
                <a:lnTo>
                  <a:pt x="1640" y="1846"/>
                </a:lnTo>
                <a:lnTo>
                  <a:pt x="1627" y="1839"/>
                </a:lnTo>
                <a:lnTo>
                  <a:pt x="1612" y="1829"/>
                </a:lnTo>
                <a:lnTo>
                  <a:pt x="1596" y="1823"/>
                </a:lnTo>
                <a:lnTo>
                  <a:pt x="1583" y="1818"/>
                </a:lnTo>
                <a:lnTo>
                  <a:pt x="1571" y="1812"/>
                </a:lnTo>
                <a:lnTo>
                  <a:pt x="1560" y="1806"/>
                </a:lnTo>
                <a:lnTo>
                  <a:pt x="1550" y="1800"/>
                </a:lnTo>
                <a:lnTo>
                  <a:pt x="1541" y="1795"/>
                </a:lnTo>
                <a:lnTo>
                  <a:pt x="1535" y="1789"/>
                </a:lnTo>
                <a:lnTo>
                  <a:pt x="1529" y="1783"/>
                </a:lnTo>
                <a:lnTo>
                  <a:pt x="1525" y="1779"/>
                </a:lnTo>
                <a:lnTo>
                  <a:pt x="1523" y="1774"/>
                </a:lnTo>
                <a:lnTo>
                  <a:pt x="1523" y="1770"/>
                </a:lnTo>
                <a:lnTo>
                  <a:pt x="1523" y="1764"/>
                </a:lnTo>
                <a:lnTo>
                  <a:pt x="1527" y="1760"/>
                </a:lnTo>
                <a:lnTo>
                  <a:pt x="1531" y="1756"/>
                </a:lnTo>
                <a:lnTo>
                  <a:pt x="1537" y="1752"/>
                </a:lnTo>
                <a:lnTo>
                  <a:pt x="1541" y="1750"/>
                </a:lnTo>
                <a:lnTo>
                  <a:pt x="1546" y="1750"/>
                </a:lnTo>
                <a:lnTo>
                  <a:pt x="1556" y="1747"/>
                </a:lnTo>
                <a:lnTo>
                  <a:pt x="1565" y="1743"/>
                </a:lnTo>
                <a:lnTo>
                  <a:pt x="1579" y="1739"/>
                </a:lnTo>
                <a:lnTo>
                  <a:pt x="1592" y="1735"/>
                </a:lnTo>
                <a:lnTo>
                  <a:pt x="1606" y="1731"/>
                </a:lnTo>
                <a:lnTo>
                  <a:pt x="1621" y="1727"/>
                </a:lnTo>
                <a:lnTo>
                  <a:pt x="1638" y="1722"/>
                </a:lnTo>
                <a:lnTo>
                  <a:pt x="1656" y="1718"/>
                </a:lnTo>
                <a:lnTo>
                  <a:pt x="1675" y="1714"/>
                </a:lnTo>
                <a:lnTo>
                  <a:pt x="1696" y="1708"/>
                </a:lnTo>
                <a:lnTo>
                  <a:pt x="1717" y="1704"/>
                </a:lnTo>
                <a:lnTo>
                  <a:pt x="1740" y="1701"/>
                </a:lnTo>
                <a:lnTo>
                  <a:pt x="1763" y="1697"/>
                </a:lnTo>
                <a:lnTo>
                  <a:pt x="1788" y="1693"/>
                </a:lnTo>
                <a:lnTo>
                  <a:pt x="1815" y="1689"/>
                </a:lnTo>
                <a:lnTo>
                  <a:pt x="1842" y="1685"/>
                </a:lnTo>
                <a:lnTo>
                  <a:pt x="1842" y="1685"/>
                </a:lnTo>
                <a:close/>
                <a:moveTo>
                  <a:pt x="1349" y="2165"/>
                </a:moveTo>
                <a:lnTo>
                  <a:pt x="1349" y="2132"/>
                </a:lnTo>
                <a:lnTo>
                  <a:pt x="1435" y="2121"/>
                </a:lnTo>
                <a:lnTo>
                  <a:pt x="1479" y="2115"/>
                </a:lnTo>
                <a:lnTo>
                  <a:pt x="1523" y="2109"/>
                </a:lnTo>
                <a:lnTo>
                  <a:pt x="1567" y="2104"/>
                </a:lnTo>
                <a:lnTo>
                  <a:pt x="1613" y="2098"/>
                </a:lnTo>
                <a:lnTo>
                  <a:pt x="1661" y="2090"/>
                </a:lnTo>
                <a:lnTo>
                  <a:pt x="1709" y="2084"/>
                </a:lnTo>
                <a:lnTo>
                  <a:pt x="1723" y="2082"/>
                </a:lnTo>
                <a:lnTo>
                  <a:pt x="1736" y="2082"/>
                </a:lnTo>
                <a:lnTo>
                  <a:pt x="1752" y="2081"/>
                </a:lnTo>
                <a:lnTo>
                  <a:pt x="1767" y="2079"/>
                </a:lnTo>
                <a:lnTo>
                  <a:pt x="1784" y="2077"/>
                </a:lnTo>
                <a:lnTo>
                  <a:pt x="1802" y="2077"/>
                </a:lnTo>
                <a:lnTo>
                  <a:pt x="1821" y="2075"/>
                </a:lnTo>
                <a:lnTo>
                  <a:pt x="1840" y="2073"/>
                </a:lnTo>
                <a:lnTo>
                  <a:pt x="1859" y="2071"/>
                </a:lnTo>
                <a:lnTo>
                  <a:pt x="1880" y="2069"/>
                </a:lnTo>
                <a:lnTo>
                  <a:pt x="1903" y="2069"/>
                </a:lnTo>
                <a:lnTo>
                  <a:pt x="1926" y="2067"/>
                </a:lnTo>
                <a:lnTo>
                  <a:pt x="1951" y="2065"/>
                </a:lnTo>
                <a:lnTo>
                  <a:pt x="1976" y="2063"/>
                </a:lnTo>
                <a:lnTo>
                  <a:pt x="2001" y="2063"/>
                </a:lnTo>
                <a:lnTo>
                  <a:pt x="2028" y="2061"/>
                </a:lnTo>
                <a:lnTo>
                  <a:pt x="2057" y="2059"/>
                </a:lnTo>
                <a:lnTo>
                  <a:pt x="2085" y="2057"/>
                </a:lnTo>
                <a:lnTo>
                  <a:pt x="2114" y="2056"/>
                </a:lnTo>
                <a:lnTo>
                  <a:pt x="2145" y="2056"/>
                </a:lnTo>
                <a:lnTo>
                  <a:pt x="2178" y="2054"/>
                </a:lnTo>
                <a:lnTo>
                  <a:pt x="2208" y="2052"/>
                </a:lnTo>
                <a:lnTo>
                  <a:pt x="2243" y="2050"/>
                </a:lnTo>
                <a:lnTo>
                  <a:pt x="2277" y="2050"/>
                </a:lnTo>
                <a:lnTo>
                  <a:pt x="2312" y="2048"/>
                </a:lnTo>
                <a:lnTo>
                  <a:pt x="2348" y="2046"/>
                </a:lnTo>
                <a:lnTo>
                  <a:pt x="2385" y="2044"/>
                </a:lnTo>
                <a:lnTo>
                  <a:pt x="2421" y="2044"/>
                </a:lnTo>
                <a:lnTo>
                  <a:pt x="2462" y="2042"/>
                </a:lnTo>
                <a:lnTo>
                  <a:pt x="2500" y="2040"/>
                </a:lnTo>
                <a:lnTo>
                  <a:pt x="2540" y="2038"/>
                </a:lnTo>
                <a:lnTo>
                  <a:pt x="2582" y="2036"/>
                </a:lnTo>
                <a:lnTo>
                  <a:pt x="2582" y="2054"/>
                </a:lnTo>
                <a:lnTo>
                  <a:pt x="2579" y="2054"/>
                </a:lnTo>
                <a:lnTo>
                  <a:pt x="2573" y="2054"/>
                </a:lnTo>
                <a:lnTo>
                  <a:pt x="2567" y="2054"/>
                </a:lnTo>
                <a:lnTo>
                  <a:pt x="2563" y="2054"/>
                </a:lnTo>
                <a:lnTo>
                  <a:pt x="2556" y="2054"/>
                </a:lnTo>
                <a:lnTo>
                  <a:pt x="2550" y="2054"/>
                </a:lnTo>
                <a:lnTo>
                  <a:pt x="2542" y="2054"/>
                </a:lnTo>
                <a:lnTo>
                  <a:pt x="2536" y="2054"/>
                </a:lnTo>
                <a:lnTo>
                  <a:pt x="2527" y="2056"/>
                </a:lnTo>
                <a:lnTo>
                  <a:pt x="2519" y="2056"/>
                </a:lnTo>
                <a:lnTo>
                  <a:pt x="2510" y="2056"/>
                </a:lnTo>
                <a:lnTo>
                  <a:pt x="2500" y="2056"/>
                </a:lnTo>
                <a:lnTo>
                  <a:pt x="2490" y="2057"/>
                </a:lnTo>
                <a:lnTo>
                  <a:pt x="2481" y="2057"/>
                </a:lnTo>
                <a:lnTo>
                  <a:pt x="2469" y="2057"/>
                </a:lnTo>
                <a:lnTo>
                  <a:pt x="2458" y="2059"/>
                </a:lnTo>
                <a:lnTo>
                  <a:pt x="2446" y="2059"/>
                </a:lnTo>
                <a:lnTo>
                  <a:pt x="2435" y="2061"/>
                </a:lnTo>
                <a:lnTo>
                  <a:pt x="2421" y="2061"/>
                </a:lnTo>
                <a:lnTo>
                  <a:pt x="2408" y="2063"/>
                </a:lnTo>
                <a:lnTo>
                  <a:pt x="2394" y="2063"/>
                </a:lnTo>
                <a:lnTo>
                  <a:pt x="2381" y="2065"/>
                </a:lnTo>
                <a:lnTo>
                  <a:pt x="2366" y="2065"/>
                </a:lnTo>
                <a:lnTo>
                  <a:pt x="2350" y="2067"/>
                </a:lnTo>
                <a:lnTo>
                  <a:pt x="2335" y="2069"/>
                </a:lnTo>
                <a:lnTo>
                  <a:pt x="2318" y="2069"/>
                </a:lnTo>
                <a:lnTo>
                  <a:pt x="2302" y="2071"/>
                </a:lnTo>
                <a:lnTo>
                  <a:pt x="2285" y="2073"/>
                </a:lnTo>
                <a:lnTo>
                  <a:pt x="2268" y="2073"/>
                </a:lnTo>
                <a:lnTo>
                  <a:pt x="2249" y="2075"/>
                </a:lnTo>
                <a:lnTo>
                  <a:pt x="2231" y="2077"/>
                </a:lnTo>
                <a:lnTo>
                  <a:pt x="2212" y="2079"/>
                </a:lnTo>
                <a:lnTo>
                  <a:pt x="2193" y="2081"/>
                </a:lnTo>
                <a:lnTo>
                  <a:pt x="2172" y="2082"/>
                </a:lnTo>
                <a:lnTo>
                  <a:pt x="2151" y="2084"/>
                </a:lnTo>
                <a:lnTo>
                  <a:pt x="2132" y="2086"/>
                </a:lnTo>
                <a:lnTo>
                  <a:pt x="2109" y="2088"/>
                </a:lnTo>
                <a:lnTo>
                  <a:pt x="2087" y="2090"/>
                </a:lnTo>
                <a:lnTo>
                  <a:pt x="2064" y="2092"/>
                </a:lnTo>
                <a:lnTo>
                  <a:pt x="2041" y="2094"/>
                </a:lnTo>
                <a:lnTo>
                  <a:pt x="2018" y="2096"/>
                </a:lnTo>
                <a:lnTo>
                  <a:pt x="1995" y="2098"/>
                </a:lnTo>
                <a:lnTo>
                  <a:pt x="1970" y="2100"/>
                </a:lnTo>
                <a:lnTo>
                  <a:pt x="1945" y="2104"/>
                </a:lnTo>
                <a:lnTo>
                  <a:pt x="1920" y="2105"/>
                </a:lnTo>
                <a:lnTo>
                  <a:pt x="1894" y="2107"/>
                </a:lnTo>
                <a:lnTo>
                  <a:pt x="1869" y="2109"/>
                </a:lnTo>
                <a:lnTo>
                  <a:pt x="1842" y="2113"/>
                </a:lnTo>
                <a:lnTo>
                  <a:pt x="1815" y="2115"/>
                </a:lnTo>
                <a:lnTo>
                  <a:pt x="1786" y="2119"/>
                </a:lnTo>
                <a:lnTo>
                  <a:pt x="1759" y="2121"/>
                </a:lnTo>
                <a:lnTo>
                  <a:pt x="1731" y="2125"/>
                </a:lnTo>
                <a:lnTo>
                  <a:pt x="1700" y="2127"/>
                </a:lnTo>
                <a:lnTo>
                  <a:pt x="1671" y="2130"/>
                </a:lnTo>
                <a:lnTo>
                  <a:pt x="1640" y="2132"/>
                </a:lnTo>
                <a:lnTo>
                  <a:pt x="1610" y="2136"/>
                </a:lnTo>
                <a:lnTo>
                  <a:pt x="1579" y="2140"/>
                </a:lnTo>
                <a:lnTo>
                  <a:pt x="1548" y="2144"/>
                </a:lnTo>
                <a:lnTo>
                  <a:pt x="1516" y="2146"/>
                </a:lnTo>
                <a:lnTo>
                  <a:pt x="1483" y="2150"/>
                </a:lnTo>
                <a:lnTo>
                  <a:pt x="1450" y="2153"/>
                </a:lnTo>
                <a:lnTo>
                  <a:pt x="1416" y="2157"/>
                </a:lnTo>
                <a:lnTo>
                  <a:pt x="1383" y="2161"/>
                </a:lnTo>
                <a:lnTo>
                  <a:pt x="1349" y="2165"/>
                </a:lnTo>
                <a:lnTo>
                  <a:pt x="1349" y="2165"/>
                </a:lnTo>
                <a:close/>
                <a:moveTo>
                  <a:pt x="1940" y="2627"/>
                </a:moveTo>
                <a:lnTo>
                  <a:pt x="1817" y="2641"/>
                </a:lnTo>
                <a:lnTo>
                  <a:pt x="1690" y="2654"/>
                </a:lnTo>
                <a:lnTo>
                  <a:pt x="1564" y="2670"/>
                </a:lnTo>
                <a:lnTo>
                  <a:pt x="1435" y="2685"/>
                </a:lnTo>
                <a:lnTo>
                  <a:pt x="1305" y="2702"/>
                </a:lnTo>
                <a:lnTo>
                  <a:pt x="1172" y="2720"/>
                </a:lnTo>
                <a:lnTo>
                  <a:pt x="1040" y="2737"/>
                </a:lnTo>
                <a:lnTo>
                  <a:pt x="903" y="2756"/>
                </a:lnTo>
                <a:lnTo>
                  <a:pt x="871" y="2760"/>
                </a:lnTo>
                <a:lnTo>
                  <a:pt x="838" y="2764"/>
                </a:lnTo>
                <a:lnTo>
                  <a:pt x="808" y="2769"/>
                </a:lnTo>
                <a:lnTo>
                  <a:pt x="777" y="2773"/>
                </a:lnTo>
                <a:lnTo>
                  <a:pt x="746" y="2777"/>
                </a:lnTo>
                <a:lnTo>
                  <a:pt x="717" y="2781"/>
                </a:lnTo>
                <a:lnTo>
                  <a:pt x="690" y="2785"/>
                </a:lnTo>
                <a:lnTo>
                  <a:pt x="664" y="2789"/>
                </a:lnTo>
                <a:lnTo>
                  <a:pt x="637" y="2792"/>
                </a:lnTo>
                <a:lnTo>
                  <a:pt x="612" y="2796"/>
                </a:lnTo>
                <a:lnTo>
                  <a:pt x="589" y="2798"/>
                </a:lnTo>
                <a:lnTo>
                  <a:pt x="566" y="2802"/>
                </a:lnTo>
                <a:lnTo>
                  <a:pt x="543" y="2806"/>
                </a:lnTo>
                <a:lnTo>
                  <a:pt x="522" y="2808"/>
                </a:lnTo>
                <a:lnTo>
                  <a:pt x="502" y="2812"/>
                </a:lnTo>
                <a:lnTo>
                  <a:pt x="483" y="2814"/>
                </a:lnTo>
                <a:lnTo>
                  <a:pt x="464" y="2815"/>
                </a:lnTo>
                <a:lnTo>
                  <a:pt x="447" y="2817"/>
                </a:lnTo>
                <a:lnTo>
                  <a:pt x="430" y="2821"/>
                </a:lnTo>
                <a:lnTo>
                  <a:pt x="414" y="2823"/>
                </a:lnTo>
                <a:lnTo>
                  <a:pt x="399" y="2825"/>
                </a:lnTo>
                <a:lnTo>
                  <a:pt x="385" y="2827"/>
                </a:lnTo>
                <a:lnTo>
                  <a:pt x="372" y="2827"/>
                </a:lnTo>
                <a:lnTo>
                  <a:pt x="360" y="2829"/>
                </a:lnTo>
                <a:lnTo>
                  <a:pt x="349" y="2831"/>
                </a:lnTo>
                <a:lnTo>
                  <a:pt x="339" y="2831"/>
                </a:lnTo>
                <a:lnTo>
                  <a:pt x="330" y="2833"/>
                </a:lnTo>
                <a:lnTo>
                  <a:pt x="320" y="2833"/>
                </a:lnTo>
                <a:lnTo>
                  <a:pt x="312" y="2835"/>
                </a:lnTo>
                <a:lnTo>
                  <a:pt x="307" y="2835"/>
                </a:lnTo>
                <a:lnTo>
                  <a:pt x="301" y="2835"/>
                </a:lnTo>
                <a:lnTo>
                  <a:pt x="295" y="2835"/>
                </a:lnTo>
                <a:lnTo>
                  <a:pt x="286" y="2835"/>
                </a:lnTo>
                <a:lnTo>
                  <a:pt x="276" y="2833"/>
                </a:lnTo>
                <a:lnTo>
                  <a:pt x="266" y="2831"/>
                </a:lnTo>
                <a:lnTo>
                  <a:pt x="255" y="2829"/>
                </a:lnTo>
                <a:lnTo>
                  <a:pt x="245" y="2827"/>
                </a:lnTo>
                <a:lnTo>
                  <a:pt x="234" y="2823"/>
                </a:lnTo>
                <a:lnTo>
                  <a:pt x="222" y="2817"/>
                </a:lnTo>
                <a:lnTo>
                  <a:pt x="211" y="2814"/>
                </a:lnTo>
                <a:lnTo>
                  <a:pt x="199" y="2808"/>
                </a:lnTo>
                <a:lnTo>
                  <a:pt x="188" y="2802"/>
                </a:lnTo>
                <a:lnTo>
                  <a:pt x="176" y="2794"/>
                </a:lnTo>
                <a:lnTo>
                  <a:pt x="163" y="2789"/>
                </a:lnTo>
                <a:lnTo>
                  <a:pt x="151" y="2781"/>
                </a:lnTo>
                <a:lnTo>
                  <a:pt x="140" y="2773"/>
                </a:lnTo>
                <a:lnTo>
                  <a:pt x="115" y="2756"/>
                </a:lnTo>
                <a:lnTo>
                  <a:pt x="99" y="2746"/>
                </a:lnTo>
                <a:lnTo>
                  <a:pt x="86" y="2737"/>
                </a:lnTo>
                <a:lnTo>
                  <a:pt x="75" y="2727"/>
                </a:lnTo>
                <a:lnTo>
                  <a:pt x="63" y="2720"/>
                </a:lnTo>
                <a:lnTo>
                  <a:pt x="51" y="2710"/>
                </a:lnTo>
                <a:lnTo>
                  <a:pt x="42" y="2700"/>
                </a:lnTo>
                <a:lnTo>
                  <a:pt x="34" y="2693"/>
                </a:lnTo>
                <a:lnTo>
                  <a:pt x="27" y="2683"/>
                </a:lnTo>
                <a:lnTo>
                  <a:pt x="21" y="2673"/>
                </a:lnTo>
                <a:lnTo>
                  <a:pt x="15" y="2666"/>
                </a:lnTo>
                <a:lnTo>
                  <a:pt x="9" y="2656"/>
                </a:lnTo>
                <a:lnTo>
                  <a:pt x="5" y="2647"/>
                </a:lnTo>
                <a:lnTo>
                  <a:pt x="4" y="2639"/>
                </a:lnTo>
                <a:lnTo>
                  <a:pt x="2" y="2629"/>
                </a:lnTo>
                <a:lnTo>
                  <a:pt x="0" y="2620"/>
                </a:lnTo>
                <a:lnTo>
                  <a:pt x="0" y="2612"/>
                </a:lnTo>
                <a:lnTo>
                  <a:pt x="7" y="2612"/>
                </a:lnTo>
                <a:lnTo>
                  <a:pt x="17" y="2612"/>
                </a:lnTo>
                <a:lnTo>
                  <a:pt x="27" y="2612"/>
                </a:lnTo>
                <a:lnTo>
                  <a:pt x="38" y="2610"/>
                </a:lnTo>
                <a:lnTo>
                  <a:pt x="50" y="2610"/>
                </a:lnTo>
                <a:lnTo>
                  <a:pt x="61" y="2610"/>
                </a:lnTo>
                <a:lnTo>
                  <a:pt x="75" y="2610"/>
                </a:lnTo>
                <a:lnTo>
                  <a:pt x="88" y="2608"/>
                </a:lnTo>
                <a:lnTo>
                  <a:pt x="103" y="2608"/>
                </a:lnTo>
                <a:lnTo>
                  <a:pt x="119" y="2606"/>
                </a:lnTo>
                <a:lnTo>
                  <a:pt x="136" y="2606"/>
                </a:lnTo>
                <a:lnTo>
                  <a:pt x="153" y="2604"/>
                </a:lnTo>
                <a:lnTo>
                  <a:pt x="170" y="2602"/>
                </a:lnTo>
                <a:lnTo>
                  <a:pt x="190" y="2601"/>
                </a:lnTo>
                <a:lnTo>
                  <a:pt x="209" y="2601"/>
                </a:lnTo>
                <a:lnTo>
                  <a:pt x="230" y="2599"/>
                </a:lnTo>
                <a:lnTo>
                  <a:pt x="251" y="2597"/>
                </a:lnTo>
                <a:lnTo>
                  <a:pt x="272" y="2595"/>
                </a:lnTo>
                <a:lnTo>
                  <a:pt x="295" y="2591"/>
                </a:lnTo>
                <a:lnTo>
                  <a:pt x="318" y="2589"/>
                </a:lnTo>
                <a:lnTo>
                  <a:pt x="343" y="2587"/>
                </a:lnTo>
                <a:lnTo>
                  <a:pt x="368" y="2583"/>
                </a:lnTo>
                <a:lnTo>
                  <a:pt x="395" y="2581"/>
                </a:lnTo>
                <a:lnTo>
                  <a:pt x="420" y="2578"/>
                </a:lnTo>
                <a:lnTo>
                  <a:pt x="447" y="2576"/>
                </a:lnTo>
                <a:lnTo>
                  <a:pt x="476" y="2572"/>
                </a:lnTo>
                <a:lnTo>
                  <a:pt x="504" y="2568"/>
                </a:lnTo>
                <a:lnTo>
                  <a:pt x="533" y="2564"/>
                </a:lnTo>
                <a:lnTo>
                  <a:pt x="564" y="2560"/>
                </a:lnTo>
                <a:lnTo>
                  <a:pt x="595" y="2556"/>
                </a:lnTo>
                <a:lnTo>
                  <a:pt x="625" y="2553"/>
                </a:lnTo>
                <a:lnTo>
                  <a:pt x="658" y="2549"/>
                </a:lnTo>
                <a:lnTo>
                  <a:pt x="689" y="2543"/>
                </a:lnTo>
                <a:lnTo>
                  <a:pt x="721" y="2539"/>
                </a:lnTo>
                <a:lnTo>
                  <a:pt x="752" y="2535"/>
                </a:lnTo>
                <a:lnTo>
                  <a:pt x="781" y="2530"/>
                </a:lnTo>
                <a:lnTo>
                  <a:pt x="811" y="2526"/>
                </a:lnTo>
                <a:lnTo>
                  <a:pt x="840" y="2522"/>
                </a:lnTo>
                <a:lnTo>
                  <a:pt x="867" y="2518"/>
                </a:lnTo>
                <a:lnTo>
                  <a:pt x="896" y="2514"/>
                </a:lnTo>
                <a:lnTo>
                  <a:pt x="923" y="2510"/>
                </a:lnTo>
                <a:lnTo>
                  <a:pt x="948" y="2507"/>
                </a:lnTo>
                <a:lnTo>
                  <a:pt x="974" y="2505"/>
                </a:lnTo>
                <a:lnTo>
                  <a:pt x="999" y="2501"/>
                </a:lnTo>
                <a:lnTo>
                  <a:pt x="1024" y="2497"/>
                </a:lnTo>
                <a:lnTo>
                  <a:pt x="1047" y="2493"/>
                </a:lnTo>
                <a:lnTo>
                  <a:pt x="1070" y="2491"/>
                </a:lnTo>
                <a:lnTo>
                  <a:pt x="1093" y="2487"/>
                </a:lnTo>
                <a:lnTo>
                  <a:pt x="1115" y="2485"/>
                </a:lnTo>
                <a:lnTo>
                  <a:pt x="1138" y="2482"/>
                </a:lnTo>
                <a:lnTo>
                  <a:pt x="1157" y="2480"/>
                </a:lnTo>
                <a:lnTo>
                  <a:pt x="1178" y="2476"/>
                </a:lnTo>
                <a:lnTo>
                  <a:pt x="1197" y="2474"/>
                </a:lnTo>
                <a:lnTo>
                  <a:pt x="1216" y="2472"/>
                </a:lnTo>
                <a:lnTo>
                  <a:pt x="1235" y="2470"/>
                </a:lnTo>
                <a:lnTo>
                  <a:pt x="1255" y="2466"/>
                </a:lnTo>
                <a:lnTo>
                  <a:pt x="1272" y="2464"/>
                </a:lnTo>
                <a:lnTo>
                  <a:pt x="1289" y="2462"/>
                </a:lnTo>
                <a:lnTo>
                  <a:pt x="1306" y="2460"/>
                </a:lnTo>
                <a:lnTo>
                  <a:pt x="1322" y="2459"/>
                </a:lnTo>
                <a:lnTo>
                  <a:pt x="1337" y="2457"/>
                </a:lnTo>
                <a:lnTo>
                  <a:pt x="1352" y="2455"/>
                </a:lnTo>
                <a:lnTo>
                  <a:pt x="1368" y="2453"/>
                </a:lnTo>
                <a:lnTo>
                  <a:pt x="1381" y="2453"/>
                </a:lnTo>
                <a:lnTo>
                  <a:pt x="1395" y="2451"/>
                </a:lnTo>
                <a:lnTo>
                  <a:pt x="1410" y="2449"/>
                </a:lnTo>
                <a:lnTo>
                  <a:pt x="1425" y="2447"/>
                </a:lnTo>
                <a:lnTo>
                  <a:pt x="1443" y="2445"/>
                </a:lnTo>
                <a:lnTo>
                  <a:pt x="1460" y="2445"/>
                </a:lnTo>
                <a:lnTo>
                  <a:pt x="1477" y="2443"/>
                </a:lnTo>
                <a:lnTo>
                  <a:pt x="1494" y="2441"/>
                </a:lnTo>
                <a:lnTo>
                  <a:pt x="1514" y="2439"/>
                </a:lnTo>
                <a:lnTo>
                  <a:pt x="1535" y="2437"/>
                </a:lnTo>
                <a:lnTo>
                  <a:pt x="1554" y="2436"/>
                </a:lnTo>
                <a:lnTo>
                  <a:pt x="1575" y="2434"/>
                </a:lnTo>
                <a:lnTo>
                  <a:pt x="1598" y="2432"/>
                </a:lnTo>
                <a:lnTo>
                  <a:pt x="1621" y="2430"/>
                </a:lnTo>
                <a:lnTo>
                  <a:pt x="1644" y="2428"/>
                </a:lnTo>
                <a:lnTo>
                  <a:pt x="1669" y="2426"/>
                </a:lnTo>
                <a:lnTo>
                  <a:pt x="1694" y="2424"/>
                </a:lnTo>
                <a:lnTo>
                  <a:pt x="1719" y="2422"/>
                </a:lnTo>
                <a:lnTo>
                  <a:pt x="1746" y="2420"/>
                </a:lnTo>
                <a:lnTo>
                  <a:pt x="1773" y="2416"/>
                </a:lnTo>
                <a:lnTo>
                  <a:pt x="1802" y="2414"/>
                </a:lnTo>
                <a:lnTo>
                  <a:pt x="1830" y="2412"/>
                </a:lnTo>
                <a:lnTo>
                  <a:pt x="1861" y="2409"/>
                </a:lnTo>
                <a:lnTo>
                  <a:pt x="1892" y="2407"/>
                </a:lnTo>
                <a:lnTo>
                  <a:pt x="1922" y="2403"/>
                </a:lnTo>
                <a:lnTo>
                  <a:pt x="1955" y="2399"/>
                </a:lnTo>
                <a:lnTo>
                  <a:pt x="1988" y="2397"/>
                </a:lnTo>
                <a:lnTo>
                  <a:pt x="2022" y="2393"/>
                </a:lnTo>
                <a:lnTo>
                  <a:pt x="2057" y="2389"/>
                </a:lnTo>
                <a:lnTo>
                  <a:pt x="2091" y="2386"/>
                </a:lnTo>
                <a:lnTo>
                  <a:pt x="2128" y="2382"/>
                </a:lnTo>
                <a:lnTo>
                  <a:pt x="2166" y="2376"/>
                </a:lnTo>
                <a:lnTo>
                  <a:pt x="2203" y="2372"/>
                </a:lnTo>
                <a:lnTo>
                  <a:pt x="2241" y="2368"/>
                </a:lnTo>
                <a:lnTo>
                  <a:pt x="2279" y="2363"/>
                </a:lnTo>
                <a:lnTo>
                  <a:pt x="2354" y="2355"/>
                </a:lnTo>
                <a:lnTo>
                  <a:pt x="2425" y="2347"/>
                </a:lnTo>
                <a:lnTo>
                  <a:pt x="2496" y="2341"/>
                </a:lnTo>
                <a:lnTo>
                  <a:pt x="2565" y="2336"/>
                </a:lnTo>
                <a:lnTo>
                  <a:pt x="2632" y="2330"/>
                </a:lnTo>
                <a:lnTo>
                  <a:pt x="2698" y="2326"/>
                </a:lnTo>
                <a:lnTo>
                  <a:pt x="2761" y="2322"/>
                </a:lnTo>
                <a:lnTo>
                  <a:pt x="2822" y="2318"/>
                </a:lnTo>
                <a:lnTo>
                  <a:pt x="2882" y="2317"/>
                </a:lnTo>
                <a:lnTo>
                  <a:pt x="2939" y="2313"/>
                </a:lnTo>
                <a:lnTo>
                  <a:pt x="2997" y="2311"/>
                </a:lnTo>
                <a:lnTo>
                  <a:pt x="3051" y="2311"/>
                </a:lnTo>
                <a:lnTo>
                  <a:pt x="3104" y="2309"/>
                </a:lnTo>
                <a:lnTo>
                  <a:pt x="3156" y="2309"/>
                </a:lnTo>
                <a:lnTo>
                  <a:pt x="3206" y="2309"/>
                </a:lnTo>
                <a:lnTo>
                  <a:pt x="3231" y="2309"/>
                </a:lnTo>
                <a:lnTo>
                  <a:pt x="3254" y="2309"/>
                </a:lnTo>
                <a:lnTo>
                  <a:pt x="3277" y="2309"/>
                </a:lnTo>
                <a:lnTo>
                  <a:pt x="3300" y="2309"/>
                </a:lnTo>
                <a:lnTo>
                  <a:pt x="3323" y="2309"/>
                </a:lnTo>
                <a:lnTo>
                  <a:pt x="3344" y="2311"/>
                </a:lnTo>
                <a:lnTo>
                  <a:pt x="3365" y="2311"/>
                </a:lnTo>
                <a:lnTo>
                  <a:pt x="3386" y="2311"/>
                </a:lnTo>
                <a:lnTo>
                  <a:pt x="3406" y="2313"/>
                </a:lnTo>
                <a:lnTo>
                  <a:pt x="3425" y="2313"/>
                </a:lnTo>
                <a:lnTo>
                  <a:pt x="3444" y="2315"/>
                </a:lnTo>
                <a:lnTo>
                  <a:pt x="3461" y="2317"/>
                </a:lnTo>
                <a:lnTo>
                  <a:pt x="3479" y="2317"/>
                </a:lnTo>
                <a:lnTo>
                  <a:pt x="3496" y="2318"/>
                </a:lnTo>
                <a:lnTo>
                  <a:pt x="3511" y="2320"/>
                </a:lnTo>
                <a:lnTo>
                  <a:pt x="3528" y="2322"/>
                </a:lnTo>
                <a:lnTo>
                  <a:pt x="3542" y="2324"/>
                </a:lnTo>
                <a:lnTo>
                  <a:pt x="3557" y="2326"/>
                </a:lnTo>
                <a:lnTo>
                  <a:pt x="3571" y="2328"/>
                </a:lnTo>
                <a:lnTo>
                  <a:pt x="3584" y="2330"/>
                </a:lnTo>
                <a:lnTo>
                  <a:pt x="3598" y="2334"/>
                </a:lnTo>
                <a:lnTo>
                  <a:pt x="3609" y="2336"/>
                </a:lnTo>
                <a:lnTo>
                  <a:pt x="3621" y="2340"/>
                </a:lnTo>
                <a:lnTo>
                  <a:pt x="3632" y="2341"/>
                </a:lnTo>
                <a:lnTo>
                  <a:pt x="3644" y="2345"/>
                </a:lnTo>
                <a:lnTo>
                  <a:pt x="3653" y="2349"/>
                </a:lnTo>
                <a:lnTo>
                  <a:pt x="3663" y="2351"/>
                </a:lnTo>
                <a:lnTo>
                  <a:pt x="3670" y="2355"/>
                </a:lnTo>
                <a:lnTo>
                  <a:pt x="3680" y="2359"/>
                </a:lnTo>
                <a:lnTo>
                  <a:pt x="3688" y="2363"/>
                </a:lnTo>
                <a:lnTo>
                  <a:pt x="3694" y="2368"/>
                </a:lnTo>
                <a:lnTo>
                  <a:pt x="3701" y="2372"/>
                </a:lnTo>
                <a:lnTo>
                  <a:pt x="3713" y="2382"/>
                </a:lnTo>
                <a:lnTo>
                  <a:pt x="3722" y="2389"/>
                </a:lnTo>
                <a:lnTo>
                  <a:pt x="3734" y="2399"/>
                </a:lnTo>
                <a:lnTo>
                  <a:pt x="3743" y="2409"/>
                </a:lnTo>
                <a:lnTo>
                  <a:pt x="3753" y="2418"/>
                </a:lnTo>
                <a:lnTo>
                  <a:pt x="3761" y="2426"/>
                </a:lnTo>
                <a:lnTo>
                  <a:pt x="3768" y="2436"/>
                </a:lnTo>
                <a:lnTo>
                  <a:pt x="3774" y="2445"/>
                </a:lnTo>
                <a:lnTo>
                  <a:pt x="3780" y="2453"/>
                </a:lnTo>
                <a:lnTo>
                  <a:pt x="3786" y="2462"/>
                </a:lnTo>
                <a:lnTo>
                  <a:pt x="3789" y="2472"/>
                </a:lnTo>
                <a:lnTo>
                  <a:pt x="3793" y="2480"/>
                </a:lnTo>
                <a:lnTo>
                  <a:pt x="3795" y="2489"/>
                </a:lnTo>
                <a:lnTo>
                  <a:pt x="3797" y="2499"/>
                </a:lnTo>
                <a:lnTo>
                  <a:pt x="3799" y="2507"/>
                </a:lnTo>
                <a:lnTo>
                  <a:pt x="3799" y="2516"/>
                </a:lnTo>
                <a:lnTo>
                  <a:pt x="3799" y="2524"/>
                </a:lnTo>
                <a:lnTo>
                  <a:pt x="3797" y="2533"/>
                </a:lnTo>
                <a:lnTo>
                  <a:pt x="3795" y="2541"/>
                </a:lnTo>
                <a:lnTo>
                  <a:pt x="3793" y="2549"/>
                </a:lnTo>
                <a:lnTo>
                  <a:pt x="3789" y="2556"/>
                </a:lnTo>
                <a:lnTo>
                  <a:pt x="3786" y="2562"/>
                </a:lnTo>
                <a:lnTo>
                  <a:pt x="3782" y="2570"/>
                </a:lnTo>
                <a:lnTo>
                  <a:pt x="3776" y="2576"/>
                </a:lnTo>
                <a:lnTo>
                  <a:pt x="3770" y="2581"/>
                </a:lnTo>
                <a:lnTo>
                  <a:pt x="3765" y="2587"/>
                </a:lnTo>
                <a:lnTo>
                  <a:pt x="3757" y="2591"/>
                </a:lnTo>
                <a:lnTo>
                  <a:pt x="3751" y="2597"/>
                </a:lnTo>
                <a:lnTo>
                  <a:pt x="3734" y="2604"/>
                </a:lnTo>
                <a:lnTo>
                  <a:pt x="3717" y="2612"/>
                </a:lnTo>
                <a:lnTo>
                  <a:pt x="3703" y="2614"/>
                </a:lnTo>
                <a:lnTo>
                  <a:pt x="3690" y="2618"/>
                </a:lnTo>
                <a:lnTo>
                  <a:pt x="3674" y="2620"/>
                </a:lnTo>
                <a:lnTo>
                  <a:pt x="3657" y="2622"/>
                </a:lnTo>
                <a:lnTo>
                  <a:pt x="3640" y="2622"/>
                </a:lnTo>
                <a:lnTo>
                  <a:pt x="3621" y="2624"/>
                </a:lnTo>
                <a:lnTo>
                  <a:pt x="3601" y="2624"/>
                </a:lnTo>
                <a:lnTo>
                  <a:pt x="3578" y="2624"/>
                </a:lnTo>
                <a:lnTo>
                  <a:pt x="3555" y="2624"/>
                </a:lnTo>
                <a:lnTo>
                  <a:pt x="3532" y="2624"/>
                </a:lnTo>
                <a:lnTo>
                  <a:pt x="3505" y="2622"/>
                </a:lnTo>
                <a:lnTo>
                  <a:pt x="3479" y="2622"/>
                </a:lnTo>
                <a:lnTo>
                  <a:pt x="3450" y="2620"/>
                </a:lnTo>
                <a:lnTo>
                  <a:pt x="3419" y="2618"/>
                </a:lnTo>
                <a:lnTo>
                  <a:pt x="3388" y="2614"/>
                </a:lnTo>
                <a:lnTo>
                  <a:pt x="3356" y="2612"/>
                </a:lnTo>
                <a:lnTo>
                  <a:pt x="3287" y="2606"/>
                </a:lnTo>
                <a:lnTo>
                  <a:pt x="3216" y="2602"/>
                </a:lnTo>
                <a:lnTo>
                  <a:pt x="3145" y="2599"/>
                </a:lnTo>
                <a:lnTo>
                  <a:pt x="3072" y="2595"/>
                </a:lnTo>
                <a:lnTo>
                  <a:pt x="2997" y="2593"/>
                </a:lnTo>
                <a:lnTo>
                  <a:pt x="2920" y="2589"/>
                </a:lnTo>
                <a:lnTo>
                  <a:pt x="2842" y="2585"/>
                </a:lnTo>
                <a:lnTo>
                  <a:pt x="2763" y="2579"/>
                </a:lnTo>
                <a:lnTo>
                  <a:pt x="2723" y="2579"/>
                </a:lnTo>
                <a:lnTo>
                  <a:pt x="2678" y="2581"/>
                </a:lnTo>
                <a:lnTo>
                  <a:pt x="2636" y="2581"/>
                </a:lnTo>
                <a:lnTo>
                  <a:pt x="2590" y="2583"/>
                </a:lnTo>
                <a:lnTo>
                  <a:pt x="2544" y="2585"/>
                </a:lnTo>
                <a:lnTo>
                  <a:pt x="2494" y="2587"/>
                </a:lnTo>
                <a:lnTo>
                  <a:pt x="2446" y="2589"/>
                </a:lnTo>
                <a:lnTo>
                  <a:pt x="2394" y="2591"/>
                </a:lnTo>
                <a:lnTo>
                  <a:pt x="2343" y="2595"/>
                </a:lnTo>
                <a:lnTo>
                  <a:pt x="2289" y="2599"/>
                </a:lnTo>
                <a:lnTo>
                  <a:pt x="2233" y="2602"/>
                </a:lnTo>
                <a:lnTo>
                  <a:pt x="2178" y="2606"/>
                </a:lnTo>
                <a:lnTo>
                  <a:pt x="2120" y="2610"/>
                </a:lnTo>
                <a:lnTo>
                  <a:pt x="2061" y="2616"/>
                </a:lnTo>
                <a:lnTo>
                  <a:pt x="2001" y="2622"/>
                </a:lnTo>
                <a:lnTo>
                  <a:pt x="1940" y="2627"/>
                </a:lnTo>
                <a:lnTo>
                  <a:pt x="1940" y="2627"/>
                </a:lnTo>
                <a:close/>
                <a:moveTo>
                  <a:pt x="1612" y="2804"/>
                </a:moveTo>
                <a:lnTo>
                  <a:pt x="1629" y="2833"/>
                </a:lnTo>
                <a:lnTo>
                  <a:pt x="1644" y="2863"/>
                </a:lnTo>
                <a:lnTo>
                  <a:pt x="1652" y="2877"/>
                </a:lnTo>
                <a:lnTo>
                  <a:pt x="1660" y="2892"/>
                </a:lnTo>
                <a:lnTo>
                  <a:pt x="1665" y="2906"/>
                </a:lnTo>
                <a:lnTo>
                  <a:pt x="1671" y="2919"/>
                </a:lnTo>
                <a:lnTo>
                  <a:pt x="1677" y="2933"/>
                </a:lnTo>
                <a:lnTo>
                  <a:pt x="1681" y="2944"/>
                </a:lnTo>
                <a:lnTo>
                  <a:pt x="1684" y="2957"/>
                </a:lnTo>
                <a:lnTo>
                  <a:pt x="1688" y="2969"/>
                </a:lnTo>
                <a:lnTo>
                  <a:pt x="1690" y="2980"/>
                </a:lnTo>
                <a:lnTo>
                  <a:pt x="1692" y="2992"/>
                </a:lnTo>
                <a:lnTo>
                  <a:pt x="1694" y="3002"/>
                </a:lnTo>
                <a:lnTo>
                  <a:pt x="1694" y="3011"/>
                </a:lnTo>
                <a:lnTo>
                  <a:pt x="1692" y="3034"/>
                </a:lnTo>
                <a:lnTo>
                  <a:pt x="1690" y="3057"/>
                </a:lnTo>
                <a:lnTo>
                  <a:pt x="1686" y="3082"/>
                </a:lnTo>
                <a:lnTo>
                  <a:pt x="1681" y="3103"/>
                </a:lnTo>
                <a:lnTo>
                  <a:pt x="1675" y="3126"/>
                </a:lnTo>
                <a:lnTo>
                  <a:pt x="1665" y="3147"/>
                </a:lnTo>
                <a:lnTo>
                  <a:pt x="1656" y="3167"/>
                </a:lnTo>
                <a:lnTo>
                  <a:pt x="1644" y="3186"/>
                </a:lnTo>
                <a:lnTo>
                  <a:pt x="1638" y="3197"/>
                </a:lnTo>
                <a:lnTo>
                  <a:pt x="1633" y="3209"/>
                </a:lnTo>
                <a:lnTo>
                  <a:pt x="1625" y="3218"/>
                </a:lnTo>
                <a:lnTo>
                  <a:pt x="1619" y="3228"/>
                </a:lnTo>
                <a:lnTo>
                  <a:pt x="1613" y="3238"/>
                </a:lnTo>
                <a:lnTo>
                  <a:pt x="1606" y="3245"/>
                </a:lnTo>
                <a:lnTo>
                  <a:pt x="1600" y="3251"/>
                </a:lnTo>
                <a:lnTo>
                  <a:pt x="1592" y="3259"/>
                </a:lnTo>
                <a:lnTo>
                  <a:pt x="1587" y="3264"/>
                </a:lnTo>
                <a:lnTo>
                  <a:pt x="1579" y="3268"/>
                </a:lnTo>
                <a:lnTo>
                  <a:pt x="1571" y="3272"/>
                </a:lnTo>
                <a:lnTo>
                  <a:pt x="1564" y="3276"/>
                </a:lnTo>
                <a:lnTo>
                  <a:pt x="1556" y="3278"/>
                </a:lnTo>
                <a:lnTo>
                  <a:pt x="1546" y="3280"/>
                </a:lnTo>
                <a:lnTo>
                  <a:pt x="1539" y="3282"/>
                </a:lnTo>
                <a:lnTo>
                  <a:pt x="1529" y="3282"/>
                </a:lnTo>
                <a:lnTo>
                  <a:pt x="1519" y="3282"/>
                </a:lnTo>
                <a:lnTo>
                  <a:pt x="1510" y="3278"/>
                </a:lnTo>
                <a:lnTo>
                  <a:pt x="1504" y="3276"/>
                </a:lnTo>
                <a:lnTo>
                  <a:pt x="1500" y="3274"/>
                </a:lnTo>
                <a:lnTo>
                  <a:pt x="1494" y="3270"/>
                </a:lnTo>
                <a:lnTo>
                  <a:pt x="1489" y="3266"/>
                </a:lnTo>
                <a:lnTo>
                  <a:pt x="1483" y="3263"/>
                </a:lnTo>
                <a:lnTo>
                  <a:pt x="1477" y="3259"/>
                </a:lnTo>
                <a:lnTo>
                  <a:pt x="1471" y="3253"/>
                </a:lnTo>
                <a:lnTo>
                  <a:pt x="1466" y="3247"/>
                </a:lnTo>
                <a:lnTo>
                  <a:pt x="1460" y="3241"/>
                </a:lnTo>
                <a:lnTo>
                  <a:pt x="1452" y="3236"/>
                </a:lnTo>
                <a:lnTo>
                  <a:pt x="1447" y="3228"/>
                </a:lnTo>
                <a:lnTo>
                  <a:pt x="1441" y="3220"/>
                </a:lnTo>
                <a:lnTo>
                  <a:pt x="1433" y="3213"/>
                </a:lnTo>
                <a:lnTo>
                  <a:pt x="1427" y="3203"/>
                </a:lnTo>
                <a:lnTo>
                  <a:pt x="1420" y="3195"/>
                </a:lnTo>
                <a:lnTo>
                  <a:pt x="1412" y="3184"/>
                </a:lnTo>
                <a:lnTo>
                  <a:pt x="1406" y="3174"/>
                </a:lnTo>
                <a:lnTo>
                  <a:pt x="1399" y="3165"/>
                </a:lnTo>
                <a:lnTo>
                  <a:pt x="1391" y="3153"/>
                </a:lnTo>
                <a:lnTo>
                  <a:pt x="1383" y="3142"/>
                </a:lnTo>
                <a:lnTo>
                  <a:pt x="1376" y="3128"/>
                </a:lnTo>
                <a:lnTo>
                  <a:pt x="1368" y="3115"/>
                </a:lnTo>
                <a:lnTo>
                  <a:pt x="1358" y="3101"/>
                </a:lnTo>
                <a:lnTo>
                  <a:pt x="1351" y="3088"/>
                </a:lnTo>
                <a:lnTo>
                  <a:pt x="1341" y="3075"/>
                </a:lnTo>
                <a:lnTo>
                  <a:pt x="1333" y="3059"/>
                </a:lnTo>
                <a:lnTo>
                  <a:pt x="1324" y="3042"/>
                </a:lnTo>
                <a:lnTo>
                  <a:pt x="1316" y="3027"/>
                </a:lnTo>
                <a:lnTo>
                  <a:pt x="1297" y="2994"/>
                </a:lnTo>
                <a:lnTo>
                  <a:pt x="1281" y="2961"/>
                </a:lnTo>
                <a:lnTo>
                  <a:pt x="1266" y="2931"/>
                </a:lnTo>
                <a:lnTo>
                  <a:pt x="1251" y="2900"/>
                </a:lnTo>
                <a:lnTo>
                  <a:pt x="1237" y="2871"/>
                </a:lnTo>
                <a:lnTo>
                  <a:pt x="1226" y="2842"/>
                </a:lnTo>
                <a:lnTo>
                  <a:pt x="1214" y="2814"/>
                </a:lnTo>
                <a:lnTo>
                  <a:pt x="1205" y="2787"/>
                </a:lnTo>
                <a:lnTo>
                  <a:pt x="1197" y="2760"/>
                </a:lnTo>
                <a:lnTo>
                  <a:pt x="1189" y="2735"/>
                </a:lnTo>
                <a:lnTo>
                  <a:pt x="1182" y="2710"/>
                </a:lnTo>
                <a:lnTo>
                  <a:pt x="1176" y="2685"/>
                </a:lnTo>
                <a:lnTo>
                  <a:pt x="1172" y="2662"/>
                </a:lnTo>
                <a:lnTo>
                  <a:pt x="1170" y="2639"/>
                </a:lnTo>
                <a:lnTo>
                  <a:pt x="1168" y="2618"/>
                </a:lnTo>
                <a:lnTo>
                  <a:pt x="1168" y="2595"/>
                </a:lnTo>
                <a:lnTo>
                  <a:pt x="1210" y="2604"/>
                </a:lnTo>
                <a:lnTo>
                  <a:pt x="1249" y="2616"/>
                </a:lnTo>
                <a:lnTo>
                  <a:pt x="1287" y="2625"/>
                </a:lnTo>
                <a:lnTo>
                  <a:pt x="1324" y="2637"/>
                </a:lnTo>
                <a:lnTo>
                  <a:pt x="1343" y="2643"/>
                </a:lnTo>
                <a:lnTo>
                  <a:pt x="1358" y="2649"/>
                </a:lnTo>
                <a:lnTo>
                  <a:pt x="1376" y="2656"/>
                </a:lnTo>
                <a:lnTo>
                  <a:pt x="1391" y="2662"/>
                </a:lnTo>
                <a:lnTo>
                  <a:pt x="1408" y="2668"/>
                </a:lnTo>
                <a:lnTo>
                  <a:pt x="1422" y="2673"/>
                </a:lnTo>
                <a:lnTo>
                  <a:pt x="1437" y="2681"/>
                </a:lnTo>
                <a:lnTo>
                  <a:pt x="1450" y="2687"/>
                </a:lnTo>
                <a:lnTo>
                  <a:pt x="1466" y="2695"/>
                </a:lnTo>
                <a:lnTo>
                  <a:pt x="1477" y="2700"/>
                </a:lnTo>
                <a:lnTo>
                  <a:pt x="1491" y="2708"/>
                </a:lnTo>
                <a:lnTo>
                  <a:pt x="1502" y="2716"/>
                </a:lnTo>
                <a:lnTo>
                  <a:pt x="1516" y="2721"/>
                </a:lnTo>
                <a:lnTo>
                  <a:pt x="1525" y="2729"/>
                </a:lnTo>
                <a:lnTo>
                  <a:pt x="1537" y="2737"/>
                </a:lnTo>
                <a:lnTo>
                  <a:pt x="1546" y="2744"/>
                </a:lnTo>
                <a:lnTo>
                  <a:pt x="1556" y="2750"/>
                </a:lnTo>
                <a:lnTo>
                  <a:pt x="1565" y="2758"/>
                </a:lnTo>
                <a:lnTo>
                  <a:pt x="1575" y="2766"/>
                </a:lnTo>
                <a:lnTo>
                  <a:pt x="1583" y="2773"/>
                </a:lnTo>
                <a:lnTo>
                  <a:pt x="1590" y="2781"/>
                </a:lnTo>
                <a:lnTo>
                  <a:pt x="1598" y="2789"/>
                </a:lnTo>
                <a:lnTo>
                  <a:pt x="1606" y="2796"/>
                </a:lnTo>
                <a:lnTo>
                  <a:pt x="1612" y="2804"/>
                </a:lnTo>
                <a:lnTo>
                  <a:pt x="1612" y="2804"/>
                </a:lnTo>
                <a:close/>
                <a:moveTo>
                  <a:pt x="1907" y="3426"/>
                </a:moveTo>
                <a:lnTo>
                  <a:pt x="1932" y="3431"/>
                </a:lnTo>
                <a:lnTo>
                  <a:pt x="1955" y="3437"/>
                </a:lnTo>
                <a:lnTo>
                  <a:pt x="1976" y="3443"/>
                </a:lnTo>
                <a:lnTo>
                  <a:pt x="1997" y="3447"/>
                </a:lnTo>
                <a:lnTo>
                  <a:pt x="2016" y="3451"/>
                </a:lnTo>
                <a:lnTo>
                  <a:pt x="2034" y="3454"/>
                </a:lnTo>
                <a:lnTo>
                  <a:pt x="2051" y="3458"/>
                </a:lnTo>
                <a:lnTo>
                  <a:pt x="2066" y="3462"/>
                </a:lnTo>
                <a:lnTo>
                  <a:pt x="2080" y="3464"/>
                </a:lnTo>
                <a:lnTo>
                  <a:pt x="2093" y="3466"/>
                </a:lnTo>
                <a:lnTo>
                  <a:pt x="2103" y="3470"/>
                </a:lnTo>
                <a:lnTo>
                  <a:pt x="2112" y="3470"/>
                </a:lnTo>
                <a:lnTo>
                  <a:pt x="2122" y="3472"/>
                </a:lnTo>
                <a:lnTo>
                  <a:pt x="2128" y="3474"/>
                </a:lnTo>
                <a:lnTo>
                  <a:pt x="2133" y="3474"/>
                </a:lnTo>
                <a:lnTo>
                  <a:pt x="2137" y="3474"/>
                </a:lnTo>
                <a:lnTo>
                  <a:pt x="2139" y="3474"/>
                </a:lnTo>
                <a:lnTo>
                  <a:pt x="2141" y="3472"/>
                </a:lnTo>
                <a:lnTo>
                  <a:pt x="2143" y="3470"/>
                </a:lnTo>
                <a:lnTo>
                  <a:pt x="2143" y="3468"/>
                </a:lnTo>
                <a:lnTo>
                  <a:pt x="2145" y="3466"/>
                </a:lnTo>
                <a:lnTo>
                  <a:pt x="2147" y="3462"/>
                </a:lnTo>
                <a:lnTo>
                  <a:pt x="2149" y="3458"/>
                </a:lnTo>
                <a:lnTo>
                  <a:pt x="2151" y="3453"/>
                </a:lnTo>
                <a:lnTo>
                  <a:pt x="2151" y="3447"/>
                </a:lnTo>
                <a:lnTo>
                  <a:pt x="2153" y="3441"/>
                </a:lnTo>
                <a:lnTo>
                  <a:pt x="2155" y="3433"/>
                </a:lnTo>
                <a:lnTo>
                  <a:pt x="2156" y="3426"/>
                </a:lnTo>
                <a:lnTo>
                  <a:pt x="2158" y="3418"/>
                </a:lnTo>
                <a:lnTo>
                  <a:pt x="2158" y="3408"/>
                </a:lnTo>
                <a:lnTo>
                  <a:pt x="2160" y="3401"/>
                </a:lnTo>
                <a:lnTo>
                  <a:pt x="2162" y="3389"/>
                </a:lnTo>
                <a:lnTo>
                  <a:pt x="2164" y="3380"/>
                </a:lnTo>
                <a:lnTo>
                  <a:pt x="2166" y="3368"/>
                </a:lnTo>
                <a:lnTo>
                  <a:pt x="2168" y="3355"/>
                </a:lnTo>
                <a:lnTo>
                  <a:pt x="2168" y="3343"/>
                </a:lnTo>
                <a:lnTo>
                  <a:pt x="2170" y="3330"/>
                </a:lnTo>
                <a:lnTo>
                  <a:pt x="2172" y="3314"/>
                </a:lnTo>
                <a:lnTo>
                  <a:pt x="2174" y="3301"/>
                </a:lnTo>
                <a:lnTo>
                  <a:pt x="2176" y="3286"/>
                </a:lnTo>
                <a:lnTo>
                  <a:pt x="2176" y="3268"/>
                </a:lnTo>
                <a:lnTo>
                  <a:pt x="2178" y="3253"/>
                </a:lnTo>
                <a:lnTo>
                  <a:pt x="2180" y="3236"/>
                </a:lnTo>
                <a:lnTo>
                  <a:pt x="2181" y="3217"/>
                </a:lnTo>
                <a:lnTo>
                  <a:pt x="2183" y="3197"/>
                </a:lnTo>
                <a:lnTo>
                  <a:pt x="2183" y="3178"/>
                </a:lnTo>
                <a:lnTo>
                  <a:pt x="2185" y="3159"/>
                </a:lnTo>
                <a:lnTo>
                  <a:pt x="2187" y="3138"/>
                </a:lnTo>
                <a:lnTo>
                  <a:pt x="2189" y="3099"/>
                </a:lnTo>
                <a:lnTo>
                  <a:pt x="2191" y="3061"/>
                </a:lnTo>
                <a:lnTo>
                  <a:pt x="2193" y="3021"/>
                </a:lnTo>
                <a:lnTo>
                  <a:pt x="2193" y="2982"/>
                </a:lnTo>
                <a:lnTo>
                  <a:pt x="2193" y="2944"/>
                </a:lnTo>
                <a:lnTo>
                  <a:pt x="2193" y="2906"/>
                </a:lnTo>
                <a:lnTo>
                  <a:pt x="2191" y="2865"/>
                </a:lnTo>
                <a:lnTo>
                  <a:pt x="2189" y="2827"/>
                </a:lnTo>
                <a:lnTo>
                  <a:pt x="2185" y="2789"/>
                </a:lnTo>
                <a:lnTo>
                  <a:pt x="2183" y="2750"/>
                </a:lnTo>
                <a:lnTo>
                  <a:pt x="2180" y="2710"/>
                </a:lnTo>
                <a:lnTo>
                  <a:pt x="2176" y="2672"/>
                </a:lnTo>
                <a:lnTo>
                  <a:pt x="2166" y="2593"/>
                </a:lnTo>
                <a:lnTo>
                  <a:pt x="2155" y="2516"/>
                </a:lnTo>
                <a:lnTo>
                  <a:pt x="2141" y="2445"/>
                </a:lnTo>
                <a:lnTo>
                  <a:pt x="2130" y="2376"/>
                </a:lnTo>
                <a:lnTo>
                  <a:pt x="2124" y="2341"/>
                </a:lnTo>
                <a:lnTo>
                  <a:pt x="2118" y="2309"/>
                </a:lnTo>
                <a:lnTo>
                  <a:pt x="2110" y="2274"/>
                </a:lnTo>
                <a:lnTo>
                  <a:pt x="2105" y="2242"/>
                </a:lnTo>
                <a:lnTo>
                  <a:pt x="2099" y="2211"/>
                </a:lnTo>
                <a:lnTo>
                  <a:pt x="2093" y="2180"/>
                </a:lnTo>
                <a:lnTo>
                  <a:pt x="2085" y="2150"/>
                </a:lnTo>
                <a:lnTo>
                  <a:pt x="2080" y="2119"/>
                </a:lnTo>
                <a:lnTo>
                  <a:pt x="2074" y="2090"/>
                </a:lnTo>
                <a:lnTo>
                  <a:pt x="2068" y="2061"/>
                </a:lnTo>
                <a:lnTo>
                  <a:pt x="2061" y="2033"/>
                </a:lnTo>
                <a:lnTo>
                  <a:pt x="2055" y="2006"/>
                </a:lnTo>
                <a:lnTo>
                  <a:pt x="2078" y="2013"/>
                </a:lnTo>
                <a:lnTo>
                  <a:pt x="2101" y="2019"/>
                </a:lnTo>
                <a:lnTo>
                  <a:pt x="2122" y="2027"/>
                </a:lnTo>
                <a:lnTo>
                  <a:pt x="2141" y="2034"/>
                </a:lnTo>
                <a:lnTo>
                  <a:pt x="2162" y="2040"/>
                </a:lnTo>
                <a:lnTo>
                  <a:pt x="2180" y="2048"/>
                </a:lnTo>
                <a:lnTo>
                  <a:pt x="2199" y="2054"/>
                </a:lnTo>
                <a:lnTo>
                  <a:pt x="2216" y="2059"/>
                </a:lnTo>
                <a:lnTo>
                  <a:pt x="2233" y="2065"/>
                </a:lnTo>
                <a:lnTo>
                  <a:pt x="2249" y="2073"/>
                </a:lnTo>
                <a:lnTo>
                  <a:pt x="2264" y="2079"/>
                </a:lnTo>
                <a:lnTo>
                  <a:pt x="2279" y="2084"/>
                </a:lnTo>
                <a:lnTo>
                  <a:pt x="2293" y="2090"/>
                </a:lnTo>
                <a:lnTo>
                  <a:pt x="2306" y="2094"/>
                </a:lnTo>
                <a:lnTo>
                  <a:pt x="2320" y="2100"/>
                </a:lnTo>
                <a:lnTo>
                  <a:pt x="2331" y="2105"/>
                </a:lnTo>
                <a:lnTo>
                  <a:pt x="2343" y="2111"/>
                </a:lnTo>
                <a:lnTo>
                  <a:pt x="2352" y="2115"/>
                </a:lnTo>
                <a:lnTo>
                  <a:pt x="2362" y="2121"/>
                </a:lnTo>
                <a:lnTo>
                  <a:pt x="2371" y="2125"/>
                </a:lnTo>
                <a:lnTo>
                  <a:pt x="2381" y="2130"/>
                </a:lnTo>
                <a:lnTo>
                  <a:pt x="2389" y="2134"/>
                </a:lnTo>
                <a:lnTo>
                  <a:pt x="2396" y="2140"/>
                </a:lnTo>
                <a:lnTo>
                  <a:pt x="2402" y="2144"/>
                </a:lnTo>
                <a:lnTo>
                  <a:pt x="2408" y="2150"/>
                </a:lnTo>
                <a:lnTo>
                  <a:pt x="2414" y="2153"/>
                </a:lnTo>
                <a:lnTo>
                  <a:pt x="2419" y="2157"/>
                </a:lnTo>
                <a:lnTo>
                  <a:pt x="2423" y="2163"/>
                </a:lnTo>
                <a:lnTo>
                  <a:pt x="2427" y="2167"/>
                </a:lnTo>
                <a:lnTo>
                  <a:pt x="2429" y="2171"/>
                </a:lnTo>
                <a:lnTo>
                  <a:pt x="2433" y="2176"/>
                </a:lnTo>
                <a:lnTo>
                  <a:pt x="2435" y="2180"/>
                </a:lnTo>
                <a:lnTo>
                  <a:pt x="2435" y="2186"/>
                </a:lnTo>
                <a:lnTo>
                  <a:pt x="2437" y="2192"/>
                </a:lnTo>
                <a:lnTo>
                  <a:pt x="2439" y="2198"/>
                </a:lnTo>
                <a:lnTo>
                  <a:pt x="2440" y="2205"/>
                </a:lnTo>
                <a:lnTo>
                  <a:pt x="2440" y="2215"/>
                </a:lnTo>
                <a:lnTo>
                  <a:pt x="2442" y="2224"/>
                </a:lnTo>
                <a:lnTo>
                  <a:pt x="2444" y="2234"/>
                </a:lnTo>
                <a:lnTo>
                  <a:pt x="2446" y="2246"/>
                </a:lnTo>
                <a:lnTo>
                  <a:pt x="2448" y="2259"/>
                </a:lnTo>
                <a:lnTo>
                  <a:pt x="2448" y="2272"/>
                </a:lnTo>
                <a:lnTo>
                  <a:pt x="2450" y="2286"/>
                </a:lnTo>
                <a:lnTo>
                  <a:pt x="2452" y="2301"/>
                </a:lnTo>
                <a:lnTo>
                  <a:pt x="2454" y="2318"/>
                </a:lnTo>
                <a:lnTo>
                  <a:pt x="2456" y="2336"/>
                </a:lnTo>
                <a:lnTo>
                  <a:pt x="2458" y="2353"/>
                </a:lnTo>
                <a:lnTo>
                  <a:pt x="2458" y="2372"/>
                </a:lnTo>
                <a:lnTo>
                  <a:pt x="2460" y="2391"/>
                </a:lnTo>
                <a:lnTo>
                  <a:pt x="2462" y="2412"/>
                </a:lnTo>
                <a:lnTo>
                  <a:pt x="2464" y="2436"/>
                </a:lnTo>
                <a:lnTo>
                  <a:pt x="2465" y="2457"/>
                </a:lnTo>
                <a:lnTo>
                  <a:pt x="2465" y="2482"/>
                </a:lnTo>
                <a:lnTo>
                  <a:pt x="2467" y="2507"/>
                </a:lnTo>
                <a:lnTo>
                  <a:pt x="2469" y="2531"/>
                </a:lnTo>
                <a:lnTo>
                  <a:pt x="2471" y="2558"/>
                </a:lnTo>
                <a:lnTo>
                  <a:pt x="2473" y="2585"/>
                </a:lnTo>
                <a:lnTo>
                  <a:pt x="2473" y="2614"/>
                </a:lnTo>
                <a:lnTo>
                  <a:pt x="2475" y="2643"/>
                </a:lnTo>
                <a:lnTo>
                  <a:pt x="2477" y="2673"/>
                </a:lnTo>
                <a:lnTo>
                  <a:pt x="2479" y="2704"/>
                </a:lnTo>
                <a:lnTo>
                  <a:pt x="2481" y="2737"/>
                </a:lnTo>
                <a:lnTo>
                  <a:pt x="2481" y="2769"/>
                </a:lnTo>
                <a:lnTo>
                  <a:pt x="2483" y="2804"/>
                </a:lnTo>
                <a:lnTo>
                  <a:pt x="2485" y="2837"/>
                </a:lnTo>
                <a:lnTo>
                  <a:pt x="2487" y="2871"/>
                </a:lnTo>
                <a:lnTo>
                  <a:pt x="2487" y="2904"/>
                </a:lnTo>
                <a:lnTo>
                  <a:pt x="2488" y="2936"/>
                </a:lnTo>
                <a:lnTo>
                  <a:pt x="2488" y="2969"/>
                </a:lnTo>
                <a:lnTo>
                  <a:pt x="2488" y="3000"/>
                </a:lnTo>
                <a:lnTo>
                  <a:pt x="2488" y="3030"/>
                </a:lnTo>
                <a:lnTo>
                  <a:pt x="2490" y="3061"/>
                </a:lnTo>
                <a:lnTo>
                  <a:pt x="2490" y="3090"/>
                </a:lnTo>
                <a:lnTo>
                  <a:pt x="2490" y="3119"/>
                </a:lnTo>
                <a:lnTo>
                  <a:pt x="2488" y="3147"/>
                </a:lnTo>
                <a:lnTo>
                  <a:pt x="2488" y="3174"/>
                </a:lnTo>
                <a:lnTo>
                  <a:pt x="2488" y="3201"/>
                </a:lnTo>
                <a:lnTo>
                  <a:pt x="2488" y="3228"/>
                </a:lnTo>
                <a:lnTo>
                  <a:pt x="2488" y="3255"/>
                </a:lnTo>
                <a:lnTo>
                  <a:pt x="2487" y="3280"/>
                </a:lnTo>
                <a:lnTo>
                  <a:pt x="2487" y="3305"/>
                </a:lnTo>
                <a:lnTo>
                  <a:pt x="2485" y="3328"/>
                </a:lnTo>
                <a:lnTo>
                  <a:pt x="2485" y="3353"/>
                </a:lnTo>
                <a:lnTo>
                  <a:pt x="2483" y="3376"/>
                </a:lnTo>
                <a:lnTo>
                  <a:pt x="2483" y="3397"/>
                </a:lnTo>
                <a:lnTo>
                  <a:pt x="2481" y="3420"/>
                </a:lnTo>
                <a:lnTo>
                  <a:pt x="2479" y="3441"/>
                </a:lnTo>
                <a:lnTo>
                  <a:pt x="2479" y="3460"/>
                </a:lnTo>
                <a:lnTo>
                  <a:pt x="2477" y="3481"/>
                </a:lnTo>
                <a:lnTo>
                  <a:pt x="2475" y="3499"/>
                </a:lnTo>
                <a:lnTo>
                  <a:pt x="2475" y="3518"/>
                </a:lnTo>
                <a:lnTo>
                  <a:pt x="2473" y="3535"/>
                </a:lnTo>
                <a:lnTo>
                  <a:pt x="2471" y="3552"/>
                </a:lnTo>
                <a:lnTo>
                  <a:pt x="2469" y="3570"/>
                </a:lnTo>
                <a:lnTo>
                  <a:pt x="2467" y="3585"/>
                </a:lnTo>
                <a:lnTo>
                  <a:pt x="2467" y="3600"/>
                </a:lnTo>
                <a:lnTo>
                  <a:pt x="2464" y="3627"/>
                </a:lnTo>
                <a:lnTo>
                  <a:pt x="2460" y="3654"/>
                </a:lnTo>
                <a:lnTo>
                  <a:pt x="2454" y="3679"/>
                </a:lnTo>
                <a:lnTo>
                  <a:pt x="2448" y="3702"/>
                </a:lnTo>
                <a:lnTo>
                  <a:pt x="2442" y="3727"/>
                </a:lnTo>
                <a:lnTo>
                  <a:pt x="2437" y="3750"/>
                </a:lnTo>
                <a:lnTo>
                  <a:pt x="2429" y="3771"/>
                </a:lnTo>
                <a:lnTo>
                  <a:pt x="2421" y="3792"/>
                </a:lnTo>
                <a:lnTo>
                  <a:pt x="2414" y="3813"/>
                </a:lnTo>
                <a:lnTo>
                  <a:pt x="2404" y="3832"/>
                </a:lnTo>
                <a:lnTo>
                  <a:pt x="2396" y="3852"/>
                </a:lnTo>
                <a:lnTo>
                  <a:pt x="2387" y="3871"/>
                </a:lnTo>
                <a:lnTo>
                  <a:pt x="2379" y="3888"/>
                </a:lnTo>
                <a:lnTo>
                  <a:pt x="2369" y="3905"/>
                </a:lnTo>
                <a:lnTo>
                  <a:pt x="2360" y="3921"/>
                </a:lnTo>
                <a:lnTo>
                  <a:pt x="2352" y="3936"/>
                </a:lnTo>
                <a:lnTo>
                  <a:pt x="2339" y="3948"/>
                </a:lnTo>
                <a:lnTo>
                  <a:pt x="2327" y="3959"/>
                </a:lnTo>
                <a:lnTo>
                  <a:pt x="2316" y="3969"/>
                </a:lnTo>
                <a:lnTo>
                  <a:pt x="2306" y="3978"/>
                </a:lnTo>
                <a:lnTo>
                  <a:pt x="2295" y="3986"/>
                </a:lnTo>
                <a:lnTo>
                  <a:pt x="2283" y="3996"/>
                </a:lnTo>
                <a:lnTo>
                  <a:pt x="2274" y="4001"/>
                </a:lnTo>
                <a:lnTo>
                  <a:pt x="2264" y="4009"/>
                </a:lnTo>
                <a:lnTo>
                  <a:pt x="2252" y="4013"/>
                </a:lnTo>
                <a:lnTo>
                  <a:pt x="2243" y="4019"/>
                </a:lnTo>
                <a:lnTo>
                  <a:pt x="2233" y="4022"/>
                </a:lnTo>
                <a:lnTo>
                  <a:pt x="2224" y="4026"/>
                </a:lnTo>
                <a:lnTo>
                  <a:pt x="2214" y="4028"/>
                </a:lnTo>
                <a:lnTo>
                  <a:pt x="2206" y="4030"/>
                </a:lnTo>
                <a:lnTo>
                  <a:pt x="2197" y="4032"/>
                </a:lnTo>
                <a:lnTo>
                  <a:pt x="2187" y="4032"/>
                </a:lnTo>
                <a:lnTo>
                  <a:pt x="2178" y="4032"/>
                </a:lnTo>
                <a:lnTo>
                  <a:pt x="2170" y="4030"/>
                </a:lnTo>
                <a:lnTo>
                  <a:pt x="2160" y="4028"/>
                </a:lnTo>
                <a:lnTo>
                  <a:pt x="2153" y="4026"/>
                </a:lnTo>
                <a:lnTo>
                  <a:pt x="2145" y="4022"/>
                </a:lnTo>
                <a:lnTo>
                  <a:pt x="2139" y="4017"/>
                </a:lnTo>
                <a:lnTo>
                  <a:pt x="2132" y="4013"/>
                </a:lnTo>
                <a:lnTo>
                  <a:pt x="2126" y="4005"/>
                </a:lnTo>
                <a:lnTo>
                  <a:pt x="2120" y="3999"/>
                </a:lnTo>
                <a:lnTo>
                  <a:pt x="2114" y="3990"/>
                </a:lnTo>
                <a:lnTo>
                  <a:pt x="2109" y="3982"/>
                </a:lnTo>
                <a:lnTo>
                  <a:pt x="2103" y="3971"/>
                </a:lnTo>
                <a:lnTo>
                  <a:pt x="2099" y="3961"/>
                </a:lnTo>
                <a:lnTo>
                  <a:pt x="2095" y="3948"/>
                </a:lnTo>
                <a:lnTo>
                  <a:pt x="2091" y="3934"/>
                </a:lnTo>
                <a:lnTo>
                  <a:pt x="2089" y="3921"/>
                </a:lnTo>
                <a:lnTo>
                  <a:pt x="2082" y="3905"/>
                </a:lnTo>
                <a:lnTo>
                  <a:pt x="2074" y="3890"/>
                </a:lnTo>
                <a:lnTo>
                  <a:pt x="2064" y="3875"/>
                </a:lnTo>
                <a:lnTo>
                  <a:pt x="2055" y="3857"/>
                </a:lnTo>
                <a:lnTo>
                  <a:pt x="2043" y="3842"/>
                </a:lnTo>
                <a:lnTo>
                  <a:pt x="2032" y="3825"/>
                </a:lnTo>
                <a:lnTo>
                  <a:pt x="2018" y="3809"/>
                </a:lnTo>
                <a:lnTo>
                  <a:pt x="2005" y="3792"/>
                </a:lnTo>
                <a:lnTo>
                  <a:pt x="1990" y="3777"/>
                </a:lnTo>
                <a:lnTo>
                  <a:pt x="1972" y="3760"/>
                </a:lnTo>
                <a:lnTo>
                  <a:pt x="1955" y="3744"/>
                </a:lnTo>
                <a:lnTo>
                  <a:pt x="1938" y="3727"/>
                </a:lnTo>
                <a:lnTo>
                  <a:pt x="1919" y="3712"/>
                </a:lnTo>
                <a:lnTo>
                  <a:pt x="1899" y="3696"/>
                </a:lnTo>
                <a:lnTo>
                  <a:pt x="1878" y="3681"/>
                </a:lnTo>
                <a:lnTo>
                  <a:pt x="1859" y="3666"/>
                </a:lnTo>
                <a:lnTo>
                  <a:pt x="1834" y="3646"/>
                </a:lnTo>
                <a:lnTo>
                  <a:pt x="1813" y="3631"/>
                </a:lnTo>
                <a:lnTo>
                  <a:pt x="1792" y="3614"/>
                </a:lnTo>
                <a:lnTo>
                  <a:pt x="1773" y="3598"/>
                </a:lnTo>
                <a:lnTo>
                  <a:pt x="1755" y="3583"/>
                </a:lnTo>
                <a:lnTo>
                  <a:pt x="1740" y="3568"/>
                </a:lnTo>
                <a:lnTo>
                  <a:pt x="1725" y="3554"/>
                </a:lnTo>
                <a:lnTo>
                  <a:pt x="1713" y="3541"/>
                </a:lnTo>
                <a:lnTo>
                  <a:pt x="1702" y="3527"/>
                </a:lnTo>
                <a:lnTo>
                  <a:pt x="1692" y="3514"/>
                </a:lnTo>
                <a:lnTo>
                  <a:pt x="1686" y="3502"/>
                </a:lnTo>
                <a:lnTo>
                  <a:pt x="1681" y="3489"/>
                </a:lnTo>
                <a:lnTo>
                  <a:pt x="1677" y="3477"/>
                </a:lnTo>
                <a:lnTo>
                  <a:pt x="1675" y="3466"/>
                </a:lnTo>
                <a:lnTo>
                  <a:pt x="1675" y="3454"/>
                </a:lnTo>
                <a:lnTo>
                  <a:pt x="1675" y="3447"/>
                </a:lnTo>
                <a:lnTo>
                  <a:pt x="1677" y="3441"/>
                </a:lnTo>
                <a:lnTo>
                  <a:pt x="1681" y="3433"/>
                </a:lnTo>
                <a:lnTo>
                  <a:pt x="1686" y="3426"/>
                </a:lnTo>
                <a:lnTo>
                  <a:pt x="1692" y="3420"/>
                </a:lnTo>
                <a:lnTo>
                  <a:pt x="1700" y="3414"/>
                </a:lnTo>
                <a:lnTo>
                  <a:pt x="1707" y="3410"/>
                </a:lnTo>
                <a:lnTo>
                  <a:pt x="1719" y="3406"/>
                </a:lnTo>
                <a:lnTo>
                  <a:pt x="1731" y="3405"/>
                </a:lnTo>
                <a:lnTo>
                  <a:pt x="1742" y="3403"/>
                </a:lnTo>
                <a:lnTo>
                  <a:pt x="1757" y="3403"/>
                </a:lnTo>
                <a:lnTo>
                  <a:pt x="1775" y="3405"/>
                </a:lnTo>
                <a:lnTo>
                  <a:pt x="1792" y="3405"/>
                </a:lnTo>
                <a:lnTo>
                  <a:pt x="1811" y="3408"/>
                </a:lnTo>
                <a:lnTo>
                  <a:pt x="1832" y="3410"/>
                </a:lnTo>
                <a:lnTo>
                  <a:pt x="1855" y="3414"/>
                </a:lnTo>
                <a:lnTo>
                  <a:pt x="1880" y="3420"/>
                </a:lnTo>
                <a:lnTo>
                  <a:pt x="1907" y="3426"/>
                </a:lnTo>
                <a:lnTo>
                  <a:pt x="1907" y="3426"/>
                </a:lnTo>
                <a:close/>
                <a:moveTo>
                  <a:pt x="2813" y="187"/>
                </a:moveTo>
                <a:lnTo>
                  <a:pt x="2813" y="194"/>
                </a:lnTo>
                <a:lnTo>
                  <a:pt x="2813" y="200"/>
                </a:lnTo>
                <a:lnTo>
                  <a:pt x="2813" y="208"/>
                </a:lnTo>
                <a:lnTo>
                  <a:pt x="2811" y="215"/>
                </a:lnTo>
                <a:lnTo>
                  <a:pt x="2809" y="223"/>
                </a:lnTo>
                <a:lnTo>
                  <a:pt x="2805" y="231"/>
                </a:lnTo>
                <a:lnTo>
                  <a:pt x="2801" y="238"/>
                </a:lnTo>
                <a:lnTo>
                  <a:pt x="2797" y="246"/>
                </a:lnTo>
                <a:lnTo>
                  <a:pt x="2792" y="254"/>
                </a:lnTo>
                <a:lnTo>
                  <a:pt x="2784" y="261"/>
                </a:lnTo>
                <a:lnTo>
                  <a:pt x="2776" y="269"/>
                </a:lnTo>
                <a:lnTo>
                  <a:pt x="2769" y="277"/>
                </a:lnTo>
                <a:lnTo>
                  <a:pt x="2759" y="284"/>
                </a:lnTo>
                <a:lnTo>
                  <a:pt x="2749" y="292"/>
                </a:lnTo>
                <a:lnTo>
                  <a:pt x="2740" y="300"/>
                </a:lnTo>
                <a:lnTo>
                  <a:pt x="2728" y="307"/>
                </a:lnTo>
                <a:lnTo>
                  <a:pt x="2715" y="315"/>
                </a:lnTo>
                <a:lnTo>
                  <a:pt x="2701" y="323"/>
                </a:lnTo>
                <a:lnTo>
                  <a:pt x="2688" y="330"/>
                </a:lnTo>
                <a:lnTo>
                  <a:pt x="2673" y="338"/>
                </a:lnTo>
                <a:lnTo>
                  <a:pt x="2657" y="346"/>
                </a:lnTo>
                <a:lnTo>
                  <a:pt x="2642" y="355"/>
                </a:lnTo>
                <a:lnTo>
                  <a:pt x="2625" y="363"/>
                </a:lnTo>
                <a:lnTo>
                  <a:pt x="2606" y="371"/>
                </a:lnTo>
                <a:lnTo>
                  <a:pt x="2586" y="380"/>
                </a:lnTo>
                <a:lnTo>
                  <a:pt x="2567" y="388"/>
                </a:lnTo>
                <a:lnTo>
                  <a:pt x="2548" y="398"/>
                </a:lnTo>
                <a:lnTo>
                  <a:pt x="2527" y="405"/>
                </a:lnTo>
                <a:lnTo>
                  <a:pt x="2504" y="415"/>
                </a:lnTo>
                <a:lnTo>
                  <a:pt x="2481" y="423"/>
                </a:lnTo>
                <a:lnTo>
                  <a:pt x="2458" y="432"/>
                </a:lnTo>
                <a:lnTo>
                  <a:pt x="2435" y="442"/>
                </a:lnTo>
                <a:lnTo>
                  <a:pt x="2410" y="449"/>
                </a:lnTo>
                <a:lnTo>
                  <a:pt x="2387" y="459"/>
                </a:lnTo>
                <a:lnTo>
                  <a:pt x="2364" y="467"/>
                </a:lnTo>
                <a:lnTo>
                  <a:pt x="2341" y="474"/>
                </a:lnTo>
                <a:lnTo>
                  <a:pt x="2320" y="482"/>
                </a:lnTo>
                <a:lnTo>
                  <a:pt x="2298" y="488"/>
                </a:lnTo>
                <a:lnTo>
                  <a:pt x="2277" y="496"/>
                </a:lnTo>
                <a:lnTo>
                  <a:pt x="2258" y="501"/>
                </a:lnTo>
                <a:lnTo>
                  <a:pt x="2239" y="507"/>
                </a:lnTo>
                <a:lnTo>
                  <a:pt x="2222" y="513"/>
                </a:lnTo>
                <a:lnTo>
                  <a:pt x="2204" y="517"/>
                </a:lnTo>
                <a:lnTo>
                  <a:pt x="2187" y="522"/>
                </a:lnTo>
                <a:lnTo>
                  <a:pt x="2172" y="526"/>
                </a:lnTo>
                <a:lnTo>
                  <a:pt x="2156" y="530"/>
                </a:lnTo>
                <a:lnTo>
                  <a:pt x="2141" y="532"/>
                </a:lnTo>
                <a:lnTo>
                  <a:pt x="2128" y="536"/>
                </a:lnTo>
                <a:lnTo>
                  <a:pt x="2114" y="538"/>
                </a:lnTo>
                <a:lnTo>
                  <a:pt x="2103" y="540"/>
                </a:lnTo>
                <a:lnTo>
                  <a:pt x="2089" y="542"/>
                </a:lnTo>
                <a:lnTo>
                  <a:pt x="2080" y="542"/>
                </a:lnTo>
                <a:lnTo>
                  <a:pt x="2068" y="543"/>
                </a:lnTo>
                <a:lnTo>
                  <a:pt x="2059" y="543"/>
                </a:lnTo>
                <a:lnTo>
                  <a:pt x="2051" y="543"/>
                </a:lnTo>
                <a:lnTo>
                  <a:pt x="2043" y="542"/>
                </a:lnTo>
                <a:lnTo>
                  <a:pt x="2036" y="542"/>
                </a:lnTo>
                <a:lnTo>
                  <a:pt x="2030" y="540"/>
                </a:lnTo>
                <a:lnTo>
                  <a:pt x="2024" y="538"/>
                </a:lnTo>
                <a:lnTo>
                  <a:pt x="2018" y="536"/>
                </a:lnTo>
                <a:lnTo>
                  <a:pt x="2014" y="532"/>
                </a:lnTo>
                <a:lnTo>
                  <a:pt x="2011" y="528"/>
                </a:lnTo>
                <a:lnTo>
                  <a:pt x="2009" y="524"/>
                </a:lnTo>
                <a:lnTo>
                  <a:pt x="2007" y="520"/>
                </a:lnTo>
                <a:lnTo>
                  <a:pt x="2003" y="519"/>
                </a:lnTo>
                <a:lnTo>
                  <a:pt x="2001" y="515"/>
                </a:lnTo>
                <a:lnTo>
                  <a:pt x="1997" y="509"/>
                </a:lnTo>
                <a:lnTo>
                  <a:pt x="1997" y="501"/>
                </a:lnTo>
                <a:lnTo>
                  <a:pt x="1997" y="494"/>
                </a:lnTo>
                <a:lnTo>
                  <a:pt x="1999" y="486"/>
                </a:lnTo>
                <a:lnTo>
                  <a:pt x="2003" y="478"/>
                </a:lnTo>
                <a:lnTo>
                  <a:pt x="2009" y="469"/>
                </a:lnTo>
                <a:lnTo>
                  <a:pt x="2016" y="459"/>
                </a:lnTo>
                <a:lnTo>
                  <a:pt x="2026" y="449"/>
                </a:lnTo>
                <a:lnTo>
                  <a:pt x="2038" y="438"/>
                </a:lnTo>
                <a:lnTo>
                  <a:pt x="2049" y="428"/>
                </a:lnTo>
                <a:lnTo>
                  <a:pt x="2064" y="415"/>
                </a:lnTo>
                <a:lnTo>
                  <a:pt x="2080" y="403"/>
                </a:lnTo>
                <a:lnTo>
                  <a:pt x="2097" y="390"/>
                </a:lnTo>
                <a:lnTo>
                  <a:pt x="2116" y="377"/>
                </a:lnTo>
                <a:lnTo>
                  <a:pt x="2137" y="361"/>
                </a:lnTo>
                <a:lnTo>
                  <a:pt x="2158" y="346"/>
                </a:lnTo>
                <a:lnTo>
                  <a:pt x="2180" y="332"/>
                </a:lnTo>
                <a:lnTo>
                  <a:pt x="2199" y="319"/>
                </a:lnTo>
                <a:lnTo>
                  <a:pt x="2218" y="307"/>
                </a:lnTo>
                <a:lnTo>
                  <a:pt x="2235" y="294"/>
                </a:lnTo>
                <a:lnTo>
                  <a:pt x="2252" y="283"/>
                </a:lnTo>
                <a:lnTo>
                  <a:pt x="2270" y="271"/>
                </a:lnTo>
                <a:lnTo>
                  <a:pt x="2285" y="261"/>
                </a:lnTo>
                <a:lnTo>
                  <a:pt x="2300" y="252"/>
                </a:lnTo>
                <a:lnTo>
                  <a:pt x="2316" y="240"/>
                </a:lnTo>
                <a:lnTo>
                  <a:pt x="2329" y="231"/>
                </a:lnTo>
                <a:lnTo>
                  <a:pt x="2341" y="223"/>
                </a:lnTo>
                <a:lnTo>
                  <a:pt x="2354" y="213"/>
                </a:lnTo>
                <a:lnTo>
                  <a:pt x="2364" y="204"/>
                </a:lnTo>
                <a:lnTo>
                  <a:pt x="2375" y="194"/>
                </a:lnTo>
                <a:lnTo>
                  <a:pt x="2385" y="187"/>
                </a:lnTo>
                <a:lnTo>
                  <a:pt x="2393" y="179"/>
                </a:lnTo>
                <a:lnTo>
                  <a:pt x="2400" y="173"/>
                </a:lnTo>
                <a:lnTo>
                  <a:pt x="2408" y="167"/>
                </a:lnTo>
                <a:lnTo>
                  <a:pt x="2412" y="162"/>
                </a:lnTo>
                <a:lnTo>
                  <a:pt x="2417" y="156"/>
                </a:lnTo>
                <a:lnTo>
                  <a:pt x="2421" y="150"/>
                </a:lnTo>
                <a:lnTo>
                  <a:pt x="2423" y="144"/>
                </a:lnTo>
                <a:lnTo>
                  <a:pt x="2425" y="139"/>
                </a:lnTo>
                <a:lnTo>
                  <a:pt x="2427" y="131"/>
                </a:lnTo>
                <a:lnTo>
                  <a:pt x="2427" y="125"/>
                </a:lnTo>
                <a:lnTo>
                  <a:pt x="2427" y="119"/>
                </a:lnTo>
                <a:lnTo>
                  <a:pt x="2425" y="114"/>
                </a:lnTo>
                <a:lnTo>
                  <a:pt x="2425" y="108"/>
                </a:lnTo>
                <a:lnTo>
                  <a:pt x="2423" y="102"/>
                </a:lnTo>
                <a:lnTo>
                  <a:pt x="2419" y="96"/>
                </a:lnTo>
                <a:lnTo>
                  <a:pt x="2417" y="91"/>
                </a:lnTo>
                <a:lnTo>
                  <a:pt x="2412" y="77"/>
                </a:lnTo>
                <a:lnTo>
                  <a:pt x="2410" y="71"/>
                </a:lnTo>
                <a:lnTo>
                  <a:pt x="2408" y="66"/>
                </a:lnTo>
                <a:lnTo>
                  <a:pt x="2408" y="60"/>
                </a:lnTo>
                <a:lnTo>
                  <a:pt x="2408" y="54"/>
                </a:lnTo>
                <a:lnTo>
                  <a:pt x="2408" y="50"/>
                </a:lnTo>
                <a:lnTo>
                  <a:pt x="2410" y="45"/>
                </a:lnTo>
                <a:lnTo>
                  <a:pt x="2412" y="39"/>
                </a:lnTo>
                <a:lnTo>
                  <a:pt x="2414" y="35"/>
                </a:lnTo>
                <a:lnTo>
                  <a:pt x="2417" y="29"/>
                </a:lnTo>
                <a:lnTo>
                  <a:pt x="2421" y="25"/>
                </a:lnTo>
                <a:lnTo>
                  <a:pt x="2427" y="22"/>
                </a:lnTo>
                <a:lnTo>
                  <a:pt x="2435" y="18"/>
                </a:lnTo>
                <a:lnTo>
                  <a:pt x="2442" y="14"/>
                </a:lnTo>
                <a:lnTo>
                  <a:pt x="2450" y="10"/>
                </a:lnTo>
                <a:lnTo>
                  <a:pt x="2469" y="4"/>
                </a:lnTo>
                <a:lnTo>
                  <a:pt x="2479" y="2"/>
                </a:lnTo>
                <a:lnTo>
                  <a:pt x="2490" y="0"/>
                </a:lnTo>
                <a:lnTo>
                  <a:pt x="2502" y="0"/>
                </a:lnTo>
                <a:lnTo>
                  <a:pt x="2513" y="0"/>
                </a:lnTo>
                <a:lnTo>
                  <a:pt x="2525" y="0"/>
                </a:lnTo>
                <a:lnTo>
                  <a:pt x="2538" y="0"/>
                </a:lnTo>
                <a:lnTo>
                  <a:pt x="2552" y="0"/>
                </a:lnTo>
                <a:lnTo>
                  <a:pt x="2565" y="2"/>
                </a:lnTo>
                <a:lnTo>
                  <a:pt x="2581" y="4"/>
                </a:lnTo>
                <a:lnTo>
                  <a:pt x="2596" y="8"/>
                </a:lnTo>
                <a:lnTo>
                  <a:pt x="2611" y="12"/>
                </a:lnTo>
                <a:lnTo>
                  <a:pt x="2629" y="16"/>
                </a:lnTo>
                <a:lnTo>
                  <a:pt x="2646" y="20"/>
                </a:lnTo>
                <a:lnTo>
                  <a:pt x="2663" y="25"/>
                </a:lnTo>
                <a:lnTo>
                  <a:pt x="2682" y="33"/>
                </a:lnTo>
                <a:lnTo>
                  <a:pt x="2698" y="39"/>
                </a:lnTo>
                <a:lnTo>
                  <a:pt x="2715" y="46"/>
                </a:lnTo>
                <a:lnTo>
                  <a:pt x="2728" y="54"/>
                </a:lnTo>
                <a:lnTo>
                  <a:pt x="2742" y="62"/>
                </a:lnTo>
                <a:lnTo>
                  <a:pt x="2753" y="70"/>
                </a:lnTo>
                <a:lnTo>
                  <a:pt x="2765" y="79"/>
                </a:lnTo>
                <a:lnTo>
                  <a:pt x="2774" y="89"/>
                </a:lnTo>
                <a:lnTo>
                  <a:pt x="2784" y="98"/>
                </a:lnTo>
                <a:lnTo>
                  <a:pt x="2792" y="108"/>
                </a:lnTo>
                <a:lnTo>
                  <a:pt x="2797" y="119"/>
                </a:lnTo>
                <a:lnTo>
                  <a:pt x="2803" y="131"/>
                </a:lnTo>
                <a:lnTo>
                  <a:pt x="2807" y="144"/>
                </a:lnTo>
                <a:lnTo>
                  <a:pt x="2809" y="158"/>
                </a:lnTo>
                <a:lnTo>
                  <a:pt x="2811" y="171"/>
                </a:lnTo>
                <a:lnTo>
                  <a:pt x="2813" y="187"/>
                </a:lnTo>
                <a:lnTo>
                  <a:pt x="2813" y="18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49560" y="1760400"/>
            <a:ext cx="436680" cy="355680"/>
          </a:xfrm>
          <a:custGeom>
            <a:avLst/>
            <a:gdLst/>
            <a:ahLst/>
            <a:rect l="l" t="t" r="r" b="b"/>
            <a:pathLst>
              <a:path w="548" h="449">
                <a:moveTo>
                  <a:pt x="7" y="71"/>
                </a:moveTo>
                <a:lnTo>
                  <a:pt x="7" y="65"/>
                </a:lnTo>
                <a:lnTo>
                  <a:pt x="7" y="59"/>
                </a:lnTo>
                <a:lnTo>
                  <a:pt x="9" y="54"/>
                </a:lnTo>
                <a:lnTo>
                  <a:pt x="13" y="50"/>
                </a:lnTo>
                <a:lnTo>
                  <a:pt x="17" y="46"/>
                </a:lnTo>
                <a:lnTo>
                  <a:pt x="21" y="40"/>
                </a:lnTo>
                <a:lnTo>
                  <a:pt x="26" y="36"/>
                </a:lnTo>
                <a:lnTo>
                  <a:pt x="32" y="33"/>
                </a:lnTo>
                <a:lnTo>
                  <a:pt x="40" y="29"/>
                </a:lnTo>
                <a:lnTo>
                  <a:pt x="49" y="27"/>
                </a:lnTo>
                <a:lnTo>
                  <a:pt x="59" y="23"/>
                </a:lnTo>
                <a:lnTo>
                  <a:pt x="69" y="19"/>
                </a:lnTo>
                <a:lnTo>
                  <a:pt x="80" y="15"/>
                </a:lnTo>
                <a:lnTo>
                  <a:pt x="94" y="13"/>
                </a:lnTo>
                <a:lnTo>
                  <a:pt x="107" y="10"/>
                </a:lnTo>
                <a:lnTo>
                  <a:pt x="120" y="8"/>
                </a:lnTo>
                <a:lnTo>
                  <a:pt x="134" y="4"/>
                </a:lnTo>
                <a:lnTo>
                  <a:pt x="147" y="2"/>
                </a:lnTo>
                <a:lnTo>
                  <a:pt x="161" y="2"/>
                </a:lnTo>
                <a:lnTo>
                  <a:pt x="174" y="0"/>
                </a:lnTo>
                <a:lnTo>
                  <a:pt x="188" y="2"/>
                </a:lnTo>
                <a:lnTo>
                  <a:pt x="203" y="2"/>
                </a:lnTo>
                <a:lnTo>
                  <a:pt x="218" y="4"/>
                </a:lnTo>
                <a:lnTo>
                  <a:pt x="234" y="6"/>
                </a:lnTo>
                <a:lnTo>
                  <a:pt x="251" y="10"/>
                </a:lnTo>
                <a:lnTo>
                  <a:pt x="268" y="13"/>
                </a:lnTo>
                <a:lnTo>
                  <a:pt x="286" y="19"/>
                </a:lnTo>
                <a:lnTo>
                  <a:pt x="305" y="25"/>
                </a:lnTo>
                <a:lnTo>
                  <a:pt x="324" y="31"/>
                </a:lnTo>
                <a:lnTo>
                  <a:pt x="343" y="38"/>
                </a:lnTo>
                <a:lnTo>
                  <a:pt x="364" y="46"/>
                </a:lnTo>
                <a:lnTo>
                  <a:pt x="385" y="56"/>
                </a:lnTo>
                <a:lnTo>
                  <a:pt x="403" y="63"/>
                </a:lnTo>
                <a:lnTo>
                  <a:pt x="420" y="73"/>
                </a:lnTo>
                <a:lnTo>
                  <a:pt x="435" y="84"/>
                </a:lnTo>
                <a:lnTo>
                  <a:pt x="449" y="94"/>
                </a:lnTo>
                <a:lnTo>
                  <a:pt x="462" y="105"/>
                </a:lnTo>
                <a:lnTo>
                  <a:pt x="475" y="115"/>
                </a:lnTo>
                <a:lnTo>
                  <a:pt x="487" y="127"/>
                </a:lnTo>
                <a:lnTo>
                  <a:pt x="497" y="138"/>
                </a:lnTo>
                <a:lnTo>
                  <a:pt x="506" y="152"/>
                </a:lnTo>
                <a:lnTo>
                  <a:pt x="516" y="163"/>
                </a:lnTo>
                <a:lnTo>
                  <a:pt x="523" y="176"/>
                </a:lnTo>
                <a:lnTo>
                  <a:pt x="531" y="190"/>
                </a:lnTo>
                <a:lnTo>
                  <a:pt x="537" y="203"/>
                </a:lnTo>
                <a:lnTo>
                  <a:pt x="541" y="217"/>
                </a:lnTo>
                <a:lnTo>
                  <a:pt x="545" y="232"/>
                </a:lnTo>
                <a:lnTo>
                  <a:pt x="548" y="246"/>
                </a:lnTo>
                <a:lnTo>
                  <a:pt x="548" y="276"/>
                </a:lnTo>
                <a:lnTo>
                  <a:pt x="546" y="303"/>
                </a:lnTo>
                <a:lnTo>
                  <a:pt x="545" y="317"/>
                </a:lnTo>
                <a:lnTo>
                  <a:pt x="543" y="328"/>
                </a:lnTo>
                <a:lnTo>
                  <a:pt x="539" y="340"/>
                </a:lnTo>
                <a:lnTo>
                  <a:pt x="537" y="351"/>
                </a:lnTo>
                <a:lnTo>
                  <a:pt x="533" y="363"/>
                </a:lnTo>
                <a:lnTo>
                  <a:pt x="529" y="374"/>
                </a:lnTo>
                <a:lnTo>
                  <a:pt x="525" y="384"/>
                </a:lnTo>
                <a:lnTo>
                  <a:pt x="522" y="391"/>
                </a:lnTo>
                <a:lnTo>
                  <a:pt x="516" y="401"/>
                </a:lnTo>
                <a:lnTo>
                  <a:pt x="512" y="409"/>
                </a:lnTo>
                <a:lnTo>
                  <a:pt x="506" y="416"/>
                </a:lnTo>
                <a:lnTo>
                  <a:pt x="500" y="422"/>
                </a:lnTo>
                <a:lnTo>
                  <a:pt x="491" y="430"/>
                </a:lnTo>
                <a:lnTo>
                  <a:pt x="481" y="437"/>
                </a:lnTo>
                <a:lnTo>
                  <a:pt x="470" y="443"/>
                </a:lnTo>
                <a:lnTo>
                  <a:pt x="460" y="447"/>
                </a:lnTo>
                <a:lnTo>
                  <a:pt x="447" y="449"/>
                </a:lnTo>
                <a:lnTo>
                  <a:pt x="435" y="449"/>
                </a:lnTo>
                <a:lnTo>
                  <a:pt x="422" y="449"/>
                </a:lnTo>
                <a:lnTo>
                  <a:pt x="408" y="447"/>
                </a:lnTo>
                <a:lnTo>
                  <a:pt x="395" y="443"/>
                </a:lnTo>
                <a:lnTo>
                  <a:pt x="380" y="437"/>
                </a:lnTo>
                <a:lnTo>
                  <a:pt x="364" y="430"/>
                </a:lnTo>
                <a:lnTo>
                  <a:pt x="347" y="422"/>
                </a:lnTo>
                <a:lnTo>
                  <a:pt x="330" y="412"/>
                </a:lnTo>
                <a:lnTo>
                  <a:pt x="310" y="401"/>
                </a:lnTo>
                <a:lnTo>
                  <a:pt x="291" y="388"/>
                </a:lnTo>
                <a:lnTo>
                  <a:pt x="270" y="374"/>
                </a:lnTo>
                <a:lnTo>
                  <a:pt x="249" y="359"/>
                </a:lnTo>
                <a:lnTo>
                  <a:pt x="228" y="345"/>
                </a:lnTo>
                <a:lnTo>
                  <a:pt x="211" y="330"/>
                </a:lnTo>
                <a:lnTo>
                  <a:pt x="191" y="317"/>
                </a:lnTo>
                <a:lnTo>
                  <a:pt x="176" y="303"/>
                </a:lnTo>
                <a:lnTo>
                  <a:pt x="161" y="290"/>
                </a:lnTo>
                <a:lnTo>
                  <a:pt x="145" y="278"/>
                </a:lnTo>
                <a:lnTo>
                  <a:pt x="132" y="267"/>
                </a:lnTo>
                <a:lnTo>
                  <a:pt x="119" y="255"/>
                </a:lnTo>
                <a:lnTo>
                  <a:pt x="107" y="244"/>
                </a:lnTo>
                <a:lnTo>
                  <a:pt x="96" y="232"/>
                </a:lnTo>
                <a:lnTo>
                  <a:pt x="86" y="221"/>
                </a:lnTo>
                <a:lnTo>
                  <a:pt x="78" y="211"/>
                </a:lnTo>
                <a:lnTo>
                  <a:pt x="69" y="201"/>
                </a:lnTo>
                <a:lnTo>
                  <a:pt x="63" y="192"/>
                </a:lnTo>
                <a:lnTo>
                  <a:pt x="55" y="182"/>
                </a:lnTo>
                <a:lnTo>
                  <a:pt x="48" y="175"/>
                </a:lnTo>
                <a:lnTo>
                  <a:pt x="38" y="165"/>
                </a:lnTo>
                <a:lnTo>
                  <a:pt x="32" y="157"/>
                </a:lnTo>
                <a:lnTo>
                  <a:pt x="25" y="150"/>
                </a:lnTo>
                <a:lnTo>
                  <a:pt x="19" y="142"/>
                </a:lnTo>
                <a:lnTo>
                  <a:pt x="15" y="134"/>
                </a:lnTo>
                <a:lnTo>
                  <a:pt x="9" y="127"/>
                </a:lnTo>
                <a:lnTo>
                  <a:pt x="7" y="121"/>
                </a:lnTo>
                <a:lnTo>
                  <a:pt x="3" y="113"/>
                </a:lnTo>
                <a:lnTo>
                  <a:pt x="2" y="107"/>
                </a:lnTo>
                <a:lnTo>
                  <a:pt x="2" y="102"/>
                </a:lnTo>
                <a:lnTo>
                  <a:pt x="0" y="96"/>
                </a:lnTo>
                <a:lnTo>
                  <a:pt x="2" y="88"/>
                </a:lnTo>
                <a:lnTo>
                  <a:pt x="2" y="82"/>
                </a:lnTo>
                <a:lnTo>
                  <a:pt x="3" y="77"/>
                </a:lnTo>
                <a:lnTo>
                  <a:pt x="7" y="71"/>
                </a:lnTo>
                <a:lnTo>
                  <a:pt x="7" y="71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994040"/>
            <a:ext cx="2236680" cy="404640"/>
          </a:xfrm>
          <a:custGeom>
            <a:avLst/>
            <a:gdLst/>
            <a:ahLst/>
            <a:rect l="l" t="t" r="r" b="b"/>
            <a:pathLst>
              <a:path w="2817" h="510">
                <a:moveTo>
                  <a:pt x="1190" y="143"/>
                </a:moveTo>
                <a:lnTo>
                  <a:pt x="1282" y="132"/>
                </a:lnTo>
                <a:lnTo>
                  <a:pt x="1370" y="120"/>
                </a:lnTo>
                <a:lnTo>
                  <a:pt x="1416" y="115"/>
                </a:lnTo>
                <a:lnTo>
                  <a:pt x="1459" y="107"/>
                </a:lnTo>
                <a:lnTo>
                  <a:pt x="1503" y="101"/>
                </a:lnTo>
                <a:lnTo>
                  <a:pt x="1545" y="95"/>
                </a:lnTo>
                <a:lnTo>
                  <a:pt x="1587" y="90"/>
                </a:lnTo>
                <a:lnTo>
                  <a:pt x="1629" y="84"/>
                </a:lnTo>
                <a:lnTo>
                  <a:pt x="1670" y="78"/>
                </a:lnTo>
                <a:lnTo>
                  <a:pt x="1710" y="72"/>
                </a:lnTo>
                <a:lnTo>
                  <a:pt x="1750" y="67"/>
                </a:lnTo>
                <a:lnTo>
                  <a:pt x="1789" y="61"/>
                </a:lnTo>
                <a:lnTo>
                  <a:pt x="1827" y="53"/>
                </a:lnTo>
                <a:lnTo>
                  <a:pt x="1864" y="47"/>
                </a:lnTo>
                <a:lnTo>
                  <a:pt x="1936" y="36"/>
                </a:lnTo>
                <a:lnTo>
                  <a:pt x="1973" y="32"/>
                </a:lnTo>
                <a:lnTo>
                  <a:pt x="2009" y="26"/>
                </a:lnTo>
                <a:lnTo>
                  <a:pt x="2044" y="23"/>
                </a:lnTo>
                <a:lnTo>
                  <a:pt x="2078" y="19"/>
                </a:lnTo>
                <a:lnTo>
                  <a:pt x="2113" y="15"/>
                </a:lnTo>
                <a:lnTo>
                  <a:pt x="2146" y="11"/>
                </a:lnTo>
                <a:lnTo>
                  <a:pt x="2178" y="9"/>
                </a:lnTo>
                <a:lnTo>
                  <a:pt x="2211" y="7"/>
                </a:lnTo>
                <a:lnTo>
                  <a:pt x="2242" y="5"/>
                </a:lnTo>
                <a:lnTo>
                  <a:pt x="2272" y="3"/>
                </a:lnTo>
                <a:lnTo>
                  <a:pt x="2303" y="1"/>
                </a:lnTo>
                <a:lnTo>
                  <a:pt x="2334" y="1"/>
                </a:lnTo>
                <a:lnTo>
                  <a:pt x="2362" y="0"/>
                </a:lnTo>
                <a:lnTo>
                  <a:pt x="2389" y="0"/>
                </a:lnTo>
                <a:lnTo>
                  <a:pt x="2418" y="0"/>
                </a:lnTo>
                <a:lnTo>
                  <a:pt x="2445" y="1"/>
                </a:lnTo>
                <a:lnTo>
                  <a:pt x="2470" y="1"/>
                </a:lnTo>
                <a:lnTo>
                  <a:pt x="2495" y="3"/>
                </a:lnTo>
                <a:lnTo>
                  <a:pt x="2520" y="5"/>
                </a:lnTo>
                <a:lnTo>
                  <a:pt x="2543" y="7"/>
                </a:lnTo>
                <a:lnTo>
                  <a:pt x="2564" y="11"/>
                </a:lnTo>
                <a:lnTo>
                  <a:pt x="2585" y="13"/>
                </a:lnTo>
                <a:lnTo>
                  <a:pt x="2606" y="19"/>
                </a:lnTo>
                <a:lnTo>
                  <a:pt x="2625" y="23"/>
                </a:lnTo>
                <a:lnTo>
                  <a:pt x="2645" y="28"/>
                </a:lnTo>
                <a:lnTo>
                  <a:pt x="2662" y="34"/>
                </a:lnTo>
                <a:lnTo>
                  <a:pt x="2677" y="40"/>
                </a:lnTo>
                <a:lnTo>
                  <a:pt x="2693" y="47"/>
                </a:lnTo>
                <a:lnTo>
                  <a:pt x="2706" y="55"/>
                </a:lnTo>
                <a:lnTo>
                  <a:pt x="2719" y="65"/>
                </a:lnTo>
                <a:lnTo>
                  <a:pt x="2731" y="72"/>
                </a:lnTo>
                <a:lnTo>
                  <a:pt x="2742" y="82"/>
                </a:lnTo>
                <a:lnTo>
                  <a:pt x="2752" y="92"/>
                </a:lnTo>
                <a:lnTo>
                  <a:pt x="2762" y="99"/>
                </a:lnTo>
                <a:lnTo>
                  <a:pt x="2771" y="109"/>
                </a:lnTo>
                <a:lnTo>
                  <a:pt x="2779" y="117"/>
                </a:lnTo>
                <a:lnTo>
                  <a:pt x="2787" y="126"/>
                </a:lnTo>
                <a:lnTo>
                  <a:pt x="2792" y="134"/>
                </a:lnTo>
                <a:lnTo>
                  <a:pt x="2798" y="142"/>
                </a:lnTo>
                <a:lnTo>
                  <a:pt x="2804" y="149"/>
                </a:lnTo>
                <a:lnTo>
                  <a:pt x="2808" y="157"/>
                </a:lnTo>
                <a:lnTo>
                  <a:pt x="2811" y="165"/>
                </a:lnTo>
                <a:lnTo>
                  <a:pt x="2813" y="172"/>
                </a:lnTo>
                <a:lnTo>
                  <a:pt x="2815" y="180"/>
                </a:lnTo>
                <a:lnTo>
                  <a:pt x="2817" y="186"/>
                </a:lnTo>
                <a:lnTo>
                  <a:pt x="2817" y="191"/>
                </a:lnTo>
                <a:lnTo>
                  <a:pt x="2817" y="203"/>
                </a:lnTo>
                <a:lnTo>
                  <a:pt x="2815" y="213"/>
                </a:lnTo>
                <a:lnTo>
                  <a:pt x="2811" y="222"/>
                </a:lnTo>
                <a:lnTo>
                  <a:pt x="2808" y="230"/>
                </a:lnTo>
                <a:lnTo>
                  <a:pt x="2802" y="237"/>
                </a:lnTo>
                <a:lnTo>
                  <a:pt x="2796" y="243"/>
                </a:lnTo>
                <a:lnTo>
                  <a:pt x="2785" y="255"/>
                </a:lnTo>
                <a:lnTo>
                  <a:pt x="2781" y="257"/>
                </a:lnTo>
                <a:lnTo>
                  <a:pt x="2777" y="259"/>
                </a:lnTo>
                <a:lnTo>
                  <a:pt x="2773" y="260"/>
                </a:lnTo>
                <a:lnTo>
                  <a:pt x="2767" y="262"/>
                </a:lnTo>
                <a:lnTo>
                  <a:pt x="2762" y="262"/>
                </a:lnTo>
                <a:lnTo>
                  <a:pt x="2754" y="264"/>
                </a:lnTo>
                <a:lnTo>
                  <a:pt x="2746" y="266"/>
                </a:lnTo>
                <a:lnTo>
                  <a:pt x="2739" y="268"/>
                </a:lnTo>
                <a:lnTo>
                  <a:pt x="2729" y="268"/>
                </a:lnTo>
                <a:lnTo>
                  <a:pt x="2719" y="270"/>
                </a:lnTo>
                <a:lnTo>
                  <a:pt x="2710" y="272"/>
                </a:lnTo>
                <a:lnTo>
                  <a:pt x="2698" y="272"/>
                </a:lnTo>
                <a:lnTo>
                  <a:pt x="2687" y="274"/>
                </a:lnTo>
                <a:lnTo>
                  <a:pt x="2675" y="276"/>
                </a:lnTo>
                <a:lnTo>
                  <a:pt x="2662" y="276"/>
                </a:lnTo>
                <a:lnTo>
                  <a:pt x="2646" y="278"/>
                </a:lnTo>
                <a:lnTo>
                  <a:pt x="2633" y="278"/>
                </a:lnTo>
                <a:lnTo>
                  <a:pt x="2618" y="280"/>
                </a:lnTo>
                <a:lnTo>
                  <a:pt x="2600" y="282"/>
                </a:lnTo>
                <a:lnTo>
                  <a:pt x="2585" y="282"/>
                </a:lnTo>
                <a:lnTo>
                  <a:pt x="2568" y="282"/>
                </a:lnTo>
                <a:lnTo>
                  <a:pt x="2549" y="284"/>
                </a:lnTo>
                <a:lnTo>
                  <a:pt x="2529" y="284"/>
                </a:lnTo>
                <a:lnTo>
                  <a:pt x="2510" y="285"/>
                </a:lnTo>
                <a:lnTo>
                  <a:pt x="2489" y="285"/>
                </a:lnTo>
                <a:lnTo>
                  <a:pt x="2468" y="285"/>
                </a:lnTo>
                <a:lnTo>
                  <a:pt x="2445" y="285"/>
                </a:lnTo>
                <a:lnTo>
                  <a:pt x="2424" y="287"/>
                </a:lnTo>
                <a:lnTo>
                  <a:pt x="2399" y="287"/>
                </a:lnTo>
                <a:lnTo>
                  <a:pt x="2376" y="287"/>
                </a:lnTo>
                <a:lnTo>
                  <a:pt x="2351" y="287"/>
                </a:lnTo>
                <a:lnTo>
                  <a:pt x="2324" y="287"/>
                </a:lnTo>
                <a:lnTo>
                  <a:pt x="2270" y="287"/>
                </a:lnTo>
                <a:lnTo>
                  <a:pt x="2217" y="289"/>
                </a:lnTo>
                <a:lnTo>
                  <a:pt x="2159" y="291"/>
                </a:lnTo>
                <a:lnTo>
                  <a:pt x="2102" y="293"/>
                </a:lnTo>
                <a:lnTo>
                  <a:pt x="2042" y="297"/>
                </a:lnTo>
                <a:lnTo>
                  <a:pt x="1981" y="299"/>
                </a:lnTo>
                <a:lnTo>
                  <a:pt x="1917" y="305"/>
                </a:lnTo>
                <a:lnTo>
                  <a:pt x="1854" y="308"/>
                </a:lnTo>
                <a:lnTo>
                  <a:pt x="1787" y="314"/>
                </a:lnTo>
                <a:lnTo>
                  <a:pt x="1720" y="320"/>
                </a:lnTo>
                <a:lnTo>
                  <a:pt x="1649" y="328"/>
                </a:lnTo>
                <a:lnTo>
                  <a:pt x="1578" y="333"/>
                </a:lnTo>
                <a:lnTo>
                  <a:pt x="1503" y="341"/>
                </a:lnTo>
                <a:lnTo>
                  <a:pt x="1428" y="351"/>
                </a:lnTo>
                <a:lnTo>
                  <a:pt x="1351" y="358"/>
                </a:lnTo>
                <a:lnTo>
                  <a:pt x="1311" y="362"/>
                </a:lnTo>
                <a:lnTo>
                  <a:pt x="1273" y="368"/>
                </a:lnTo>
                <a:lnTo>
                  <a:pt x="1232" y="372"/>
                </a:lnTo>
                <a:lnTo>
                  <a:pt x="1194" y="376"/>
                </a:lnTo>
                <a:lnTo>
                  <a:pt x="1156" y="381"/>
                </a:lnTo>
                <a:lnTo>
                  <a:pt x="1119" y="385"/>
                </a:lnTo>
                <a:lnTo>
                  <a:pt x="1083" y="389"/>
                </a:lnTo>
                <a:lnTo>
                  <a:pt x="1048" y="395"/>
                </a:lnTo>
                <a:lnTo>
                  <a:pt x="1015" y="399"/>
                </a:lnTo>
                <a:lnTo>
                  <a:pt x="983" y="402"/>
                </a:lnTo>
                <a:lnTo>
                  <a:pt x="950" y="406"/>
                </a:lnTo>
                <a:lnTo>
                  <a:pt x="919" y="412"/>
                </a:lnTo>
                <a:lnTo>
                  <a:pt x="889" y="416"/>
                </a:lnTo>
                <a:lnTo>
                  <a:pt x="860" y="420"/>
                </a:lnTo>
                <a:lnTo>
                  <a:pt x="831" y="424"/>
                </a:lnTo>
                <a:lnTo>
                  <a:pt x="804" y="427"/>
                </a:lnTo>
                <a:lnTo>
                  <a:pt x="779" y="431"/>
                </a:lnTo>
                <a:lnTo>
                  <a:pt x="754" y="435"/>
                </a:lnTo>
                <a:lnTo>
                  <a:pt x="730" y="439"/>
                </a:lnTo>
                <a:lnTo>
                  <a:pt x="706" y="443"/>
                </a:lnTo>
                <a:lnTo>
                  <a:pt x="683" y="447"/>
                </a:lnTo>
                <a:lnTo>
                  <a:pt x="662" y="449"/>
                </a:lnTo>
                <a:lnTo>
                  <a:pt x="643" y="452"/>
                </a:lnTo>
                <a:lnTo>
                  <a:pt x="624" y="456"/>
                </a:lnTo>
                <a:lnTo>
                  <a:pt x="605" y="458"/>
                </a:lnTo>
                <a:lnTo>
                  <a:pt x="588" y="462"/>
                </a:lnTo>
                <a:lnTo>
                  <a:pt x="570" y="464"/>
                </a:lnTo>
                <a:lnTo>
                  <a:pt x="555" y="466"/>
                </a:lnTo>
                <a:lnTo>
                  <a:pt x="541" y="470"/>
                </a:lnTo>
                <a:lnTo>
                  <a:pt x="526" y="472"/>
                </a:lnTo>
                <a:lnTo>
                  <a:pt x="515" y="473"/>
                </a:lnTo>
                <a:lnTo>
                  <a:pt x="503" y="475"/>
                </a:lnTo>
                <a:lnTo>
                  <a:pt x="492" y="477"/>
                </a:lnTo>
                <a:lnTo>
                  <a:pt x="482" y="479"/>
                </a:lnTo>
                <a:lnTo>
                  <a:pt x="465" y="481"/>
                </a:lnTo>
                <a:lnTo>
                  <a:pt x="447" y="485"/>
                </a:lnTo>
                <a:lnTo>
                  <a:pt x="430" y="489"/>
                </a:lnTo>
                <a:lnTo>
                  <a:pt x="415" y="491"/>
                </a:lnTo>
                <a:lnTo>
                  <a:pt x="399" y="493"/>
                </a:lnTo>
                <a:lnTo>
                  <a:pt x="384" y="497"/>
                </a:lnTo>
                <a:lnTo>
                  <a:pt x="371" y="498"/>
                </a:lnTo>
                <a:lnTo>
                  <a:pt x="357" y="500"/>
                </a:lnTo>
                <a:lnTo>
                  <a:pt x="344" y="502"/>
                </a:lnTo>
                <a:lnTo>
                  <a:pt x="332" y="504"/>
                </a:lnTo>
                <a:lnTo>
                  <a:pt x="321" y="506"/>
                </a:lnTo>
                <a:lnTo>
                  <a:pt x="309" y="508"/>
                </a:lnTo>
                <a:lnTo>
                  <a:pt x="288" y="510"/>
                </a:lnTo>
                <a:lnTo>
                  <a:pt x="269" y="510"/>
                </a:lnTo>
                <a:lnTo>
                  <a:pt x="259" y="510"/>
                </a:lnTo>
                <a:lnTo>
                  <a:pt x="250" y="510"/>
                </a:lnTo>
                <a:lnTo>
                  <a:pt x="240" y="508"/>
                </a:lnTo>
                <a:lnTo>
                  <a:pt x="231" y="504"/>
                </a:lnTo>
                <a:lnTo>
                  <a:pt x="221" y="502"/>
                </a:lnTo>
                <a:lnTo>
                  <a:pt x="211" y="498"/>
                </a:lnTo>
                <a:lnTo>
                  <a:pt x="202" y="495"/>
                </a:lnTo>
                <a:lnTo>
                  <a:pt x="190" y="489"/>
                </a:lnTo>
                <a:lnTo>
                  <a:pt x="179" y="483"/>
                </a:lnTo>
                <a:lnTo>
                  <a:pt x="167" y="477"/>
                </a:lnTo>
                <a:lnTo>
                  <a:pt x="156" y="472"/>
                </a:lnTo>
                <a:lnTo>
                  <a:pt x="144" y="464"/>
                </a:lnTo>
                <a:lnTo>
                  <a:pt x="131" y="456"/>
                </a:lnTo>
                <a:lnTo>
                  <a:pt x="117" y="449"/>
                </a:lnTo>
                <a:lnTo>
                  <a:pt x="102" y="441"/>
                </a:lnTo>
                <a:lnTo>
                  <a:pt x="89" y="431"/>
                </a:lnTo>
                <a:lnTo>
                  <a:pt x="73" y="422"/>
                </a:lnTo>
                <a:lnTo>
                  <a:pt x="60" y="412"/>
                </a:lnTo>
                <a:lnTo>
                  <a:pt x="48" y="404"/>
                </a:lnTo>
                <a:lnTo>
                  <a:pt x="39" y="395"/>
                </a:lnTo>
                <a:lnTo>
                  <a:pt x="29" y="387"/>
                </a:lnTo>
                <a:lnTo>
                  <a:pt x="21" y="378"/>
                </a:lnTo>
                <a:lnTo>
                  <a:pt x="16" y="370"/>
                </a:lnTo>
                <a:lnTo>
                  <a:pt x="10" y="360"/>
                </a:lnTo>
                <a:lnTo>
                  <a:pt x="6" y="353"/>
                </a:lnTo>
                <a:lnTo>
                  <a:pt x="2" y="345"/>
                </a:lnTo>
                <a:lnTo>
                  <a:pt x="0" y="337"/>
                </a:lnTo>
                <a:lnTo>
                  <a:pt x="0" y="330"/>
                </a:lnTo>
                <a:lnTo>
                  <a:pt x="0" y="324"/>
                </a:lnTo>
                <a:lnTo>
                  <a:pt x="0" y="316"/>
                </a:lnTo>
                <a:lnTo>
                  <a:pt x="2" y="310"/>
                </a:lnTo>
                <a:lnTo>
                  <a:pt x="6" y="303"/>
                </a:lnTo>
                <a:lnTo>
                  <a:pt x="8" y="303"/>
                </a:lnTo>
                <a:lnTo>
                  <a:pt x="10" y="301"/>
                </a:lnTo>
                <a:lnTo>
                  <a:pt x="14" y="299"/>
                </a:lnTo>
                <a:lnTo>
                  <a:pt x="18" y="297"/>
                </a:lnTo>
                <a:lnTo>
                  <a:pt x="21" y="295"/>
                </a:lnTo>
                <a:lnTo>
                  <a:pt x="27" y="293"/>
                </a:lnTo>
                <a:lnTo>
                  <a:pt x="33" y="291"/>
                </a:lnTo>
                <a:lnTo>
                  <a:pt x="39" y="289"/>
                </a:lnTo>
                <a:lnTo>
                  <a:pt x="46" y="287"/>
                </a:lnTo>
                <a:lnTo>
                  <a:pt x="54" y="284"/>
                </a:lnTo>
                <a:lnTo>
                  <a:pt x="64" y="282"/>
                </a:lnTo>
                <a:lnTo>
                  <a:pt x="73" y="280"/>
                </a:lnTo>
                <a:lnTo>
                  <a:pt x="83" y="278"/>
                </a:lnTo>
                <a:lnTo>
                  <a:pt x="94" y="274"/>
                </a:lnTo>
                <a:lnTo>
                  <a:pt x="106" y="272"/>
                </a:lnTo>
                <a:lnTo>
                  <a:pt x="119" y="270"/>
                </a:lnTo>
                <a:lnTo>
                  <a:pt x="131" y="266"/>
                </a:lnTo>
                <a:lnTo>
                  <a:pt x="146" y="264"/>
                </a:lnTo>
                <a:lnTo>
                  <a:pt x="160" y="262"/>
                </a:lnTo>
                <a:lnTo>
                  <a:pt x="175" y="259"/>
                </a:lnTo>
                <a:lnTo>
                  <a:pt x="190" y="257"/>
                </a:lnTo>
                <a:lnTo>
                  <a:pt x="208" y="253"/>
                </a:lnTo>
                <a:lnTo>
                  <a:pt x="225" y="251"/>
                </a:lnTo>
                <a:lnTo>
                  <a:pt x="244" y="247"/>
                </a:lnTo>
                <a:lnTo>
                  <a:pt x="263" y="245"/>
                </a:lnTo>
                <a:lnTo>
                  <a:pt x="282" y="241"/>
                </a:lnTo>
                <a:lnTo>
                  <a:pt x="304" y="239"/>
                </a:lnTo>
                <a:lnTo>
                  <a:pt x="325" y="236"/>
                </a:lnTo>
                <a:lnTo>
                  <a:pt x="346" y="234"/>
                </a:lnTo>
                <a:lnTo>
                  <a:pt x="369" y="230"/>
                </a:lnTo>
                <a:lnTo>
                  <a:pt x="392" y="226"/>
                </a:lnTo>
                <a:lnTo>
                  <a:pt x="417" y="224"/>
                </a:lnTo>
                <a:lnTo>
                  <a:pt x="515" y="216"/>
                </a:lnTo>
                <a:lnTo>
                  <a:pt x="614" y="209"/>
                </a:lnTo>
                <a:lnTo>
                  <a:pt x="712" y="199"/>
                </a:lnTo>
                <a:lnTo>
                  <a:pt x="810" y="189"/>
                </a:lnTo>
                <a:lnTo>
                  <a:pt x="906" y="180"/>
                </a:lnTo>
                <a:lnTo>
                  <a:pt x="1002" y="168"/>
                </a:lnTo>
                <a:lnTo>
                  <a:pt x="1096" y="155"/>
                </a:lnTo>
                <a:lnTo>
                  <a:pt x="1190" y="143"/>
                </a:lnTo>
                <a:lnTo>
                  <a:pt x="1190" y="143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2174760"/>
            <a:ext cx="217440" cy="797040"/>
          </a:xfrm>
          <a:custGeom>
            <a:avLst/>
            <a:gdLst/>
            <a:ahLst/>
            <a:rect l="l" t="t" r="r" b="b"/>
            <a:pathLst>
              <a:path w="274" h="1003">
                <a:moveTo>
                  <a:pt x="40" y="11"/>
                </a:moveTo>
                <a:lnTo>
                  <a:pt x="44" y="9"/>
                </a:lnTo>
                <a:lnTo>
                  <a:pt x="48" y="6"/>
                </a:lnTo>
                <a:lnTo>
                  <a:pt x="56" y="4"/>
                </a:lnTo>
                <a:lnTo>
                  <a:pt x="63" y="2"/>
                </a:lnTo>
                <a:lnTo>
                  <a:pt x="73" y="2"/>
                </a:lnTo>
                <a:lnTo>
                  <a:pt x="84" y="0"/>
                </a:lnTo>
                <a:lnTo>
                  <a:pt x="98" y="0"/>
                </a:lnTo>
                <a:lnTo>
                  <a:pt x="111" y="0"/>
                </a:lnTo>
                <a:lnTo>
                  <a:pt x="127" y="0"/>
                </a:lnTo>
                <a:lnTo>
                  <a:pt x="144" y="0"/>
                </a:lnTo>
                <a:lnTo>
                  <a:pt x="161" y="2"/>
                </a:lnTo>
                <a:lnTo>
                  <a:pt x="180" y="2"/>
                </a:lnTo>
                <a:lnTo>
                  <a:pt x="201" y="4"/>
                </a:lnTo>
                <a:lnTo>
                  <a:pt x="223" y="6"/>
                </a:lnTo>
                <a:lnTo>
                  <a:pt x="246" y="9"/>
                </a:lnTo>
                <a:lnTo>
                  <a:pt x="271" y="11"/>
                </a:lnTo>
                <a:lnTo>
                  <a:pt x="271" y="48"/>
                </a:lnTo>
                <a:lnTo>
                  <a:pt x="272" y="82"/>
                </a:lnTo>
                <a:lnTo>
                  <a:pt x="272" y="115"/>
                </a:lnTo>
                <a:lnTo>
                  <a:pt x="274" y="150"/>
                </a:lnTo>
                <a:lnTo>
                  <a:pt x="274" y="182"/>
                </a:lnTo>
                <a:lnTo>
                  <a:pt x="274" y="213"/>
                </a:lnTo>
                <a:lnTo>
                  <a:pt x="274" y="244"/>
                </a:lnTo>
                <a:lnTo>
                  <a:pt x="272" y="274"/>
                </a:lnTo>
                <a:lnTo>
                  <a:pt x="272" y="305"/>
                </a:lnTo>
                <a:lnTo>
                  <a:pt x="271" y="334"/>
                </a:lnTo>
                <a:lnTo>
                  <a:pt x="271" y="361"/>
                </a:lnTo>
                <a:lnTo>
                  <a:pt x="269" y="387"/>
                </a:lnTo>
                <a:lnTo>
                  <a:pt x="267" y="414"/>
                </a:lnTo>
                <a:lnTo>
                  <a:pt x="265" y="441"/>
                </a:lnTo>
                <a:lnTo>
                  <a:pt x="263" y="466"/>
                </a:lnTo>
                <a:lnTo>
                  <a:pt x="261" y="489"/>
                </a:lnTo>
                <a:lnTo>
                  <a:pt x="259" y="514"/>
                </a:lnTo>
                <a:lnTo>
                  <a:pt x="255" y="537"/>
                </a:lnTo>
                <a:lnTo>
                  <a:pt x="253" y="558"/>
                </a:lnTo>
                <a:lnTo>
                  <a:pt x="251" y="579"/>
                </a:lnTo>
                <a:lnTo>
                  <a:pt x="248" y="600"/>
                </a:lnTo>
                <a:lnTo>
                  <a:pt x="244" y="620"/>
                </a:lnTo>
                <a:lnTo>
                  <a:pt x="240" y="639"/>
                </a:lnTo>
                <a:lnTo>
                  <a:pt x="238" y="658"/>
                </a:lnTo>
                <a:lnTo>
                  <a:pt x="234" y="675"/>
                </a:lnTo>
                <a:lnTo>
                  <a:pt x="230" y="693"/>
                </a:lnTo>
                <a:lnTo>
                  <a:pt x="226" y="708"/>
                </a:lnTo>
                <a:lnTo>
                  <a:pt x="221" y="723"/>
                </a:lnTo>
                <a:lnTo>
                  <a:pt x="217" y="739"/>
                </a:lnTo>
                <a:lnTo>
                  <a:pt x="213" y="752"/>
                </a:lnTo>
                <a:lnTo>
                  <a:pt x="209" y="766"/>
                </a:lnTo>
                <a:lnTo>
                  <a:pt x="203" y="777"/>
                </a:lnTo>
                <a:lnTo>
                  <a:pt x="196" y="804"/>
                </a:lnTo>
                <a:lnTo>
                  <a:pt x="186" y="827"/>
                </a:lnTo>
                <a:lnTo>
                  <a:pt x="177" y="850"/>
                </a:lnTo>
                <a:lnTo>
                  <a:pt x="167" y="871"/>
                </a:lnTo>
                <a:lnTo>
                  <a:pt x="157" y="890"/>
                </a:lnTo>
                <a:lnTo>
                  <a:pt x="150" y="908"/>
                </a:lnTo>
                <a:lnTo>
                  <a:pt x="140" y="923"/>
                </a:lnTo>
                <a:lnTo>
                  <a:pt x="130" y="936"/>
                </a:lnTo>
                <a:lnTo>
                  <a:pt x="121" y="950"/>
                </a:lnTo>
                <a:lnTo>
                  <a:pt x="111" y="961"/>
                </a:lnTo>
                <a:lnTo>
                  <a:pt x="102" y="971"/>
                </a:lnTo>
                <a:lnTo>
                  <a:pt x="94" y="980"/>
                </a:lnTo>
                <a:lnTo>
                  <a:pt x="84" y="986"/>
                </a:lnTo>
                <a:lnTo>
                  <a:pt x="75" y="992"/>
                </a:lnTo>
                <a:lnTo>
                  <a:pt x="65" y="998"/>
                </a:lnTo>
                <a:lnTo>
                  <a:pt x="56" y="1002"/>
                </a:lnTo>
                <a:lnTo>
                  <a:pt x="52" y="1002"/>
                </a:lnTo>
                <a:lnTo>
                  <a:pt x="48" y="1003"/>
                </a:lnTo>
                <a:lnTo>
                  <a:pt x="42" y="1003"/>
                </a:lnTo>
                <a:lnTo>
                  <a:pt x="38" y="1003"/>
                </a:lnTo>
                <a:lnTo>
                  <a:pt x="35" y="1002"/>
                </a:lnTo>
                <a:lnTo>
                  <a:pt x="33" y="1000"/>
                </a:lnTo>
                <a:lnTo>
                  <a:pt x="29" y="998"/>
                </a:lnTo>
                <a:lnTo>
                  <a:pt x="25" y="996"/>
                </a:lnTo>
                <a:lnTo>
                  <a:pt x="23" y="992"/>
                </a:lnTo>
                <a:lnTo>
                  <a:pt x="19" y="988"/>
                </a:lnTo>
                <a:lnTo>
                  <a:pt x="17" y="982"/>
                </a:lnTo>
                <a:lnTo>
                  <a:pt x="15" y="979"/>
                </a:lnTo>
                <a:lnTo>
                  <a:pt x="12" y="973"/>
                </a:lnTo>
                <a:lnTo>
                  <a:pt x="10" y="965"/>
                </a:lnTo>
                <a:lnTo>
                  <a:pt x="8" y="959"/>
                </a:lnTo>
                <a:lnTo>
                  <a:pt x="8" y="952"/>
                </a:lnTo>
                <a:lnTo>
                  <a:pt x="6" y="944"/>
                </a:lnTo>
                <a:lnTo>
                  <a:pt x="4" y="934"/>
                </a:lnTo>
                <a:lnTo>
                  <a:pt x="4" y="925"/>
                </a:lnTo>
                <a:lnTo>
                  <a:pt x="2" y="915"/>
                </a:lnTo>
                <a:lnTo>
                  <a:pt x="2" y="904"/>
                </a:lnTo>
                <a:lnTo>
                  <a:pt x="2" y="892"/>
                </a:lnTo>
                <a:lnTo>
                  <a:pt x="0" y="881"/>
                </a:lnTo>
                <a:lnTo>
                  <a:pt x="0" y="869"/>
                </a:lnTo>
                <a:lnTo>
                  <a:pt x="0" y="856"/>
                </a:lnTo>
                <a:lnTo>
                  <a:pt x="2" y="842"/>
                </a:lnTo>
                <a:lnTo>
                  <a:pt x="2" y="827"/>
                </a:lnTo>
                <a:lnTo>
                  <a:pt x="2" y="812"/>
                </a:lnTo>
                <a:lnTo>
                  <a:pt x="4" y="796"/>
                </a:lnTo>
                <a:lnTo>
                  <a:pt x="4" y="781"/>
                </a:lnTo>
                <a:lnTo>
                  <a:pt x="6" y="764"/>
                </a:lnTo>
                <a:lnTo>
                  <a:pt x="8" y="746"/>
                </a:lnTo>
                <a:lnTo>
                  <a:pt x="10" y="714"/>
                </a:lnTo>
                <a:lnTo>
                  <a:pt x="13" y="683"/>
                </a:lnTo>
                <a:lnTo>
                  <a:pt x="15" y="654"/>
                </a:lnTo>
                <a:lnTo>
                  <a:pt x="19" y="625"/>
                </a:lnTo>
                <a:lnTo>
                  <a:pt x="21" y="600"/>
                </a:lnTo>
                <a:lnTo>
                  <a:pt x="25" y="576"/>
                </a:lnTo>
                <a:lnTo>
                  <a:pt x="27" y="553"/>
                </a:lnTo>
                <a:lnTo>
                  <a:pt x="29" y="529"/>
                </a:lnTo>
                <a:lnTo>
                  <a:pt x="31" y="510"/>
                </a:lnTo>
                <a:lnTo>
                  <a:pt x="33" y="491"/>
                </a:lnTo>
                <a:lnTo>
                  <a:pt x="35" y="474"/>
                </a:lnTo>
                <a:lnTo>
                  <a:pt x="36" y="458"/>
                </a:lnTo>
                <a:lnTo>
                  <a:pt x="38" y="445"/>
                </a:lnTo>
                <a:lnTo>
                  <a:pt x="38" y="432"/>
                </a:lnTo>
                <a:lnTo>
                  <a:pt x="40" y="420"/>
                </a:lnTo>
                <a:lnTo>
                  <a:pt x="40" y="411"/>
                </a:lnTo>
                <a:lnTo>
                  <a:pt x="40" y="405"/>
                </a:lnTo>
                <a:lnTo>
                  <a:pt x="40" y="397"/>
                </a:lnTo>
                <a:lnTo>
                  <a:pt x="40" y="389"/>
                </a:lnTo>
                <a:lnTo>
                  <a:pt x="40" y="380"/>
                </a:lnTo>
                <a:lnTo>
                  <a:pt x="40" y="370"/>
                </a:lnTo>
                <a:lnTo>
                  <a:pt x="40" y="361"/>
                </a:lnTo>
                <a:lnTo>
                  <a:pt x="40" y="349"/>
                </a:lnTo>
                <a:lnTo>
                  <a:pt x="40" y="338"/>
                </a:lnTo>
                <a:lnTo>
                  <a:pt x="40" y="324"/>
                </a:lnTo>
                <a:lnTo>
                  <a:pt x="40" y="309"/>
                </a:lnTo>
                <a:lnTo>
                  <a:pt x="40" y="293"/>
                </a:lnTo>
                <a:lnTo>
                  <a:pt x="40" y="278"/>
                </a:lnTo>
                <a:lnTo>
                  <a:pt x="40" y="261"/>
                </a:lnTo>
                <a:lnTo>
                  <a:pt x="40" y="244"/>
                </a:lnTo>
                <a:lnTo>
                  <a:pt x="40" y="224"/>
                </a:lnTo>
                <a:lnTo>
                  <a:pt x="40" y="203"/>
                </a:lnTo>
                <a:lnTo>
                  <a:pt x="36" y="182"/>
                </a:lnTo>
                <a:lnTo>
                  <a:pt x="35" y="163"/>
                </a:lnTo>
                <a:lnTo>
                  <a:pt x="33" y="146"/>
                </a:lnTo>
                <a:lnTo>
                  <a:pt x="31" y="128"/>
                </a:lnTo>
                <a:lnTo>
                  <a:pt x="29" y="113"/>
                </a:lnTo>
                <a:lnTo>
                  <a:pt x="29" y="98"/>
                </a:lnTo>
                <a:lnTo>
                  <a:pt x="27" y="84"/>
                </a:lnTo>
                <a:lnTo>
                  <a:pt x="27" y="71"/>
                </a:lnTo>
                <a:lnTo>
                  <a:pt x="27" y="59"/>
                </a:lnTo>
                <a:lnTo>
                  <a:pt x="29" y="50"/>
                </a:lnTo>
                <a:lnTo>
                  <a:pt x="29" y="40"/>
                </a:lnTo>
                <a:lnTo>
                  <a:pt x="31" y="32"/>
                </a:lnTo>
                <a:lnTo>
                  <a:pt x="33" y="25"/>
                </a:lnTo>
                <a:lnTo>
                  <a:pt x="35" y="19"/>
                </a:lnTo>
                <a:lnTo>
                  <a:pt x="36" y="15"/>
                </a:lnTo>
                <a:lnTo>
                  <a:pt x="40" y="11"/>
                </a:lnTo>
                <a:lnTo>
                  <a:pt x="40" y="11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08360" y="2133720"/>
            <a:ext cx="417600" cy="760320"/>
          </a:xfrm>
          <a:custGeom>
            <a:avLst/>
            <a:gdLst/>
            <a:ahLst/>
            <a:rect l="l" t="t" r="r" b="b"/>
            <a:pathLst>
              <a:path w="525" h="958">
                <a:moveTo>
                  <a:pt x="427" y="766"/>
                </a:moveTo>
                <a:lnTo>
                  <a:pt x="439" y="771"/>
                </a:lnTo>
                <a:lnTo>
                  <a:pt x="450" y="777"/>
                </a:lnTo>
                <a:lnTo>
                  <a:pt x="460" y="785"/>
                </a:lnTo>
                <a:lnTo>
                  <a:pt x="470" y="791"/>
                </a:lnTo>
                <a:lnTo>
                  <a:pt x="479" y="796"/>
                </a:lnTo>
                <a:lnTo>
                  <a:pt x="487" y="802"/>
                </a:lnTo>
                <a:lnTo>
                  <a:pt x="495" y="810"/>
                </a:lnTo>
                <a:lnTo>
                  <a:pt x="500" y="816"/>
                </a:lnTo>
                <a:lnTo>
                  <a:pt x="506" y="823"/>
                </a:lnTo>
                <a:lnTo>
                  <a:pt x="512" y="829"/>
                </a:lnTo>
                <a:lnTo>
                  <a:pt x="516" y="837"/>
                </a:lnTo>
                <a:lnTo>
                  <a:pt x="520" y="844"/>
                </a:lnTo>
                <a:lnTo>
                  <a:pt x="521" y="852"/>
                </a:lnTo>
                <a:lnTo>
                  <a:pt x="523" y="860"/>
                </a:lnTo>
                <a:lnTo>
                  <a:pt x="525" y="869"/>
                </a:lnTo>
                <a:lnTo>
                  <a:pt x="525" y="877"/>
                </a:lnTo>
                <a:lnTo>
                  <a:pt x="525" y="887"/>
                </a:lnTo>
                <a:lnTo>
                  <a:pt x="523" y="894"/>
                </a:lnTo>
                <a:lnTo>
                  <a:pt x="521" y="902"/>
                </a:lnTo>
                <a:lnTo>
                  <a:pt x="516" y="910"/>
                </a:lnTo>
                <a:lnTo>
                  <a:pt x="510" y="917"/>
                </a:lnTo>
                <a:lnTo>
                  <a:pt x="504" y="923"/>
                </a:lnTo>
                <a:lnTo>
                  <a:pt x="497" y="929"/>
                </a:lnTo>
                <a:lnTo>
                  <a:pt x="487" y="935"/>
                </a:lnTo>
                <a:lnTo>
                  <a:pt x="475" y="940"/>
                </a:lnTo>
                <a:lnTo>
                  <a:pt x="464" y="944"/>
                </a:lnTo>
                <a:lnTo>
                  <a:pt x="450" y="948"/>
                </a:lnTo>
                <a:lnTo>
                  <a:pt x="435" y="952"/>
                </a:lnTo>
                <a:lnTo>
                  <a:pt x="420" y="954"/>
                </a:lnTo>
                <a:lnTo>
                  <a:pt x="403" y="956"/>
                </a:lnTo>
                <a:lnTo>
                  <a:pt x="381" y="958"/>
                </a:lnTo>
                <a:lnTo>
                  <a:pt x="362" y="958"/>
                </a:lnTo>
                <a:lnTo>
                  <a:pt x="341" y="958"/>
                </a:lnTo>
                <a:lnTo>
                  <a:pt x="320" y="956"/>
                </a:lnTo>
                <a:lnTo>
                  <a:pt x="301" y="954"/>
                </a:lnTo>
                <a:lnTo>
                  <a:pt x="284" y="952"/>
                </a:lnTo>
                <a:lnTo>
                  <a:pt x="266" y="948"/>
                </a:lnTo>
                <a:lnTo>
                  <a:pt x="251" y="944"/>
                </a:lnTo>
                <a:lnTo>
                  <a:pt x="236" y="940"/>
                </a:lnTo>
                <a:lnTo>
                  <a:pt x="222" y="935"/>
                </a:lnTo>
                <a:lnTo>
                  <a:pt x="209" y="931"/>
                </a:lnTo>
                <a:lnTo>
                  <a:pt x="195" y="923"/>
                </a:lnTo>
                <a:lnTo>
                  <a:pt x="184" y="917"/>
                </a:lnTo>
                <a:lnTo>
                  <a:pt x="172" y="910"/>
                </a:lnTo>
                <a:lnTo>
                  <a:pt x="161" y="902"/>
                </a:lnTo>
                <a:lnTo>
                  <a:pt x="151" y="894"/>
                </a:lnTo>
                <a:lnTo>
                  <a:pt x="142" y="887"/>
                </a:lnTo>
                <a:lnTo>
                  <a:pt x="132" y="877"/>
                </a:lnTo>
                <a:lnTo>
                  <a:pt x="122" y="867"/>
                </a:lnTo>
                <a:lnTo>
                  <a:pt x="113" y="856"/>
                </a:lnTo>
                <a:lnTo>
                  <a:pt x="105" y="842"/>
                </a:lnTo>
                <a:lnTo>
                  <a:pt x="97" y="827"/>
                </a:lnTo>
                <a:lnTo>
                  <a:pt x="90" y="810"/>
                </a:lnTo>
                <a:lnTo>
                  <a:pt x="84" y="791"/>
                </a:lnTo>
                <a:lnTo>
                  <a:pt x="78" y="770"/>
                </a:lnTo>
                <a:lnTo>
                  <a:pt x="72" y="748"/>
                </a:lnTo>
                <a:lnTo>
                  <a:pt x="67" y="723"/>
                </a:lnTo>
                <a:lnTo>
                  <a:pt x="63" y="699"/>
                </a:lnTo>
                <a:lnTo>
                  <a:pt x="59" y="670"/>
                </a:lnTo>
                <a:lnTo>
                  <a:pt x="55" y="641"/>
                </a:lnTo>
                <a:lnTo>
                  <a:pt x="53" y="612"/>
                </a:lnTo>
                <a:lnTo>
                  <a:pt x="51" y="580"/>
                </a:lnTo>
                <a:lnTo>
                  <a:pt x="49" y="545"/>
                </a:lnTo>
                <a:lnTo>
                  <a:pt x="49" y="510"/>
                </a:lnTo>
                <a:lnTo>
                  <a:pt x="48" y="445"/>
                </a:lnTo>
                <a:lnTo>
                  <a:pt x="46" y="378"/>
                </a:lnTo>
                <a:lnTo>
                  <a:pt x="42" y="313"/>
                </a:lnTo>
                <a:lnTo>
                  <a:pt x="36" y="250"/>
                </a:lnTo>
                <a:lnTo>
                  <a:pt x="30" y="184"/>
                </a:lnTo>
                <a:lnTo>
                  <a:pt x="21" y="123"/>
                </a:lnTo>
                <a:lnTo>
                  <a:pt x="11" y="60"/>
                </a:lnTo>
                <a:lnTo>
                  <a:pt x="0" y="0"/>
                </a:lnTo>
                <a:lnTo>
                  <a:pt x="280" y="0"/>
                </a:lnTo>
                <a:lnTo>
                  <a:pt x="280" y="40"/>
                </a:lnTo>
                <a:lnTo>
                  <a:pt x="280" y="81"/>
                </a:lnTo>
                <a:lnTo>
                  <a:pt x="280" y="119"/>
                </a:lnTo>
                <a:lnTo>
                  <a:pt x="280" y="157"/>
                </a:lnTo>
                <a:lnTo>
                  <a:pt x="280" y="194"/>
                </a:lnTo>
                <a:lnTo>
                  <a:pt x="280" y="228"/>
                </a:lnTo>
                <a:lnTo>
                  <a:pt x="280" y="263"/>
                </a:lnTo>
                <a:lnTo>
                  <a:pt x="280" y="296"/>
                </a:lnTo>
                <a:lnTo>
                  <a:pt x="280" y="326"/>
                </a:lnTo>
                <a:lnTo>
                  <a:pt x="280" y="357"/>
                </a:lnTo>
                <a:lnTo>
                  <a:pt x="280" y="386"/>
                </a:lnTo>
                <a:lnTo>
                  <a:pt x="280" y="415"/>
                </a:lnTo>
                <a:lnTo>
                  <a:pt x="280" y="439"/>
                </a:lnTo>
                <a:lnTo>
                  <a:pt x="280" y="466"/>
                </a:lnTo>
                <a:lnTo>
                  <a:pt x="282" y="489"/>
                </a:lnTo>
                <a:lnTo>
                  <a:pt x="282" y="512"/>
                </a:lnTo>
                <a:lnTo>
                  <a:pt x="282" y="534"/>
                </a:lnTo>
                <a:lnTo>
                  <a:pt x="282" y="555"/>
                </a:lnTo>
                <a:lnTo>
                  <a:pt x="284" y="572"/>
                </a:lnTo>
                <a:lnTo>
                  <a:pt x="284" y="591"/>
                </a:lnTo>
                <a:lnTo>
                  <a:pt x="284" y="606"/>
                </a:lnTo>
                <a:lnTo>
                  <a:pt x="285" y="622"/>
                </a:lnTo>
                <a:lnTo>
                  <a:pt x="285" y="635"/>
                </a:lnTo>
                <a:lnTo>
                  <a:pt x="285" y="649"/>
                </a:lnTo>
                <a:lnTo>
                  <a:pt x="287" y="660"/>
                </a:lnTo>
                <a:lnTo>
                  <a:pt x="287" y="670"/>
                </a:lnTo>
                <a:lnTo>
                  <a:pt x="289" y="677"/>
                </a:lnTo>
                <a:lnTo>
                  <a:pt x="289" y="685"/>
                </a:lnTo>
                <a:lnTo>
                  <a:pt x="291" y="691"/>
                </a:lnTo>
                <a:lnTo>
                  <a:pt x="293" y="697"/>
                </a:lnTo>
                <a:lnTo>
                  <a:pt x="293" y="700"/>
                </a:lnTo>
                <a:lnTo>
                  <a:pt x="295" y="702"/>
                </a:lnTo>
                <a:lnTo>
                  <a:pt x="299" y="704"/>
                </a:lnTo>
                <a:lnTo>
                  <a:pt x="303" y="708"/>
                </a:lnTo>
                <a:lnTo>
                  <a:pt x="307" y="712"/>
                </a:lnTo>
                <a:lnTo>
                  <a:pt x="312" y="716"/>
                </a:lnTo>
                <a:lnTo>
                  <a:pt x="316" y="720"/>
                </a:lnTo>
                <a:lnTo>
                  <a:pt x="322" y="725"/>
                </a:lnTo>
                <a:lnTo>
                  <a:pt x="330" y="729"/>
                </a:lnTo>
                <a:lnTo>
                  <a:pt x="337" y="733"/>
                </a:lnTo>
                <a:lnTo>
                  <a:pt x="345" y="739"/>
                </a:lnTo>
                <a:lnTo>
                  <a:pt x="355" y="743"/>
                </a:lnTo>
                <a:lnTo>
                  <a:pt x="364" y="747"/>
                </a:lnTo>
                <a:lnTo>
                  <a:pt x="374" y="750"/>
                </a:lnTo>
                <a:lnTo>
                  <a:pt x="385" y="756"/>
                </a:lnTo>
                <a:lnTo>
                  <a:pt x="399" y="758"/>
                </a:lnTo>
                <a:lnTo>
                  <a:pt x="412" y="762"/>
                </a:lnTo>
                <a:lnTo>
                  <a:pt x="427" y="766"/>
                </a:lnTo>
                <a:lnTo>
                  <a:pt x="427" y="766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6120" y="2527200"/>
            <a:ext cx="355680" cy="976320"/>
          </a:xfrm>
          <a:custGeom>
            <a:avLst/>
            <a:gdLst/>
            <a:ahLst/>
            <a:rect l="l" t="t" r="r" b="b"/>
            <a:pathLst>
              <a:path w="449" h="1230">
                <a:moveTo>
                  <a:pt x="198" y="940"/>
                </a:moveTo>
                <a:lnTo>
                  <a:pt x="194" y="902"/>
                </a:lnTo>
                <a:lnTo>
                  <a:pt x="192" y="866"/>
                </a:lnTo>
                <a:lnTo>
                  <a:pt x="188" y="827"/>
                </a:lnTo>
                <a:lnTo>
                  <a:pt x="186" y="793"/>
                </a:lnTo>
                <a:lnTo>
                  <a:pt x="183" y="756"/>
                </a:lnTo>
                <a:lnTo>
                  <a:pt x="179" y="724"/>
                </a:lnTo>
                <a:lnTo>
                  <a:pt x="177" y="689"/>
                </a:lnTo>
                <a:lnTo>
                  <a:pt x="173" y="658"/>
                </a:lnTo>
                <a:lnTo>
                  <a:pt x="169" y="628"/>
                </a:lnTo>
                <a:lnTo>
                  <a:pt x="167" y="597"/>
                </a:lnTo>
                <a:lnTo>
                  <a:pt x="163" y="568"/>
                </a:lnTo>
                <a:lnTo>
                  <a:pt x="162" y="541"/>
                </a:lnTo>
                <a:lnTo>
                  <a:pt x="158" y="516"/>
                </a:lnTo>
                <a:lnTo>
                  <a:pt x="154" y="491"/>
                </a:lnTo>
                <a:lnTo>
                  <a:pt x="152" y="468"/>
                </a:lnTo>
                <a:lnTo>
                  <a:pt x="148" y="447"/>
                </a:lnTo>
                <a:lnTo>
                  <a:pt x="144" y="426"/>
                </a:lnTo>
                <a:lnTo>
                  <a:pt x="142" y="405"/>
                </a:lnTo>
                <a:lnTo>
                  <a:pt x="139" y="388"/>
                </a:lnTo>
                <a:lnTo>
                  <a:pt x="133" y="369"/>
                </a:lnTo>
                <a:lnTo>
                  <a:pt x="129" y="351"/>
                </a:lnTo>
                <a:lnTo>
                  <a:pt x="123" y="334"/>
                </a:lnTo>
                <a:lnTo>
                  <a:pt x="119" y="319"/>
                </a:lnTo>
                <a:lnTo>
                  <a:pt x="114" y="303"/>
                </a:lnTo>
                <a:lnTo>
                  <a:pt x="108" y="288"/>
                </a:lnTo>
                <a:lnTo>
                  <a:pt x="102" y="275"/>
                </a:lnTo>
                <a:lnTo>
                  <a:pt x="96" y="261"/>
                </a:lnTo>
                <a:lnTo>
                  <a:pt x="91" y="250"/>
                </a:lnTo>
                <a:lnTo>
                  <a:pt x="85" y="238"/>
                </a:lnTo>
                <a:lnTo>
                  <a:pt x="79" y="227"/>
                </a:lnTo>
                <a:lnTo>
                  <a:pt x="71" y="217"/>
                </a:lnTo>
                <a:lnTo>
                  <a:pt x="66" y="207"/>
                </a:lnTo>
                <a:lnTo>
                  <a:pt x="58" y="202"/>
                </a:lnTo>
                <a:lnTo>
                  <a:pt x="48" y="194"/>
                </a:lnTo>
                <a:lnTo>
                  <a:pt x="43" y="186"/>
                </a:lnTo>
                <a:lnTo>
                  <a:pt x="35" y="181"/>
                </a:lnTo>
                <a:lnTo>
                  <a:pt x="29" y="173"/>
                </a:lnTo>
                <a:lnTo>
                  <a:pt x="23" y="165"/>
                </a:lnTo>
                <a:lnTo>
                  <a:pt x="20" y="157"/>
                </a:lnTo>
                <a:lnTo>
                  <a:pt x="16" y="150"/>
                </a:lnTo>
                <a:lnTo>
                  <a:pt x="12" y="140"/>
                </a:lnTo>
                <a:lnTo>
                  <a:pt x="8" y="133"/>
                </a:lnTo>
                <a:lnTo>
                  <a:pt x="6" y="123"/>
                </a:lnTo>
                <a:lnTo>
                  <a:pt x="4" y="115"/>
                </a:lnTo>
                <a:lnTo>
                  <a:pt x="2" y="106"/>
                </a:lnTo>
                <a:lnTo>
                  <a:pt x="0" y="98"/>
                </a:lnTo>
                <a:lnTo>
                  <a:pt x="0" y="79"/>
                </a:lnTo>
                <a:lnTo>
                  <a:pt x="0" y="71"/>
                </a:lnTo>
                <a:lnTo>
                  <a:pt x="2" y="62"/>
                </a:lnTo>
                <a:lnTo>
                  <a:pt x="6" y="54"/>
                </a:lnTo>
                <a:lnTo>
                  <a:pt x="10" y="46"/>
                </a:lnTo>
                <a:lnTo>
                  <a:pt x="14" y="40"/>
                </a:lnTo>
                <a:lnTo>
                  <a:pt x="20" y="33"/>
                </a:lnTo>
                <a:lnTo>
                  <a:pt x="27" y="27"/>
                </a:lnTo>
                <a:lnTo>
                  <a:pt x="35" y="21"/>
                </a:lnTo>
                <a:lnTo>
                  <a:pt x="44" y="17"/>
                </a:lnTo>
                <a:lnTo>
                  <a:pt x="54" y="12"/>
                </a:lnTo>
                <a:lnTo>
                  <a:pt x="66" y="8"/>
                </a:lnTo>
                <a:lnTo>
                  <a:pt x="77" y="6"/>
                </a:lnTo>
                <a:lnTo>
                  <a:pt x="89" y="2"/>
                </a:lnTo>
                <a:lnTo>
                  <a:pt x="102" y="0"/>
                </a:lnTo>
                <a:lnTo>
                  <a:pt x="117" y="0"/>
                </a:lnTo>
                <a:lnTo>
                  <a:pt x="133" y="0"/>
                </a:lnTo>
                <a:lnTo>
                  <a:pt x="163" y="0"/>
                </a:lnTo>
                <a:lnTo>
                  <a:pt x="194" y="2"/>
                </a:lnTo>
                <a:lnTo>
                  <a:pt x="210" y="4"/>
                </a:lnTo>
                <a:lnTo>
                  <a:pt x="227" y="6"/>
                </a:lnTo>
                <a:lnTo>
                  <a:pt x="242" y="10"/>
                </a:lnTo>
                <a:lnTo>
                  <a:pt x="259" y="14"/>
                </a:lnTo>
                <a:lnTo>
                  <a:pt x="277" y="17"/>
                </a:lnTo>
                <a:lnTo>
                  <a:pt x="294" y="21"/>
                </a:lnTo>
                <a:lnTo>
                  <a:pt x="313" y="27"/>
                </a:lnTo>
                <a:lnTo>
                  <a:pt x="330" y="33"/>
                </a:lnTo>
                <a:lnTo>
                  <a:pt x="350" y="39"/>
                </a:lnTo>
                <a:lnTo>
                  <a:pt x="371" y="46"/>
                </a:lnTo>
                <a:lnTo>
                  <a:pt x="390" y="54"/>
                </a:lnTo>
                <a:lnTo>
                  <a:pt x="411" y="63"/>
                </a:lnTo>
                <a:lnTo>
                  <a:pt x="411" y="75"/>
                </a:lnTo>
                <a:lnTo>
                  <a:pt x="411" y="85"/>
                </a:lnTo>
                <a:lnTo>
                  <a:pt x="411" y="98"/>
                </a:lnTo>
                <a:lnTo>
                  <a:pt x="413" y="110"/>
                </a:lnTo>
                <a:lnTo>
                  <a:pt x="413" y="123"/>
                </a:lnTo>
                <a:lnTo>
                  <a:pt x="413" y="136"/>
                </a:lnTo>
                <a:lnTo>
                  <a:pt x="413" y="150"/>
                </a:lnTo>
                <a:lnTo>
                  <a:pt x="415" y="165"/>
                </a:lnTo>
                <a:lnTo>
                  <a:pt x="415" y="181"/>
                </a:lnTo>
                <a:lnTo>
                  <a:pt x="417" y="196"/>
                </a:lnTo>
                <a:lnTo>
                  <a:pt x="417" y="213"/>
                </a:lnTo>
                <a:lnTo>
                  <a:pt x="417" y="230"/>
                </a:lnTo>
                <a:lnTo>
                  <a:pt x="419" y="248"/>
                </a:lnTo>
                <a:lnTo>
                  <a:pt x="421" y="267"/>
                </a:lnTo>
                <a:lnTo>
                  <a:pt x="421" y="286"/>
                </a:lnTo>
                <a:lnTo>
                  <a:pt x="423" y="305"/>
                </a:lnTo>
                <a:lnTo>
                  <a:pt x="423" y="324"/>
                </a:lnTo>
                <a:lnTo>
                  <a:pt x="424" y="346"/>
                </a:lnTo>
                <a:lnTo>
                  <a:pt x="426" y="367"/>
                </a:lnTo>
                <a:lnTo>
                  <a:pt x="426" y="390"/>
                </a:lnTo>
                <a:lnTo>
                  <a:pt x="428" y="411"/>
                </a:lnTo>
                <a:lnTo>
                  <a:pt x="430" y="434"/>
                </a:lnTo>
                <a:lnTo>
                  <a:pt x="430" y="459"/>
                </a:lnTo>
                <a:lnTo>
                  <a:pt x="432" y="484"/>
                </a:lnTo>
                <a:lnTo>
                  <a:pt x="434" y="509"/>
                </a:lnTo>
                <a:lnTo>
                  <a:pt x="436" y="534"/>
                </a:lnTo>
                <a:lnTo>
                  <a:pt x="438" y="560"/>
                </a:lnTo>
                <a:lnTo>
                  <a:pt x="438" y="587"/>
                </a:lnTo>
                <a:lnTo>
                  <a:pt x="440" y="614"/>
                </a:lnTo>
                <a:lnTo>
                  <a:pt x="442" y="643"/>
                </a:lnTo>
                <a:lnTo>
                  <a:pt x="444" y="672"/>
                </a:lnTo>
                <a:lnTo>
                  <a:pt x="446" y="702"/>
                </a:lnTo>
                <a:lnTo>
                  <a:pt x="446" y="733"/>
                </a:lnTo>
                <a:lnTo>
                  <a:pt x="447" y="762"/>
                </a:lnTo>
                <a:lnTo>
                  <a:pt x="447" y="791"/>
                </a:lnTo>
                <a:lnTo>
                  <a:pt x="447" y="820"/>
                </a:lnTo>
                <a:lnTo>
                  <a:pt x="449" y="846"/>
                </a:lnTo>
                <a:lnTo>
                  <a:pt x="449" y="873"/>
                </a:lnTo>
                <a:lnTo>
                  <a:pt x="447" y="898"/>
                </a:lnTo>
                <a:lnTo>
                  <a:pt x="447" y="923"/>
                </a:lnTo>
                <a:lnTo>
                  <a:pt x="447" y="946"/>
                </a:lnTo>
                <a:lnTo>
                  <a:pt x="446" y="969"/>
                </a:lnTo>
                <a:lnTo>
                  <a:pt x="444" y="990"/>
                </a:lnTo>
                <a:lnTo>
                  <a:pt x="442" y="1011"/>
                </a:lnTo>
                <a:lnTo>
                  <a:pt x="440" y="1031"/>
                </a:lnTo>
                <a:lnTo>
                  <a:pt x="438" y="1050"/>
                </a:lnTo>
                <a:lnTo>
                  <a:pt x="436" y="1067"/>
                </a:lnTo>
                <a:lnTo>
                  <a:pt x="432" y="1084"/>
                </a:lnTo>
                <a:lnTo>
                  <a:pt x="428" y="1100"/>
                </a:lnTo>
                <a:lnTo>
                  <a:pt x="424" y="1115"/>
                </a:lnTo>
                <a:lnTo>
                  <a:pt x="421" y="1130"/>
                </a:lnTo>
                <a:lnTo>
                  <a:pt x="417" y="1144"/>
                </a:lnTo>
                <a:lnTo>
                  <a:pt x="413" y="1155"/>
                </a:lnTo>
                <a:lnTo>
                  <a:pt x="409" y="1167"/>
                </a:lnTo>
                <a:lnTo>
                  <a:pt x="403" y="1176"/>
                </a:lnTo>
                <a:lnTo>
                  <a:pt x="398" y="1186"/>
                </a:lnTo>
                <a:lnTo>
                  <a:pt x="392" y="1196"/>
                </a:lnTo>
                <a:lnTo>
                  <a:pt x="386" y="1203"/>
                </a:lnTo>
                <a:lnTo>
                  <a:pt x="380" y="1209"/>
                </a:lnTo>
                <a:lnTo>
                  <a:pt x="375" y="1215"/>
                </a:lnTo>
                <a:lnTo>
                  <a:pt x="367" y="1219"/>
                </a:lnTo>
                <a:lnTo>
                  <a:pt x="361" y="1222"/>
                </a:lnTo>
                <a:lnTo>
                  <a:pt x="353" y="1226"/>
                </a:lnTo>
                <a:lnTo>
                  <a:pt x="346" y="1228"/>
                </a:lnTo>
                <a:lnTo>
                  <a:pt x="338" y="1230"/>
                </a:lnTo>
                <a:lnTo>
                  <a:pt x="330" y="1230"/>
                </a:lnTo>
                <a:lnTo>
                  <a:pt x="323" y="1230"/>
                </a:lnTo>
                <a:lnTo>
                  <a:pt x="317" y="1228"/>
                </a:lnTo>
                <a:lnTo>
                  <a:pt x="309" y="1228"/>
                </a:lnTo>
                <a:lnTo>
                  <a:pt x="304" y="1226"/>
                </a:lnTo>
                <a:lnTo>
                  <a:pt x="296" y="1222"/>
                </a:lnTo>
                <a:lnTo>
                  <a:pt x="290" y="1219"/>
                </a:lnTo>
                <a:lnTo>
                  <a:pt x="284" y="1215"/>
                </a:lnTo>
                <a:lnTo>
                  <a:pt x="279" y="1211"/>
                </a:lnTo>
                <a:lnTo>
                  <a:pt x="273" y="1205"/>
                </a:lnTo>
                <a:lnTo>
                  <a:pt x="267" y="1199"/>
                </a:lnTo>
                <a:lnTo>
                  <a:pt x="261" y="1192"/>
                </a:lnTo>
                <a:lnTo>
                  <a:pt x="257" y="1186"/>
                </a:lnTo>
                <a:lnTo>
                  <a:pt x="252" y="1176"/>
                </a:lnTo>
                <a:lnTo>
                  <a:pt x="248" y="1169"/>
                </a:lnTo>
                <a:lnTo>
                  <a:pt x="242" y="1159"/>
                </a:lnTo>
                <a:lnTo>
                  <a:pt x="238" y="1150"/>
                </a:lnTo>
                <a:lnTo>
                  <a:pt x="234" y="1138"/>
                </a:lnTo>
                <a:lnTo>
                  <a:pt x="231" y="1127"/>
                </a:lnTo>
                <a:lnTo>
                  <a:pt x="227" y="1115"/>
                </a:lnTo>
                <a:lnTo>
                  <a:pt x="223" y="1103"/>
                </a:lnTo>
                <a:lnTo>
                  <a:pt x="219" y="1090"/>
                </a:lnTo>
                <a:lnTo>
                  <a:pt x="215" y="1077"/>
                </a:lnTo>
                <a:lnTo>
                  <a:pt x="213" y="1061"/>
                </a:lnTo>
                <a:lnTo>
                  <a:pt x="210" y="1046"/>
                </a:lnTo>
                <a:lnTo>
                  <a:pt x="208" y="1031"/>
                </a:lnTo>
                <a:lnTo>
                  <a:pt x="206" y="1013"/>
                </a:lnTo>
                <a:lnTo>
                  <a:pt x="204" y="996"/>
                </a:lnTo>
                <a:lnTo>
                  <a:pt x="202" y="979"/>
                </a:lnTo>
                <a:lnTo>
                  <a:pt x="200" y="960"/>
                </a:lnTo>
                <a:lnTo>
                  <a:pt x="198" y="940"/>
                </a:lnTo>
                <a:lnTo>
                  <a:pt x="198" y="940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16440" y="2368440"/>
            <a:ext cx="1514520" cy="1078200"/>
          </a:xfrm>
          <a:custGeom>
            <a:avLst/>
            <a:gdLst/>
            <a:ahLst/>
            <a:rect l="l" t="t" r="r" b="b"/>
            <a:pathLst>
              <a:path w="1908" h="1358">
                <a:moveTo>
                  <a:pt x="1530" y="1349"/>
                </a:moveTo>
                <a:lnTo>
                  <a:pt x="1512" y="1352"/>
                </a:lnTo>
                <a:lnTo>
                  <a:pt x="1495" y="1356"/>
                </a:lnTo>
                <a:lnTo>
                  <a:pt x="1488" y="1358"/>
                </a:lnTo>
                <a:lnTo>
                  <a:pt x="1480" y="1358"/>
                </a:lnTo>
                <a:lnTo>
                  <a:pt x="1472" y="1358"/>
                </a:lnTo>
                <a:lnTo>
                  <a:pt x="1466" y="1358"/>
                </a:lnTo>
                <a:lnTo>
                  <a:pt x="1459" y="1356"/>
                </a:lnTo>
                <a:lnTo>
                  <a:pt x="1453" y="1354"/>
                </a:lnTo>
                <a:lnTo>
                  <a:pt x="1445" y="1352"/>
                </a:lnTo>
                <a:lnTo>
                  <a:pt x="1440" y="1350"/>
                </a:lnTo>
                <a:lnTo>
                  <a:pt x="1434" y="1347"/>
                </a:lnTo>
                <a:lnTo>
                  <a:pt x="1426" y="1343"/>
                </a:lnTo>
                <a:lnTo>
                  <a:pt x="1420" y="1337"/>
                </a:lnTo>
                <a:lnTo>
                  <a:pt x="1415" y="1331"/>
                </a:lnTo>
                <a:lnTo>
                  <a:pt x="1411" y="1329"/>
                </a:lnTo>
                <a:lnTo>
                  <a:pt x="1409" y="1327"/>
                </a:lnTo>
                <a:lnTo>
                  <a:pt x="1407" y="1324"/>
                </a:lnTo>
                <a:lnTo>
                  <a:pt x="1403" y="1318"/>
                </a:lnTo>
                <a:lnTo>
                  <a:pt x="1401" y="1312"/>
                </a:lnTo>
                <a:lnTo>
                  <a:pt x="1399" y="1306"/>
                </a:lnTo>
                <a:lnTo>
                  <a:pt x="1397" y="1299"/>
                </a:lnTo>
                <a:lnTo>
                  <a:pt x="1395" y="1289"/>
                </a:lnTo>
                <a:lnTo>
                  <a:pt x="1395" y="1281"/>
                </a:lnTo>
                <a:lnTo>
                  <a:pt x="1393" y="1270"/>
                </a:lnTo>
                <a:lnTo>
                  <a:pt x="1392" y="1258"/>
                </a:lnTo>
                <a:lnTo>
                  <a:pt x="1392" y="1247"/>
                </a:lnTo>
                <a:lnTo>
                  <a:pt x="1392" y="1233"/>
                </a:lnTo>
                <a:lnTo>
                  <a:pt x="1390" y="1220"/>
                </a:lnTo>
                <a:lnTo>
                  <a:pt x="1390" y="1205"/>
                </a:lnTo>
                <a:lnTo>
                  <a:pt x="1390" y="1189"/>
                </a:lnTo>
                <a:lnTo>
                  <a:pt x="1390" y="1174"/>
                </a:lnTo>
                <a:lnTo>
                  <a:pt x="1390" y="1157"/>
                </a:lnTo>
                <a:lnTo>
                  <a:pt x="1392" y="1137"/>
                </a:lnTo>
                <a:lnTo>
                  <a:pt x="1392" y="1118"/>
                </a:lnTo>
                <a:lnTo>
                  <a:pt x="1392" y="1099"/>
                </a:lnTo>
                <a:lnTo>
                  <a:pt x="1393" y="1078"/>
                </a:lnTo>
                <a:lnTo>
                  <a:pt x="1395" y="1055"/>
                </a:lnTo>
                <a:lnTo>
                  <a:pt x="1395" y="1034"/>
                </a:lnTo>
                <a:lnTo>
                  <a:pt x="1397" y="1009"/>
                </a:lnTo>
                <a:lnTo>
                  <a:pt x="1399" y="986"/>
                </a:lnTo>
                <a:lnTo>
                  <a:pt x="1401" y="959"/>
                </a:lnTo>
                <a:lnTo>
                  <a:pt x="1403" y="934"/>
                </a:lnTo>
                <a:lnTo>
                  <a:pt x="1407" y="907"/>
                </a:lnTo>
                <a:lnTo>
                  <a:pt x="1409" y="878"/>
                </a:lnTo>
                <a:lnTo>
                  <a:pt x="1411" y="850"/>
                </a:lnTo>
                <a:lnTo>
                  <a:pt x="1415" y="821"/>
                </a:lnTo>
                <a:lnTo>
                  <a:pt x="1417" y="792"/>
                </a:lnTo>
                <a:lnTo>
                  <a:pt x="1420" y="763"/>
                </a:lnTo>
                <a:lnTo>
                  <a:pt x="1422" y="735"/>
                </a:lnTo>
                <a:lnTo>
                  <a:pt x="1424" y="708"/>
                </a:lnTo>
                <a:lnTo>
                  <a:pt x="1428" y="683"/>
                </a:lnTo>
                <a:lnTo>
                  <a:pt x="1430" y="656"/>
                </a:lnTo>
                <a:lnTo>
                  <a:pt x="1432" y="633"/>
                </a:lnTo>
                <a:lnTo>
                  <a:pt x="1432" y="608"/>
                </a:lnTo>
                <a:lnTo>
                  <a:pt x="1434" y="587"/>
                </a:lnTo>
                <a:lnTo>
                  <a:pt x="1436" y="564"/>
                </a:lnTo>
                <a:lnTo>
                  <a:pt x="1438" y="543"/>
                </a:lnTo>
                <a:lnTo>
                  <a:pt x="1438" y="523"/>
                </a:lnTo>
                <a:lnTo>
                  <a:pt x="1440" y="504"/>
                </a:lnTo>
                <a:lnTo>
                  <a:pt x="1440" y="485"/>
                </a:lnTo>
                <a:lnTo>
                  <a:pt x="1440" y="468"/>
                </a:lnTo>
                <a:lnTo>
                  <a:pt x="1441" y="452"/>
                </a:lnTo>
                <a:lnTo>
                  <a:pt x="1441" y="437"/>
                </a:lnTo>
                <a:lnTo>
                  <a:pt x="1441" y="422"/>
                </a:lnTo>
                <a:lnTo>
                  <a:pt x="1441" y="408"/>
                </a:lnTo>
                <a:lnTo>
                  <a:pt x="1441" y="395"/>
                </a:lnTo>
                <a:lnTo>
                  <a:pt x="1441" y="383"/>
                </a:lnTo>
                <a:lnTo>
                  <a:pt x="1441" y="372"/>
                </a:lnTo>
                <a:lnTo>
                  <a:pt x="1440" y="360"/>
                </a:lnTo>
                <a:lnTo>
                  <a:pt x="1440" y="353"/>
                </a:lnTo>
                <a:lnTo>
                  <a:pt x="1440" y="343"/>
                </a:lnTo>
                <a:lnTo>
                  <a:pt x="1438" y="335"/>
                </a:lnTo>
                <a:lnTo>
                  <a:pt x="1438" y="330"/>
                </a:lnTo>
                <a:lnTo>
                  <a:pt x="1436" y="324"/>
                </a:lnTo>
                <a:lnTo>
                  <a:pt x="1436" y="318"/>
                </a:lnTo>
                <a:lnTo>
                  <a:pt x="1434" y="314"/>
                </a:lnTo>
                <a:lnTo>
                  <a:pt x="1432" y="312"/>
                </a:lnTo>
                <a:lnTo>
                  <a:pt x="1430" y="310"/>
                </a:lnTo>
                <a:lnTo>
                  <a:pt x="1428" y="307"/>
                </a:lnTo>
                <a:lnTo>
                  <a:pt x="1422" y="305"/>
                </a:lnTo>
                <a:lnTo>
                  <a:pt x="1418" y="301"/>
                </a:lnTo>
                <a:lnTo>
                  <a:pt x="1413" y="299"/>
                </a:lnTo>
                <a:lnTo>
                  <a:pt x="1407" y="295"/>
                </a:lnTo>
                <a:lnTo>
                  <a:pt x="1401" y="293"/>
                </a:lnTo>
                <a:lnTo>
                  <a:pt x="1393" y="291"/>
                </a:lnTo>
                <a:lnTo>
                  <a:pt x="1386" y="287"/>
                </a:lnTo>
                <a:lnTo>
                  <a:pt x="1370" y="284"/>
                </a:lnTo>
                <a:lnTo>
                  <a:pt x="1353" y="282"/>
                </a:lnTo>
                <a:lnTo>
                  <a:pt x="1334" y="280"/>
                </a:lnTo>
                <a:lnTo>
                  <a:pt x="1317" y="278"/>
                </a:lnTo>
                <a:lnTo>
                  <a:pt x="1309" y="278"/>
                </a:lnTo>
                <a:lnTo>
                  <a:pt x="1299" y="280"/>
                </a:lnTo>
                <a:lnTo>
                  <a:pt x="1288" y="280"/>
                </a:lnTo>
                <a:lnTo>
                  <a:pt x="1273" y="282"/>
                </a:lnTo>
                <a:lnTo>
                  <a:pt x="1257" y="284"/>
                </a:lnTo>
                <a:lnTo>
                  <a:pt x="1238" y="285"/>
                </a:lnTo>
                <a:lnTo>
                  <a:pt x="1219" y="287"/>
                </a:lnTo>
                <a:lnTo>
                  <a:pt x="1196" y="289"/>
                </a:lnTo>
                <a:lnTo>
                  <a:pt x="1171" y="293"/>
                </a:lnTo>
                <a:lnTo>
                  <a:pt x="1144" y="297"/>
                </a:lnTo>
                <a:lnTo>
                  <a:pt x="1115" y="299"/>
                </a:lnTo>
                <a:lnTo>
                  <a:pt x="1083" y="305"/>
                </a:lnTo>
                <a:lnTo>
                  <a:pt x="1050" y="309"/>
                </a:lnTo>
                <a:lnTo>
                  <a:pt x="1014" y="312"/>
                </a:lnTo>
                <a:lnTo>
                  <a:pt x="975" y="318"/>
                </a:lnTo>
                <a:lnTo>
                  <a:pt x="935" y="324"/>
                </a:lnTo>
                <a:lnTo>
                  <a:pt x="893" y="330"/>
                </a:lnTo>
                <a:lnTo>
                  <a:pt x="849" y="335"/>
                </a:lnTo>
                <a:lnTo>
                  <a:pt x="802" y="341"/>
                </a:lnTo>
                <a:lnTo>
                  <a:pt x="753" y="349"/>
                </a:lnTo>
                <a:lnTo>
                  <a:pt x="703" y="355"/>
                </a:lnTo>
                <a:lnTo>
                  <a:pt x="649" y="362"/>
                </a:lnTo>
                <a:lnTo>
                  <a:pt x="593" y="370"/>
                </a:lnTo>
                <a:lnTo>
                  <a:pt x="536" y="378"/>
                </a:lnTo>
                <a:lnTo>
                  <a:pt x="476" y="387"/>
                </a:lnTo>
                <a:lnTo>
                  <a:pt x="415" y="395"/>
                </a:lnTo>
                <a:lnTo>
                  <a:pt x="352" y="404"/>
                </a:lnTo>
                <a:lnTo>
                  <a:pt x="284" y="414"/>
                </a:lnTo>
                <a:lnTo>
                  <a:pt x="217" y="424"/>
                </a:lnTo>
                <a:lnTo>
                  <a:pt x="146" y="433"/>
                </a:lnTo>
                <a:lnTo>
                  <a:pt x="75" y="443"/>
                </a:lnTo>
                <a:lnTo>
                  <a:pt x="0" y="454"/>
                </a:lnTo>
                <a:lnTo>
                  <a:pt x="0" y="262"/>
                </a:lnTo>
                <a:lnTo>
                  <a:pt x="117" y="245"/>
                </a:lnTo>
                <a:lnTo>
                  <a:pt x="234" y="228"/>
                </a:lnTo>
                <a:lnTo>
                  <a:pt x="350" y="213"/>
                </a:lnTo>
                <a:lnTo>
                  <a:pt x="465" y="199"/>
                </a:lnTo>
                <a:lnTo>
                  <a:pt x="522" y="191"/>
                </a:lnTo>
                <a:lnTo>
                  <a:pt x="578" y="184"/>
                </a:lnTo>
                <a:lnTo>
                  <a:pt x="634" y="176"/>
                </a:lnTo>
                <a:lnTo>
                  <a:pt x="689" y="168"/>
                </a:lnTo>
                <a:lnTo>
                  <a:pt x="745" y="161"/>
                </a:lnTo>
                <a:lnTo>
                  <a:pt x="799" y="151"/>
                </a:lnTo>
                <a:lnTo>
                  <a:pt x="852" y="143"/>
                </a:lnTo>
                <a:lnTo>
                  <a:pt x="904" y="134"/>
                </a:lnTo>
                <a:lnTo>
                  <a:pt x="931" y="132"/>
                </a:lnTo>
                <a:lnTo>
                  <a:pt x="956" y="128"/>
                </a:lnTo>
                <a:lnTo>
                  <a:pt x="981" y="126"/>
                </a:lnTo>
                <a:lnTo>
                  <a:pt x="1004" y="122"/>
                </a:lnTo>
                <a:lnTo>
                  <a:pt x="1027" y="119"/>
                </a:lnTo>
                <a:lnTo>
                  <a:pt x="1050" y="117"/>
                </a:lnTo>
                <a:lnTo>
                  <a:pt x="1071" y="113"/>
                </a:lnTo>
                <a:lnTo>
                  <a:pt x="1092" y="111"/>
                </a:lnTo>
                <a:lnTo>
                  <a:pt x="1113" y="107"/>
                </a:lnTo>
                <a:lnTo>
                  <a:pt x="1133" y="105"/>
                </a:lnTo>
                <a:lnTo>
                  <a:pt x="1152" y="101"/>
                </a:lnTo>
                <a:lnTo>
                  <a:pt x="1169" y="99"/>
                </a:lnTo>
                <a:lnTo>
                  <a:pt x="1188" y="96"/>
                </a:lnTo>
                <a:lnTo>
                  <a:pt x="1204" y="92"/>
                </a:lnTo>
                <a:lnTo>
                  <a:pt x="1221" y="90"/>
                </a:lnTo>
                <a:lnTo>
                  <a:pt x="1236" y="86"/>
                </a:lnTo>
                <a:lnTo>
                  <a:pt x="1250" y="84"/>
                </a:lnTo>
                <a:lnTo>
                  <a:pt x="1265" y="80"/>
                </a:lnTo>
                <a:lnTo>
                  <a:pt x="1278" y="78"/>
                </a:lnTo>
                <a:lnTo>
                  <a:pt x="1290" y="74"/>
                </a:lnTo>
                <a:lnTo>
                  <a:pt x="1301" y="72"/>
                </a:lnTo>
                <a:lnTo>
                  <a:pt x="1313" y="69"/>
                </a:lnTo>
                <a:lnTo>
                  <a:pt x="1322" y="65"/>
                </a:lnTo>
                <a:lnTo>
                  <a:pt x="1332" y="63"/>
                </a:lnTo>
                <a:lnTo>
                  <a:pt x="1342" y="59"/>
                </a:lnTo>
                <a:lnTo>
                  <a:pt x="1349" y="57"/>
                </a:lnTo>
                <a:lnTo>
                  <a:pt x="1357" y="53"/>
                </a:lnTo>
                <a:lnTo>
                  <a:pt x="1363" y="51"/>
                </a:lnTo>
                <a:lnTo>
                  <a:pt x="1369" y="48"/>
                </a:lnTo>
                <a:lnTo>
                  <a:pt x="1374" y="46"/>
                </a:lnTo>
                <a:lnTo>
                  <a:pt x="1378" y="42"/>
                </a:lnTo>
                <a:lnTo>
                  <a:pt x="1382" y="38"/>
                </a:lnTo>
                <a:lnTo>
                  <a:pt x="1395" y="28"/>
                </a:lnTo>
                <a:lnTo>
                  <a:pt x="1409" y="19"/>
                </a:lnTo>
                <a:lnTo>
                  <a:pt x="1417" y="13"/>
                </a:lnTo>
                <a:lnTo>
                  <a:pt x="1424" y="11"/>
                </a:lnTo>
                <a:lnTo>
                  <a:pt x="1432" y="7"/>
                </a:lnTo>
                <a:lnTo>
                  <a:pt x="1441" y="5"/>
                </a:lnTo>
                <a:lnTo>
                  <a:pt x="1449" y="3"/>
                </a:lnTo>
                <a:lnTo>
                  <a:pt x="1459" y="1"/>
                </a:lnTo>
                <a:lnTo>
                  <a:pt x="1466" y="1"/>
                </a:lnTo>
                <a:lnTo>
                  <a:pt x="1476" y="0"/>
                </a:lnTo>
                <a:lnTo>
                  <a:pt x="1486" y="1"/>
                </a:lnTo>
                <a:lnTo>
                  <a:pt x="1495" y="1"/>
                </a:lnTo>
                <a:lnTo>
                  <a:pt x="1503" y="3"/>
                </a:lnTo>
                <a:lnTo>
                  <a:pt x="1512" y="7"/>
                </a:lnTo>
                <a:lnTo>
                  <a:pt x="1522" y="9"/>
                </a:lnTo>
                <a:lnTo>
                  <a:pt x="1532" y="13"/>
                </a:lnTo>
                <a:lnTo>
                  <a:pt x="1543" y="17"/>
                </a:lnTo>
                <a:lnTo>
                  <a:pt x="1553" y="23"/>
                </a:lnTo>
                <a:lnTo>
                  <a:pt x="1566" y="28"/>
                </a:lnTo>
                <a:lnTo>
                  <a:pt x="1578" y="32"/>
                </a:lnTo>
                <a:lnTo>
                  <a:pt x="1591" y="40"/>
                </a:lnTo>
                <a:lnTo>
                  <a:pt x="1605" y="46"/>
                </a:lnTo>
                <a:lnTo>
                  <a:pt x="1618" y="55"/>
                </a:lnTo>
                <a:lnTo>
                  <a:pt x="1633" y="63"/>
                </a:lnTo>
                <a:lnTo>
                  <a:pt x="1649" y="72"/>
                </a:lnTo>
                <a:lnTo>
                  <a:pt x="1666" y="82"/>
                </a:lnTo>
                <a:lnTo>
                  <a:pt x="1683" y="94"/>
                </a:lnTo>
                <a:lnTo>
                  <a:pt x="1702" y="107"/>
                </a:lnTo>
                <a:lnTo>
                  <a:pt x="1722" y="120"/>
                </a:lnTo>
                <a:lnTo>
                  <a:pt x="1743" y="134"/>
                </a:lnTo>
                <a:lnTo>
                  <a:pt x="1764" y="149"/>
                </a:lnTo>
                <a:lnTo>
                  <a:pt x="1783" y="163"/>
                </a:lnTo>
                <a:lnTo>
                  <a:pt x="1800" y="176"/>
                </a:lnTo>
                <a:lnTo>
                  <a:pt x="1818" y="190"/>
                </a:lnTo>
                <a:lnTo>
                  <a:pt x="1833" y="201"/>
                </a:lnTo>
                <a:lnTo>
                  <a:pt x="1846" y="213"/>
                </a:lnTo>
                <a:lnTo>
                  <a:pt x="1858" y="222"/>
                </a:lnTo>
                <a:lnTo>
                  <a:pt x="1869" y="234"/>
                </a:lnTo>
                <a:lnTo>
                  <a:pt x="1877" y="241"/>
                </a:lnTo>
                <a:lnTo>
                  <a:pt x="1887" y="251"/>
                </a:lnTo>
                <a:lnTo>
                  <a:pt x="1892" y="259"/>
                </a:lnTo>
                <a:lnTo>
                  <a:pt x="1898" y="266"/>
                </a:lnTo>
                <a:lnTo>
                  <a:pt x="1902" y="274"/>
                </a:lnTo>
                <a:lnTo>
                  <a:pt x="1906" y="282"/>
                </a:lnTo>
                <a:lnTo>
                  <a:pt x="1908" y="287"/>
                </a:lnTo>
                <a:lnTo>
                  <a:pt x="1908" y="295"/>
                </a:lnTo>
                <a:lnTo>
                  <a:pt x="1908" y="310"/>
                </a:lnTo>
                <a:lnTo>
                  <a:pt x="1906" y="320"/>
                </a:lnTo>
                <a:lnTo>
                  <a:pt x="1904" y="328"/>
                </a:lnTo>
                <a:lnTo>
                  <a:pt x="1902" y="333"/>
                </a:lnTo>
                <a:lnTo>
                  <a:pt x="1900" y="341"/>
                </a:lnTo>
                <a:lnTo>
                  <a:pt x="1896" y="347"/>
                </a:lnTo>
                <a:lnTo>
                  <a:pt x="1894" y="355"/>
                </a:lnTo>
                <a:lnTo>
                  <a:pt x="1889" y="360"/>
                </a:lnTo>
                <a:lnTo>
                  <a:pt x="1885" y="366"/>
                </a:lnTo>
                <a:lnTo>
                  <a:pt x="1879" y="370"/>
                </a:lnTo>
                <a:lnTo>
                  <a:pt x="1873" y="376"/>
                </a:lnTo>
                <a:lnTo>
                  <a:pt x="1866" y="380"/>
                </a:lnTo>
                <a:lnTo>
                  <a:pt x="1860" y="383"/>
                </a:lnTo>
                <a:lnTo>
                  <a:pt x="1850" y="387"/>
                </a:lnTo>
                <a:lnTo>
                  <a:pt x="1843" y="389"/>
                </a:lnTo>
                <a:lnTo>
                  <a:pt x="1837" y="393"/>
                </a:lnTo>
                <a:lnTo>
                  <a:pt x="1833" y="397"/>
                </a:lnTo>
                <a:lnTo>
                  <a:pt x="1829" y="403"/>
                </a:lnTo>
                <a:lnTo>
                  <a:pt x="1823" y="408"/>
                </a:lnTo>
                <a:lnTo>
                  <a:pt x="1819" y="414"/>
                </a:lnTo>
                <a:lnTo>
                  <a:pt x="1814" y="422"/>
                </a:lnTo>
                <a:lnTo>
                  <a:pt x="1810" y="429"/>
                </a:lnTo>
                <a:lnTo>
                  <a:pt x="1804" y="437"/>
                </a:lnTo>
                <a:lnTo>
                  <a:pt x="1800" y="447"/>
                </a:lnTo>
                <a:lnTo>
                  <a:pt x="1796" y="458"/>
                </a:lnTo>
                <a:lnTo>
                  <a:pt x="1791" y="468"/>
                </a:lnTo>
                <a:lnTo>
                  <a:pt x="1787" y="479"/>
                </a:lnTo>
                <a:lnTo>
                  <a:pt x="1781" y="493"/>
                </a:lnTo>
                <a:lnTo>
                  <a:pt x="1777" y="506"/>
                </a:lnTo>
                <a:lnTo>
                  <a:pt x="1772" y="520"/>
                </a:lnTo>
                <a:lnTo>
                  <a:pt x="1768" y="533"/>
                </a:lnTo>
                <a:lnTo>
                  <a:pt x="1764" y="548"/>
                </a:lnTo>
                <a:lnTo>
                  <a:pt x="1758" y="566"/>
                </a:lnTo>
                <a:lnTo>
                  <a:pt x="1754" y="581"/>
                </a:lnTo>
                <a:lnTo>
                  <a:pt x="1748" y="600"/>
                </a:lnTo>
                <a:lnTo>
                  <a:pt x="1745" y="617"/>
                </a:lnTo>
                <a:lnTo>
                  <a:pt x="1741" y="637"/>
                </a:lnTo>
                <a:lnTo>
                  <a:pt x="1735" y="656"/>
                </a:lnTo>
                <a:lnTo>
                  <a:pt x="1731" y="677"/>
                </a:lnTo>
                <a:lnTo>
                  <a:pt x="1725" y="698"/>
                </a:lnTo>
                <a:lnTo>
                  <a:pt x="1722" y="721"/>
                </a:lnTo>
                <a:lnTo>
                  <a:pt x="1718" y="744"/>
                </a:lnTo>
                <a:lnTo>
                  <a:pt x="1712" y="767"/>
                </a:lnTo>
                <a:lnTo>
                  <a:pt x="1708" y="792"/>
                </a:lnTo>
                <a:lnTo>
                  <a:pt x="1702" y="817"/>
                </a:lnTo>
                <a:lnTo>
                  <a:pt x="1699" y="842"/>
                </a:lnTo>
                <a:lnTo>
                  <a:pt x="1695" y="869"/>
                </a:lnTo>
                <a:lnTo>
                  <a:pt x="1689" y="898"/>
                </a:lnTo>
                <a:lnTo>
                  <a:pt x="1685" y="924"/>
                </a:lnTo>
                <a:lnTo>
                  <a:pt x="1679" y="949"/>
                </a:lnTo>
                <a:lnTo>
                  <a:pt x="1676" y="976"/>
                </a:lnTo>
                <a:lnTo>
                  <a:pt x="1670" y="1001"/>
                </a:lnTo>
                <a:lnTo>
                  <a:pt x="1666" y="1024"/>
                </a:lnTo>
                <a:lnTo>
                  <a:pt x="1660" y="1047"/>
                </a:lnTo>
                <a:lnTo>
                  <a:pt x="1654" y="1068"/>
                </a:lnTo>
                <a:lnTo>
                  <a:pt x="1649" y="1091"/>
                </a:lnTo>
                <a:lnTo>
                  <a:pt x="1645" y="1111"/>
                </a:lnTo>
                <a:lnTo>
                  <a:pt x="1639" y="1130"/>
                </a:lnTo>
                <a:lnTo>
                  <a:pt x="1633" y="1149"/>
                </a:lnTo>
                <a:lnTo>
                  <a:pt x="1628" y="1166"/>
                </a:lnTo>
                <a:lnTo>
                  <a:pt x="1624" y="1184"/>
                </a:lnTo>
                <a:lnTo>
                  <a:pt x="1618" y="1201"/>
                </a:lnTo>
                <a:lnTo>
                  <a:pt x="1612" y="1216"/>
                </a:lnTo>
                <a:lnTo>
                  <a:pt x="1606" y="1230"/>
                </a:lnTo>
                <a:lnTo>
                  <a:pt x="1601" y="1245"/>
                </a:lnTo>
                <a:lnTo>
                  <a:pt x="1595" y="1256"/>
                </a:lnTo>
                <a:lnTo>
                  <a:pt x="1591" y="1268"/>
                </a:lnTo>
                <a:lnTo>
                  <a:pt x="1585" y="1279"/>
                </a:lnTo>
                <a:lnTo>
                  <a:pt x="1580" y="1291"/>
                </a:lnTo>
                <a:lnTo>
                  <a:pt x="1574" y="1301"/>
                </a:lnTo>
                <a:lnTo>
                  <a:pt x="1570" y="1308"/>
                </a:lnTo>
                <a:lnTo>
                  <a:pt x="1564" y="1316"/>
                </a:lnTo>
                <a:lnTo>
                  <a:pt x="1559" y="1324"/>
                </a:lnTo>
                <a:lnTo>
                  <a:pt x="1555" y="1329"/>
                </a:lnTo>
                <a:lnTo>
                  <a:pt x="1549" y="1335"/>
                </a:lnTo>
                <a:lnTo>
                  <a:pt x="1543" y="1339"/>
                </a:lnTo>
                <a:lnTo>
                  <a:pt x="1539" y="1343"/>
                </a:lnTo>
                <a:lnTo>
                  <a:pt x="1534" y="1345"/>
                </a:lnTo>
                <a:lnTo>
                  <a:pt x="1530" y="1349"/>
                </a:lnTo>
                <a:lnTo>
                  <a:pt x="1530" y="1349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38640" y="2970360"/>
            <a:ext cx="666720" cy="190440"/>
          </a:xfrm>
          <a:custGeom>
            <a:avLst/>
            <a:gdLst/>
            <a:ahLst/>
            <a:rect l="l" t="t" r="r" b="b"/>
            <a:pathLst>
              <a:path w="841" h="239">
                <a:moveTo>
                  <a:pt x="319" y="30"/>
                </a:moveTo>
                <a:lnTo>
                  <a:pt x="350" y="28"/>
                </a:lnTo>
                <a:lnTo>
                  <a:pt x="376" y="24"/>
                </a:lnTo>
                <a:lnTo>
                  <a:pt x="405" y="23"/>
                </a:lnTo>
                <a:lnTo>
                  <a:pt x="430" y="19"/>
                </a:lnTo>
                <a:lnTo>
                  <a:pt x="453" y="17"/>
                </a:lnTo>
                <a:lnTo>
                  <a:pt x="476" y="13"/>
                </a:lnTo>
                <a:lnTo>
                  <a:pt x="497" y="11"/>
                </a:lnTo>
                <a:lnTo>
                  <a:pt x="518" y="9"/>
                </a:lnTo>
                <a:lnTo>
                  <a:pt x="538" y="7"/>
                </a:lnTo>
                <a:lnTo>
                  <a:pt x="555" y="5"/>
                </a:lnTo>
                <a:lnTo>
                  <a:pt x="570" y="3"/>
                </a:lnTo>
                <a:lnTo>
                  <a:pt x="586" y="1"/>
                </a:lnTo>
                <a:lnTo>
                  <a:pt x="599" y="1"/>
                </a:lnTo>
                <a:lnTo>
                  <a:pt x="610" y="0"/>
                </a:lnTo>
                <a:lnTo>
                  <a:pt x="622" y="0"/>
                </a:lnTo>
                <a:lnTo>
                  <a:pt x="632" y="0"/>
                </a:lnTo>
                <a:lnTo>
                  <a:pt x="649" y="0"/>
                </a:lnTo>
                <a:lnTo>
                  <a:pt x="668" y="1"/>
                </a:lnTo>
                <a:lnTo>
                  <a:pt x="687" y="5"/>
                </a:lnTo>
                <a:lnTo>
                  <a:pt x="706" y="9"/>
                </a:lnTo>
                <a:lnTo>
                  <a:pt x="728" y="13"/>
                </a:lnTo>
                <a:lnTo>
                  <a:pt x="749" y="19"/>
                </a:lnTo>
                <a:lnTo>
                  <a:pt x="772" y="24"/>
                </a:lnTo>
                <a:lnTo>
                  <a:pt x="795" y="30"/>
                </a:lnTo>
                <a:lnTo>
                  <a:pt x="804" y="34"/>
                </a:lnTo>
                <a:lnTo>
                  <a:pt x="812" y="38"/>
                </a:lnTo>
                <a:lnTo>
                  <a:pt x="820" y="42"/>
                </a:lnTo>
                <a:lnTo>
                  <a:pt x="825" y="46"/>
                </a:lnTo>
                <a:lnTo>
                  <a:pt x="831" y="51"/>
                </a:lnTo>
                <a:lnTo>
                  <a:pt x="835" y="55"/>
                </a:lnTo>
                <a:lnTo>
                  <a:pt x="839" y="61"/>
                </a:lnTo>
                <a:lnTo>
                  <a:pt x="841" y="67"/>
                </a:lnTo>
                <a:lnTo>
                  <a:pt x="841" y="72"/>
                </a:lnTo>
                <a:lnTo>
                  <a:pt x="841" y="80"/>
                </a:lnTo>
                <a:lnTo>
                  <a:pt x="841" y="86"/>
                </a:lnTo>
                <a:lnTo>
                  <a:pt x="837" y="94"/>
                </a:lnTo>
                <a:lnTo>
                  <a:pt x="833" y="101"/>
                </a:lnTo>
                <a:lnTo>
                  <a:pt x="827" y="109"/>
                </a:lnTo>
                <a:lnTo>
                  <a:pt x="820" y="119"/>
                </a:lnTo>
                <a:lnTo>
                  <a:pt x="812" y="126"/>
                </a:lnTo>
                <a:lnTo>
                  <a:pt x="802" y="136"/>
                </a:lnTo>
                <a:lnTo>
                  <a:pt x="793" y="143"/>
                </a:lnTo>
                <a:lnTo>
                  <a:pt x="781" y="151"/>
                </a:lnTo>
                <a:lnTo>
                  <a:pt x="768" y="157"/>
                </a:lnTo>
                <a:lnTo>
                  <a:pt x="754" y="163"/>
                </a:lnTo>
                <a:lnTo>
                  <a:pt x="741" y="168"/>
                </a:lnTo>
                <a:lnTo>
                  <a:pt x="726" y="174"/>
                </a:lnTo>
                <a:lnTo>
                  <a:pt x="710" y="178"/>
                </a:lnTo>
                <a:lnTo>
                  <a:pt x="691" y="184"/>
                </a:lnTo>
                <a:lnTo>
                  <a:pt x="674" y="188"/>
                </a:lnTo>
                <a:lnTo>
                  <a:pt x="653" y="191"/>
                </a:lnTo>
                <a:lnTo>
                  <a:pt x="632" y="193"/>
                </a:lnTo>
                <a:lnTo>
                  <a:pt x="609" y="197"/>
                </a:lnTo>
                <a:lnTo>
                  <a:pt x="586" y="201"/>
                </a:lnTo>
                <a:lnTo>
                  <a:pt x="559" y="203"/>
                </a:lnTo>
                <a:lnTo>
                  <a:pt x="532" y="207"/>
                </a:lnTo>
                <a:lnTo>
                  <a:pt x="505" y="209"/>
                </a:lnTo>
                <a:lnTo>
                  <a:pt x="480" y="213"/>
                </a:lnTo>
                <a:lnTo>
                  <a:pt x="455" y="216"/>
                </a:lnTo>
                <a:lnTo>
                  <a:pt x="430" y="218"/>
                </a:lnTo>
                <a:lnTo>
                  <a:pt x="409" y="222"/>
                </a:lnTo>
                <a:lnTo>
                  <a:pt x="388" y="224"/>
                </a:lnTo>
                <a:lnTo>
                  <a:pt x="369" y="226"/>
                </a:lnTo>
                <a:lnTo>
                  <a:pt x="350" y="228"/>
                </a:lnTo>
                <a:lnTo>
                  <a:pt x="332" y="232"/>
                </a:lnTo>
                <a:lnTo>
                  <a:pt x="317" y="234"/>
                </a:lnTo>
                <a:lnTo>
                  <a:pt x="302" y="234"/>
                </a:lnTo>
                <a:lnTo>
                  <a:pt x="290" y="236"/>
                </a:lnTo>
                <a:lnTo>
                  <a:pt x="279" y="237"/>
                </a:lnTo>
                <a:lnTo>
                  <a:pt x="269" y="237"/>
                </a:lnTo>
                <a:lnTo>
                  <a:pt x="259" y="237"/>
                </a:lnTo>
                <a:lnTo>
                  <a:pt x="254" y="239"/>
                </a:lnTo>
                <a:lnTo>
                  <a:pt x="240" y="237"/>
                </a:lnTo>
                <a:lnTo>
                  <a:pt x="232" y="237"/>
                </a:lnTo>
                <a:lnTo>
                  <a:pt x="225" y="236"/>
                </a:lnTo>
                <a:lnTo>
                  <a:pt x="217" y="234"/>
                </a:lnTo>
                <a:lnTo>
                  <a:pt x="208" y="232"/>
                </a:lnTo>
                <a:lnTo>
                  <a:pt x="198" y="228"/>
                </a:lnTo>
                <a:lnTo>
                  <a:pt x="188" y="224"/>
                </a:lnTo>
                <a:lnTo>
                  <a:pt x="179" y="220"/>
                </a:lnTo>
                <a:lnTo>
                  <a:pt x="167" y="216"/>
                </a:lnTo>
                <a:lnTo>
                  <a:pt x="156" y="211"/>
                </a:lnTo>
                <a:lnTo>
                  <a:pt x="144" y="205"/>
                </a:lnTo>
                <a:lnTo>
                  <a:pt x="131" y="199"/>
                </a:lnTo>
                <a:lnTo>
                  <a:pt x="117" y="191"/>
                </a:lnTo>
                <a:lnTo>
                  <a:pt x="104" y="184"/>
                </a:lnTo>
                <a:lnTo>
                  <a:pt x="89" y="174"/>
                </a:lnTo>
                <a:lnTo>
                  <a:pt x="73" y="168"/>
                </a:lnTo>
                <a:lnTo>
                  <a:pt x="60" y="163"/>
                </a:lnTo>
                <a:lnTo>
                  <a:pt x="48" y="157"/>
                </a:lnTo>
                <a:lnTo>
                  <a:pt x="37" y="151"/>
                </a:lnTo>
                <a:lnTo>
                  <a:pt x="27" y="145"/>
                </a:lnTo>
                <a:lnTo>
                  <a:pt x="18" y="140"/>
                </a:lnTo>
                <a:lnTo>
                  <a:pt x="12" y="134"/>
                </a:lnTo>
                <a:lnTo>
                  <a:pt x="6" y="128"/>
                </a:lnTo>
                <a:lnTo>
                  <a:pt x="2" y="124"/>
                </a:lnTo>
                <a:lnTo>
                  <a:pt x="0" y="119"/>
                </a:lnTo>
                <a:lnTo>
                  <a:pt x="0" y="115"/>
                </a:lnTo>
                <a:lnTo>
                  <a:pt x="0" y="109"/>
                </a:lnTo>
                <a:lnTo>
                  <a:pt x="4" y="105"/>
                </a:lnTo>
                <a:lnTo>
                  <a:pt x="8" y="101"/>
                </a:lnTo>
                <a:lnTo>
                  <a:pt x="14" y="97"/>
                </a:lnTo>
                <a:lnTo>
                  <a:pt x="18" y="95"/>
                </a:lnTo>
                <a:lnTo>
                  <a:pt x="23" y="95"/>
                </a:lnTo>
                <a:lnTo>
                  <a:pt x="33" y="92"/>
                </a:lnTo>
                <a:lnTo>
                  <a:pt x="42" y="88"/>
                </a:lnTo>
                <a:lnTo>
                  <a:pt x="56" y="84"/>
                </a:lnTo>
                <a:lnTo>
                  <a:pt x="69" y="80"/>
                </a:lnTo>
                <a:lnTo>
                  <a:pt x="83" y="76"/>
                </a:lnTo>
                <a:lnTo>
                  <a:pt x="98" y="72"/>
                </a:lnTo>
                <a:lnTo>
                  <a:pt x="115" y="67"/>
                </a:lnTo>
                <a:lnTo>
                  <a:pt x="133" y="63"/>
                </a:lnTo>
                <a:lnTo>
                  <a:pt x="152" y="59"/>
                </a:lnTo>
                <a:lnTo>
                  <a:pt x="173" y="53"/>
                </a:lnTo>
                <a:lnTo>
                  <a:pt x="194" y="49"/>
                </a:lnTo>
                <a:lnTo>
                  <a:pt x="217" y="46"/>
                </a:lnTo>
                <a:lnTo>
                  <a:pt x="240" y="42"/>
                </a:lnTo>
                <a:lnTo>
                  <a:pt x="265" y="38"/>
                </a:lnTo>
                <a:lnTo>
                  <a:pt x="292" y="34"/>
                </a:lnTo>
                <a:lnTo>
                  <a:pt x="319" y="30"/>
                </a:lnTo>
                <a:lnTo>
                  <a:pt x="319" y="30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8960" y="3273480"/>
            <a:ext cx="979560" cy="101520"/>
          </a:xfrm>
          <a:custGeom>
            <a:avLst/>
            <a:gdLst/>
            <a:ahLst/>
            <a:rect l="l" t="t" r="r" b="b"/>
            <a:pathLst>
              <a:path w="1233" h="129">
                <a:moveTo>
                  <a:pt x="0" y="129"/>
                </a:moveTo>
                <a:lnTo>
                  <a:pt x="0" y="96"/>
                </a:lnTo>
                <a:lnTo>
                  <a:pt x="86" y="85"/>
                </a:lnTo>
                <a:lnTo>
                  <a:pt x="130" y="79"/>
                </a:lnTo>
                <a:lnTo>
                  <a:pt x="174" y="73"/>
                </a:lnTo>
                <a:lnTo>
                  <a:pt x="218" y="68"/>
                </a:lnTo>
                <a:lnTo>
                  <a:pt x="264" y="62"/>
                </a:lnTo>
                <a:lnTo>
                  <a:pt x="312" y="54"/>
                </a:lnTo>
                <a:lnTo>
                  <a:pt x="360" y="48"/>
                </a:lnTo>
                <a:lnTo>
                  <a:pt x="374" y="46"/>
                </a:lnTo>
                <a:lnTo>
                  <a:pt x="387" y="46"/>
                </a:lnTo>
                <a:lnTo>
                  <a:pt x="403" y="45"/>
                </a:lnTo>
                <a:lnTo>
                  <a:pt x="418" y="43"/>
                </a:lnTo>
                <a:lnTo>
                  <a:pt x="435" y="41"/>
                </a:lnTo>
                <a:lnTo>
                  <a:pt x="453" y="41"/>
                </a:lnTo>
                <a:lnTo>
                  <a:pt x="472" y="39"/>
                </a:lnTo>
                <a:lnTo>
                  <a:pt x="491" y="37"/>
                </a:lnTo>
                <a:lnTo>
                  <a:pt x="510" y="35"/>
                </a:lnTo>
                <a:lnTo>
                  <a:pt x="531" y="33"/>
                </a:lnTo>
                <a:lnTo>
                  <a:pt x="554" y="33"/>
                </a:lnTo>
                <a:lnTo>
                  <a:pt x="577" y="31"/>
                </a:lnTo>
                <a:lnTo>
                  <a:pt x="602" y="29"/>
                </a:lnTo>
                <a:lnTo>
                  <a:pt x="627" y="27"/>
                </a:lnTo>
                <a:lnTo>
                  <a:pt x="652" y="27"/>
                </a:lnTo>
                <a:lnTo>
                  <a:pt x="679" y="25"/>
                </a:lnTo>
                <a:lnTo>
                  <a:pt x="708" y="23"/>
                </a:lnTo>
                <a:lnTo>
                  <a:pt x="736" y="21"/>
                </a:lnTo>
                <a:lnTo>
                  <a:pt x="765" y="20"/>
                </a:lnTo>
                <a:lnTo>
                  <a:pt x="796" y="20"/>
                </a:lnTo>
                <a:lnTo>
                  <a:pt x="829" y="18"/>
                </a:lnTo>
                <a:lnTo>
                  <a:pt x="859" y="16"/>
                </a:lnTo>
                <a:lnTo>
                  <a:pt x="894" y="14"/>
                </a:lnTo>
                <a:lnTo>
                  <a:pt x="928" y="14"/>
                </a:lnTo>
                <a:lnTo>
                  <a:pt x="963" y="12"/>
                </a:lnTo>
                <a:lnTo>
                  <a:pt x="999" y="10"/>
                </a:lnTo>
                <a:lnTo>
                  <a:pt x="1036" y="8"/>
                </a:lnTo>
                <a:lnTo>
                  <a:pt x="1072" y="8"/>
                </a:lnTo>
                <a:lnTo>
                  <a:pt x="1113" y="6"/>
                </a:lnTo>
                <a:lnTo>
                  <a:pt x="1151" y="4"/>
                </a:lnTo>
                <a:lnTo>
                  <a:pt x="1191" y="2"/>
                </a:lnTo>
                <a:lnTo>
                  <a:pt x="1233" y="0"/>
                </a:lnTo>
                <a:lnTo>
                  <a:pt x="1233" y="18"/>
                </a:lnTo>
                <a:lnTo>
                  <a:pt x="1230" y="18"/>
                </a:lnTo>
                <a:lnTo>
                  <a:pt x="1224" y="18"/>
                </a:lnTo>
                <a:lnTo>
                  <a:pt x="1218" y="18"/>
                </a:lnTo>
                <a:lnTo>
                  <a:pt x="1214" y="18"/>
                </a:lnTo>
                <a:lnTo>
                  <a:pt x="1207" y="18"/>
                </a:lnTo>
                <a:lnTo>
                  <a:pt x="1201" y="18"/>
                </a:lnTo>
                <a:lnTo>
                  <a:pt x="1193" y="18"/>
                </a:lnTo>
                <a:lnTo>
                  <a:pt x="1187" y="18"/>
                </a:lnTo>
                <a:lnTo>
                  <a:pt x="1178" y="20"/>
                </a:lnTo>
                <a:lnTo>
                  <a:pt x="1170" y="20"/>
                </a:lnTo>
                <a:lnTo>
                  <a:pt x="1161" y="20"/>
                </a:lnTo>
                <a:lnTo>
                  <a:pt x="1151" y="20"/>
                </a:lnTo>
                <a:lnTo>
                  <a:pt x="1141" y="21"/>
                </a:lnTo>
                <a:lnTo>
                  <a:pt x="1132" y="21"/>
                </a:lnTo>
                <a:lnTo>
                  <a:pt x="1120" y="21"/>
                </a:lnTo>
                <a:lnTo>
                  <a:pt x="1109" y="23"/>
                </a:lnTo>
                <a:lnTo>
                  <a:pt x="1097" y="23"/>
                </a:lnTo>
                <a:lnTo>
                  <a:pt x="1086" y="25"/>
                </a:lnTo>
                <a:lnTo>
                  <a:pt x="1072" y="25"/>
                </a:lnTo>
                <a:lnTo>
                  <a:pt x="1059" y="27"/>
                </a:lnTo>
                <a:lnTo>
                  <a:pt x="1045" y="27"/>
                </a:lnTo>
                <a:lnTo>
                  <a:pt x="1032" y="29"/>
                </a:lnTo>
                <a:lnTo>
                  <a:pt x="1017" y="29"/>
                </a:lnTo>
                <a:lnTo>
                  <a:pt x="1001" y="31"/>
                </a:lnTo>
                <a:lnTo>
                  <a:pt x="986" y="33"/>
                </a:lnTo>
                <a:lnTo>
                  <a:pt x="969" y="33"/>
                </a:lnTo>
                <a:lnTo>
                  <a:pt x="953" y="35"/>
                </a:lnTo>
                <a:lnTo>
                  <a:pt x="936" y="37"/>
                </a:lnTo>
                <a:lnTo>
                  <a:pt x="919" y="37"/>
                </a:lnTo>
                <a:lnTo>
                  <a:pt x="900" y="39"/>
                </a:lnTo>
                <a:lnTo>
                  <a:pt x="882" y="41"/>
                </a:lnTo>
                <a:lnTo>
                  <a:pt x="863" y="43"/>
                </a:lnTo>
                <a:lnTo>
                  <a:pt x="844" y="45"/>
                </a:lnTo>
                <a:lnTo>
                  <a:pt x="823" y="46"/>
                </a:lnTo>
                <a:lnTo>
                  <a:pt x="802" y="48"/>
                </a:lnTo>
                <a:lnTo>
                  <a:pt x="783" y="50"/>
                </a:lnTo>
                <a:lnTo>
                  <a:pt x="760" y="52"/>
                </a:lnTo>
                <a:lnTo>
                  <a:pt x="738" y="54"/>
                </a:lnTo>
                <a:lnTo>
                  <a:pt x="715" y="56"/>
                </a:lnTo>
                <a:lnTo>
                  <a:pt x="692" y="58"/>
                </a:lnTo>
                <a:lnTo>
                  <a:pt x="669" y="60"/>
                </a:lnTo>
                <a:lnTo>
                  <a:pt x="646" y="62"/>
                </a:lnTo>
                <a:lnTo>
                  <a:pt x="621" y="64"/>
                </a:lnTo>
                <a:lnTo>
                  <a:pt x="596" y="68"/>
                </a:lnTo>
                <a:lnTo>
                  <a:pt x="571" y="69"/>
                </a:lnTo>
                <a:lnTo>
                  <a:pt x="545" y="71"/>
                </a:lnTo>
                <a:lnTo>
                  <a:pt x="520" y="73"/>
                </a:lnTo>
                <a:lnTo>
                  <a:pt x="493" y="77"/>
                </a:lnTo>
                <a:lnTo>
                  <a:pt x="466" y="79"/>
                </a:lnTo>
                <a:lnTo>
                  <a:pt x="437" y="83"/>
                </a:lnTo>
                <a:lnTo>
                  <a:pt x="410" y="85"/>
                </a:lnTo>
                <a:lnTo>
                  <a:pt x="382" y="89"/>
                </a:lnTo>
                <a:lnTo>
                  <a:pt x="351" y="91"/>
                </a:lnTo>
                <a:lnTo>
                  <a:pt x="322" y="94"/>
                </a:lnTo>
                <a:lnTo>
                  <a:pt x="291" y="96"/>
                </a:lnTo>
                <a:lnTo>
                  <a:pt x="261" y="100"/>
                </a:lnTo>
                <a:lnTo>
                  <a:pt x="230" y="104"/>
                </a:lnTo>
                <a:lnTo>
                  <a:pt x="199" y="108"/>
                </a:lnTo>
                <a:lnTo>
                  <a:pt x="167" y="110"/>
                </a:lnTo>
                <a:lnTo>
                  <a:pt x="134" y="114"/>
                </a:lnTo>
                <a:lnTo>
                  <a:pt x="101" y="117"/>
                </a:lnTo>
                <a:lnTo>
                  <a:pt x="67" y="121"/>
                </a:lnTo>
                <a:lnTo>
                  <a:pt x="34" y="125"/>
                </a:lnTo>
                <a:lnTo>
                  <a:pt x="0" y="129"/>
                </a:lnTo>
                <a:lnTo>
                  <a:pt x="0" y="129"/>
                </a:lnTo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9040" y="3489480"/>
            <a:ext cx="3016080" cy="417240"/>
          </a:xfrm>
          <a:custGeom>
            <a:avLst/>
            <a:gdLst/>
            <a:ahLst/>
            <a:rect l="l" t="t" r="r" b="b"/>
            <a:pathLst>
              <a:path w="3799" h="526">
                <a:moveTo>
                  <a:pt x="1940" y="318"/>
                </a:moveTo>
                <a:lnTo>
                  <a:pt x="1817" y="332"/>
                </a:lnTo>
                <a:lnTo>
                  <a:pt x="1690" y="345"/>
                </a:lnTo>
                <a:lnTo>
                  <a:pt x="1564" y="361"/>
                </a:lnTo>
                <a:lnTo>
                  <a:pt x="1435" y="376"/>
                </a:lnTo>
                <a:lnTo>
                  <a:pt x="1305" y="393"/>
                </a:lnTo>
                <a:lnTo>
                  <a:pt x="1172" y="411"/>
                </a:lnTo>
                <a:lnTo>
                  <a:pt x="1040" y="428"/>
                </a:lnTo>
                <a:lnTo>
                  <a:pt x="903" y="447"/>
                </a:lnTo>
                <a:lnTo>
                  <a:pt x="871" y="451"/>
                </a:lnTo>
                <a:lnTo>
                  <a:pt x="838" y="455"/>
                </a:lnTo>
                <a:lnTo>
                  <a:pt x="808" y="460"/>
                </a:lnTo>
                <a:lnTo>
                  <a:pt x="777" y="464"/>
                </a:lnTo>
                <a:lnTo>
                  <a:pt x="746" y="468"/>
                </a:lnTo>
                <a:lnTo>
                  <a:pt x="717" y="472"/>
                </a:lnTo>
                <a:lnTo>
                  <a:pt x="690" y="476"/>
                </a:lnTo>
                <a:lnTo>
                  <a:pt x="664" y="480"/>
                </a:lnTo>
                <a:lnTo>
                  <a:pt x="637" y="483"/>
                </a:lnTo>
                <a:lnTo>
                  <a:pt x="612" y="487"/>
                </a:lnTo>
                <a:lnTo>
                  <a:pt x="589" y="489"/>
                </a:lnTo>
                <a:lnTo>
                  <a:pt x="566" y="493"/>
                </a:lnTo>
                <a:lnTo>
                  <a:pt x="543" y="497"/>
                </a:lnTo>
                <a:lnTo>
                  <a:pt x="522" y="499"/>
                </a:lnTo>
                <a:lnTo>
                  <a:pt x="502" y="503"/>
                </a:lnTo>
                <a:lnTo>
                  <a:pt x="483" y="505"/>
                </a:lnTo>
                <a:lnTo>
                  <a:pt x="464" y="506"/>
                </a:lnTo>
                <a:lnTo>
                  <a:pt x="447" y="508"/>
                </a:lnTo>
                <a:lnTo>
                  <a:pt x="430" y="512"/>
                </a:lnTo>
                <a:lnTo>
                  <a:pt x="414" y="514"/>
                </a:lnTo>
                <a:lnTo>
                  <a:pt x="399" y="516"/>
                </a:lnTo>
                <a:lnTo>
                  <a:pt x="385" y="518"/>
                </a:lnTo>
                <a:lnTo>
                  <a:pt x="372" y="518"/>
                </a:lnTo>
                <a:lnTo>
                  <a:pt x="360" y="520"/>
                </a:lnTo>
                <a:lnTo>
                  <a:pt x="349" y="522"/>
                </a:lnTo>
                <a:lnTo>
                  <a:pt x="339" y="522"/>
                </a:lnTo>
                <a:lnTo>
                  <a:pt x="330" y="524"/>
                </a:lnTo>
                <a:lnTo>
                  <a:pt x="320" y="524"/>
                </a:lnTo>
                <a:lnTo>
                  <a:pt x="312" y="526"/>
                </a:lnTo>
                <a:lnTo>
                  <a:pt x="307" y="526"/>
                </a:lnTo>
                <a:lnTo>
                  <a:pt x="301" y="526"/>
                </a:lnTo>
                <a:lnTo>
                  <a:pt x="295" y="526"/>
                </a:lnTo>
                <a:lnTo>
                  <a:pt x="286" y="526"/>
                </a:lnTo>
                <a:lnTo>
                  <a:pt x="276" y="524"/>
                </a:lnTo>
                <a:lnTo>
                  <a:pt x="266" y="522"/>
                </a:lnTo>
                <a:lnTo>
                  <a:pt x="255" y="520"/>
                </a:lnTo>
                <a:lnTo>
                  <a:pt x="245" y="518"/>
                </a:lnTo>
                <a:lnTo>
                  <a:pt x="234" y="514"/>
                </a:lnTo>
                <a:lnTo>
                  <a:pt x="222" y="508"/>
                </a:lnTo>
                <a:lnTo>
                  <a:pt x="211" y="505"/>
                </a:lnTo>
                <a:lnTo>
                  <a:pt x="199" y="499"/>
                </a:lnTo>
                <a:lnTo>
                  <a:pt x="188" y="493"/>
                </a:lnTo>
                <a:lnTo>
                  <a:pt x="176" y="485"/>
                </a:lnTo>
                <a:lnTo>
                  <a:pt x="163" y="480"/>
                </a:lnTo>
                <a:lnTo>
                  <a:pt x="151" y="472"/>
                </a:lnTo>
                <a:lnTo>
                  <a:pt x="140" y="464"/>
                </a:lnTo>
                <a:lnTo>
                  <a:pt x="115" y="447"/>
                </a:lnTo>
                <a:lnTo>
                  <a:pt x="99" y="437"/>
                </a:lnTo>
                <a:lnTo>
                  <a:pt x="86" y="428"/>
                </a:lnTo>
                <a:lnTo>
                  <a:pt x="75" y="418"/>
                </a:lnTo>
                <a:lnTo>
                  <a:pt x="63" y="411"/>
                </a:lnTo>
                <a:lnTo>
                  <a:pt x="51" y="401"/>
                </a:lnTo>
                <a:lnTo>
                  <a:pt x="42" y="391"/>
                </a:lnTo>
                <a:lnTo>
                  <a:pt x="34" y="384"/>
                </a:lnTo>
                <a:lnTo>
                  <a:pt x="27" y="374"/>
                </a:lnTo>
                <a:lnTo>
                  <a:pt x="21" y="364"/>
                </a:lnTo>
                <a:lnTo>
                  <a:pt x="15" y="357"/>
                </a:lnTo>
                <a:lnTo>
                  <a:pt x="9" y="347"/>
                </a:lnTo>
                <a:lnTo>
                  <a:pt x="5" y="338"/>
                </a:lnTo>
                <a:lnTo>
                  <a:pt x="4" y="330"/>
                </a:lnTo>
                <a:lnTo>
                  <a:pt x="2" y="320"/>
                </a:lnTo>
                <a:lnTo>
                  <a:pt x="0" y="311"/>
                </a:lnTo>
                <a:lnTo>
                  <a:pt x="0" y="303"/>
                </a:lnTo>
                <a:lnTo>
                  <a:pt x="7" y="303"/>
                </a:lnTo>
                <a:lnTo>
                  <a:pt x="17" y="303"/>
                </a:lnTo>
                <a:lnTo>
                  <a:pt x="27" y="303"/>
                </a:lnTo>
                <a:lnTo>
                  <a:pt x="38" y="301"/>
                </a:lnTo>
                <a:lnTo>
                  <a:pt x="50" y="301"/>
                </a:lnTo>
                <a:lnTo>
                  <a:pt x="61" y="301"/>
                </a:lnTo>
                <a:lnTo>
                  <a:pt x="75" y="301"/>
                </a:lnTo>
                <a:lnTo>
                  <a:pt x="88" y="299"/>
                </a:lnTo>
                <a:lnTo>
                  <a:pt x="103" y="299"/>
                </a:lnTo>
                <a:lnTo>
                  <a:pt x="119" y="297"/>
                </a:lnTo>
                <a:lnTo>
                  <a:pt x="136" y="297"/>
                </a:lnTo>
                <a:lnTo>
                  <a:pt x="153" y="295"/>
                </a:lnTo>
                <a:lnTo>
                  <a:pt x="170" y="293"/>
                </a:lnTo>
                <a:lnTo>
                  <a:pt x="190" y="292"/>
                </a:lnTo>
                <a:lnTo>
                  <a:pt x="209" y="292"/>
                </a:lnTo>
                <a:lnTo>
                  <a:pt x="230" y="290"/>
                </a:lnTo>
                <a:lnTo>
                  <a:pt x="251" y="288"/>
                </a:lnTo>
                <a:lnTo>
                  <a:pt x="272" y="286"/>
                </a:lnTo>
                <a:lnTo>
                  <a:pt x="295" y="282"/>
                </a:lnTo>
                <a:lnTo>
                  <a:pt x="318" y="280"/>
                </a:lnTo>
                <a:lnTo>
                  <a:pt x="343" y="278"/>
                </a:lnTo>
                <a:lnTo>
                  <a:pt x="368" y="274"/>
                </a:lnTo>
                <a:lnTo>
                  <a:pt x="395" y="272"/>
                </a:lnTo>
                <a:lnTo>
                  <a:pt x="420" y="269"/>
                </a:lnTo>
                <a:lnTo>
                  <a:pt x="447" y="267"/>
                </a:lnTo>
                <a:lnTo>
                  <a:pt x="476" y="263"/>
                </a:lnTo>
                <a:lnTo>
                  <a:pt x="504" y="259"/>
                </a:lnTo>
                <a:lnTo>
                  <a:pt x="533" y="255"/>
                </a:lnTo>
                <a:lnTo>
                  <a:pt x="564" y="251"/>
                </a:lnTo>
                <a:lnTo>
                  <a:pt x="595" y="247"/>
                </a:lnTo>
                <a:lnTo>
                  <a:pt x="625" y="244"/>
                </a:lnTo>
                <a:lnTo>
                  <a:pt x="658" y="240"/>
                </a:lnTo>
                <a:lnTo>
                  <a:pt x="689" y="234"/>
                </a:lnTo>
                <a:lnTo>
                  <a:pt x="721" y="230"/>
                </a:lnTo>
                <a:lnTo>
                  <a:pt x="752" y="226"/>
                </a:lnTo>
                <a:lnTo>
                  <a:pt x="781" y="221"/>
                </a:lnTo>
                <a:lnTo>
                  <a:pt x="811" y="217"/>
                </a:lnTo>
                <a:lnTo>
                  <a:pt x="840" y="213"/>
                </a:lnTo>
                <a:lnTo>
                  <a:pt x="867" y="209"/>
                </a:lnTo>
                <a:lnTo>
                  <a:pt x="896" y="205"/>
                </a:lnTo>
                <a:lnTo>
                  <a:pt x="923" y="201"/>
                </a:lnTo>
                <a:lnTo>
                  <a:pt x="948" y="198"/>
                </a:lnTo>
                <a:lnTo>
                  <a:pt x="974" y="196"/>
                </a:lnTo>
                <a:lnTo>
                  <a:pt x="999" y="192"/>
                </a:lnTo>
                <a:lnTo>
                  <a:pt x="1024" y="188"/>
                </a:lnTo>
                <a:lnTo>
                  <a:pt x="1047" y="184"/>
                </a:lnTo>
                <a:lnTo>
                  <a:pt x="1070" y="182"/>
                </a:lnTo>
                <a:lnTo>
                  <a:pt x="1093" y="178"/>
                </a:lnTo>
                <a:lnTo>
                  <a:pt x="1115" y="176"/>
                </a:lnTo>
                <a:lnTo>
                  <a:pt x="1138" y="173"/>
                </a:lnTo>
                <a:lnTo>
                  <a:pt x="1157" y="171"/>
                </a:lnTo>
                <a:lnTo>
                  <a:pt x="1178" y="167"/>
                </a:lnTo>
                <a:lnTo>
                  <a:pt x="1197" y="165"/>
                </a:lnTo>
                <a:lnTo>
                  <a:pt x="1216" y="163"/>
                </a:lnTo>
                <a:lnTo>
                  <a:pt x="1235" y="161"/>
                </a:lnTo>
                <a:lnTo>
                  <a:pt x="1255" y="157"/>
                </a:lnTo>
                <a:lnTo>
                  <a:pt x="1272" y="155"/>
                </a:lnTo>
                <a:lnTo>
                  <a:pt x="1289" y="153"/>
                </a:lnTo>
                <a:lnTo>
                  <a:pt x="1306" y="151"/>
                </a:lnTo>
                <a:lnTo>
                  <a:pt x="1322" y="150"/>
                </a:lnTo>
                <a:lnTo>
                  <a:pt x="1337" y="148"/>
                </a:lnTo>
                <a:lnTo>
                  <a:pt x="1352" y="146"/>
                </a:lnTo>
                <a:lnTo>
                  <a:pt x="1368" y="144"/>
                </a:lnTo>
                <a:lnTo>
                  <a:pt x="1381" y="144"/>
                </a:lnTo>
                <a:lnTo>
                  <a:pt x="1395" y="142"/>
                </a:lnTo>
                <a:lnTo>
                  <a:pt x="1410" y="140"/>
                </a:lnTo>
                <a:lnTo>
                  <a:pt x="1425" y="138"/>
                </a:lnTo>
                <a:lnTo>
                  <a:pt x="1443" y="136"/>
                </a:lnTo>
                <a:lnTo>
                  <a:pt x="1460" y="136"/>
                </a:lnTo>
                <a:lnTo>
                  <a:pt x="1477" y="134"/>
                </a:lnTo>
                <a:lnTo>
                  <a:pt x="1494" y="132"/>
                </a:lnTo>
                <a:lnTo>
                  <a:pt x="1514" y="130"/>
                </a:lnTo>
                <a:lnTo>
                  <a:pt x="1535" y="128"/>
                </a:lnTo>
                <a:lnTo>
                  <a:pt x="1554" y="127"/>
                </a:lnTo>
                <a:lnTo>
                  <a:pt x="1575" y="125"/>
                </a:lnTo>
                <a:lnTo>
                  <a:pt x="1598" y="123"/>
                </a:lnTo>
                <a:lnTo>
                  <a:pt x="1621" y="121"/>
                </a:lnTo>
                <a:lnTo>
                  <a:pt x="1644" y="119"/>
                </a:lnTo>
                <a:lnTo>
                  <a:pt x="1669" y="117"/>
                </a:lnTo>
                <a:lnTo>
                  <a:pt x="1694" y="115"/>
                </a:lnTo>
                <a:lnTo>
                  <a:pt x="1719" y="113"/>
                </a:lnTo>
                <a:lnTo>
                  <a:pt x="1746" y="111"/>
                </a:lnTo>
                <a:lnTo>
                  <a:pt x="1773" y="107"/>
                </a:lnTo>
                <a:lnTo>
                  <a:pt x="1802" y="105"/>
                </a:lnTo>
                <a:lnTo>
                  <a:pt x="1830" y="103"/>
                </a:lnTo>
                <a:lnTo>
                  <a:pt x="1861" y="100"/>
                </a:lnTo>
                <a:lnTo>
                  <a:pt x="1892" y="98"/>
                </a:lnTo>
                <a:lnTo>
                  <a:pt x="1922" y="94"/>
                </a:lnTo>
                <a:lnTo>
                  <a:pt x="1955" y="90"/>
                </a:lnTo>
                <a:lnTo>
                  <a:pt x="1988" y="88"/>
                </a:lnTo>
                <a:lnTo>
                  <a:pt x="2022" y="84"/>
                </a:lnTo>
                <a:lnTo>
                  <a:pt x="2057" y="80"/>
                </a:lnTo>
                <a:lnTo>
                  <a:pt x="2091" y="77"/>
                </a:lnTo>
                <a:lnTo>
                  <a:pt x="2128" y="73"/>
                </a:lnTo>
                <a:lnTo>
                  <a:pt x="2166" y="67"/>
                </a:lnTo>
                <a:lnTo>
                  <a:pt x="2203" y="63"/>
                </a:lnTo>
                <a:lnTo>
                  <a:pt x="2241" y="59"/>
                </a:lnTo>
                <a:lnTo>
                  <a:pt x="2279" y="54"/>
                </a:lnTo>
                <a:lnTo>
                  <a:pt x="2354" y="46"/>
                </a:lnTo>
                <a:lnTo>
                  <a:pt x="2425" y="38"/>
                </a:lnTo>
                <a:lnTo>
                  <a:pt x="2496" y="32"/>
                </a:lnTo>
                <a:lnTo>
                  <a:pt x="2565" y="27"/>
                </a:lnTo>
                <a:lnTo>
                  <a:pt x="2632" y="21"/>
                </a:lnTo>
                <a:lnTo>
                  <a:pt x="2698" y="17"/>
                </a:lnTo>
                <a:lnTo>
                  <a:pt x="2761" y="13"/>
                </a:lnTo>
                <a:lnTo>
                  <a:pt x="2822" y="9"/>
                </a:lnTo>
                <a:lnTo>
                  <a:pt x="2882" y="8"/>
                </a:lnTo>
                <a:lnTo>
                  <a:pt x="2939" y="4"/>
                </a:lnTo>
                <a:lnTo>
                  <a:pt x="2997" y="2"/>
                </a:lnTo>
                <a:lnTo>
                  <a:pt x="3051" y="2"/>
                </a:lnTo>
                <a:lnTo>
                  <a:pt x="3104" y="0"/>
                </a:lnTo>
                <a:lnTo>
                  <a:pt x="3156" y="0"/>
                </a:lnTo>
                <a:lnTo>
                  <a:pt x="3206" y="0"/>
                </a:lnTo>
                <a:lnTo>
                  <a:pt x="3231" y="0"/>
                </a:lnTo>
                <a:lnTo>
                  <a:pt x="3254" y="0"/>
                </a:lnTo>
                <a:lnTo>
                  <a:pt x="3277" y="0"/>
                </a:lnTo>
                <a:lnTo>
                  <a:pt x="3300" y="0"/>
                </a:lnTo>
                <a:lnTo>
                  <a:pt x="3323" y="0"/>
                </a:lnTo>
                <a:lnTo>
                  <a:pt x="3344" y="2"/>
                </a:lnTo>
                <a:lnTo>
                  <a:pt x="3365" y="2"/>
                </a:lnTo>
                <a:lnTo>
                  <a:pt x="3386" y="2"/>
                </a:lnTo>
                <a:lnTo>
                  <a:pt x="3406" y="4"/>
                </a:lnTo>
                <a:lnTo>
                  <a:pt x="3425" y="4"/>
                </a:lnTo>
                <a:lnTo>
                  <a:pt x="3444" y="6"/>
                </a:lnTo>
                <a:lnTo>
                  <a:pt x="3461" y="8"/>
                </a:lnTo>
                <a:lnTo>
                  <a:pt x="3479" y="8"/>
                </a:lnTo>
                <a:lnTo>
                  <a:pt x="3496" y="9"/>
                </a:lnTo>
                <a:lnTo>
                  <a:pt x="3511" y="11"/>
                </a:lnTo>
                <a:lnTo>
                  <a:pt x="3528" y="13"/>
                </a:lnTo>
                <a:lnTo>
                  <a:pt x="3542" y="15"/>
                </a:lnTo>
                <a:lnTo>
                  <a:pt x="3557" y="17"/>
                </a:lnTo>
                <a:lnTo>
                  <a:pt x="3571" y="19"/>
                </a:lnTo>
                <a:lnTo>
                  <a:pt x="3584" y="21"/>
                </a:lnTo>
                <a:lnTo>
                  <a:pt x="3598" y="25"/>
                </a:lnTo>
                <a:lnTo>
                  <a:pt x="3609" y="27"/>
                </a:lnTo>
                <a:lnTo>
                  <a:pt x="3621" y="31"/>
                </a:lnTo>
                <a:lnTo>
                  <a:pt x="3632" y="32"/>
                </a:lnTo>
                <a:lnTo>
                  <a:pt x="3644" y="36"/>
                </a:lnTo>
                <a:lnTo>
                  <a:pt x="3653" y="40"/>
                </a:lnTo>
                <a:lnTo>
                  <a:pt x="3663" y="42"/>
                </a:lnTo>
                <a:lnTo>
                  <a:pt x="3670" y="46"/>
                </a:lnTo>
                <a:lnTo>
                  <a:pt x="3680" y="50"/>
                </a:lnTo>
                <a:lnTo>
                  <a:pt x="3688" y="54"/>
                </a:lnTo>
                <a:lnTo>
                  <a:pt x="3694" y="59"/>
                </a:lnTo>
                <a:lnTo>
                  <a:pt x="3701" y="63"/>
                </a:lnTo>
                <a:lnTo>
                  <a:pt x="3713" y="73"/>
                </a:lnTo>
                <a:lnTo>
                  <a:pt x="3722" y="80"/>
                </a:lnTo>
                <a:lnTo>
                  <a:pt x="3734" y="90"/>
                </a:lnTo>
                <a:lnTo>
                  <a:pt x="3743" y="100"/>
                </a:lnTo>
                <a:lnTo>
                  <a:pt x="3753" y="109"/>
                </a:lnTo>
                <a:lnTo>
                  <a:pt x="3761" y="117"/>
                </a:lnTo>
                <a:lnTo>
                  <a:pt x="3768" y="127"/>
                </a:lnTo>
                <a:lnTo>
                  <a:pt x="3774" y="136"/>
                </a:lnTo>
                <a:lnTo>
                  <a:pt x="3780" y="144"/>
                </a:lnTo>
                <a:lnTo>
                  <a:pt x="3786" y="153"/>
                </a:lnTo>
                <a:lnTo>
                  <a:pt x="3789" y="163"/>
                </a:lnTo>
                <a:lnTo>
                  <a:pt x="3793" y="171"/>
                </a:lnTo>
                <a:lnTo>
                  <a:pt x="3795" y="180"/>
                </a:lnTo>
                <a:lnTo>
                  <a:pt x="3797" y="190"/>
                </a:lnTo>
                <a:lnTo>
                  <a:pt x="3799" y="198"/>
                </a:lnTo>
                <a:lnTo>
                  <a:pt x="3799" y="207"/>
                </a:lnTo>
                <a:lnTo>
                  <a:pt x="3799" y="215"/>
                </a:lnTo>
                <a:lnTo>
                  <a:pt x="3797" y="224"/>
                </a:lnTo>
                <a:lnTo>
                  <a:pt x="3795" y="232"/>
                </a:lnTo>
                <a:lnTo>
                  <a:pt x="3793" y="240"/>
                </a:lnTo>
                <a:lnTo>
                  <a:pt x="3789" y="247"/>
                </a:lnTo>
                <a:lnTo>
                  <a:pt x="3786" y="253"/>
                </a:lnTo>
                <a:lnTo>
                  <a:pt x="3782" y="261"/>
                </a:lnTo>
                <a:lnTo>
                  <a:pt x="3776" y="267"/>
                </a:lnTo>
                <a:lnTo>
                  <a:pt x="3770" y="272"/>
                </a:lnTo>
                <a:lnTo>
                  <a:pt x="3765" y="278"/>
                </a:lnTo>
                <a:lnTo>
                  <a:pt x="3757" y="282"/>
                </a:lnTo>
                <a:lnTo>
                  <a:pt x="3751" y="288"/>
                </a:lnTo>
                <a:lnTo>
                  <a:pt x="3734" y="295"/>
                </a:lnTo>
                <a:lnTo>
                  <a:pt x="3717" y="303"/>
                </a:lnTo>
                <a:lnTo>
                  <a:pt x="3703" y="305"/>
                </a:lnTo>
                <a:lnTo>
                  <a:pt x="3690" y="309"/>
                </a:lnTo>
                <a:lnTo>
                  <a:pt x="3674" y="311"/>
                </a:lnTo>
                <a:lnTo>
                  <a:pt x="3657" y="313"/>
                </a:lnTo>
                <a:lnTo>
                  <a:pt x="3640" y="313"/>
                </a:lnTo>
                <a:lnTo>
                  <a:pt x="3621" y="315"/>
                </a:lnTo>
                <a:lnTo>
                  <a:pt x="3601" y="315"/>
                </a:lnTo>
                <a:lnTo>
                  <a:pt x="3578" y="315"/>
                </a:lnTo>
                <a:lnTo>
                  <a:pt x="3555" y="315"/>
                </a:lnTo>
                <a:lnTo>
                  <a:pt x="3532" y="315"/>
                </a:lnTo>
                <a:lnTo>
                  <a:pt x="3505" y="313"/>
                </a:lnTo>
                <a:lnTo>
                  <a:pt x="3479" y="313"/>
                </a:lnTo>
                <a:lnTo>
                  <a:pt x="3450" y="311"/>
                </a:lnTo>
                <a:lnTo>
                  <a:pt x="3419" y="309"/>
                </a:lnTo>
                <a:lnTo>
                  <a:pt x="3388" y="305"/>
                </a:lnTo>
                <a:lnTo>
                  <a:pt x="3356" y="303"/>
                </a:lnTo>
                <a:lnTo>
                  <a:pt x="3287" y="297"/>
                </a:lnTo>
                <a:lnTo>
                  <a:pt x="3216" y="293"/>
                </a:lnTo>
                <a:lnTo>
                  <a:pt x="3145" y="290"/>
                </a:lnTo>
                <a:lnTo>
                  <a:pt x="3072" y="286"/>
                </a:lnTo>
                <a:lnTo>
                  <a:pt x="2997" y="284"/>
                </a:lnTo>
                <a:lnTo>
                  <a:pt x="2920" y="280"/>
                </a:lnTo>
                <a:lnTo>
                  <a:pt x="2842" y="276"/>
                </a:lnTo>
                <a:lnTo>
                  <a:pt x="2763" y="270"/>
                </a:lnTo>
                <a:lnTo>
                  <a:pt x="2723" y="270"/>
                </a:lnTo>
                <a:lnTo>
                  <a:pt x="2678" y="272"/>
                </a:lnTo>
                <a:lnTo>
                  <a:pt x="2636" y="272"/>
                </a:lnTo>
                <a:lnTo>
                  <a:pt x="2590" y="274"/>
                </a:lnTo>
                <a:lnTo>
                  <a:pt x="2544" y="276"/>
                </a:lnTo>
                <a:lnTo>
                  <a:pt x="2494" y="278"/>
                </a:lnTo>
                <a:lnTo>
                  <a:pt x="2446" y="280"/>
                </a:lnTo>
                <a:lnTo>
                  <a:pt x="2394" y="282"/>
                </a:lnTo>
                <a:lnTo>
                  <a:pt x="2343" y="286"/>
                </a:lnTo>
                <a:lnTo>
                  <a:pt x="2289" y="290"/>
                </a:lnTo>
                <a:lnTo>
                  <a:pt x="2233" y="293"/>
                </a:lnTo>
                <a:lnTo>
                  <a:pt x="2178" y="297"/>
                </a:lnTo>
                <a:lnTo>
                  <a:pt x="2120" y="301"/>
                </a:lnTo>
                <a:lnTo>
                  <a:pt x="2061" y="307"/>
                </a:lnTo>
                <a:lnTo>
                  <a:pt x="2001" y="313"/>
                </a:lnTo>
                <a:lnTo>
                  <a:pt x="1940" y="318"/>
                </a:lnTo>
                <a:lnTo>
                  <a:pt x="1940" y="318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6040" y="3716280"/>
            <a:ext cx="417600" cy="544680"/>
          </a:xfrm>
          <a:custGeom>
            <a:avLst/>
            <a:gdLst/>
            <a:ahLst/>
            <a:rect l="l" t="t" r="r" b="b"/>
            <a:pathLst>
              <a:path w="526" h="687">
                <a:moveTo>
                  <a:pt x="444" y="209"/>
                </a:moveTo>
                <a:lnTo>
                  <a:pt x="461" y="238"/>
                </a:lnTo>
                <a:lnTo>
                  <a:pt x="476" y="268"/>
                </a:lnTo>
                <a:lnTo>
                  <a:pt x="484" y="282"/>
                </a:lnTo>
                <a:lnTo>
                  <a:pt x="492" y="297"/>
                </a:lnTo>
                <a:lnTo>
                  <a:pt x="497" y="311"/>
                </a:lnTo>
                <a:lnTo>
                  <a:pt x="503" y="324"/>
                </a:lnTo>
                <a:lnTo>
                  <a:pt x="509" y="338"/>
                </a:lnTo>
                <a:lnTo>
                  <a:pt x="513" y="349"/>
                </a:lnTo>
                <a:lnTo>
                  <a:pt x="516" y="362"/>
                </a:lnTo>
                <a:lnTo>
                  <a:pt x="520" y="374"/>
                </a:lnTo>
                <a:lnTo>
                  <a:pt x="522" y="385"/>
                </a:lnTo>
                <a:lnTo>
                  <a:pt x="524" y="397"/>
                </a:lnTo>
                <a:lnTo>
                  <a:pt x="526" y="407"/>
                </a:lnTo>
                <a:lnTo>
                  <a:pt x="526" y="416"/>
                </a:lnTo>
                <a:lnTo>
                  <a:pt x="524" y="439"/>
                </a:lnTo>
                <a:lnTo>
                  <a:pt x="522" y="462"/>
                </a:lnTo>
                <a:lnTo>
                  <a:pt x="518" y="487"/>
                </a:lnTo>
                <a:lnTo>
                  <a:pt x="513" y="508"/>
                </a:lnTo>
                <a:lnTo>
                  <a:pt x="507" y="531"/>
                </a:lnTo>
                <a:lnTo>
                  <a:pt x="497" y="552"/>
                </a:lnTo>
                <a:lnTo>
                  <a:pt x="488" y="572"/>
                </a:lnTo>
                <a:lnTo>
                  <a:pt x="476" y="591"/>
                </a:lnTo>
                <a:lnTo>
                  <a:pt x="470" y="602"/>
                </a:lnTo>
                <a:lnTo>
                  <a:pt x="465" y="614"/>
                </a:lnTo>
                <a:lnTo>
                  <a:pt x="457" y="623"/>
                </a:lnTo>
                <a:lnTo>
                  <a:pt x="451" y="633"/>
                </a:lnTo>
                <a:lnTo>
                  <a:pt x="445" y="643"/>
                </a:lnTo>
                <a:lnTo>
                  <a:pt x="438" y="650"/>
                </a:lnTo>
                <a:lnTo>
                  <a:pt x="432" y="656"/>
                </a:lnTo>
                <a:lnTo>
                  <a:pt x="424" y="664"/>
                </a:lnTo>
                <a:lnTo>
                  <a:pt x="419" y="669"/>
                </a:lnTo>
                <a:lnTo>
                  <a:pt x="411" y="673"/>
                </a:lnTo>
                <a:lnTo>
                  <a:pt x="403" y="677"/>
                </a:lnTo>
                <a:lnTo>
                  <a:pt x="396" y="681"/>
                </a:lnTo>
                <a:lnTo>
                  <a:pt x="388" y="683"/>
                </a:lnTo>
                <a:lnTo>
                  <a:pt x="378" y="685"/>
                </a:lnTo>
                <a:lnTo>
                  <a:pt x="371" y="687"/>
                </a:lnTo>
                <a:lnTo>
                  <a:pt x="361" y="687"/>
                </a:lnTo>
                <a:lnTo>
                  <a:pt x="351" y="687"/>
                </a:lnTo>
                <a:lnTo>
                  <a:pt x="342" y="683"/>
                </a:lnTo>
                <a:lnTo>
                  <a:pt x="336" y="681"/>
                </a:lnTo>
                <a:lnTo>
                  <a:pt x="332" y="679"/>
                </a:lnTo>
                <a:lnTo>
                  <a:pt x="326" y="675"/>
                </a:lnTo>
                <a:lnTo>
                  <a:pt x="321" y="671"/>
                </a:lnTo>
                <a:lnTo>
                  <a:pt x="315" y="668"/>
                </a:lnTo>
                <a:lnTo>
                  <a:pt x="309" y="664"/>
                </a:lnTo>
                <a:lnTo>
                  <a:pt x="303" y="658"/>
                </a:lnTo>
                <a:lnTo>
                  <a:pt x="298" y="652"/>
                </a:lnTo>
                <a:lnTo>
                  <a:pt x="292" y="646"/>
                </a:lnTo>
                <a:lnTo>
                  <a:pt x="284" y="641"/>
                </a:lnTo>
                <a:lnTo>
                  <a:pt x="279" y="633"/>
                </a:lnTo>
                <a:lnTo>
                  <a:pt x="273" y="625"/>
                </a:lnTo>
                <a:lnTo>
                  <a:pt x="265" y="618"/>
                </a:lnTo>
                <a:lnTo>
                  <a:pt x="259" y="608"/>
                </a:lnTo>
                <a:lnTo>
                  <a:pt x="252" y="600"/>
                </a:lnTo>
                <a:lnTo>
                  <a:pt x="244" y="589"/>
                </a:lnTo>
                <a:lnTo>
                  <a:pt x="238" y="579"/>
                </a:lnTo>
                <a:lnTo>
                  <a:pt x="231" y="570"/>
                </a:lnTo>
                <a:lnTo>
                  <a:pt x="223" y="558"/>
                </a:lnTo>
                <a:lnTo>
                  <a:pt x="215" y="547"/>
                </a:lnTo>
                <a:lnTo>
                  <a:pt x="208" y="533"/>
                </a:lnTo>
                <a:lnTo>
                  <a:pt x="200" y="520"/>
                </a:lnTo>
                <a:lnTo>
                  <a:pt x="190" y="506"/>
                </a:lnTo>
                <a:lnTo>
                  <a:pt x="183" y="493"/>
                </a:lnTo>
                <a:lnTo>
                  <a:pt x="173" y="480"/>
                </a:lnTo>
                <a:lnTo>
                  <a:pt x="165" y="464"/>
                </a:lnTo>
                <a:lnTo>
                  <a:pt x="156" y="447"/>
                </a:lnTo>
                <a:lnTo>
                  <a:pt x="148" y="432"/>
                </a:lnTo>
                <a:lnTo>
                  <a:pt x="129" y="399"/>
                </a:lnTo>
                <a:lnTo>
                  <a:pt x="113" y="366"/>
                </a:lnTo>
                <a:lnTo>
                  <a:pt x="98" y="336"/>
                </a:lnTo>
                <a:lnTo>
                  <a:pt x="83" y="305"/>
                </a:lnTo>
                <a:lnTo>
                  <a:pt x="69" y="276"/>
                </a:lnTo>
                <a:lnTo>
                  <a:pt x="58" y="247"/>
                </a:lnTo>
                <a:lnTo>
                  <a:pt x="46" y="219"/>
                </a:lnTo>
                <a:lnTo>
                  <a:pt x="37" y="192"/>
                </a:lnTo>
                <a:lnTo>
                  <a:pt x="29" y="165"/>
                </a:lnTo>
                <a:lnTo>
                  <a:pt x="21" y="140"/>
                </a:lnTo>
                <a:lnTo>
                  <a:pt x="14" y="115"/>
                </a:lnTo>
                <a:lnTo>
                  <a:pt x="8" y="90"/>
                </a:lnTo>
                <a:lnTo>
                  <a:pt x="4" y="67"/>
                </a:lnTo>
                <a:lnTo>
                  <a:pt x="2" y="44"/>
                </a:lnTo>
                <a:lnTo>
                  <a:pt x="0" y="23"/>
                </a:lnTo>
                <a:lnTo>
                  <a:pt x="0" y="0"/>
                </a:lnTo>
                <a:lnTo>
                  <a:pt x="42" y="9"/>
                </a:lnTo>
                <a:lnTo>
                  <a:pt x="81" y="21"/>
                </a:lnTo>
                <a:lnTo>
                  <a:pt x="119" y="30"/>
                </a:lnTo>
                <a:lnTo>
                  <a:pt x="156" y="42"/>
                </a:lnTo>
                <a:lnTo>
                  <a:pt x="175" y="48"/>
                </a:lnTo>
                <a:lnTo>
                  <a:pt x="190" y="54"/>
                </a:lnTo>
                <a:lnTo>
                  <a:pt x="208" y="61"/>
                </a:lnTo>
                <a:lnTo>
                  <a:pt x="223" y="67"/>
                </a:lnTo>
                <a:lnTo>
                  <a:pt x="240" y="73"/>
                </a:lnTo>
                <a:lnTo>
                  <a:pt x="254" y="78"/>
                </a:lnTo>
                <a:lnTo>
                  <a:pt x="269" y="86"/>
                </a:lnTo>
                <a:lnTo>
                  <a:pt x="282" y="92"/>
                </a:lnTo>
                <a:lnTo>
                  <a:pt x="298" y="100"/>
                </a:lnTo>
                <a:lnTo>
                  <a:pt x="309" y="105"/>
                </a:lnTo>
                <a:lnTo>
                  <a:pt x="323" y="113"/>
                </a:lnTo>
                <a:lnTo>
                  <a:pt x="334" y="121"/>
                </a:lnTo>
                <a:lnTo>
                  <a:pt x="348" y="126"/>
                </a:lnTo>
                <a:lnTo>
                  <a:pt x="357" y="134"/>
                </a:lnTo>
                <a:lnTo>
                  <a:pt x="369" y="142"/>
                </a:lnTo>
                <a:lnTo>
                  <a:pt x="378" y="149"/>
                </a:lnTo>
                <a:lnTo>
                  <a:pt x="388" y="155"/>
                </a:lnTo>
                <a:lnTo>
                  <a:pt x="397" y="163"/>
                </a:lnTo>
                <a:lnTo>
                  <a:pt x="407" y="171"/>
                </a:lnTo>
                <a:lnTo>
                  <a:pt x="415" y="178"/>
                </a:lnTo>
                <a:lnTo>
                  <a:pt x="422" y="186"/>
                </a:lnTo>
                <a:lnTo>
                  <a:pt x="430" y="194"/>
                </a:lnTo>
                <a:lnTo>
                  <a:pt x="438" y="201"/>
                </a:lnTo>
                <a:lnTo>
                  <a:pt x="444" y="209"/>
                </a:lnTo>
                <a:lnTo>
                  <a:pt x="444" y="209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7800" y="3247920"/>
            <a:ext cx="647640" cy="1609920"/>
          </a:xfrm>
          <a:custGeom>
            <a:avLst/>
            <a:gdLst/>
            <a:ahLst/>
            <a:rect l="l" t="t" r="r" b="b"/>
            <a:pathLst>
              <a:path w="815" h="2026">
                <a:moveTo>
                  <a:pt x="232" y="1420"/>
                </a:moveTo>
                <a:lnTo>
                  <a:pt x="257" y="1425"/>
                </a:lnTo>
                <a:lnTo>
                  <a:pt x="280" y="1431"/>
                </a:lnTo>
                <a:lnTo>
                  <a:pt x="301" y="1437"/>
                </a:lnTo>
                <a:lnTo>
                  <a:pt x="322" y="1441"/>
                </a:lnTo>
                <a:lnTo>
                  <a:pt x="341" y="1445"/>
                </a:lnTo>
                <a:lnTo>
                  <a:pt x="359" y="1448"/>
                </a:lnTo>
                <a:lnTo>
                  <a:pt x="376" y="1452"/>
                </a:lnTo>
                <a:lnTo>
                  <a:pt x="391" y="1456"/>
                </a:lnTo>
                <a:lnTo>
                  <a:pt x="405" y="1458"/>
                </a:lnTo>
                <a:lnTo>
                  <a:pt x="418" y="1460"/>
                </a:lnTo>
                <a:lnTo>
                  <a:pt x="428" y="1464"/>
                </a:lnTo>
                <a:lnTo>
                  <a:pt x="437" y="1464"/>
                </a:lnTo>
                <a:lnTo>
                  <a:pt x="447" y="1466"/>
                </a:lnTo>
                <a:lnTo>
                  <a:pt x="453" y="1468"/>
                </a:lnTo>
                <a:lnTo>
                  <a:pt x="458" y="1468"/>
                </a:lnTo>
                <a:lnTo>
                  <a:pt x="462" y="1468"/>
                </a:lnTo>
                <a:lnTo>
                  <a:pt x="464" y="1468"/>
                </a:lnTo>
                <a:lnTo>
                  <a:pt x="466" y="1466"/>
                </a:lnTo>
                <a:lnTo>
                  <a:pt x="468" y="1464"/>
                </a:lnTo>
                <a:lnTo>
                  <a:pt x="468" y="1462"/>
                </a:lnTo>
                <a:lnTo>
                  <a:pt x="470" y="1460"/>
                </a:lnTo>
                <a:lnTo>
                  <a:pt x="472" y="1456"/>
                </a:lnTo>
                <a:lnTo>
                  <a:pt x="474" y="1452"/>
                </a:lnTo>
                <a:lnTo>
                  <a:pt x="476" y="1447"/>
                </a:lnTo>
                <a:lnTo>
                  <a:pt x="476" y="1441"/>
                </a:lnTo>
                <a:lnTo>
                  <a:pt x="478" y="1435"/>
                </a:lnTo>
                <a:lnTo>
                  <a:pt x="480" y="1427"/>
                </a:lnTo>
                <a:lnTo>
                  <a:pt x="481" y="1420"/>
                </a:lnTo>
                <a:lnTo>
                  <a:pt x="483" y="1412"/>
                </a:lnTo>
                <a:lnTo>
                  <a:pt x="483" y="1402"/>
                </a:lnTo>
                <a:lnTo>
                  <a:pt x="485" y="1395"/>
                </a:lnTo>
                <a:lnTo>
                  <a:pt x="487" y="1383"/>
                </a:lnTo>
                <a:lnTo>
                  <a:pt x="489" y="1374"/>
                </a:lnTo>
                <a:lnTo>
                  <a:pt x="491" y="1362"/>
                </a:lnTo>
                <a:lnTo>
                  <a:pt x="493" y="1349"/>
                </a:lnTo>
                <a:lnTo>
                  <a:pt x="493" y="1337"/>
                </a:lnTo>
                <a:lnTo>
                  <a:pt x="495" y="1324"/>
                </a:lnTo>
                <a:lnTo>
                  <a:pt x="497" y="1308"/>
                </a:lnTo>
                <a:lnTo>
                  <a:pt x="499" y="1295"/>
                </a:lnTo>
                <a:lnTo>
                  <a:pt x="501" y="1280"/>
                </a:lnTo>
                <a:lnTo>
                  <a:pt x="501" y="1262"/>
                </a:lnTo>
                <a:lnTo>
                  <a:pt x="503" y="1247"/>
                </a:lnTo>
                <a:lnTo>
                  <a:pt x="505" y="1230"/>
                </a:lnTo>
                <a:lnTo>
                  <a:pt x="506" y="1211"/>
                </a:lnTo>
                <a:lnTo>
                  <a:pt x="508" y="1191"/>
                </a:lnTo>
                <a:lnTo>
                  <a:pt x="508" y="1172"/>
                </a:lnTo>
                <a:lnTo>
                  <a:pt x="510" y="1153"/>
                </a:lnTo>
                <a:lnTo>
                  <a:pt x="512" y="1132"/>
                </a:lnTo>
                <a:lnTo>
                  <a:pt x="514" y="1093"/>
                </a:lnTo>
                <a:lnTo>
                  <a:pt x="516" y="1055"/>
                </a:lnTo>
                <a:lnTo>
                  <a:pt x="518" y="1015"/>
                </a:lnTo>
                <a:lnTo>
                  <a:pt x="518" y="976"/>
                </a:lnTo>
                <a:lnTo>
                  <a:pt x="518" y="938"/>
                </a:lnTo>
                <a:lnTo>
                  <a:pt x="518" y="900"/>
                </a:lnTo>
                <a:lnTo>
                  <a:pt x="516" y="859"/>
                </a:lnTo>
                <a:lnTo>
                  <a:pt x="514" y="821"/>
                </a:lnTo>
                <a:lnTo>
                  <a:pt x="510" y="783"/>
                </a:lnTo>
                <a:lnTo>
                  <a:pt x="508" y="744"/>
                </a:lnTo>
                <a:lnTo>
                  <a:pt x="505" y="704"/>
                </a:lnTo>
                <a:lnTo>
                  <a:pt x="501" y="666"/>
                </a:lnTo>
                <a:lnTo>
                  <a:pt x="491" y="587"/>
                </a:lnTo>
                <a:lnTo>
                  <a:pt x="480" y="510"/>
                </a:lnTo>
                <a:lnTo>
                  <a:pt x="466" y="439"/>
                </a:lnTo>
                <a:lnTo>
                  <a:pt x="455" y="370"/>
                </a:lnTo>
                <a:lnTo>
                  <a:pt x="449" y="335"/>
                </a:lnTo>
                <a:lnTo>
                  <a:pt x="443" y="303"/>
                </a:lnTo>
                <a:lnTo>
                  <a:pt x="435" y="268"/>
                </a:lnTo>
                <a:lnTo>
                  <a:pt x="430" y="236"/>
                </a:lnTo>
                <a:lnTo>
                  <a:pt x="424" y="205"/>
                </a:lnTo>
                <a:lnTo>
                  <a:pt x="418" y="174"/>
                </a:lnTo>
                <a:lnTo>
                  <a:pt x="410" y="144"/>
                </a:lnTo>
                <a:lnTo>
                  <a:pt x="405" y="113"/>
                </a:lnTo>
                <a:lnTo>
                  <a:pt x="399" y="84"/>
                </a:lnTo>
                <a:lnTo>
                  <a:pt x="393" y="55"/>
                </a:lnTo>
                <a:lnTo>
                  <a:pt x="386" y="27"/>
                </a:lnTo>
                <a:lnTo>
                  <a:pt x="380" y="0"/>
                </a:lnTo>
                <a:lnTo>
                  <a:pt x="403" y="7"/>
                </a:lnTo>
                <a:lnTo>
                  <a:pt x="426" y="13"/>
                </a:lnTo>
                <a:lnTo>
                  <a:pt x="447" y="21"/>
                </a:lnTo>
                <a:lnTo>
                  <a:pt x="466" y="28"/>
                </a:lnTo>
                <a:lnTo>
                  <a:pt x="487" y="34"/>
                </a:lnTo>
                <a:lnTo>
                  <a:pt x="505" y="42"/>
                </a:lnTo>
                <a:lnTo>
                  <a:pt x="524" y="48"/>
                </a:lnTo>
                <a:lnTo>
                  <a:pt x="541" y="53"/>
                </a:lnTo>
                <a:lnTo>
                  <a:pt x="558" y="59"/>
                </a:lnTo>
                <a:lnTo>
                  <a:pt x="574" y="67"/>
                </a:lnTo>
                <a:lnTo>
                  <a:pt x="589" y="73"/>
                </a:lnTo>
                <a:lnTo>
                  <a:pt x="604" y="78"/>
                </a:lnTo>
                <a:lnTo>
                  <a:pt x="618" y="84"/>
                </a:lnTo>
                <a:lnTo>
                  <a:pt x="631" y="88"/>
                </a:lnTo>
                <a:lnTo>
                  <a:pt x="645" y="94"/>
                </a:lnTo>
                <a:lnTo>
                  <a:pt x="656" y="99"/>
                </a:lnTo>
                <a:lnTo>
                  <a:pt x="668" y="105"/>
                </a:lnTo>
                <a:lnTo>
                  <a:pt x="677" y="109"/>
                </a:lnTo>
                <a:lnTo>
                  <a:pt x="687" y="115"/>
                </a:lnTo>
                <a:lnTo>
                  <a:pt x="696" y="119"/>
                </a:lnTo>
                <a:lnTo>
                  <a:pt x="706" y="124"/>
                </a:lnTo>
                <a:lnTo>
                  <a:pt x="714" y="128"/>
                </a:lnTo>
                <a:lnTo>
                  <a:pt x="721" y="134"/>
                </a:lnTo>
                <a:lnTo>
                  <a:pt x="727" y="138"/>
                </a:lnTo>
                <a:lnTo>
                  <a:pt x="733" y="144"/>
                </a:lnTo>
                <a:lnTo>
                  <a:pt x="739" y="147"/>
                </a:lnTo>
                <a:lnTo>
                  <a:pt x="744" y="151"/>
                </a:lnTo>
                <a:lnTo>
                  <a:pt x="748" y="157"/>
                </a:lnTo>
                <a:lnTo>
                  <a:pt x="752" y="161"/>
                </a:lnTo>
                <a:lnTo>
                  <a:pt x="754" y="165"/>
                </a:lnTo>
                <a:lnTo>
                  <a:pt x="758" y="170"/>
                </a:lnTo>
                <a:lnTo>
                  <a:pt x="760" y="174"/>
                </a:lnTo>
                <a:lnTo>
                  <a:pt x="760" y="180"/>
                </a:lnTo>
                <a:lnTo>
                  <a:pt x="762" y="186"/>
                </a:lnTo>
                <a:lnTo>
                  <a:pt x="764" y="192"/>
                </a:lnTo>
                <a:lnTo>
                  <a:pt x="765" y="199"/>
                </a:lnTo>
                <a:lnTo>
                  <a:pt x="765" y="209"/>
                </a:lnTo>
                <a:lnTo>
                  <a:pt x="767" y="218"/>
                </a:lnTo>
                <a:lnTo>
                  <a:pt x="769" y="228"/>
                </a:lnTo>
                <a:lnTo>
                  <a:pt x="771" y="240"/>
                </a:lnTo>
                <a:lnTo>
                  <a:pt x="773" y="253"/>
                </a:lnTo>
                <a:lnTo>
                  <a:pt x="773" y="266"/>
                </a:lnTo>
                <a:lnTo>
                  <a:pt x="775" y="280"/>
                </a:lnTo>
                <a:lnTo>
                  <a:pt x="777" y="295"/>
                </a:lnTo>
                <a:lnTo>
                  <a:pt x="779" y="312"/>
                </a:lnTo>
                <a:lnTo>
                  <a:pt x="781" y="330"/>
                </a:lnTo>
                <a:lnTo>
                  <a:pt x="783" y="347"/>
                </a:lnTo>
                <a:lnTo>
                  <a:pt x="783" y="366"/>
                </a:lnTo>
                <a:lnTo>
                  <a:pt x="785" y="385"/>
                </a:lnTo>
                <a:lnTo>
                  <a:pt x="787" y="406"/>
                </a:lnTo>
                <a:lnTo>
                  <a:pt x="789" y="430"/>
                </a:lnTo>
                <a:lnTo>
                  <a:pt x="790" y="451"/>
                </a:lnTo>
                <a:lnTo>
                  <a:pt x="790" y="476"/>
                </a:lnTo>
                <a:lnTo>
                  <a:pt x="792" y="501"/>
                </a:lnTo>
                <a:lnTo>
                  <a:pt x="794" y="525"/>
                </a:lnTo>
                <a:lnTo>
                  <a:pt x="796" y="552"/>
                </a:lnTo>
                <a:lnTo>
                  <a:pt x="798" y="579"/>
                </a:lnTo>
                <a:lnTo>
                  <a:pt x="798" y="608"/>
                </a:lnTo>
                <a:lnTo>
                  <a:pt x="800" y="637"/>
                </a:lnTo>
                <a:lnTo>
                  <a:pt x="802" y="667"/>
                </a:lnTo>
                <a:lnTo>
                  <a:pt x="804" y="698"/>
                </a:lnTo>
                <a:lnTo>
                  <a:pt x="806" y="731"/>
                </a:lnTo>
                <a:lnTo>
                  <a:pt x="806" y="763"/>
                </a:lnTo>
                <a:lnTo>
                  <a:pt x="808" y="798"/>
                </a:lnTo>
                <a:lnTo>
                  <a:pt x="810" y="831"/>
                </a:lnTo>
                <a:lnTo>
                  <a:pt x="812" y="865"/>
                </a:lnTo>
                <a:lnTo>
                  <a:pt x="812" y="898"/>
                </a:lnTo>
                <a:lnTo>
                  <a:pt x="813" y="930"/>
                </a:lnTo>
                <a:lnTo>
                  <a:pt x="813" y="963"/>
                </a:lnTo>
                <a:lnTo>
                  <a:pt x="813" y="994"/>
                </a:lnTo>
                <a:lnTo>
                  <a:pt x="813" y="1024"/>
                </a:lnTo>
                <a:lnTo>
                  <a:pt x="815" y="1055"/>
                </a:lnTo>
                <a:lnTo>
                  <a:pt x="815" y="1084"/>
                </a:lnTo>
                <a:lnTo>
                  <a:pt x="815" y="1113"/>
                </a:lnTo>
                <a:lnTo>
                  <a:pt x="813" y="1141"/>
                </a:lnTo>
                <a:lnTo>
                  <a:pt x="813" y="1168"/>
                </a:lnTo>
                <a:lnTo>
                  <a:pt x="813" y="1195"/>
                </a:lnTo>
                <a:lnTo>
                  <a:pt x="813" y="1222"/>
                </a:lnTo>
                <a:lnTo>
                  <a:pt x="813" y="1249"/>
                </a:lnTo>
                <a:lnTo>
                  <a:pt x="812" y="1274"/>
                </a:lnTo>
                <a:lnTo>
                  <a:pt x="812" y="1299"/>
                </a:lnTo>
                <a:lnTo>
                  <a:pt x="810" y="1322"/>
                </a:lnTo>
                <a:lnTo>
                  <a:pt x="810" y="1347"/>
                </a:lnTo>
                <a:lnTo>
                  <a:pt x="808" y="1370"/>
                </a:lnTo>
                <a:lnTo>
                  <a:pt x="808" y="1391"/>
                </a:lnTo>
                <a:lnTo>
                  <a:pt x="806" y="1414"/>
                </a:lnTo>
                <a:lnTo>
                  <a:pt x="804" y="1435"/>
                </a:lnTo>
                <a:lnTo>
                  <a:pt x="804" y="1454"/>
                </a:lnTo>
                <a:lnTo>
                  <a:pt x="802" y="1475"/>
                </a:lnTo>
                <a:lnTo>
                  <a:pt x="800" y="1493"/>
                </a:lnTo>
                <a:lnTo>
                  <a:pt x="800" y="1512"/>
                </a:lnTo>
                <a:lnTo>
                  <a:pt x="798" y="1529"/>
                </a:lnTo>
                <a:lnTo>
                  <a:pt x="796" y="1546"/>
                </a:lnTo>
                <a:lnTo>
                  <a:pt x="794" y="1564"/>
                </a:lnTo>
                <a:lnTo>
                  <a:pt x="792" y="1579"/>
                </a:lnTo>
                <a:lnTo>
                  <a:pt x="792" y="1594"/>
                </a:lnTo>
                <a:lnTo>
                  <a:pt x="789" y="1621"/>
                </a:lnTo>
                <a:lnTo>
                  <a:pt x="785" y="1648"/>
                </a:lnTo>
                <a:lnTo>
                  <a:pt x="779" y="1673"/>
                </a:lnTo>
                <a:lnTo>
                  <a:pt x="773" y="1696"/>
                </a:lnTo>
                <a:lnTo>
                  <a:pt x="767" y="1721"/>
                </a:lnTo>
                <a:lnTo>
                  <a:pt x="762" y="1744"/>
                </a:lnTo>
                <a:lnTo>
                  <a:pt x="754" y="1765"/>
                </a:lnTo>
                <a:lnTo>
                  <a:pt x="746" y="1786"/>
                </a:lnTo>
                <a:lnTo>
                  <a:pt x="739" y="1807"/>
                </a:lnTo>
                <a:lnTo>
                  <a:pt x="729" y="1826"/>
                </a:lnTo>
                <a:lnTo>
                  <a:pt x="721" y="1846"/>
                </a:lnTo>
                <a:lnTo>
                  <a:pt x="712" y="1865"/>
                </a:lnTo>
                <a:lnTo>
                  <a:pt x="704" y="1882"/>
                </a:lnTo>
                <a:lnTo>
                  <a:pt x="694" y="1899"/>
                </a:lnTo>
                <a:lnTo>
                  <a:pt x="685" y="1915"/>
                </a:lnTo>
                <a:lnTo>
                  <a:pt x="677" y="1930"/>
                </a:lnTo>
                <a:lnTo>
                  <a:pt x="664" y="1942"/>
                </a:lnTo>
                <a:lnTo>
                  <a:pt x="652" y="1953"/>
                </a:lnTo>
                <a:lnTo>
                  <a:pt x="641" y="1963"/>
                </a:lnTo>
                <a:lnTo>
                  <a:pt x="631" y="1972"/>
                </a:lnTo>
                <a:lnTo>
                  <a:pt x="620" y="1980"/>
                </a:lnTo>
                <a:lnTo>
                  <a:pt x="608" y="1990"/>
                </a:lnTo>
                <a:lnTo>
                  <a:pt x="599" y="1995"/>
                </a:lnTo>
                <a:lnTo>
                  <a:pt x="589" y="2003"/>
                </a:lnTo>
                <a:lnTo>
                  <a:pt x="577" y="2007"/>
                </a:lnTo>
                <a:lnTo>
                  <a:pt x="568" y="2013"/>
                </a:lnTo>
                <a:lnTo>
                  <a:pt x="558" y="2016"/>
                </a:lnTo>
                <a:lnTo>
                  <a:pt x="549" y="2020"/>
                </a:lnTo>
                <a:lnTo>
                  <a:pt x="539" y="2022"/>
                </a:lnTo>
                <a:lnTo>
                  <a:pt x="531" y="2024"/>
                </a:lnTo>
                <a:lnTo>
                  <a:pt x="522" y="2026"/>
                </a:lnTo>
                <a:lnTo>
                  <a:pt x="512" y="2026"/>
                </a:lnTo>
                <a:lnTo>
                  <a:pt x="503" y="2026"/>
                </a:lnTo>
                <a:lnTo>
                  <a:pt x="495" y="2024"/>
                </a:lnTo>
                <a:lnTo>
                  <a:pt x="485" y="2022"/>
                </a:lnTo>
                <a:lnTo>
                  <a:pt x="478" y="2020"/>
                </a:lnTo>
                <a:lnTo>
                  <a:pt x="470" y="2016"/>
                </a:lnTo>
                <a:lnTo>
                  <a:pt x="464" y="2011"/>
                </a:lnTo>
                <a:lnTo>
                  <a:pt x="457" y="2007"/>
                </a:lnTo>
                <a:lnTo>
                  <a:pt x="451" y="1999"/>
                </a:lnTo>
                <a:lnTo>
                  <a:pt x="445" y="1993"/>
                </a:lnTo>
                <a:lnTo>
                  <a:pt x="439" y="1984"/>
                </a:lnTo>
                <a:lnTo>
                  <a:pt x="434" y="1976"/>
                </a:lnTo>
                <a:lnTo>
                  <a:pt x="428" y="1965"/>
                </a:lnTo>
                <a:lnTo>
                  <a:pt x="424" y="1955"/>
                </a:lnTo>
                <a:lnTo>
                  <a:pt x="420" y="1942"/>
                </a:lnTo>
                <a:lnTo>
                  <a:pt x="416" y="1928"/>
                </a:lnTo>
                <a:lnTo>
                  <a:pt x="414" y="1915"/>
                </a:lnTo>
                <a:lnTo>
                  <a:pt x="407" y="1899"/>
                </a:lnTo>
                <a:lnTo>
                  <a:pt x="399" y="1884"/>
                </a:lnTo>
                <a:lnTo>
                  <a:pt x="389" y="1869"/>
                </a:lnTo>
                <a:lnTo>
                  <a:pt x="380" y="1851"/>
                </a:lnTo>
                <a:lnTo>
                  <a:pt x="368" y="1836"/>
                </a:lnTo>
                <a:lnTo>
                  <a:pt x="357" y="1819"/>
                </a:lnTo>
                <a:lnTo>
                  <a:pt x="343" y="1803"/>
                </a:lnTo>
                <a:lnTo>
                  <a:pt x="330" y="1786"/>
                </a:lnTo>
                <a:lnTo>
                  <a:pt x="315" y="1771"/>
                </a:lnTo>
                <a:lnTo>
                  <a:pt x="297" y="1754"/>
                </a:lnTo>
                <a:lnTo>
                  <a:pt x="280" y="1738"/>
                </a:lnTo>
                <a:lnTo>
                  <a:pt x="263" y="1721"/>
                </a:lnTo>
                <a:lnTo>
                  <a:pt x="244" y="1706"/>
                </a:lnTo>
                <a:lnTo>
                  <a:pt x="224" y="1690"/>
                </a:lnTo>
                <a:lnTo>
                  <a:pt x="203" y="1675"/>
                </a:lnTo>
                <a:lnTo>
                  <a:pt x="184" y="1660"/>
                </a:lnTo>
                <a:lnTo>
                  <a:pt x="159" y="1640"/>
                </a:lnTo>
                <a:lnTo>
                  <a:pt x="138" y="1625"/>
                </a:lnTo>
                <a:lnTo>
                  <a:pt x="117" y="1608"/>
                </a:lnTo>
                <a:lnTo>
                  <a:pt x="98" y="1592"/>
                </a:lnTo>
                <a:lnTo>
                  <a:pt x="80" y="1577"/>
                </a:lnTo>
                <a:lnTo>
                  <a:pt x="65" y="1562"/>
                </a:lnTo>
                <a:lnTo>
                  <a:pt x="50" y="1548"/>
                </a:lnTo>
                <a:lnTo>
                  <a:pt x="38" y="1535"/>
                </a:lnTo>
                <a:lnTo>
                  <a:pt x="27" y="1521"/>
                </a:lnTo>
                <a:lnTo>
                  <a:pt x="17" y="1508"/>
                </a:lnTo>
                <a:lnTo>
                  <a:pt x="11" y="1496"/>
                </a:lnTo>
                <a:lnTo>
                  <a:pt x="6" y="1483"/>
                </a:lnTo>
                <a:lnTo>
                  <a:pt x="2" y="1471"/>
                </a:lnTo>
                <a:lnTo>
                  <a:pt x="0" y="1460"/>
                </a:lnTo>
                <a:lnTo>
                  <a:pt x="0" y="1448"/>
                </a:lnTo>
                <a:lnTo>
                  <a:pt x="0" y="1441"/>
                </a:lnTo>
                <a:lnTo>
                  <a:pt x="2" y="1435"/>
                </a:lnTo>
                <a:lnTo>
                  <a:pt x="6" y="1427"/>
                </a:lnTo>
                <a:lnTo>
                  <a:pt x="11" y="1420"/>
                </a:lnTo>
                <a:lnTo>
                  <a:pt x="17" y="1414"/>
                </a:lnTo>
                <a:lnTo>
                  <a:pt x="25" y="1408"/>
                </a:lnTo>
                <a:lnTo>
                  <a:pt x="32" y="1404"/>
                </a:lnTo>
                <a:lnTo>
                  <a:pt x="44" y="1400"/>
                </a:lnTo>
                <a:lnTo>
                  <a:pt x="56" y="1399"/>
                </a:lnTo>
                <a:lnTo>
                  <a:pt x="67" y="1397"/>
                </a:lnTo>
                <a:lnTo>
                  <a:pt x="82" y="1397"/>
                </a:lnTo>
                <a:lnTo>
                  <a:pt x="100" y="1399"/>
                </a:lnTo>
                <a:lnTo>
                  <a:pt x="117" y="1399"/>
                </a:lnTo>
                <a:lnTo>
                  <a:pt x="136" y="1402"/>
                </a:lnTo>
                <a:lnTo>
                  <a:pt x="157" y="1404"/>
                </a:lnTo>
                <a:lnTo>
                  <a:pt x="180" y="1408"/>
                </a:lnTo>
                <a:lnTo>
                  <a:pt x="205" y="1414"/>
                </a:lnTo>
                <a:lnTo>
                  <a:pt x="232" y="1420"/>
                </a:lnTo>
                <a:lnTo>
                  <a:pt x="232" y="1420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14840" y="1657440"/>
            <a:ext cx="646200" cy="430200"/>
          </a:xfrm>
          <a:custGeom>
            <a:avLst/>
            <a:gdLst/>
            <a:ahLst/>
            <a:rect l="l" t="t" r="r" b="b"/>
            <a:pathLst>
              <a:path w="816" h="543">
                <a:moveTo>
                  <a:pt x="816" y="187"/>
                </a:moveTo>
                <a:lnTo>
                  <a:pt x="816" y="194"/>
                </a:lnTo>
                <a:lnTo>
                  <a:pt x="816" y="200"/>
                </a:lnTo>
                <a:lnTo>
                  <a:pt x="816" y="208"/>
                </a:lnTo>
                <a:lnTo>
                  <a:pt x="814" y="215"/>
                </a:lnTo>
                <a:lnTo>
                  <a:pt x="812" y="223"/>
                </a:lnTo>
                <a:lnTo>
                  <a:pt x="808" y="231"/>
                </a:lnTo>
                <a:lnTo>
                  <a:pt x="804" y="238"/>
                </a:lnTo>
                <a:lnTo>
                  <a:pt x="800" y="246"/>
                </a:lnTo>
                <a:lnTo>
                  <a:pt x="795" y="254"/>
                </a:lnTo>
                <a:lnTo>
                  <a:pt x="787" y="261"/>
                </a:lnTo>
                <a:lnTo>
                  <a:pt x="779" y="269"/>
                </a:lnTo>
                <a:lnTo>
                  <a:pt x="772" y="277"/>
                </a:lnTo>
                <a:lnTo>
                  <a:pt x="762" y="284"/>
                </a:lnTo>
                <a:lnTo>
                  <a:pt x="752" y="292"/>
                </a:lnTo>
                <a:lnTo>
                  <a:pt x="743" y="300"/>
                </a:lnTo>
                <a:lnTo>
                  <a:pt x="731" y="307"/>
                </a:lnTo>
                <a:lnTo>
                  <a:pt x="718" y="315"/>
                </a:lnTo>
                <a:lnTo>
                  <a:pt x="704" y="323"/>
                </a:lnTo>
                <a:lnTo>
                  <a:pt x="691" y="330"/>
                </a:lnTo>
                <a:lnTo>
                  <a:pt x="676" y="338"/>
                </a:lnTo>
                <a:lnTo>
                  <a:pt x="660" y="346"/>
                </a:lnTo>
                <a:lnTo>
                  <a:pt x="645" y="355"/>
                </a:lnTo>
                <a:lnTo>
                  <a:pt x="628" y="363"/>
                </a:lnTo>
                <a:lnTo>
                  <a:pt x="609" y="371"/>
                </a:lnTo>
                <a:lnTo>
                  <a:pt x="589" y="380"/>
                </a:lnTo>
                <a:lnTo>
                  <a:pt x="570" y="388"/>
                </a:lnTo>
                <a:lnTo>
                  <a:pt x="551" y="398"/>
                </a:lnTo>
                <a:lnTo>
                  <a:pt x="530" y="405"/>
                </a:lnTo>
                <a:lnTo>
                  <a:pt x="507" y="415"/>
                </a:lnTo>
                <a:lnTo>
                  <a:pt x="484" y="423"/>
                </a:lnTo>
                <a:lnTo>
                  <a:pt x="461" y="432"/>
                </a:lnTo>
                <a:lnTo>
                  <a:pt x="438" y="442"/>
                </a:lnTo>
                <a:lnTo>
                  <a:pt x="413" y="449"/>
                </a:lnTo>
                <a:lnTo>
                  <a:pt x="390" y="459"/>
                </a:lnTo>
                <a:lnTo>
                  <a:pt x="367" y="467"/>
                </a:lnTo>
                <a:lnTo>
                  <a:pt x="344" y="474"/>
                </a:lnTo>
                <a:lnTo>
                  <a:pt x="323" y="482"/>
                </a:lnTo>
                <a:lnTo>
                  <a:pt x="301" y="488"/>
                </a:lnTo>
                <a:lnTo>
                  <a:pt x="280" y="496"/>
                </a:lnTo>
                <a:lnTo>
                  <a:pt x="261" y="501"/>
                </a:lnTo>
                <a:lnTo>
                  <a:pt x="242" y="507"/>
                </a:lnTo>
                <a:lnTo>
                  <a:pt x="225" y="513"/>
                </a:lnTo>
                <a:lnTo>
                  <a:pt x="207" y="517"/>
                </a:lnTo>
                <a:lnTo>
                  <a:pt x="190" y="522"/>
                </a:lnTo>
                <a:lnTo>
                  <a:pt x="175" y="526"/>
                </a:lnTo>
                <a:lnTo>
                  <a:pt x="159" y="530"/>
                </a:lnTo>
                <a:lnTo>
                  <a:pt x="144" y="532"/>
                </a:lnTo>
                <a:lnTo>
                  <a:pt x="131" y="536"/>
                </a:lnTo>
                <a:lnTo>
                  <a:pt x="117" y="538"/>
                </a:lnTo>
                <a:lnTo>
                  <a:pt x="106" y="540"/>
                </a:lnTo>
                <a:lnTo>
                  <a:pt x="92" y="542"/>
                </a:lnTo>
                <a:lnTo>
                  <a:pt x="83" y="542"/>
                </a:lnTo>
                <a:lnTo>
                  <a:pt x="71" y="543"/>
                </a:lnTo>
                <a:lnTo>
                  <a:pt x="62" y="543"/>
                </a:lnTo>
                <a:lnTo>
                  <a:pt x="54" y="543"/>
                </a:lnTo>
                <a:lnTo>
                  <a:pt x="46" y="542"/>
                </a:lnTo>
                <a:lnTo>
                  <a:pt x="39" y="542"/>
                </a:lnTo>
                <a:lnTo>
                  <a:pt x="33" y="540"/>
                </a:lnTo>
                <a:lnTo>
                  <a:pt x="27" y="538"/>
                </a:lnTo>
                <a:lnTo>
                  <a:pt x="21" y="536"/>
                </a:lnTo>
                <a:lnTo>
                  <a:pt x="17" y="532"/>
                </a:lnTo>
                <a:lnTo>
                  <a:pt x="14" y="528"/>
                </a:lnTo>
                <a:lnTo>
                  <a:pt x="12" y="524"/>
                </a:lnTo>
                <a:lnTo>
                  <a:pt x="10" y="520"/>
                </a:lnTo>
                <a:lnTo>
                  <a:pt x="6" y="519"/>
                </a:lnTo>
                <a:lnTo>
                  <a:pt x="4" y="515"/>
                </a:lnTo>
                <a:lnTo>
                  <a:pt x="0" y="509"/>
                </a:lnTo>
                <a:lnTo>
                  <a:pt x="0" y="501"/>
                </a:lnTo>
                <a:lnTo>
                  <a:pt x="0" y="494"/>
                </a:lnTo>
                <a:lnTo>
                  <a:pt x="2" y="486"/>
                </a:lnTo>
                <a:lnTo>
                  <a:pt x="6" y="478"/>
                </a:lnTo>
                <a:lnTo>
                  <a:pt x="12" y="469"/>
                </a:lnTo>
                <a:lnTo>
                  <a:pt x="19" y="459"/>
                </a:lnTo>
                <a:lnTo>
                  <a:pt x="29" y="449"/>
                </a:lnTo>
                <a:lnTo>
                  <a:pt x="41" y="438"/>
                </a:lnTo>
                <a:lnTo>
                  <a:pt x="52" y="428"/>
                </a:lnTo>
                <a:lnTo>
                  <a:pt x="67" y="415"/>
                </a:lnTo>
                <a:lnTo>
                  <a:pt x="83" y="403"/>
                </a:lnTo>
                <a:lnTo>
                  <a:pt x="100" y="390"/>
                </a:lnTo>
                <a:lnTo>
                  <a:pt x="119" y="377"/>
                </a:lnTo>
                <a:lnTo>
                  <a:pt x="140" y="361"/>
                </a:lnTo>
                <a:lnTo>
                  <a:pt x="161" y="346"/>
                </a:lnTo>
                <a:lnTo>
                  <a:pt x="183" y="332"/>
                </a:lnTo>
                <a:lnTo>
                  <a:pt x="202" y="319"/>
                </a:lnTo>
                <a:lnTo>
                  <a:pt x="221" y="307"/>
                </a:lnTo>
                <a:lnTo>
                  <a:pt x="238" y="294"/>
                </a:lnTo>
                <a:lnTo>
                  <a:pt x="255" y="283"/>
                </a:lnTo>
                <a:lnTo>
                  <a:pt x="273" y="271"/>
                </a:lnTo>
                <a:lnTo>
                  <a:pt x="288" y="261"/>
                </a:lnTo>
                <a:lnTo>
                  <a:pt x="303" y="252"/>
                </a:lnTo>
                <a:lnTo>
                  <a:pt x="319" y="240"/>
                </a:lnTo>
                <a:lnTo>
                  <a:pt x="332" y="231"/>
                </a:lnTo>
                <a:lnTo>
                  <a:pt x="344" y="223"/>
                </a:lnTo>
                <a:lnTo>
                  <a:pt x="357" y="213"/>
                </a:lnTo>
                <a:lnTo>
                  <a:pt x="367" y="204"/>
                </a:lnTo>
                <a:lnTo>
                  <a:pt x="378" y="194"/>
                </a:lnTo>
                <a:lnTo>
                  <a:pt x="388" y="187"/>
                </a:lnTo>
                <a:lnTo>
                  <a:pt x="396" y="179"/>
                </a:lnTo>
                <a:lnTo>
                  <a:pt x="403" y="173"/>
                </a:lnTo>
                <a:lnTo>
                  <a:pt x="411" y="167"/>
                </a:lnTo>
                <a:lnTo>
                  <a:pt x="415" y="162"/>
                </a:lnTo>
                <a:lnTo>
                  <a:pt x="420" y="156"/>
                </a:lnTo>
                <a:lnTo>
                  <a:pt x="424" y="150"/>
                </a:lnTo>
                <a:lnTo>
                  <a:pt x="426" y="144"/>
                </a:lnTo>
                <a:lnTo>
                  <a:pt x="428" y="139"/>
                </a:lnTo>
                <a:lnTo>
                  <a:pt x="430" y="131"/>
                </a:lnTo>
                <a:lnTo>
                  <a:pt x="430" y="125"/>
                </a:lnTo>
                <a:lnTo>
                  <a:pt x="430" y="119"/>
                </a:lnTo>
                <a:lnTo>
                  <a:pt x="428" y="114"/>
                </a:lnTo>
                <a:lnTo>
                  <a:pt x="428" y="108"/>
                </a:lnTo>
                <a:lnTo>
                  <a:pt x="426" y="102"/>
                </a:lnTo>
                <a:lnTo>
                  <a:pt x="422" y="96"/>
                </a:lnTo>
                <a:lnTo>
                  <a:pt x="420" y="91"/>
                </a:lnTo>
                <a:lnTo>
                  <a:pt x="415" y="77"/>
                </a:lnTo>
                <a:lnTo>
                  <a:pt x="413" y="71"/>
                </a:lnTo>
                <a:lnTo>
                  <a:pt x="411" y="66"/>
                </a:lnTo>
                <a:lnTo>
                  <a:pt x="411" y="60"/>
                </a:lnTo>
                <a:lnTo>
                  <a:pt x="411" y="54"/>
                </a:lnTo>
                <a:lnTo>
                  <a:pt x="411" y="50"/>
                </a:lnTo>
                <a:lnTo>
                  <a:pt x="413" y="45"/>
                </a:lnTo>
                <a:lnTo>
                  <a:pt x="415" y="39"/>
                </a:lnTo>
                <a:lnTo>
                  <a:pt x="417" y="35"/>
                </a:lnTo>
                <a:lnTo>
                  <a:pt x="420" y="29"/>
                </a:lnTo>
                <a:lnTo>
                  <a:pt x="424" y="25"/>
                </a:lnTo>
                <a:lnTo>
                  <a:pt x="430" y="22"/>
                </a:lnTo>
                <a:lnTo>
                  <a:pt x="438" y="18"/>
                </a:lnTo>
                <a:lnTo>
                  <a:pt x="445" y="14"/>
                </a:lnTo>
                <a:lnTo>
                  <a:pt x="453" y="10"/>
                </a:lnTo>
                <a:lnTo>
                  <a:pt x="472" y="4"/>
                </a:lnTo>
                <a:lnTo>
                  <a:pt x="482" y="2"/>
                </a:lnTo>
                <a:lnTo>
                  <a:pt x="493" y="0"/>
                </a:lnTo>
                <a:lnTo>
                  <a:pt x="505" y="0"/>
                </a:lnTo>
                <a:lnTo>
                  <a:pt x="516" y="0"/>
                </a:lnTo>
                <a:lnTo>
                  <a:pt x="528" y="0"/>
                </a:lnTo>
                <a:lnTo>
                  <a:pt x="541" y="0"/>
                </a:lnTo>
                <a:lnTo>
                  <a:pt x="555" y="0"/>
                </a:lnTo>
                <a:lnTo>
                  <a:pt x="568" y="2"/>
                </a:lnTo>
                <a:lnTo>
                  <a:pt x="584" y="4"/>
                </a:lnTo>
                <a:lnTo>
                  <a:pt x="599" y="8"/>
                </a:lnTo>
                <a:lnTo>
                  <a:pt x="614" y="12"/>
                </a:lnTo>
                <a:lnTo>
                  <a:pt x="632" y="16"/>
                </a:lnTo>
                <a:lnTo>
                  <a:pt x="649" y="20"/>
                </a:lnTo>
                <a:lnTo>
                  <a:pt x="666" y="25"/>
                </a:lnTo>
                <a:lnTo>
                  <a:pt x="685" y="33"/>
                </a:lnTo>
                <a:lnTo>
                  <a:pt x="701" y="39"/>
                </a:lnTo>
                <a:lnTo>
                  <a:pt x="718" y="46"/>
                </a:lnTo>
                <a:lnTo>
                  <a:pt x="731" y="54"/>
                </a:lnTo>
                <a:lnTo>
                  <a:pt x="745" y="62"/>
                </a:lnTo>
                <a:lnTo>
                  <a:pt x="756" y="70"/>
                </a:lnTo>
                <a:lnTo>
                  <a:pt x="768" y="79"/>
                </a:lnTo>
                <a:lnTo>
                  <a:pt x="777" y="89"/>
                </a:lnTo>
                <a:lnTo>
                  <a:pt x="787" y="98"/>
                </a:lnTo>
                <a:lnTo>
                  <a:pt x="795" y="108"/>
                </a:lnTo>
                <a:lnTo>
                  <a:pt x="800" y="119"/>
                </a:lnTo>
                <a:lnTo>
                  <a:pt x="806" y="131"/>
                </a:lnTo>
                <a:lnTo>
                  <a:pt x="810" y="144"/>
                </a:lnTo>
                <a:lnTo>
                  <a:pt x="812" y="158"/>
                </a:lnTo>
                <a:lnTo>
                  <a:pt x="814" y="171"/>
                </a:lnTo>
                <a:lnTo>
                  <a:pt x="816" y="187"/>
                </a:lnTo>
                <a:lnTo>
                  <a:pt x="816" y="187"/>
                </a:lnTo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9680" y="1208160"/>
            <a:ext cx="82184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18be9"/>
                </a:solidFill>
                <a:latin typeface="Arial"/>
                <a:ea typeface="楷体_GB2312"/>
              </a:rPr>
              <a:t>我来评一评</a:t>
            </a:r>
            <a:br>
              <a:rPr sz="6000"/>
            </a:br>
            <a:br>
              <a:rPr sz="6000"/>
            </a:b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书写正确得一颗星，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寸字得体得一颗星，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结构均匀得一颗星。</a:t>
            </a:r>
            <a:endParaRPr b="0" lang="en-US" sz="48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8be9"/>
                </a:solidFill>
                <a:latin typeface="Arial"/>
              </a:rPr>
              <a:t>小提示</a:t>
            </a:r>
            <a:endParaRPr b="0" lang="en-US" sz="4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534680"/>
            <a:ext cx="82184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8be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ff00"/>
                </a:solidFill>
                <a:latin typeface="宋体"/>
              </a:rPr>
              <a:t>再读课文，要求在读准字音的基础上，运用查工具书、联系上下文或生活实际等方法，理解文中的词语。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0587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8be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18be9"/>
                </a:solidFill>
                <a:latin typeface="Arial"/>
                <a:ea typeface="楷体_GB2312"/>
              </a:rPr>
              <a:t>苏东坡脸上立刻红一阵、白一阵，脑门上</a:t>
            </a: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楷体_GB2312"/>
              </a:rPr>
              <a:t>汗涔涔</a:t>
            </a:r>
            <a:r>
              <a:rPr b="1" lang="zh-CN" sz="4400" spc="-1" strike="noStrike">
                <a:solidFill>
                  <a:srgbClr val="018be9"/>
                </a:solidFill>
                <a:latin typeface="Arial"/>
                <a:ea typeface="楷体_GB2312"/>
              </a:rPr>
              <a:t>的。</a:t>
            </a:r>
            <a:endParaRPr b="0" lang="en-US" sz="4400" spc="-1" strike="noStrike">
              <a:solidFill>
                <a:srgbClr val="018be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99"/>
                </a:solidFill>
                <a:latin typeface="Arial"/>
              </a:rPr>
              <a:t>汗涔涔：汗水流个不断。</a:t>
            </a:r>
            <a:endParaRPr b="0" lang="en-US" sz="44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7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7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deeplm</cp:lastModifiedBy>
  <dcterms:modified xsi:type="dcterms:W3CDTF">2012-08-13T15:16:09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