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47.jpeg" ContentType="image/jpe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image10.png" ContentType="image/png"/>
  <Override PartName="/ppt/media/image46.jpeg" ContentType="image/jpeg"/>
  <Override PartName="/ppt/media/image51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AF3-7B46-42CE-8373-B22DB1A8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867-3DBF-462B-AD7F-C10A0E40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4C6-A73A-46D3-A172-3BC6AF1D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C8C-688F-4035-AB1F-E9527841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409-1573-4B0A-85FE-C761051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469-0865-4915-98B3-CA539572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274-22AC-4F45-B00C-965F80B3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569-F472-4464-9B36-2D68738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2AD-8728-4601-8FD1-017EA02F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B7C-8B08-44EC-AA22-928DC57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F35-A4A8-43A8-936F-FB4C2907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925-2167-4398-A027-B8C9573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C47A-2E0D-49C1-A578-9DABE980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4800600"/>
            <a:ext cx="9144000" cy="152388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286000" y="24382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 飞吧，海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2"/>
          <p:cNvSpPr/>
          <p:nvPr/>
        </p:nvSpPr>
        <p:spPr>
          <a:xfrm>
            <a:off x="2666880" y="380988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812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8"/>
          <p:cNvSpPr/>
          <p:nvPr/>
        </p:nvSpPr>
        <p:spPr>
          <a:xfrm>
            <a:off x="304920" y="33526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（     ）和（      ）交上朋友，并结下了（        ）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09480" y="1981080"/>
            <a:ext cx="8001000" cy="6426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读课文，想一想课文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18464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友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7080480" y="3336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海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821200" y="3946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深厚情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3334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29000" cy="2643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6667" t="7951" r="6667" b="8978"/>
          <a:stretch/>
        </p:blipFill>
        <p:spPr>
          <a:xfrm>
            <a:off x="4800600" y="4038480"/>
            <a:ext cx="3733920" cy="265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105440"/>
            <a:ext cx="3504960" cy="2600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895480" y="3048120"/>
            <a:ext cx="3456000" cy="16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海鸥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1295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同学们仔细观察，你能说说海鸥的样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410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默读课文，找出文中描写海鸥外形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65760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3623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）的羽毛，翼尖（          ），一对（       ）的小眼睛，偏着脑袋瞧人，那神情又（      ）又（      ）。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066680"/>
            <a:ext cx="26640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海鸥外形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2438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浑身雪一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124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抹灰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89440" y="312408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光闪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4956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机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495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乖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905120"/>
            <a:ext cx="784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自由读文，说说友人是怎样喂养小海鸥的？从哪些地方可以看出友人和小海鸥“有着一种默契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4462560"/>
            <a:ext cx="24382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523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友人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常为它留一勺清清的淡水，一盘青色的鲜虾，任它自来自去。他有时还把小海鸥托在手心上喂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581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小海鸥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他埋头工作的时候，就在窗台上用嘴巴梳理着自己的羽毛，用光闪闪的小眼睛瞧着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5229360"/>
            <a:ext cx="62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1280" y="5715000"/>
            <a:ext cx="5545080" cy="792000"/>
          </a:xfrm>
          <a:prstGeom prst="wedgeRoundRectCallout">
            <a:avLst>
              <a:gd name="adj1" fmla="val -34138"/>
              <a:gd name="adj2" fmla="val -844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95640" y="5715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，你有什么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1676520"/>
            <a:ext cx="6848280" cy="3908160"/>
          </a:xfrm>
          <a:prstGeom prst="cloudCallout">
            <a:avLst>
              <a:gd name="adj1" fmla="val -27351"/>
              <a:gd name="adj2" fmla="val 30342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4382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从课文哪些地方可以看出海鸥与友人有着深情厚谊？找出自己感受最深的句子读给同桌同学听，并谈谈自己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2479680"/>
            <a:ext cx="792468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飞得多自在呀！”友人微微地笑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200400"/>
            <a:ext cx="792468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并没有受到伤害，还在飞呢！”友人无比兴奋地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351320"/>
            <a:ext cx="792468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会回来的！”友人斩钉截铁地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1600200"/>
            <a:ext cx="6551640" cy="1752480"/>
          </a:xfrm>
          <a:prstGeom prst="wedgeRoundRectCallout">
            <a:avLst>
              <a:gd name="adj1" fmla="val -46560"/>
              <a:gd name="adj2" fmla="val 6458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6002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友人说的这三句话分别表现了他怎样的心情？这说明了什么？“斩钉截铁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42670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体会友人不同的心情，有感情地读读这三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828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霍然而起”、“绕室徘徊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2997360"/>
            <a:ext cx="5400720" cy="1655640"/>
          </a:xfrm>
          <a:prstGeom prst="cloudCallout">
            <a:avLst>
              <a:gd name="adj1" fmla="val -69134"/>
              <a:gd name="adj2" fmla="val 5747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429000"/>
            <a:ext cx="46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用动作表现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334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从这两个词你又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2392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！在波涛汹涌的海面上，一只小海鸥正展翅飞翔。那雪白的羽毛，机灵的眼睛和镇定的神情是多么惹人喜爱！赶快走进课文，去看看那只可爱勇敢的小海鸥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6975" t="7138" r="4650" b="7930"/>
          <a:stretch/>
        </p:blipFill>
        <p:spPr>
          <a:xfrm>
            <a:off x="228600" y="388620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1219320"/>
            <a:ext cx="779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不知它经历了什么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风雨的侵袭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电的恫吓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还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恶浪的阻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259092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是……是……还是……”这种种猜测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3933720"/>
            <a:ext cx="5832720" cy="2160720"/>
          </a:xfrm>
          <a:prstGeom prst="wedgeEllipseCallout">
            <a:avLst>
              <a:gd name="adj1" fmla="val -72782"/>
              <a:gd name="adj2" fmla="val -16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72000" y="4508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说明了海鸥那种不惧怕凶险，能与大自然抗争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080" y="1143000"/>
            <a:ext cx="7570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不知它经历了什么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风雨的侵袭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电的恫吓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还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恶浪的阻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8195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是……是……还是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038480"/>
            <a:ext cx="5832720" cy="1606680"/>
          </a:xfrm>
          <a:prstGeom prst="wedgeEllipseCallout">
            <a:avLst>
              <a:gd name="adj1" fmla="val -64208"/>
              <a:gd name="adj2" fmla="val 839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2670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你能照样子说一句话吗？（说一个排比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2133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13716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明明是优秀班干，是三好学生，还是全校学习的榜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老师是朋友，是妈妈，还是我的指路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校是学习的地方，是成长的地方，还是我们的快乐天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书是知识的宝库，是我们的朋友，还是命运的女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1752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它属于大海”这句话你是怎样理解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45800" y="3116160"/>
            <a:ext cx="5642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明了友人和海鸥的友情并不是占为己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明了友人对动物的关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明了友人认为自然界的生物都属于大自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不应该对它们进行干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1447920"/>
            <a:ext cx="5473440" cy="2519280"/>
          </a:xfrm>
          <a:prstGeom prst="cloudCallout">
            <a:avLst>
              <a:gd name="adj1" fmla="val -37064"/>
              <a:gd name="adj2" fmla="val 5251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9810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学了这篇课文，你有什么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1974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2362320"/>
            <a:ext cx="716256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以“我喜欢的鸟”为主题，向大家介绍自己所了解的鸟的外形、活动特点、生活习性，以及怎样保护鸟类的常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后拓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1523880"/>
            <a:ext cx="2819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144756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4505400"/>
            <a:ext cx="1447560" cy="1743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493380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402912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00400" y="4724280"/>
            <a:ext cx="4524480" cy="552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010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143856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4495680" cy="571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3838320" cy="44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2971800"/>
            <a:ext cx="145728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200400" y="3181320"/>
            <a:ext cx="3933720" cy="46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124080" y="3943440"/>
            <a:ext cx="392436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066680" y="4952880"/>
            <a:ext cx="1447920" cy="173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276720" y="5210280"/>
            <a:ext cx="4171680" cy="581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343400" y="5943600"/>
            <a:ext cx="16477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1457280" cy="176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584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76720" y="1752480"/>
            <a:ext cx="401004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0" t="0" r="0" b="411"/>
          <a:stretch/>
        </p:blipFill>
        <p:spPr>
          <a:xfrm>
            <a:off x="828720" y="2751120"/>
            <a:ext cx="1457280" cy="174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362400" y="3048120"/>
            <a:ext cx="2419200" cy="53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0" t="16706" r="0" b="0"/>
          <a:stretch/>
        </p:blipFill>
        <p:spPr>
          <a:xfrm>
            <a:off x="3666960" y="3809880"/>
            <a:ext cx="1857600" cy="38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28720" y="4800600"/>
            <a:ext cx="1457280" cy="1752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438280" y="5105520"/>
            <a:ext cx="5743800" cy="5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rcRect l="0" t="16371" r="0" b="0"/>
          <a:stretch/>
        </p:blipFill>
        <p:spPr>
          <a:xfrm>
            <a:off x="3352680" y="5896080"/>
            <a:ext cx="4019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1476360" cy="175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2838600"/>
            <a:ext cx="146664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76720" y="1066680"/>
            <a:ext cx="3714480" cy="60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0" t="0" r="0" b="20030"/>
          <a:stretch/>
        </p:blipFill>
        <p:spPr>
          <a:xfrm>
            <a:off x="2971800" y="1828800"/>
            <a:ext cx="390528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66880" y="3143160"/>
            <a:ext cx="605808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505320" y="3828960"/>
            <a:ext cx="4029120" cy="4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990720" y="4800600"/>
            <a:ext cx="147636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666880" y="5105520"/>
            <a:ext cx="6048360" cy="57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3505320" y="5791320"/>
            <a:ext cx="3981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44792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4495680" cy="542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048120" y="2666880"/>
            <a:ext cx="4619520" cy="476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0" b="1021"/>
          <a:stretch/>
        </p:blipFill>
        <p:spPr>
          <a:xfrm>
            <a:off x="1143000" y="3962520"/>
            <a:ext cx="1467000" cy="174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819520" y="4191120"/>
            <a:ext cx="564804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657600" y="4876920"/>
            <a:ext cx="3952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1504800" cy="176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5162400" cy="4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3962520" cy="428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009800" y="4038480"/>
            <a:ext cx="1457280" cy="1752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914560" y="4286160"/>
            <a:ext cx="4934160" cy="590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0" t="16024" r="0" b="0"/>
          <a:stretch/>
        </p:blipFill>
        <p:spPr>
          <a:xfrm>
            <a:off x="3295800" y="5010120"/>
            <a:ext cx="41526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676520"/>
            <a:ext cx="8458200" cy="46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弥漫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烟尘、雾气、水等）充满；布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默契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方的意思没有说明白而彼此有一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踪影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踪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猜测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推测；凭想象估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斩钉截铁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容说话办事坚决果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徘徊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地方来回地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恫吓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威吓，吓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12:50Z</dcterms:created>
  <dc:creator>Administrator</dc:creator>
  <dc:description/>
  <dc:language>en-US</dc:language>
  <cp:lastModifiedBy/>
  <dcterms:modified xsi:type="dcterms:W3CDTF">2016-04-25T08:13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