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7.png" ContentType="image/png"/>
  <Override PartName="/ppt/media/GY.WAV" ContentType="audio/x-wav"/>
  <Override PartName="/ppt/media/image11.gif" ContentType="image/gif"/>
  <Override PartName="/ppt/media/image5.jpeg" ContentType="image/jpeg"/>
  <Override PartName="/ppt/media/image20.jpeg" ContentType="image/jpeg"/>
  <Override PartName="/ppt/media/image14.gif" ContentType="image/gif"/>
  <Override PartName="/ppt/media/image19.jpeg" ContentType="image/jpeg"/>
  <Override PartName="/ppt/media/image17.jpeg" ContentType="image/jpeg"/>
  <Override PartName="/ppt/media/image16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media/image8.gif" ContentType="image/gif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8BF8-4886-41FB-BA8D-37194E48D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701A-CE5B-4B49-82E3-D3100DB4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63B2-2B0F-42BA-8DF1-09AF6F50B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4F67-FDB4-4FF9-84A6-23211A582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CD95-AA63-458F-9840-9E04E164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76EE-4C28-4640-BA68-7F54CCDF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94E7-18CB-4CF7-A29B-500F22AE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425A-AAEF-45EF-8FA7-85CA0A16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A231-976A-49DB-887D-011CABC0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78F3-99D1-47D5-AF99-2DCD1F3E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D78D-4B0D-4305-B3DE-554271B0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CE68-832F-49B3-AEE8-40C12985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C841-1C0F-4CBF-AFFA-407695852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&#40479;&#30340;&#22825;&#22530;.asf" TargetMode="External"/><Relationship Id="rId2" Type="http://schemas.openxmlformats.org/officeDocument/2006/relationships/hyperlink" Target="258,12,&#24187;&#28783;&#29255; 12" TargetMode="External"/><Relationship Id="rId3" Type="http://schemas.openxmlformats.org/officeDocument/2006/relationships/hyperlink" Target="258,12,&#24187;&#28783;&#29255; 12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image" Target="../media/image8.gif"/><Relationship Id="rId18" Type="http://schemas.openxmlformats.org/officeDocument/2006/relationships/image" Target="../media/image8.gif"/><Relationship Id="rId19" Type="http://schemas.openxmlformats.org/officeDocument/2006/relationships/image" Target="../media/image8.gif"/><Relationship Id="rId20" Type="http://schemas.openxmlformats.org/officeDocument/2006/relationships/image" Target="../media/image8.gif"/><Relationship Id="rId21" Type="http://schemas.openxmlformats.org/officeDocument/2006/relationships/image" Target="../media/image8.gif"/><Relationship Id="rId22" Type="http://schemas.openxmlformats.org/officeDocument/2006/relationships/image" Target="../media/image8.gif"/><Relationship Id="rId23" Type="http://schemas.openxmlformats.org/officeDocument/2006/relationships/image" Target="../media/image8.gif"/><Relationship Id="rId24" Type="http://schemas.openxmlformats.org/officeDocument/2006/relationships/image" Target="../media/image8.gif"/><Relationship Id="rId25" Type="http://schemas.openxmlformats.org/officeDocument/2006/relationships/image" Target="../media/image8.gif"/><Relationship Id="rId26" Type="http://schemas.openxmlformats.org/officeDocument/2006/relationships/image" Target="../media/image8.gif"/><Relationship Id="rId27" Type="http://schemas.openxmlformats.org/officeDocument/2006/relationships/image" Target="../media/image8.gif"/><Relationship Id="rId28" Type="http://schemas.openxmlformats.org/officeDocument/2006/relationships/image" Target="../media/image8.gif"/><Relationship Id="rId2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&#32676;&#40479;&#27426;&#38393;.asf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1.gif"/><Relationship Id="rId19" Type="http://schemas.openxmlformats.org/officeDocument/2006/relationships/image" Target="../media/image11.gif"/><Relationship Id="rId20" Type="http://schemas.openxmlformats.org/officeDocument/2006/relationships/image" Target="../media/image11.gif"/><Relationship Id="rId21" Type="http://schemas.openxmlformats.org/officeDocument/2006/relationships/image" Target="../media/image11.gif"/><Relationship Id="rId22" Type="http://schemas.openxmlformats.org/officeDocument/2006/relationships/image" Target="../media/image11.gif"/><Relationship Id="rId23" Type="http://schemas.openxmlformats.org/officeDocument/2006/relationships/image" Target="../media/image11.gif"/><Relationship Id="rId24" Type="http://schemas.openxmlformats.org/officeDocument/2006/relationships/image" Target="../media/image11.gif"/><Relationship Id="rId25" Type="http://schemas.openxmlformats.org/officeDocument/2006/relationships/image" Target="../media/image11.gif"/><Relationship Id="rId26" Type="http://schemas.openxmlformats.org/officeDocument/2006/relationships/image" Target="../media/image11.gif"/><Relationship Id="rId27" Type="http://schemas.openxmlformats.org/officeDocument/2006/relationships/image" Target="../media/image11.gif"/><Relationship Id="rId28" Type="http://schemas.openxmlformats.org/officeDocument/2006/relationships/image" Target="../media/image11.gif"/><Relationship Id="rId29" Type="http://schemas.openxmlformats.org/officeDocument/2006/relationships/image" Target="../media/image11.gif"/><Relationship Id="rId30" Type="http://schemas.openxmlformats.org/officeDocument/2006/relationships/image" Target="../media/image11.gif"/><Relationship Id="rId31" Type="http://schemas.openxmlformats.org/officeDocument/2006/relationships/image" Target="../media/image11.gif"/><Relationship Id="rId32" Type="http://schemas.openxmlformats.org/officeDocument/2006/relationships/image" Target="../media/image11.gif"/><Relationship Id="rId33" Type="http://schemas.openxmlformats.org/officeDocument/2006/relationships/image" Target="../media/image11.gif"/><Relationship Id="rId34" Type="http://schemas.openxmlformats.org/officeDocument/2006/relationships/image" Target="../media/image11.gif"/><Relationship Id="rId35" Type="http://schemas.openxmlformats.org/officeDocument/2006/relationships/image" Target="../media/image11.gif"/><Relationship Id="rId36" Type="http://schemas.openxmlformats.org/officeDocument/2006/relationships/image" Target="../media/image11.gif"/><Relationship Id="rId37" Type="http://schemas.openxmlformats.org/officeDocument/2006/relationships/image" Target="../media/image11.gif"/><Relationship Id="rId38" Type="http://schemas.openxmlformats.org/officeDocument/2006/relationships/image" Target="../media/image11.gif"/><Relationship Id="rId39" Type="http://schemas.openxmlformats.org/officeDocument/2006/relationships/image" Target="../media/image11.gif"/><Relationship Id="rId40" Type="http://schemas.openxmlformats.org/officeDocument/2006/relationships/image" Target="../media/image11.gif"/><Relationship Id="rId41" Type="http://schemas.openxmlformats.org/officeDocument/2006/relationships/image" Target="../media/image11.gif"/><Relationship Id="rId42" Type="http://schemas.openxmlformats.org/officeDocument/2006/relationships/image" Target="../media/image11.gif"/><Relationship Id="rId43" Type="http://schemas.openxmlformats.org/officeDocument/2006/relationships/image" Target="../media/image11.gif"/><Relationship Id="rId44" Type="http://schemas.openxmlformats.org/officeDocument/2006/relationships/image" Target="../media/image11.gif"/><Relationship Id="rId45" Type="http://schemas.openxmlformats.org/officeDocument/2006/relationships/image" Target="../media/image11.gif"/><Relationship Id="rId46" Type="http://schemas.openxmlformats.org/officeDocument/2006/relationships/image" Target="../media/image11.gif"/><Relationship Id="rId47" Type="http://schemas.openxmlformats.org/officeDocument/2006/relationships/image" Target="../media/image11.gif"/><Relationship Id="rId48" Type="http://schemas.openxmlformats.org/officeDocument/2006/relationships/image" Target="../media/image11.gif"/><Relationship Id="rId49" Type="http://schemas.openxmlformats.org/officeDocument/2006/relationships/image" Target="../media/image11.gif"/><Relationship Id="rId50" Type="http://schemas.openxmlformats.org/officeDocument/2006/relationships/image" Target="../media/image11.gif"/><Relationship Id="rId51" Type="http://schemas.openxmlformats.org/officeDocument/2006/relationships/image" Target="../media/image11.gif"/><Relationship Id="rId52" Type="http://schemas.openxmlformats.org/officeDocument/2006/relationships/image" Target="../media/image11.gif"/><Relationship Id="rId53" Type="http://schemas.openxmlformats.org/officeDocument/2006/relationships/image" Target="../media/image11.gif"/><Relationship Id="rId54" Type="http://schemas.openxmlformats.org/officeDocument/2006/relationships/image" Target="../media/image11.gif"/><Relationship Id="rId55" Type="http://schemas.openxmlformats.org/officeDocument/2006/relationships/image" Target="../media/image11.gif"/><Relationship Id="rId56" Type="http://schemas.openxmlformats.org/officeDocument/2006/relationships/image" Target="../media/image11.gif"/><Relationship Id="rId57" Type="http://schemas.openxmlformats.org/officeDocument/2006/relationships/image" Target="../media/image11.gif"/><Relationship Id="rId58" Type="http://schemas.openxmlformats.org/officeDocument/2006/relationships/image" Target="../media/image11.gif"/><Relationship Id="rId59" Type="http://schemas.openxmlformats.org/officeDocument/2006/relationships/image" Target="../media/image11.gif"/><Relationship Id="rId60" Type="http://schemas.openxmlformats.org/officeDocument/2006/relationships/image" Target="../media/image11.gif"/><Relationship Id="rId61" Type="http://schemas.openxmlformats.org/officeDocument/2006/relationships/image" Target="../media/image11.gif"/><Relationship Id="rId62" Type="http://schemas.openxmlformats.org/officeDocument/2006/relationships/image" Target="../media/image11.gif"/><Relationship Id="rId63" Type="http://schemas.openxmlformats.org/officeDocument/2006/relationships/image" Target="../media/image11.gif"/><Relationship Id="rId64" Type="http://schemas.openxmlformats.org/officeDocument/2006/relationships/image" Target="../media/image11.gif"/><Relationship Id="rId65" Type="http://schemas.openxmlformats.org/officeDocument/2006/relationships/image" Target="../media/image11.gif"/><Relationship Id="rId66" Type="http://schemas.openxmlformats.org/officeDocument/2006/relationships/image" Target="../media/image11.gif"/><Relationship Id="rId67" Type="http://schemas.openxmlformats.org/officeDocument/2006/relationships/image" Target="../media/image11.gif"/><Relationship Id="rId68" Type="http://schemas.openxmlformats.org/officeDocument/2006/relationships/image" Target="../media/image11.gif"/><Relationship Id="rId69" Type="http://schemas.openxmlformats.org/officeDocument/2006/relationships/image" Target="../media/image11.gif"/><Relationship Id="rId70" Type="http://schemas.openxmlformats.org/officeDocument/2006/relationships/image" Target="../media/image11.gif"/><Relationship Id="rId71" Type="http://schemas.openxmlformats.org/officeDocument/2006/relationships/image" Target="../media/image11.gif"/><Relationship Id="rId7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258,20,&#24187;&#28783;&#29255; 20" TargetMode="External"/><Relationship Id="rId2" Type="http://schemas.openxmlformats.org/officeDocument/2006/relationships/hyperlink" Target="258,8,&#24187;&#28783;&#29255; 8" TargetMode="External"/><Relationship Id="rId3" Type="http://schemas.openxmlformats.org/officeDocument/2006/relationships/hyperlink" Target="269,14,&#24187;&#28783;&#29255; 14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GY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258,2,&#24187;&#28783;&#29255; 2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image" Target="../media/image15.png"/><Relationship Id="rId5" Type="http://schemas.openxmlformats.org/officeDocument/2006/relationships/audio" Target="../media/GY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258,2,&#24187;&#28783;&#29255; 2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6206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381720"/>
            <a:ext cx="579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916360" y="1989000"/>
            <a:ext cx="3519360" cy="234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飞鸟的天堂</a:t>
            </a:r>
            <a:endParaRPr b="0" lang="en-US" sz="24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19000" y="1752480"/>
            <a:ext cx="750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        “</a:t>
            </a:r>
            <a:r>
              <a:rPr b="0" lang="zh-CN" sz="40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枝干的数目不可计数”</a:t>
            </a:r>
            <a:r>
              <a:rPr b="0" lang="zh-CN" sz="40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体会出榕树枝干数目多的没有办法清点、无法计算。榕树不仅高大而且茂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610480" y="6248520"/>
            <a:ext cx="533520" cy="533160"/>
          </a:xfrm>
          <a:custGeom>
            <a:avLst/>
            <a:gdLst>
              <a:gd name="textAreaLeft" fmla="*/ 33120 w 533520"/>
              <a:gd name="textAreaRight" fmla="*/ 500400 w 533520"/>
              <a:gd name="textAreaTop" fmla="*/ 33120 h 533160"/>
              <a:gd name="textAreaBottom" fmla="*/ 50004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65" y="1350"/>
                </a:lnTo>
                <a:lnTo>
                  <a:pt x="1350" y="135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65" y="20250"/>
                </a:lnTo>
                <a:lnTo>
                  <a:pt x="20265" y="135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65" y="2025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15" h="21600">
                <a:moveTo>
                  <a:pt x="3764" y="7475"/>
                </a:moveTo>
                <a:lnTo>
                  <a:pt x="7290" y="7475"/>
                </a:lnTo>
                <a:lnTo>
                  <a:pt x="7290" y="12839"/>
                </a:lnTo>
                <a:cubicBezTo>
                  <a:pt x="7290" y="13766"/>
                  <a:pt x="8095" y="14501"/>
                  <a:pt x="9136" y="14501"/>
                </a:cubicBezTo>
                <a:lnTo>
                  <a:pt x="10807" y="14501"/>
                </a:lnTo>
                <a:cubicBezTo>
                  <a:pt x="11849" y="14501"/>
                  <a:pt x="12654" y="13766"/>
                  <a:pt x="12654" y="12839"/>
                </a:cubicBezTo>
                <a:lnTo>
                  <a:pt x="12654" y="7475"/>
                </a:lnTo>
                <a:lnTo>
                  <a:pt x="10807" y="7475"/>
                </a:lnTo>
                <a:lnTo>
                  <a:pt x="14334" y="3949"/>
                </a:lnTo>
                <a:lnTo>
                  <a:pt x="18026" y="7475"/>
                </a:lnTo>
                <a:lnTo>
                  <a:pt x="16180" y="7475"/>
                </a:lnTo>
                <a:lnTo>
                  <a:pt x="16180" y="12839"/>
                </a:lnTo>
                <a:cubicBezTo>
                  <a:pt x="16180" y="15621"/>
                  <a:pt x="13590" y="18194"/>
                  <a:pt x="10807" y="18194"/>
                </a:cubicBezTo>
                <a:lnTo>
                  <a:pt x="9136" y="18194"/>
                </a:lnTo>
                <a:cubicBezTo>
                  <a:pt x="6354" y="18194"/>
                  <a:pt x="3764" y="15621"/>
                  <a:pt x="3764" y="12839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4932"/>
          <a:stretch/>
        </p:blipFill>
        <p:spPr>
          <a:xfrm>
            <a:off x="468360" y="765000"/>
            <a:ext cx="7596000" cy="5697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00000" y="58770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就像一株大树卧在水面上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2920" y="1159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榕树正在茂盛的时期，好像把它的全部生命力展示给我们看。那么多的绿叶，</a:t>
            </a:r>
            <a:r>
              <a:rPr b="0" lang="zh-CN" sz="3200" spc="-1" strike="noStrike">
                <a:solidFill>
                  <a:srgbClr val="990033"/>
                </a:solidFill>
                <a:latin typeface="Arial"/>
              </a:rPr>
              <a:t>一簇堆在另一簇上面，不留一点儿缝隙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那翠绿的颜色，明亮地照耀着我们的眼睛，</a:t>
            </a:r>
            <a:r>
              <a:rPr b="0" lang="zh-CN" sz="3200" spc="-1" strike="noStrike">
                <a:solidFill>
                  <a:srgbClr val="990033"/>
                </a:solidFill>
                <a:latin typeface="Arial"/>
              </a:rPr>
              <a:t>似乎每一片绿叶上都有一个新的生命在颤动。这美丽的南国的树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11280" y="2678040"/>
            <a:ext cx="8064360" cy="406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3944160" y="2057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ff"/>
                </a:solidFill>
                <a:latin typeface="Arial"/>
              </a:rPr>
              <a:t>美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03640" y="112536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ff"/>
                </a:solidFill>
                <a:latin typeface="Arial"/>
              </a:rPr>
              <a:t>翠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4880" y="2060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ff"/>
                </a:solidFill>
                <a:latin typeface="Arial"/>
              </a:rPr>
              <a:t>新的生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748720" y="6237360"/>
            <a:ext cx="324000" cy="431640"/>
          </a:xfrm>
          <a:custGeom>
            <a:avLst/>
            <a:gdLst>
              <a:gd name="textAreaLeft" fmla="*/ 20160 w 324000"/>
              <a:gd name="textAreaRight" fmla="*/ 303840 w 324000"/>
              <a:gd name="textAreaTop" fmla="*/ 20160 h 431640"/>
              <a:gd name="textAreaBottom" fmla="*/ 411480 h 431640"/>
            </a:gdLst>
            <a:ahLst/>
            <a:rect l="textAreaLeft" t="textAreaTop" r="textAreaRight" b="textAreaBottom"/>
            <a:pathLst>
              <a:path w="21600" h="28768">
                <a:moveTo>
                  <a:pt x="0" y="0"/>
                </a:moveTo>
                <a:lnTo>
                  <a:pt x="21600" y="0"/>
                </a:lnTo>
                <a:lnTo>
                  <a:pt x="21600" y="28768"/>
                </a:lnTo>
                <a:lnTo>
                  <a:pt x="0" y="28768"/>
                </a:lnTo>
                <a:close/>
              </a:path>
              <a:path fill="lightenLess" w="21600" h="28768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8768">
                <a:moveTo>
                  <a:pt x="21600" y="0"/>
                </a:moveTo>
                <a:lnTo>
                  <a:pt x="21600" y="28768"/>
                </a:lnTo>
                <a:lnTo>
                  <a:pt x="20250" y="27418"/>
                </a:lnTo>
                <a:lnTo>
                  <a:pt x="20250" y="1350"/>
                </a:lnTo>
                <a:close/>
              </a:path>
              <a:path fill="darkenLess" w="21600" h="28768">
                <a:moveTo>
                  <a:pt x="21600" y="28768"/>
                </a:moveTo>
                <a:lnTo>
                  <a:pt x="0" y="28768"/>
                </a:lnTo>
                <a:lnTo>
                  <a:pt x="1350" y="27418"/>
                </a:lnTo>
                <a:lnTo>
                  <a:pt x="20250" y="27418"/>
                </a:lnTo>
                <a:close/>
              </a:path>
              <a:path fill="lighten" w="21600" h="28768">
                <a:moveTo>
                  <a:pt x="0" y="28768"/>
                </a:moveTo>
                <a:lnTo>
                  <a:pt x="0" y="0"/>
                </a:lnTo>
                <a:lnTo>
                  <a:pt x="1350" y="1350"/>
                </a:lnTo>
                <a:lnTo>
                  <a:pt x="1350" y="27418"/>
                </a:lnTo>
                <a:close/>
              </a:path>
            </a:pathLst>
          </a:custGeom>
          <a:solidFill>
            <a:srgbClr val="a9f5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43000" y="219384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en-US" sz="40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一簇堆在另一簇上面</a:t>
            </a:r>
            <a:r>
              <a:rPr b="0" lang="en-US" sz="40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”感受到大榕树枝叶茂盛，给鸟儿创造了良好的、自由自在的生活环境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610480" y="6248520"/>
            <a:ext cx="533520" cy="533160"/>
          </a:xfrm>
          <a:custGeom>
            <a:avLst/>
            <a:gdLst>
              <a:gd name="textAreaLeft" fmla="*/ 33120 w 533520"/>
              <a:gd name="textAreaRight" fmla="*/ 500400 w 533520"/>
              <a:gd name="textAreaTop" fmla="*/ 33120 h 533160"/>
              <a:gd name="textAreaBottom" fmla="*/ 50004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65" y="1350"/>
                </a:lnTo>
                <a:lnTo>
                  <a:pt x="1350" y="135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65" y="20250"/>
                </a:lnTo>
                <a:lnTo>
                  <a:pt x="20265" y="135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65" y="2025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15" h="21600">
                <a:moveTo>
                  <a:pt x="3764" y="7475"/>
                </a:moveTo>
                <a:lnTo>
                  <a:pt x="7290" y="7475"/>
                </a:lnTo>
                <a:lnTo>
                  <a:pt x="7290" y="12839"/>
                </a:lnTo>
                <a:cubicBezTo>
                  <a:pt x="7290" y="13766"/>
                  <a:pt x="8095" y="14501"/>
                  <a:pt x="9136" y="14501"/>
                </a:cubicBezTo>
                <a:lnTo>
                  <a:pt x="10807" y="14501"/>
                </a:lnTo>
                <a:cubicBezTo>
                  <a:pt x="11849" y="14501"/>
                  <a:pt x="12654" y="13766"/>
                  <a:pt x="12654" y="12839"/>
                </a:cubicBezTo>
                <a:lnTo>
                  <a:pt x="12654" y="7475"/>
                </a:lnTo>
                <a:lnTo>
                  <a:pt x="10807" y="7475"/>
                </a:lnTo>
                <a:lnTo>
                  <a:pt x="14334" y="3949"/>
                </a:lnTo>
                <a:lnTo>
                  <a:pt x="18026" y="7475"/>
                </a:lnTo>
                <a:lnTo>
                  <a:pt x="16180" y="7475"/>
                </a:lnTo>
                <a:lnTo>
                  <a:pt x="16180" y="12839"/>
                </a:lnTo>
                <a:cubicBezTo>
                  <a:pt x="16180" y="15621"/>
                  <a:pt x="13590" y="18194"/>
                  <a:pt x="10807" y="18194"/>
                </a:cubicBezTo>
                <a:lnTo>
                  <a:pt x="9136" y="18194"/>
                </a:lnTo>
                <a:cubicBezTo>
                  <a:pt x="6354" y="18194"/>
                  <a:pt x="3764" y="15621"/>
                  <a:pt x="3764" y="12839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60020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en-US" sz="40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似乎每一片绿叶上都有一个新的生命在颤动</a:t>
            </a:r>
            <a:r>
              <a:rPr b="0" lang="en-US" sz="40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”</a:t>
            </a:r>
            <a:r>
              <a:rPr b="0" lang="zh-CN" sz="4000" spc="-1" strike="noStrike">
                <a:solidFill>
                  <a:srgbClr val="00cc99"/>
                </a:solidFill>
                <a:latin typeface="楷体_GB2312"/>
                <a:ea typeface="楷体_GB2312"/>
              </a:rPr>
              <a:t>作者把大榕树写活了，写动了，从绿色中感受到有一种生命力在涌动，赞美榕树充满活力的蓬勃生机。</a:t>
            </a:r>
            <a:r>
              <a:rPr b="0" lang="zh-CN" sz="40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这是作者看到大榕树产生的美好幻景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610480" y="6248520"/>
            <a:ext cx="533520" cy="533160"/>
          </a:xfrm>
          <a:custGeom>
            <a:avLst/>
            <a:gdLst>
              <a:gd name="textAreaLeft" fmla="*/ 33120 w 533520"/>
              <a:gd name="textAreaRight" fmla="*/ 500400 w 533520"/>
              <a:gd name="textAreaTop" fmla="*/ 33120 h 533160"/>
              <a:gd name="textAreaBottom" fmla="*/ 50004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65" y="1350"/>
                </a:lnTo>
                <a:lnTo>
                  <a:pt x="1350" y="135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65" y="20250"/>
                </a:lnTo>
                <a:lnTo>
                  <a:pt x="20265" y="135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65" y="2025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15" h="21600">
                <a:moveTo>
                  <a:pt x="3764" y="7475"/>
                </a:moveTo>
                <a:lnTo>
                  <a:pt x="7290" y="7475"/>
                </a:lnTo>
                <a:lnTo>
                  <a:pt x="7290" y="12839"/>
                </a:lnTo>
                <a:cubicBezTo>
                  <a:pt x="7290" y="13766"/>
                  <a:pt x="8095" y="14501"/>
                  <a:pt x="9136" y="14501"/>
                </a:cubicBezTo>
                <a:lnTo>
                  <a:pt x="10807" y="14501"/>
                </a:lnTo>
                <a:cubicBezTo>
                  <a:pt x="11849" y="14501"/>
                  <a:pt x="12654" y="13766"/>
                  <a:pt x="12654" y="12839"/>
                </a:cubicBezTo>
                <a:lnTo>
                  <a:pt x="12654" y="7475"/>
                </a:lnTo>
                <a:lnTo>
                  <a:pt x="10807" y="7475"/>
                </a:lnTo>
                <a:lnTo>
                  <a:pt x="14334" y="3949"/>
                </a:lnTo>
                <a:lnTo>
                  <a:pt x="18026" y="7475"/>
                </a:lnTo>
                <a:lnTo>
                  <a:pt x="16180" y="7475"/>
                </a:lnTo>
                <a:lnTo>
                  <a:pt x="16180" y="12839"/>
                </a:lnTo>
                <a:cubicBezTo>
                  <a:pt x="16180" y="15621"/>
                  <a:pt x="13590" y="18194"/>
                  <a:pt x="10807" y="18194"/>
                </a:cubicBezTo>
                <a:lnTo>
                  <a:pt x="9136" y="18194"/>
                </a:lnTo>
                <a:cubicBezTo>
                  <a:pt x="6354" y="18194"/>
                  <a:pt x="3764" y="15621"/>
                  <a:pt x="3764" y="12839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458200" y="6095880"/>
            <a:ext cx="533520" cy="533520"/>
          </a:xfrm>
          <a:custGeom>
            <a:avLst/>
            <a:gdLst>
              <a:gd name="textAreaLeft" fmla="*/ 33120 w 533520"/>
              <a:gd name="textAreaRight" fmla="*/ 500400 w 53352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7475"/>
                </a:moveTo>
                <a:lnTo>
                  <a:pt x="7283" y="7475"/>
                </a:lnTo>
                <a:lnTo>
                  <a:pt x="7283" y="12839"/>
                </a:lnTo>
                <a:cubicBezTo>
                  <a:pt x="7283" y="13766"/>
                  <a:pt x="8088" y="14501"/>
                  <a:pt x="9129" y="14501"/>
                </a:cubicBezTo>
                <a:lnTo>
                  <a:pt x="10800" y="14501"/>
                </a:lnTo>
                <a:cubicBezTo>
                  <a:pt x="11841" y="14501"/>
                  <a:pt x="12646" y="13766"/>
                  <a:pt x="12646" y="12839"/>
                </a:cubicBezTo>
                <a:lnTo>
                  <a:pt x="12646" y="7475"/>
                </a:lnTo>
                <a:lnTo>
                  <a:pt x="10800" y="7475"/>
                </a:lnTo>
                <a:lnTo>
                  <a:pt x="14326" y="3949"/>
                </a:lnTo>
                <a:lnTo>
                  <a:pt x="18019" y="7475"/>
                </a:lnTo>
                <a:lnTo>
                  <a:pt x="16173" y="7475"/>
                </a:lnTo>
                <a:lnTo>
                  <a:pt x="16173" y="12839"/>
                </a:lnTo>
                <a:cubicBezTo>
                  <a:pt x="16173" y="15621"/>
                  <a:pt x="13583" y="18194"/>
                  <a:pt x="10800" y="18194"/>
                </a:cubicBezTo>
                <a:lnTo>
                  <a:pt x="9129" y="18194"/>
                </a:lnTo>
                <a:cubicBezTo>
                  <a:pt x="6346" y="18194"/>
                  <a:pt x="3756" y="15621"/>
                  <a:pt x="3756" y="12839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59364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作者第一次去的感受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3489480"/>
            <a:ext cx="1828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1"/>
              </a:rPr>
              <a:t>大榕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1981080"/>
            <a:ext cx="1981080" cy="36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大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2"/>
              </a:rPr>
              <a:t>枝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3"/>
              </a:rPr>
              <a:t>叶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505320" y="2362320"/>
            <a:ext cx="456840" cy="2971440"/>
            <a:chOff x="3505320" y="2362320"/>
            <a:chExt cx="456840" cy="2971440"/>
          </a:xfrm>
        </p:grpSpPr>
        <p:sp>
          <p:nvSpPr>
            <p:cNvPr id="89" name=""/>
            <p:cNvSpPr/>
            <p:nvPr/>
          </p:nvSpPr>
          <p:spPr>
            <a:xfrm>
              <a:off x="3701160" y="2478240"/>
              <a:ext cx="0" cy="270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701160" y="2362320"/>
              <a:ext cx="261000" cy="11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01160" y="5179680"/>
              <a:ext cx="261000" cy="15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3505320" y="3673800"/>
              <a:ext cx="195840" cy="385920"/>
              <a:chOff x="3505320" y="3673800"/>
              <a:chExt cx="195840" cy="385920"/>
            </a:xfrm>
          </p:grpSpPr>
          <p:sp>
            <p:nvSpPr>
              <p:cNvPr id="93" name=""/>
              <p:cNvSpPr/>
              <p:nvPr/>
            </p:nvSpPr>
            <p:spPr>
              <a:xfrm flipV="1">
                <a:off x="3505320" y="3673800"/>
                <a:ext cx="195840" cy="231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505320" y="3905640"/>
                <a:ext cx="195840" cy="154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748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066680" y="0"/>
            <a:ext cx="1257480" cy="1143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286000" y="0"/>
            <a:ext cx="1257480" cy="1143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352680" y="0"/>
            <a:ext cx="1257480" cy="1143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495680" y="0"/>
            <a:ext cx="125748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638680" y="0"/>
            <a:ext cx="1257480" cy="1143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6781680" y="0"/>
            <a:ext cx="1257480" cy="1143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7886880" y="0"/>
            <a:ext cx="1257120" cy="1143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7886880" y="838080"/>
            <a:ext cx="1257120" cy="1143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7886880" y="1600200"/>
            <a:ext cx="1257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7886880" y="2514600"/>
            <a:ext cx="1257120" cy="1143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7886880" y="3429000"/>
            <a:ext cx="1257120" cy="1143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3"/>
          <a:stretch/>
        </p:blipFill>
        <p:spPr>
          <a:xfrm>
            <a:off x="7886880" y="4267080"/>
            <a:ext cx="1257120" cy="1143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4"/>
          <a:stretch/>
        </p:blipFill>
        <p:spPr>
          <a:xfrm>
            <a:off x="7886880" y="5029200"/>
            <a:ext cx="1257120" cy="1143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5"/>
          <a:stretch/>
        </p:blipFill>
        <p:spPr>
          <a:xfrm>
            <a:off x="7886880" y="5715000"/>
            <a:ext cx="1257120" cy="1143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6"/>
          <a:stretch/>
        </p:blipFill>
        <p:spPr>
          <a:xfrm>
            <a:off x="6705720" y="5715000"/>
            <a:ext cx="1257120" cy="1143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7"/>
          <a:stretch/>
        </p:blipFill>
        <p:spPr>
          <a:xfrm>
            <a:off x="5638680" y="5715000"/>
            <a:ext cx="125748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8"/>
          <a:stretch/>
        </p:blipFill>
        <p:spPr>
          <a:xfrm>
            <a:off x="4343400" y="5715000"/>
            <a:ext cx="1257480" cy="1143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9"/>
          <a:stretch/>
        </p:blipFill>
        <p:spPr>
          <a:xfrm>
            <a:off x="3200400" y="5715000"/>
            <a:ext cx="125748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0"/>
          <a:stretch/>
        </p:blipFill>
        <p:spPr>
          <a:xfrm>
            <a:off x="2286000" y="5715000"/>
            <a:ext cx="1257480" cy="1143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1"/>
          <a:stretch/>
        </p:blipFill>
        <p:spPr>
          <a:xfrm>
            <a:off x="0" y="5715000"/>
            <a:ext cx="1257480" cy="1143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2"/>
          <a:stretch/>
        </p:blipFill>
        <p:spPr>
          <a:xfrm>
            <a:off x="1066680" y="5715000"/>
            <a:ext cx="1257480" cy="1143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3"/>
          <a:stretch/>
        </p:blipFill>
        <p:spPr>
          <a:xfrm>
            <a:off x="0" y="762120"/>
            <a:ext cx="1257480" cy="1143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4"/>
          <a:stretch/>
        </p:blipFill>
        <p:spPr>
          <a:xfrm>
            <a:off x="0" y="1523880"/>
            <a:ext cx="1257480" cy="1143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5"/>
          <a:stretch/>
        </p:blipFill>
        <p:spPr>
          <a:xfrm>
            <a:off x="0" y="2362320"/>
            <a:ext cx="125748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6"/>
          <a:stretch/>
        </p:blipFill>
        <p:spPr>
          <a:xfrm>
            <a:off x="0" y="3048120"/>
            <a:ext cx="125748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7"/>
          <a:stretch/>
        </p:blipFill>
        <p:spPr>
          <a:xfrm>
            <a:off x="0" y="3886200"/>
            <a:ext cx="125748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8"/>
          <a:stretch/>
        </p:blipFill>
        <p:spPr>
          <a:xfrm>
            <a:off x="0" y="4724280"/>
            <a:ext cx="1257480" cy="1143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76520" y="213372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课文写出了这里的鸟有什么特点？从文中画出有关的句子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50920" y="11592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起初周围是静寂的。后来忽然起了一声鸟叫。我们把手一拍，便看见一只大鸟飞了起来。接着有看见第二只，第三只。我继续拍掌，树上就变得热闹了，到处都是鸟声，到处都是鸟影。大的，小的，花的，黑的，有的站在树枝上叫，有的飞起来，有的在扑翅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76360" y="2565360"/>
            <a:ext cx="5616720" cy="399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828800" y="2971800"/>
            <a:ext cx="6858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1"/>
              </a:rPr>
              <a:t>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2300400"/>
            <a:ext cx="5029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量、种类多（应接不暇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快乐（叫、 飞 、扑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59364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作者第二次去的感受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743200" y="2604600"/>
            <a:ext cx="533520" cy="1524240"/>
            <a:chOff x="2743200" y="2604600"/>
            <a:chExt cx="533520" cy="1524240"/>
          </a:xfrm>
        </p:grpSpPr>
        <p:sp>
          <p:nvSpPr>
            <p:cNvPr id="130" name=""/>
            <p:cNvSpPr/>
            <p:nvPr/>
          </p:nvSpPr>
          <p:spPr>
            <a:xfrm>
              <a:off x="2971800" y="2664360"/>
              <a:ext cx="0" cy="138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971800" y="2604600"/>
              <a:ext cx="304920" cy="5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971800" y="4050000"/>
              <a:ext cx="304920" cy="7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2743200" y="3277800"/>
              <a:ext cx="228600" cy="198000"/>
              <a:chOff x="2743200" y="3277800"/>
              <a:chExt cx="228600" cy="198000"/>
            </a:xfrm>
          </p:grpSpPr>
          <p:sp>
            <p:nvSpPr>
              <p:cNvPr id="134" name=""/>
              <p:cNvSpPr/>
              <p:nvPr/>
            </p:nvSpPr>
            <p:spPr>
              <a:xfrm flipV="1">
                <a:off x="2743200" y="3277800"/>
                <a:ext cx="228600" cy="11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743200" y="3396600"/>
                <a:ext cx="228600" cy="79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6" name=""/>
          <p:cNvSpPr/>
          <p:nvPr/>
        </p:nvSpPr>
        <p:spPr>
          <a:xfrm>
            <a:off x="8610480" y="6248520"/>
            <a:ext cx="533520" cy="533160"/>
          </a:xfrm>
          <a:custGeom>
            <a:avLst/>
            <a:gdLst>
              <a:gd name="textAreaLeft" fmla="*/ 33120 w 533520"/>
              <a:gd name="textAreaRight" fmla="*/ 500400 w 533520"/>
              <a:gd name="textAreaTop" fmla="*/ 33120 h 533160"/>
              <a:gd name="textAreaBottom" fmla="*/ 50004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65" y="1350"/>
                </a:lnTo>
                <a:lnTo>
                  <a:pt x="1350" y="135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65" y="20250"/>
                </a:lnTo>
                <a:lnTo>
                  <a:pt x="20265" y="135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65" y="2025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15" h="21600">
                <a:moveTo>
                  <a:pt x="3764" y="7475"/>
                </a:moveTo>
                <a:lnTo>
                  <a:pt x="7290" y="7475"/>
                </a:lnTo>
                <a:lnTo>
                  <a:pt x="7290" y="12839"/>
                </a:lnTo>
                <a:cubicBezTo>
                  <a:pt x="7290" y="13766"/>
                  <a:pt x="8095" y="14501"/>
                  <a:pt x="9136" y="14501"/>
                </a:cubicBezTo>
                <a:lnTo>
                  <a:pt x="10807" y="14501"/>
                </a:lnTo>
                <a:cubicBezTo>
                  <a:pt x="11849" y="14501"/>
                  <a:pt x="12654" y="13766"/>
                  <a:pt x="12654" y="12839"/>
                </a:cubicBezTo>
                <a:lnTo>
                  <a:pt x="12654" y="7475"/>
                </a:lnTo>
                <a:lnTo>
                  <a:pt x="10807" y="7475"/>
                </a:lnTo>
                <a:lnTo>
                  <a:pt x="14334" y="3949"/>
                </a:lnTo>
                <a:lnTo>
                  <a:pt x="18026" y="7475"/>
                </a:lnTo>
                <a:lnTo>
                  <a:pt x="16180" y="7475"/>
                </a:lnTo>
                <a:lnTo>
                  <a:pt x="16180" y="12839"/>
                </a:lnTo>
                <a:cubicBezTo>
                  <a:pt x="16180" y="15621"/>
                  <a:pt x="13590" y="18194"/>
                  <a:pt x="10807" y="18194"/>
                </a:cubicBezTo>
                <a:lnTo>
                  <a:pt x="9136" y="18194"/>
                </a:lnTo>
                <a:cubicBezTo>
                  <a:pt x="6354" y="18194"/>
                  <a:pt x="3764" y="15621"/>
                  <a:pt x="3764" y="12839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803600" y="1301760"/>
            <a:ext cx="552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昨天是我的眼睛骗了我，那“鸟的天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确是鸟的天堂啊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2781360"/>
            <a:ext cx="68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句话中第一个“鸟的天堂”加了引号是因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；第二个没有加引号是因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（ 把序号填在括号里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大榕树的称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的确是鸟栖息的好地方，是作者由衷的赞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3895560" cy="4221000"/>
          </a:xfrm>
          <a:prstGeom prst="rect">
            <a:avLst/>
          </a:prstGeom>
          <a:ln w="28440">
            <a:solidFill>
              <a:srgbClr val="ff66ff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4211640" y="2750040"/>
            <a:ext cx="47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创作的小说有两大主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探索青年人追求理想和信仰的道路，代表作有《新生》、《爱情的三部曲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《雾》、《雨》、《电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等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揭露封建家庭制度的弊害，以影射社会专制制度的罪恶，代表作有《春天里的秋天》、《激流三部曲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《家》、《春》、《秋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热烈、真诚，文字带有强烈的感情色彩，产生了重大的社会影响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2920" y="5127480"/>
            <a:ext cx="39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巴金，原名李尧棠，字芾甘。四川成都市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祖籍浙江嘉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0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生于成都一个旧式的大家庭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3520" y="1905120"/>
            <a:ext cx="83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二次去“鸟的天堂”看到的景色与第一次为什么不同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14400" y="1828800"/>
            <a:ext cx="67816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第一次：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树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大   茂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第二次：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鸟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多   欢快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14400" y="2362320"/>
            <a:ext cx="1905120" cy="2409840"/>
            <a:chOff x="914400" y="2362320"/>
            <a:chExt cx="1905120" cy="2409840"/>
          </a:xfrm>
        </p:grpSpPr>
        <p:sp>
          <p:nvSpPr>
            <p:cNvPr id="142" name=""/>
            <p:cNvSpPr/>
            <p:nvPr/>
          </p:nvSpPr>
          <p:spPr>
            <a:xfrm>
              <a:off x="914400" y="236232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（傍晚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14400" y="4190760"/>
              <a:ext cx="190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（早晨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785640" y="2209680"/>
            <a:ext cx="2009160" cy="2133720"/>
            <a:chOff x="6785640" y="2209680"/>
            <a:chExt cx="2009160" cy="2133720"/>
          </a:xfrm>
        </p:grpSpPr>
        <p:sp>
          <p:nvSpPr>
            <p:cNvPr id="145" name=""/>
            <p:cNvSpPr/>
            <p:nvPr/>
          </p:nvSpPr>
          <p:spPr>
            <a:xfrm>
              <a:off x="7315200" y="2209680"/>
              <a:ext cx="291960" cy="1752480"/>
            </a:xfrm>
            <a:custGeom>
              <a:avLst/>
              <a:gdLst>
                <a:gd name="textAreaLeft" fmla="*/ 0 w 291960"/>
                <a:gd name="textAreaRight" fmla="*/ 105480 w 29196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85640" y="2209680"/>
              <a:ext cx="200916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0000ff"/>
                  </a:solidFill>
                  <a:latin typeface="Times New Roman"/>
                  <a:ea typeface="华文新魏"/>
                </a:rPr>
                <a:t>赞美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49568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95288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541008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586728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632448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678168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9"/>
          <a:stretch/>
        </p:blipFill>
        <p:spPr>
          <a:xfrm>
            <a:off x="723888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0"/>
          <a:stretch/>
        </p:blipFill>
        <p:spPr>
          <a:xfrm>
            <a:off x="822960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1"/>
          <a:stretch/>
        </p:blipFill>
        <p:spPr>
          <a:xfrm>
            <a:off x="868680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2"/>
          <a:stretch/>
        </p:blipFill>
        <p:spPr>
          <a:xfrm>
            <a:off x="777240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3"/>
          <a:stretch/>
        </p:blipFill>
        <p:spPr>
          <a:xfrm>
            <a:off x="45720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5"/>
          <a:stretch/>
        </p:blipFill>
        <p:spPr>
          <a:xfrm>
            <a:off x="45720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6"/>
          <a:stretch/>
        </p:blipFill>
        <p:spPr>
          <a:xfrm>
            <a:off x="91440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7"/>
          <a:stretch/>
        </p:blipFill>
        <p:spPr>
          <a:xfrm>
            <a:off x="137160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8"/>
          <a:stretch/>
        </p:blipFill>
        <p:spPr>
          <a:xfrm>
            <a:off x="175248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9"/>
          <a:stretch/>
        </p:blipFill>
        <p:spPr>
          <a:xfrm>
            <a:off x="220968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0"/>
          <a:stretch/>
        </p:blipFill>
        <p:spPr>
          <a:xfrm>
            <a:off x="259092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1"/>
          <a:stretch/>
        </p:blipFill>
        <p:spPr>
          <a:xfrm>
            <a:off x="304812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2"/>
          <a:stretch/>
        </p:blipFill>
        <p:spPr>
          <a:xfrm>
            <a:off x="350532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3"/>
          <a:stretch/>
        </p:blipFill>
        <p:spPr>
          <a:xfrm>
            <a:off x="396252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4"/>
          <a:stretch/>
        </p:blipFill>
        <p:spPr>
          <a:xfrm>
            <a:off x="45720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5"/>
          <a:stretch/>
        </p:blipFill>
        <p:spPr>
          <a:xfrm>
            <a:off x="91440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6"/>
          <a:stretch/>
        </p:blipFill>
        <p:spPr>
          <a:xfrm>
            <a:off x="137160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7"/>
          <a:stretch/>
        </p:blipFill>
        <p:spPr>
          <a:xfrm>
            <a:off x="190512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8"/>
          <a:stretch/>
        </p:blipFill>
        <p:spPr>
          <a:xfrm>
            <a:off x="236232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9"/>
          <a:stretch/>
        </p:blipFill>
        <p:spPr>
          <a:xfrm>
            <a:off x="281952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0"/>
          <a:stretch/>
        </p:blipFill>
        <p:spPr>
          <a:xfrm>
            <a:off x="327672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1"/>
          <a:stretch/>
        </p:blipFill>
        <p:spPr>
          <a:xfrm>
            <a:off x="380988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2"/>
          <a:stretch/>
        </p:blipFill>
        <p:spPr>
          <a:xfrm>
            <a:off x="426708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3"/>
          <a:stretch/>
        </p:blipFill>
        <p:spPr>
          <a:xfrm>
            <a:off x="472428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4"/>
          <a:stretch/>
        </p:blipFill>
        <p:spPr>
          <a:xfrm>
            <a:off x="518148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5"/>
          <a:stretch/>
        </p:blipFill>
        <p:spPr>
          <a:xfrm>
            <a:off x="563868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6"/>
          <a:stretch/>
        </p:blipFill>
        <p:spPr>
          <a:xfrm>
            <a:off x="609588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7"/>
          <a:stretch/>
        </p:blipFill>
        <p:spPr>
          <a:xfrm>
            <a:off x="655308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8"/>
          <a:stretch/>
        </p:blipFill>
        <p:spPr>
          <a:xfrm>
            <a:off x="701028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9"/>
          <a:stretch/>
        </p:blipFill>
        <p:spPr>
          <a:xfrm>
            <a:off x="746748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0"/>
          <a:stretch/>
        </p:blipFill>
        <p:spPr>
          <a:xfrm>
            <a:off x="7848720" y="-71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1"/>
          <a:stretch/>
        </p:blipFill>
        <p:spPr>
          <a:xfrm>
            <a:off x="830592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2"/>
          <a:stretch/>
        </p:blipFill>
        <p:spPr>
          <a:xfrm>
            <a:off x="868680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3"/>
          <a:stretch/>
        </p:blipFill>
        <p:spPr>
          <a:xfrm>
            <a:off x="8686800" y="457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4"/>
          <a:stretch/>
        </p:blipFill>
        <p:spPr>
          <a:xfrm>
            <a:off x="8686800" y="838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5"/>
          <a:stretch/>
        </p:blipFill>
        <p:spPr>
          <a:xfrm>
            <a:off x="8686800" y="1295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6"/>
          <a:stretch/>
        </p:blipFill>
        <p:spPr>
          <a:xfrm>
            <a:off x="8686800" y="1752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7"/>
          <a:stretch/>
        </p:blipFill>
        <p:spPr>
          <a:xfrm>
            <a:off x="8686800" y="2209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8"/>
          <a:stretch/>
        </p:blipFill>
        <p:spPr>
          <a:xfrm>
            <a:off x="8686800" y="2590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9"/>
          <a:stretch/>
        </p:blipFill>
        <p:spPr>
          <a:xfrm>
            <a:off x="8686800" y="3048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0"/>
          <a:stretch/>
        </p:blipFill>
        <p:spPr>
          <a:xfrm>
            <a:off x="8686800" y="3505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1"/>
          <a:stretch/>
        </p:blipFill>
        <p:spPr>
          <a:xfrm>
            <a:off x="8686800" y="3962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2"/>
          <a:stretch/>
        </p:blipFill>
        <p:spPr>
          <a:xfrm>
            <a:off x="8686800" y="4419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3"/>
          <a:stretch/>
        </p:blipFill>
        <p:spPr>
          <a:xfrm>
            <a:off x="8686800" y="4876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4"/>
          <a:stretch/>
        </p:blipFill>
        <p:spPr>
          <a:xfrm>
            <a:off x="8686800" y="5334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5"/>
          <a:stretch/>
        </p:blipFill>
        <p:spPr>
          <a:xfrm>
            <a:off x="8686800" y="5867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6"/>
          <a:stretch/>
        </p:blipFill>
        <p:spPr>
          <a:xfrm>
            <a:off x="0" y="457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7"/>
          <a:stretch/>
        </p:blipFill>
        <p:spPr>
          <a:xfrm>
            <a:off x="868680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8"/>
          <a:stretch/>
        </p:blipFill>
        <p:spPr>
          <a:xfrm>
            <a:off x="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9"/>
          <a:stretch/>
        </p:blipFill>
        <p:spPr>
          <a:xfrm>
            <a:off x="0" y="457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60"/>
          <a:stretch/>
        </p:blipFill>
        <p:spPr>
          <a:xfrm>
            <a:off x="0" y="914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1"/>
          <a:stretch/>
        </p:blipFill>
        <p:spPr>
          <a:xfrm>
            <a:off x="0" y="1371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2"/>
          <a:stretch/>
        </p:blipFill>
        <p:spPr>
          <a:xfrm>
            <a:off x="0" y="1752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3"/>
          <a:stretch/>
        </p:blipFill>
        <p:spPr>
          <a:xfrm>
            <a:off x="0" y="2209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4"/>
          <a:stretch/>
        </p:blipFill>
        <p:spPr>
          <a:xfrm>
            <a:off x="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65"/>
          <a:stretch/>
        </p:blipFill>
        <p:spPr>
          <a:xfrm>
            <a:off x="0" y="3124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66"/>
          <a:stretch/>
        </p:blipFill>
        <p:spPr>
          <a:xfrm>
            <a:off x="0" y="3505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7"/>
          <a:stretch/>
        </p:blipFill>
        <p:spPr>
          <a:xfrm>
            <a:off x="0" y="3962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68"/>
          <a:stretch/>
        </p:blipFill>
        <p:spPr>
          <a:xfrm>
            <a:off x="0" y="4419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9"/>
          <a:stretch/>
        </p:blipFill>
        <p:spPr>
          <a:xfrm>
            <a:off x="0" y="4876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70"/>
          <a:stretch/>
        </p:blipFill>
        <p:spPr>
          <a:xfrm>
            <a:off x="0" y="5410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71"/>
          <a:stretch/>
        </p:blipFill>
        <p:spPr>
          <a:xfrm>
            <a:off x="0" y="58672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28600" y="2819520"/>
            <a:ext cx="21337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鸟的天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259092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2362320"/>
            <a:ext cx="914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14600" y="3244680"/>
            <a:ext cx="914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23623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  茂盛  奇特美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2680" y="32767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多  欢快  壮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238880" y="2590920"/>
            <a:ext cx="152640" cy="1218960"/>
          </a:xfrm>
          <a:custGeom>
            <a:avLst/>
            <a:gdLst>
              <a:gd name="textAreaLeft" fmla="*/ 0 w 152640"/>
              <a:gd name="textAreaRight" fmla="*/ 55080 w 15264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543800" y="2819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赞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600200" y="304920"/>
            <a:ext cx="1905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2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讨论</a:t>
            </a:r>
            <a:endParaRPr b="0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3733920"/>
            <a:ext cx="6629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24382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什么原因使这棵榕树成为“鸟的天堂”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33520" y="2895480"/>
            <a:ext cx="8515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鸟的天堂”是说那株大榕树是鸟儿们生活的乐园。四次加引号的“鸟的天堂”是作者引用别人的话，表示一种特定的称谓，是对大榕树的一种夸张的形容；没加引号的“鸟的天堂”，是因为作者亲眼见到大榕树后，感到鸟儿们的生活真像在天堂一样，在作者心里，大榕树是确确实实的鸟的天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7632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讨论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610480" y="6248520"/>
            <a:ext cx="533520" cy="533160"/>
          </a:xfrm>
          <a:custGeom>
            <a:avLst/>
            <a:gdLst>
              <a:gd name="textAreaLeft" fmla="*/ 33120 w 533520"/>
              <a:gd name="textAreaRight" fmla="*/ 500400 w 533520"/>
              <a:gd name="textAreaTop" fmla="*/ 33120 h 533160"/>
              <a:gd name="textAreaBottom" fmla="*/ 50004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65" y="1350"/>
                </a:lnTo>
                <a:lnTo>
                  <a:pt x="1350" y="135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65" y="20250"/>
                </a:lnTo>
                <a:lnTo>
                  <a:pt x="20265" y="135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65" y="2025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15" h="21600">
                <a:moveTo>
                  <a:pt x="3764" y="7475"/>
                </a:moveTo>
                <a:lnTo>
                  <a:pt x="7290" y="7475"/>
                </a:lnTo>
                <a:lnTo>
                  <a:pt x="7290" y="12839"/>
                </a:lnTo>
                <a:cubicBezTo>
                  <a:pt x="7290" y="13766"/>
                  <a:pt x="8095" y="14501"/>
                  <a:pt x="9136" y="14501"/>
                </a:cubicBezTo>
                <a:lnTo>
                  <a:pt x="10807" y="14501"/>
                </a:lnTo>
                <a:cubicBezTo>
                  <a:pt x="11849" y="14501"/>
                  <a:pt x="12654" y="13766"/>
                  <a:pt x="12654" y="12839"/>
                </a:cubicBezTo>
                <a:lnTo>
                  <a:pt x="12654" y="7475"/>
                </a:lnTo>
                <a:lnTo>
                  <a:pt x="10807" y="7475"/>
                </a:lnTo>
                <a:lnTo>
                  <a:pt x="14334" y="3949"/>
                </a:lnTo>
                <a:lnTo>
                  <a:pt x="18026" y="7475"/>
                </a:lnTo>
                <a:lnTo>
                  <a:pt x="16180" y="7475"/>
                </a:lnTo>
                <a:lnTo>
                  <a:pt x="16180" y="12839"/>
                </a:lnTo>
                <a:cubicBezTo>
                  <a:pt x="16180" y="15621"/>
                  <a:pt x="13590" y="18194"/>
                  <a:pt x="10807" y="18194"/>
                </a:cubicBezTo>
                <a:lnTo>
                  <a:pt x="9136" y="18194"/>
                </a:lnTo>
                <a:cubicBezTo>
                  <a:pt x="6354" y="18194"/>
                  <a:pt x="3764" y="15621"/>
                  <a:pt x="3764" y="12839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91440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鸟的天堂”是什么意思？为什么课文里几次提到了鸟的天堂，有的加了引号，有的没有加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609480"/>
            <a:ext cx="754380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鸟的天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田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Times New Roman"/>
              </a:rPr>
              <a:t>　  </a:t>
            </a:r>
            <a:r>
              <a:rPr b="1" lang="zh-CN" sz="32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三百年来榕一章，浓荫十亩鸟千双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　 并肩只许木棉树，立脚长依天马江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　 新枝还比旧枝壮，白鹤能眠灰鹤床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　 历难经灾从不犯，人间毕竟有天堂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　</a:t>
            </a:r>
            <a:r>
              <a:rPr b="1" lang="zh-CN" sz="2400" spc="-1" strike="noStrike">
                <a:solidFill>
                  <a:srgbClr val="ff6633"/>
                </a:solidFill>
                <a:latin typeface="Times New Roman"/>
                <a:ea typeface="楷体_GB2312"/>
              </a:rPr>
              <a:t>这首诗，是著名剧作家田汉同志</a:t>
            </a:r>
            <a:r>
              <a:rPr b="1" lang="en-US" sz="2400" spc="-1" strike="noStrike">
                <a:solidFill>
                  <a:srgbClr val="ff6633"/>
                </a:solidFill>
                <a:latin typeface="Times New Roman"/>
                <a:ea typeface="楷体_GB2312"/>
              </a:rPr>
              <a:t>1962</a:t>
            </a:r>
            <a:r>
              <a:rPr b="1" lang="zh-CN" sz="2400" spc="-1" strike="noStrike">
                <a:solidFill>
                  <a:srgbClr val="ff6633"/>
                </a:solidFill>
                <a:latin typeface="Times New Roman"/>
                <a:ea typeface="楷体_GB2312"/>
              </a:rPr>
              <a:t>年到新会，游览小鸟天堂时即兴而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GY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09680" y="838080"/>
            <a:ext cx="4724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巢  梢  暇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828800" y="3124080"/>
            <a:ext cx="5486400" cy="2134800"/>
            <a:chOff x="1828800" y="3124080"/>
            <a:chExt cx="5486400" cy="2134800"/>
          </a:xfrm>
        </p:grpSpPr>
        <p:sp>
          <p:nvSpPr>
            <p:cNvPr id="235" name=""/>
            <p:cNvSpPr/>
            <p:nvPr/>
          </p:nvSpPr>
          <p:spPr>
            <a:xfrm>
              <a:off x="1828800" y="31240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幼圆"/>
                </a:rPr>
                <a:t>波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浪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05320" y="3124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缝</a:t>
              </a: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幼圆"/>
                </a:rPr>
                <a:t>隙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81480" y="312408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一</a:t>
              </a: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幼圆"/>
                </a:rPr>
                <a:t>簇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簇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28800" y="46162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幼圆"/>
                </a:rPr>
                <a:t>乐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05320" y="46162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幼圆"/>
                </a:rPr>
                <a:t>兴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奋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81480" y="461628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幼圆"/>
                </a:rPr>
                <a:t>应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接不暇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752480" y="2362320"/>
            <a:ext cx="838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zypyyb"/>
                <a:ea typeface="zypyyb"/>
              </a:rPr>
              <a:t>b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23623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zypyyb"/>
                <a:ea typeface="zypyyb"/>
              </a:rPr>
              <a:t>x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2362320"/>
            <a:ext cx="145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zypyyb"/>
                <a:ea typeface="zypyyb"/>
              </a:rPr>
              <a:t>c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886200"/>
            <a:ext cx="114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zypyyb"/>
                <a:ea typeface="zypyyb"/>
              </a:rPr>
              <a:t>yu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00400" y="390060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zypyyb"/>
                <a:ea typeface="zypyyb"/>
              </a:rPr>
              <a:t>xī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76920" y="388620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zypyyb"/>
                <a:ea typeface="zypyyb"/>
              </a:rPr>
              <a:t>yì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96080" y="6019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cc99"/>
                </a:solidFill>
                <a:latin typeface="楷体_GB2312"/>
                <a:ea typeface="楷体_GB2312"/>
              </a:rPr>
              <a:t>读一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312372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 茫 茫  船 桨  规 律  榕 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缝 隙  照 耀  抛 球  应 接 不 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2514600"/>
            <a:ext cx="9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má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43000" y="1677960"/>
            <a:ext cx="6781680" cy="74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58200" y="6095880"/>
            <a:ext cx="533520" cy="533520"/>
          </a:xfrm>
          <a:custGeom>
            <a:avLst/>
            <a:gdLst>
              <a:gd name="textAreaLeft" fmla="*/ 33120 w 533520"/>
              <a:gd name="textAreaRight" fmla="*/ 500400 w 53352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7475"/>
                </a:moveTo>
                <a:lnTo>
                  <a:pt x="7283" y="7475"/>
                </a:lnTo>
                <a:lnTo>
                  <a:pt x="7283" y="12839"/>
                </a:lnTo>
                <a:cubicBezTo>
                  <a:pt x="7283" y="13766"/>
                  <a:pt x="8088" y="14501"/>
                  <a:pt x="9129" y="14501"/>
                </a:cubicBezTo>
                <a:lnTo>
                  <a:pt x="10800" y="14501"/>
                </a:lnTo>
                <a:cubicBezTo>
                  <a:pt x="11841" y="14501"/>
                  <a:pt x="12646" y="13766"/>
                  <a:pt x="12646" y="12839"/>
                </a:cubicBezTo>
                <a:lnTo>
                  <a:pt x="12646" y="7475"/>
                </a:lnTo>
                <a:lnTo>
                  <a:pt x="10800" y="7475"/>
                </a:lnTo>
                <a:lnTo>
                  <a:pt x="14326" y="3949"/>
                </a:lnTo>
                <a:lnTo>
                  <a:pt x="18019" y="7475"/>
                </a:lnTo>
                <a:lnTo>
                  <a:pt x="16173" y="7475"/>
                </a:lnTo>
                <a:lnTo>
                  <a:pt x="16173" y="12839"/>
                </a:lnTo>
                <a:cubicBezTo>
                  <a:pt x="16173" y="15621"/>
                  <a:pt x="13583" y="18194"/>
                  <a:pt x="10800" y="18194"/>
                </a:cubicBezTo>
                <a:lnTo>
                  <a:pt x="9129" y="18194"/>
                </a:lnTo>
                <a:cubicBezTo>
                  <a:pt x="6346" y="18194"/>
                  <a:pt x="3756" y="15621"/>
                  <a:pt x="3756" y="12839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72240" y="2514600"/>
            <a:ext cx="61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l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24720" y="4076640"/>
            <a:ext cx="7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xi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43160" y="4102200"/>
            <a:ext cx="78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yà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038480" y="4114800"/>
            <a:ext cx="83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pā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19680" y="2514600"/>
            <a:ext cx="11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jiǎ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2514600"/>
            <a:ext cx="9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ró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00200" y="4191120"/>
            <a:ext cx="61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x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24360" y="4292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ì</a:t>
            </a:r>
            <a:r>
              <a:rPr b="1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4114800" cy="40608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952880" y="685800"/>
            <a:ext cx="3886200" cy="40384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838080" y="53341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牛背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525780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533412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白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85345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GY.WAV"/>
      </p:stSnd>
    </p:sndAc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7" dur="1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730872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段落结构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7524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段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傍晚，“我”和朋友们划船出去游玩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28638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段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我”和朋友们第一次经过“鸟的天堂”时看到的情景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40384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段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天早晨，“我”和朋友们再次经过“鸟的天堂”时看到的情景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51498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段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对“鸟的天堂”的赞美和留恋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680580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7029360" cy="46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51120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547640" y="836640"/>
            <a:ext cx="5329440" cy="43974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238880" y="61722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514600" y="304920"/>
            <a:ext cx="25909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边读边思考</a:t>
            </a:r>
            <a:endParaRPr b="0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236232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作者几次经过鸟的天堂？看到的景象有什么不同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7400" y="4419720"/>
            <a:ext cx="67057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第一次    大榕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第二次    许多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143000" y="533520"/>
            <a:ext cx="220968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8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边想边找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6" name=""/>
          <p:cNvSpPr/>
          <p:nvPr/>
        </p:nvSpPr>
        <p:spPr>
          <a:xfrm>
            <a:off x="1258920" y="227664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ff00"/>
                </a:solidFill>
                <a:latin typeface="Times New Roman"/>
                <a:ea typeface="黑体"/>
              </a:rPr>
              <a:t>课文写出了榕树的什么特点？画出描写榕树特点的句子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66680" y="3581280"/>
            <a:ext cx="693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52360" y="117360"/>
            <a:ext cx="8352000" cy="6193080"/>
            <a:chOff x="252360" y="117360"/>
            <a:chExt cx="8352000" cy="619308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252360" y="117360"/>
              <a:ext cx="8352000" cy="619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157040" y="805320"/>
              <a:ext cx="661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我有机会看清它的真面目，真是一株大树，枝干的数目不可计数。枝上又生根，有许多根直垂到地上，伸进泥土里。一部分树枝垂到水面，从远处看，就像一株大树卧在水面</a:t>
              </a: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上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017720" y="3007440"/>
              <a:ext cx="668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00"/>
                  </a:solidFill>
                  <a:latin typeface="黑体"/>
                  <a:ea typeface="黑体"/>
                </a:rPr>
                <a:t>    </a:t>
              </a:r>
              <a:r>
                <a:rPr b="0" lang="zh-CN" sz="2800" spc="-1" strike="noStrike">
                  <a:solidFill>
                    <a:srgbClr val="008000"/>
                  </a:solidFill>
                  <a:latin typeface="黑体"/>
                  <a:ea typeface="黑体"/>
                </a:rPr>
                <a:t>那么多的绿叶，一簇堆在另一簇上面，不留一点缝隙。那翠绿的颜色，明亮地照耀着我们的眼睛，似乎每一片绿叶上都有一个新的生命在颤动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6877080" y="5373720"/>
            <a:ext cx="1371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51055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Times New Roman"/>
                <a:ea typeface="黑体"/>
              </a:rPr>
              <a:t>这美丽的南国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18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簇簇树叶伸到水面上。树叶真绿得可爱。那是许多株茂盛的榕树，看不出主干在什么地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4013" t="1928" r="0" b="19957"/>
          <a:stretch/>
        </p:blipFill>
        <p:spPr>
          <a:xfrm>
            <a:off x="514440" y="1874880"/>
            <a:ext cx="8397720" cy="412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8000" y="11592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机会看清它的真面目，真是</a:t>
            </a:r>
            <a:r>
              <a:rPr b="0" lang="zh-CN" sz="3200" spc="-1" strike="noStrike">
                <a:solidFill>
                  <a:srgbClr val="990033"/>
                </a:solidFill>
                <a:latin typeface="Arial"/>
              </a:rPr>
              <a:t>一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树，</a:t>
            </a:r>
            <a:r>
              <a:rPr b="0" lang="zh-CN" sz="3200" spc="-1" strike="noStrike">
                <a:solidFill>
                  <a:srgbClr val="990033"/>
                </a:solidFill>
                <a:latin typeface="Arial"/>
              </a:rPr>
              <a:t>枝干的数目不可计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枝上又生根，有许多根直垂到地上，伸进泥土里。一部分树枝垂到水面，从远处看，就像一株大树卧在水面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259" b="12768"/>
          <a:stretch/>
        </p:blipFill>
        <p:spPr>
          <a:xfrm>
            <a:off x="900000" y="2276640"/>
            <a:ext cx="7412040" cy="3966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38080" y="167652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       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一株”</a:t>
            </a:r>
            <a:r>
              <a:rPr b="0" lang="zh-CN" sz="40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对大家关于榕树的争论给出了答案，说榕树只有“一株”，而不是“我”说的“许多株”，也不是“另一个朋友”说的“两株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610480" y="6248520"/>
            <a:ext cx="533520" cy="533160"/>
          </a:xfrm>
          <a:custGeom>
            <a:avLst/>
            <a:gdLst>
              <a:gd name="textAreaLeft" fmla="*/ 33120 w 533520"/>
              <a:gd name="textAreaRight" fmla="*/ 500400 w 533520"/>
              <a:gd name="textAreaTop" fmla="*/ 33120 h 533160"/>
              <a:gd name="textAreaBottom" fmla="*/ 50004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65" y="1350"/>
                </a:lnTo>
                <a:lnTo>
                  <a:pt x="1350" y="135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65" y="20250"/>
                </a:lnTo>
                <a:lnTo>
                  <a:pt x="20265" y="135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65" y="2025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15" h="21600">
                <a:moveTo>
                  <a:pt x="3764" y="7475"/>
                </a:moveTo>
                <a:lnTo>
                  <a:pt x="7290" y="7475"/>
                </a:lnTo>
                <a:lnTo>
                  <a:pt x="7290" y="12839"/>
                </a:lnTo>
                <a:cubicBezTo>
                  <a:pt x="7290" y="13766"/>
                  <a:pt x="8095" y="14501"/>
                  <a:pt x="9136" y="14501"/>
                </a:cubicBezTo>
                <a:lnTo>
                  <a:pt x="10807" y="14501"/>
                </a:lnTo>
                <a:cubicBezTo>
                  <a:pt x="11849" y="14501"/>
                  <a:pt x="12654" y="13766"/>
                  <a:pt x="12654" y="12839"/>
                </a:cubicBezTo>
                <a:lnTo>
                  <a:pt x="12654" y="7475"/>
                </a:lnTo>
                <a:lnTo>
                  <a:pt x="10807" y="7475"/>
                </a:lnTo>
                <a:lnTo>
                  <a:pt x="14334" y="3949"/>
                </a:lnTo>
                <a:lnTo>
                  <a:pt x="18026" y="7475"/>
                </a:lnTo>
                <a:lnTo>
                  <a:pt x="16180" y="7475"/>
                </a:lnTo>
                <a:lnTo>
                  <a:pt x="16180" y="12839"/>
                </a:lnTo>
                <a:cubicBezTo>
                  <a:pt x="16180" y="15621"/>
                  <a:pt x="13590" y="18194"/>
                  <a:pt x="10807" y="18194"/>
                </a:cubicBezTo>
                <a:lnTo>
                  <a:pt x="9136" y="18194"/>
                </a:lnTo>
                <a:cubicBezTo>
                  <a:pt x="6354" y="18194"/>
                  <a:pt x="3764" y="15621"/>
                  <a:pt x="3764" y="12839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8:40Z</dcterms:created>
  <dc:creator>Administrator</dc:creator>
  <dc:description/>
  <dc:language>en-US</dc:language>
  <cp:lastModifiedBy/>
  <dcterms:modified xsi:type="dcterms:W3CDTF">2015-08-20T02:58:01Z</dcterms:modified>
  <cp:revision>7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