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331-CFEC-48A8-BB92-71726DEC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D98-A057-430F-B56A-8D6D6D64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209B-F35B-4BEF-A3B1-21FCBF03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179-76CE-4B4B-8B3A-FAF143B5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BB2C-6B6D-4BCD-8ED3-153EFE52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6FB-58FA-4A2D-84D9-B8965ECA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3B5-3220-4D89-A52F-0A8D72D4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AE9C-9645-4B80-A877-572E849C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FDAD-90A2-417F-983A-E295FC57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EAD-BAD9-401E-A094-2A759D26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273-BFD7-4067-9711-460BF527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7A94-DA51-46AA-8A01-6F75AC3B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669B-53CB-47A6-A9FD-9D481BF33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1197000"/>
            <a:ext cx="4895640" cy="34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观潮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360" y="189000"/>
            <a:ext cx="5183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声音大得像雷霆万钧，震撼天地，激扬喷射，冲荡太阳，来势极其雄伟豪壮。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杨万里的诗中说的“海涌银为郭，江横玉系腰”描写的就是指这样的景象啊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声如雷霆，震撼激射，吞天沃日，势极雄豪。杨诚斋诗云“海涌银为郭，江横玉系腰”者是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549360"/>
            <a:ext cx="403236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岁京尹出浙江亭教阅水军，艨艟数百，分列两岸；既而尽奔腾分合五阵之势，并有乘骑弄旗标枪舞刀于水面者，如履平地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427280" y="691920"/>
            <a:ext cx="43196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每年（农历八月），京都临安府长官来到浙江亭校阅水军，数百条战船分列两岸；然后演习五阵的阵势，忽而疾驶，忽而腾起，忽而分，忽而合，极尽种种变化，同时有在水面上骑马、舞旗、举枪、挥刀的人，好像踩在平地上一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836640"/>
            <a:ext cx="36003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倏尔黄烟四起，人物略不相睹，水爆轰震，声如崩山。烟消波静，则一舸无迹，仅有“敌船”为火所焚，随波而逝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40360" y="549360"/>
            <a:ext cx="44640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忽然黄烟四起，人和物彼此一点儿也看不见了，（只听得）传来水爆的轰鸣声，声音如同山塌了一样。（待到）烟雾消散，水面又恢复了平静，看不到一条船的踪迹，只剩下被火烧毁的“敌船”，随着波浪流走了。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360972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吴儿善泅者数百，皆披发文身，手持十幅大彩旗，争先鼓勇，溯迎而上，出没于鲸波万仞中，腾身百变，而旗尾略不沾湿，以此夸能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4720" y="260280"/>
            <a:ext cx="4114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几百个善于泅水的吴中健儿，披散着头发，浑身画着文彩，手里拿着十幅大彩旗，争相奋力逆流迎潮而上，（他们的身影）在万仞高的惊涛骇浪中浮沉，翻腾着身子变换着各种姿态，而旗尾却一点也不被水沾湿，凭借这种（表演）来显示他们（高超）的技能。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38988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在江岸南北上下十余里之间，满眼都是穿戴着华丽的首饰与衣裳的观众，车马太多，路途为之阻塞。所贩卖的饮食物品，比平时的价格加倍的高。而租用看棚的人（非常多），中间即使容纳一席之地的空间也不容有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55640" y="333360"/>
            <a:ext cx="42483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江干上下十余里间，珠翠罗绮溢目，车马塞途，饮食百物皆倍穹常时，而僦赁看幕，虽席地不容间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．课文共四段，请概括每段的段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468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明确：第一段写海潮的雄伟壮观。第二段写水军演习的动人情景。第三段写弄潮健儿的英姿。第四段写观潮人众之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讨论以下问题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第一段是怎样写海潮的雄伟壮观的景象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确：先用一句“浙江之潮，天下之观也”总起全文，点示题旨，接着交待海潮最盛的时间。然后对潮水作正面描绘，最后用杨诚斋的诗句对上文作形象概括，呼应首句，又为下文作铺垫。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作者是从哪几个方面对潮来之状进行描写的？写出了江潮怎样的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确：作者从形、色、声、势四个方面，由远及近地写出潮，刻画了海潮的雄奇壮观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运用比喻、夸张的手法，仅用简单的“如银线”“玉城雪岭”“如雷霆”“吞天沃日”几句，把在远方，渐近奔涌到眼前时海潮的形状、颜色、声势都生动地表现了出来。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水军演习的场面写得扣人心弦，其精彩之处表现在哪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确：参加演习的船只众多，演习中阵势变化多样，水兵作战技艺娴熟，演习中战斗激烈，声势浩大，演习结束后撤退迅速。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简介南宋观潮盛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杭州在南宋时称临安，是国都。观潮地当时在临安城南（今由于江水改道已移至浙江海宁），每年八月十八日举行观潮盛典。迎潮前有水军演习，潮到时又有吴地少年弄潮争标的表演。当日从宫廷到民间争相观看，万人空巷，十分狂热。本文描写的水军演习、弄潮表演以及观潮情景，既衬托了钱江涌潮的奇伟壮丽，又共同组成了南宋都城生活的风俗画，表现了人与自然搏斗的勇敢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场复杂的演习活动，而结在“烟消彼静”的静景上，这是采用了什么写法？采用这种写法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2781000"/>
            <a:ext cx="8229600" cy="1152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确：这是一种动静相衬的写法，为下文别开生面的另一场水上表演作了铺垫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第三段中哪些句子描写了壮士形象？哪些语句突出了勇士逆潮游泳的高超本领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331720"/>
            <a:ext cx="8229600" cy="21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确：“披发文身”、“手持大旗”、“争先鼓勇”，写出了壮士形象；“溯迎而上”“腾身百变，而旗尾略不沾湿”，更突出了勇士的绝技。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第四段写观潮人众之多与上文写江潮和水上表演有何联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23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确：观潮人群如此密集，说明江潮和水上表演是多么吸引人心，所以写观潮之盛，是为了从侧面映衬江潮之盛和水上表演之精彩。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总结全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浙江潮雄伟壮观，水上表演头绪纷繁、场面众多，观潮者人群如潮，但在文中，作者却写得井然有序，主次分明。这一方面是由于作者构思精巧，以海潮为线索，写景记事相融合，正面描写与侧面烘托相结合。另一方面也是由于作者借墨如金，用语十分简练的结果。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260360" y="-360"/>
            <a:ext cx="461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译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8713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钱塘江潮，是天下雄伟的景象啊。从农历（八月）十六日到十八日为最盛。当潮水从浙江入海口涌起的时候，（远远看去），几乎像一条银白色的线；随着潮水越来越近，就像玉城雪岭一般的潮水连天涌来，声音大得像雷霆万钧，震撼天地，激扬喷射，冲荡太阳，来势极其雄伟豪壮。杨万里的诗中说的“海涌银为郭，江横玉系腰”描写的就是指这样的景象啊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每年（农历八月），京都临安府长官来到浙江亭校阅水军，数百条战船分列两岸；然后演习五阵的阵势，忽而疾驶，忽而腾起，忽而分，忽而合，极尽种种变化，同时有在水面上骑马、舞旗、举枪、挥刀的人，好像踩在平地上一样。忽然黄烟四起，人和物彼此一点儿也看不见了，（只听得）传来水爆的轰鸣声，声音如同山塌了一样。（待到）烟雾消散，水面又恢复了平静，看不到一条船的踪迹，只剩下被火烧毁的“敌船”，随着波浪流走了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几百个善于泅水的吴中健儿，披散着头发，浑身（正在，名作动）画着文采，手里拿着十幅大彩旗，争相奋力逆流迎潮而上，（他们的身影）在万仞高的惊涛骇浪中浮沉，翻腾着身子变换着各种姿态，而旗尾却一点也不被水沾湿，凭借这种（表演）来显示他们（高超）的技能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在江岸南北上下十余里之间，满眼都是穿戴着华丽的首饰与衣裳的观众，车马太多，路途为之阻塞。所贩卖的饮食物品，比平时的价格加倍的高。而租用看棚的人（非常多），中间即使容纳一席之地的空间也不容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作者简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3052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作者周密，字公谨，号草窗。原籍济南，后迁吴兴（今属浙江）。南宋文学家。宋末曾做过义乌县官等职，宋灭之后不再做官。他的诗文都有成就，又能书画。《观潮》选自《武林旧事》，是他进入元朝后所写。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美文要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读准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读通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读出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潮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浙江之潮，天下之伟观也。自既望以至十八日为盛。方其远出海门，仅如银线；既而渐近，则玉城雪岭际天而来，大声如雷霆，震撼激射，吞天沃日， 势极雄豪。杨诚斋诗云“海涌银为郭，江横玉系腰”者是 也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每岁京尹出浙江亭教阅水军，艨艟数百，分列两 岸；既而尽奔腾分合五阵之势，并有乘骑弄旗标枪舞刀于水面者，如履平地。倏尔黄烟四起，人物略不相睹，水爆轰震，声如崩山。烟消波静，则一舸无迹，仅有“敌船”为火所焚，随波而逝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吴儿善泅者数百，皆披发文身，手持十幅大彩旗，争先鼓勇，溯迎而上，出没于鲸波万仞中，腾身 百变，而旗尾略不沾湿，以此夸能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江干上下十余里间，珠翠罗绮溢目，车马塞 途，饮食百物皆倍穹常时，而僦赁看幕，虽席地不容闲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潮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浙江之潮，天下之伟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。自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既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十八日为盛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海门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银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既而渐近，则玉城雪岭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际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来，大声如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霆，震撼激射，吞天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 势极雄豪。杨诚斋诗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海涌银为郭，江横玉系腰”者是也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3000" y="1341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景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02360" y="1341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农历十六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16400" y="249228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当……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65440" y="24922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发、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7640" y="24876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几乎，将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1200" y="3429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连接着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80840" y="4437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用水淋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000" y="0"/>
            <a:ext cx="8675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京尹出浙江亭教阅水军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艨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，分列两 岸；既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奔腾分合五阵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势，并有乘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骑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旗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枪舞刀于水面者，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地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倏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黄烟四起，人物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略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睹，水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轰震，声如崩山。烟消波静，则一舸无迹，仅有“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船”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火所焚，随波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58520" y="78408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96400" y="784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战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07320" y="1863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穷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9480" y="2871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91480" y="27939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舞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78720" y="28670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47440" y="28670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484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突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84600" y="38084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点也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94200" y="58244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80400" y="5896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6868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吴儿善泅者数百，皆披发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身，手持十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彩旗，争先鼓勇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溯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上，出没于鲸波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仞中，腾身 百变，而旗高尾略不沾湿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夸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江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下十余里间，珠翠罗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，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马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途，饮食百物皆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时，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僦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席地不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96040" y="5680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空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95680" y="56088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即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04440" y="9288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画着文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75400" y="19368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逆流迎着潮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48400" y="3664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岸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52080" y="3664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满，充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56040" y="46004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阻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59840" y="46674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租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20200" y="28670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凭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45480" y="46004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5280" y="549360"/>
            <a:ext cx="5183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钱塘江潮，是天下雄伟的景象啊。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从农历（八月）十六日到十八日为最盛。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当潮水从浙江入海口涌起的时候，（远远看去），几乎像一条银白色的线；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随着潮水越来越近，就像玉城雪岭一般的潮水连天涌来，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浙江之潮，天下之伟观也。自既望以至十八日为盛。方其远出海门，仅如银线；既而渐近，则玉城雪岭际天而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02:08:28Z</dcterms:created>
  <dc:creator>Administrator</dc:creator>
  <dc:description/>
  <dc:language>en-US</dc:language>
  <cp:lastModifiedBy/>
  <dcterms:modified xsi:type="dcterms:W3CDTF">2015-08-19T03:36:00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