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296-698C-45CA-B98A-BB41DF4F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5FA-6EE4-4EDC-AE3C-658BDBD6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237-60AA-4566-BE29-BC609E25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50E-04A4-46C0-8A70-B4740896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600-EADC-4F80-95B6-35C29367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7CC-2241-4171-BA96-17600E0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C0C-0D47-4680-84E8-D46AB15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851-27C8-42BB-85EE-9CA32BE3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966-7AE8-4229-8665-435E98AD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105-5E28-489E-91C3-B489239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BFC-72D2-473D-86F6-5CA48D8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E8A-423F-4B7B-AC6B-7ECB66C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8832-04F5-46DE-A1E9-B2A2BF01B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126120"/>
            <a:ext cx="15238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0" y="2286000"/>
            <a:ext cx="4191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海底世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6858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鄂教版 三年级 语文 下册 第三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底是否没有一点儿声音呢？不是的。海底的动物常常地窃窃私语。你用水中听音器一听，就能听见各种声音：有的像蜜蜂一样嗡嗡，有的像小鸟一样啾啾，有的像小狗一样汪汪，有的还好像在打鼾……它们吃东西的时候发出一种声音，行进的时候发出另一种声音，遇到危险还会发出警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底是否没有一点儿声音呢？不是的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海底的动物常常地窃窃私语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用水中听音器一听，就能听见各种声音：有的像蜜蜂一样嗡嗡，有的像小鸟一样啾啾，有的像小狗一样汪汪，有的还好像在打鼾……它们吃东西的时候发出一种声音，行进的时候发出另一种声音，遇到危险还会发出警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46784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里的动物，已经知道的大约有三万种。它们各有各的活动方法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海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靠肌肉伸缩爬行，每小时只能前进四米。有一种鱼身体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梭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每小时能游几十公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攻击其他动物的时候，比普通的火车还快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乌贼和章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突然向前方喷水，利用水的反推力迅速后退。还有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贝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不动，能扒在轮船底下做免费的长途旅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1600200"/>
            <a:ext cx="4800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7772400" y="5638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21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590920"/>
            <a:ext cx="58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参靠肌肉伸缩爬行，每小时只能前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有一种鱼身体像梭子，每小时能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几十公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57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参靠肌肉伸缩爬行，爬得很慢。有一种鱼身体像梭子，游得很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6705720" y="4876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8229600" y="579132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13881"/>
                </a:moveTo>
                <a:lnTo>
                  <a:pt x="17806" y="6874"/>
                </a:lnTo>
                <a:lnTo>
                  <a:pt x="17806" y="208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你可知道，大海深处是怎样的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海底真是个景色奇异、物产丰富的世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海面上波涛澎湃的时候，海底依然很宁静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10824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最大的风浪，也只能影响到海面以下几十米深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600200"/>
            <a:ext cx="2819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Arial"/>
              </a:rPr>
              <a:t>阳光射不到海底，水越深光线越暗，五百米以下就全黑了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27672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Arial"/>
              </a:rPr>
              <a:t>在这一片黑暗的深海里，却有许多光点像闪烁的星星，那是有发光器官的深水鱼在游动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58672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海底是否没有一点儿声音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2438280" cy="1557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36760" y="39085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不是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121932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你用水中听音器一听，就能听见各种声音：   有的像蜜蜂一样嗡嗡，有的像小鸟一样啾啾，有的像小狗一样汪汪，有的还好像在打鼾…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990720"/>
            <a:ext cx="7162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你用水中听音器一听，          就能听见各种声音：               有的像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，              有的像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，               有的像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________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，           有的还好像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____________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106668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海底的动物常常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窃窃私语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。你用水中听音器一听，就能听见各种声音：有的像蜜蜂一样嗡嗡，有的像小鸟一样啾啾，有的像小狗一样汪汪，有的还好像在打鼾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609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吃东西的时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        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进的时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                   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遇到危险还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   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295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出一种声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819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出另一种声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出警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微软用户</cp:lastModifiedBy>
  <dcterms:modified xsi:type="dcterms:W3CDTF">2012-03-07T23:13:21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