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chimes.wav" ContentType="audio/x-wav"/>
  <Override PartName="/ppt/media/image1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3.png" ContentType="image/pn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BF8E-C9B1-4F06-BA7F-135018C9B1B5}" type="slidenum">
              <a:rPr b="0" lang="zh-CN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58B5-F8D2-4DCB-A8EB-E47D481D4E05}" type="slidenum">
              <a:rPr b="0" lang="zh-CN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B786-C964-4589-B62B-1182D0754E6D}" type="slidenum">
              <a:rPr b="0" lang="zh-CN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6538-2681-4482-A935-312CB05A7363}" type="slidenum">
              <a:rPr b="0" lang="zh-CN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EF2C-E594-46FD-9FFA-84D8DBBC36E0}" type="slidenum">
              <a:rPr b="0" lang="zh-CN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F89A-004F-4FBE-9363-56E411C54239}" type="slidenum">
              <a:rPr b="0" lang="zh-CN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C40F-4860-49E8-9E52-0762195A4D66}" type="slidenum">
              <a:rPr b="0" lang="zh-CN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5B1C-FF1E-434C-95A1-2E0F38D70979}" type="slidenum">
              <a:rPr b="0" lang="zh-CN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EBE6-DA98-4907-9958-FEC896241ED4}" type="slidenum">
              <a:rPr b="0" lang="zh-CN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BC5B-B151-4C53-BDA6-DC6E790442CF}" type="slidenum">
              <a:rPr b="0" lang="zh-CN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8E0-6C8D-4AEE-84EA-6F76DC32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1BB4-0C6E-45B0-BF36-470A4F51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E9B-9AE1-454F-B9CB-D3F414A0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F78-6945-47DA-BADD-8054537D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FB3D-156A-4519-881C-A833C51B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B0F-DF5B-41B2-BC43-73659661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499-B079-48D8-BD04-0534A4EF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81E-1EBE-4E70-9C7D-A2F523F8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62AE-04A9-4B72-91BB-2BF077F2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62D-0AB2-4997-8C41-4271CD60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1C37-269A-4037-B946-77357E6B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777F-D2BD-4B5C-B1E2-162D36F8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C6E0-4CB3-4390-AA42-38C3717F24CE}" type="slidenum">
              <a:rPr b="0" lang="zh-CN" sz="14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9.png"/><Relationship Id="rId3" Type="http://schemas.openxmlformats.org/officeDocument/2006/relationships/slide" Target="slide11.xml"/><Relationship Id="rId4" Type="http://schemas.openxmlformats.org/officeDocument/2006/relationships/slide" Target="slide14.xm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9.png"/><Relationship Id="rId3" Type="http://schemas.openxmlformats.org/officeDocument/2006/relationships/slide" Target="slide11.xml"/><Relationship Id="rId4" Type="http://schemas.openxmlformats.org/officeDocument/2006/relationships/slide" Target="slide14.xm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20161" descr="2007-03-05_1638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组合 200719"/>
          <p:cNvGrpSpPr/>
          <p:nvPr/>
        </p:nvGrpSpPr>
        <p:grpSpPr>
          <a:xfrm>
            <a:off x="468360" y="692280"/>
            <a:ext cx="8064360" cy="2648160"/>
            <a:chOff x="468360" y="692280"/>
            <a:chExt cx="8064360" cy="2648160"/>
          </a:xfrm>
        </p:grpSpPr>
        <p:sp>
          <p:nvSpPr>
            <p:cNvPr id="81" name="文本框 200705"/>
            <p:cNvSpPr/>
            <p:nvPr/>
          </p:nvSpPr>
          <p:spPr>
            <a:xfrm>
              <a:off x="541440" y="2637000"/>
              <a:ext cx="7924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有的才展开两三片花瓣儿。有的花瓣儿全都展开了，露出嫩黄色的小莲蓬。有的还是花骨朵儿，看起来饱涨得马上要破裂似的。</a:t>
              </a:r>
              <a:endParaRPr b="0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2" name="文本框 200717"/>
            <p:cNvSpPr/>
            <p:nvPr/>
          </p:nvSpPr>
          <p:spPr>
            <a:xfrm>
              <a:off x="468360" y="692280"/>
              <a:ext cx="806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荷花已经开了不少了。荷叶挨挨挤挤的，像一个个碧绿的大圆盘。</a:t>
              </a:r>
              <a:endParaRPr b="0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3" name="文本框 200718"/>
            <p:cNvSpPr/>
            <p:nvPr/>
          </p:nvSpPr>
          <p:spPr>
            <a:xfrm>
              <a:off x="541440" y="1916280"/>
              <a:ext cx="78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白荷花在这些大圆盘之间冒出来。</a:t>
              </a:r>
              <a:endParaRPr b="0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4" name="文本框 200720"/>
          <p:cNvSpPr/>
          <p:nvPr/>
        </p:nvSpPr>
        <p:spPr>
          <a:xfrm>
            <a:off x="468360" y="692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荷花已经开了不少了。</a:t>
            </a:r>
            <a:r>
              <a:rPr b="0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荷叶挨挨挤挤的，像一个个碧绿的大圆盘。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" name="文本框 200721"/>
          <p:cNvSpPr/>
          <p:nvPr/>
        </p:nvSpPr>
        <p:spPr>
          <a:xfrm>
            <a:off x="539640" y="191628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白荷花在这些大圆盘之间冒出来。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" name="文本框 200722"/>
          <p:cNvSpPr/>
          <p:nvPr/>
        </p:nvSpPr>
        <p:spPr>
          <a:xfrm>
            <a:off x="539640" y="263700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有的才展开两三片花瓣儿。有的花瓣儿全都展开了，露出嫩黄色的小莲蓬。有的还是花骨朵儿，看起来饱涨得马上要破裂似的。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7" name="组合 200723"/>
          <p:cNvGrpSpPr/>
          <p:nvPr/>
        </p:nvGrpSpPr>
        <p:grpSpPr>
          <a:xfrm>
            <a:off x="2771640" y="5562720"/>
            <a:ext cx="2198880" cy="1295280"/>
            <a:chOff x="2771640" y="5562720"/>
            <a:chExt cx="2198880" cy="1295280"/>
          </a:xfrm>
        </p:grpSpPr>
        <p:pic>
          <p:nvPicPr>
            <p:cNvPr id="88" name="图片 200724" descr="荷花16">
              <a:hlinkClick r:id="rId1" action="ppaction://hlinksldjump"/>
            </p:cNvPr>
            <p:cNvPicPr/>
            <p:nvPr/>
          </p:nvPicPr>
          <p:blipFill>
            <a:blip r:embed="rId2"/>
            <a:srcRect l="0" t="0" r="0" b="52001"/>
            <a:stretch/>
          </p:blipFill>
          <p:spPr>
            <a:xfrm>
              <a:off x="2771640" y="5562720"/>
              <a:ext cx="21988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文本框 200725">
              <a:hlinkClick r:id="rId3" action="ppaction://hlinksldjump"/>
            </p:cNvPr>
            <p:cNvSpPr/>
            <p:nvPr/>
          </p:nvSpPr>
          <p:spPr>
            <a:xfrm>
              <a:off x="2987640" y="5950080"/>
              <a:ext cx="18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荷叶</a:t>
              </a:r>
              <a:endParaRPr b="0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0" name="组合 200726"/>
          <p:cNvGrpSpPr/>
          <p:nvPr/>
        </p:nvGrpSpPr>
        <p:grpSpPr>
          <a:xfrm>
            <a:off x="6300720" y="4581360"/>
            <a:ext cx="2232000" cy="2276640"/>
            <a:chOff x="6300720" y="4581360"/>
            <a:chExt cx="2232000" cy="2276640"/>
          </a:xfrm>
        </p:grpSpPr>
        <p:pic>
          <p:nvPicPr>
            <p:cNvPr id="91" name="图片 200727" descr="荷花15">
              <a:hlinkClick r:id="rId4" action="ppaction://hlinksldjump"/>
            </p:cNvPr>
            <p:cNvPicPr/>
            <p:nvPr/>
          </p:nvPicPr>
          <p:blipFill>
            <a:blip r:embed="rId5"/>
            <a:srcRect l="12994" t="9880" r="3558" b="0"/>
            <a:stretch/>
          </p:blipFill>
          <p:spPr>
            <a:xfrm>
              <a:off x="6300720" y="4581360"/>
              <a:ext cx="2232000" cy="22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文本框 200728"/>
            <p:cNvSpPr/>
            <p:nvPr/>
          </p:nvSpPr>
          <p:spPr>
            <a:xfrm>
              <a:off x="6996960" y="593892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荷花</a:t>
              </a:r>
              <a:endParaRPr b="0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ransition spd="med">
    <p:split dir="in" orient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38241" descr="2007-03-05_1636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38243"/>
          <p:cNvSpPr/>
          <p:nvPr/>
        </p:nvSpPr>
        <p:spPr>
          <a:xfrm>
            <a:off x="468360" y="5084640"/>
            <a:ext cx="84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荷叶挨挨挤挤的，像一个个碧绿的大圆盘。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43713" descr="冒出的白荷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矩形 243714"/>
          <p:cNvSpPr/>
          <p:nvPr/>
        </p:nvSpPr>
        <p:spPr>
          <a:xfrm>
            <a:off x="603720" y="4968720"/>
            <a:ext cx="775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白荷花在这些大圆盘之</a:t>
            </a:r>
            <a:endParaRPr b="0" lang="en-US" sz="5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间冒出来。</a:t>
            </a:r>
            <a:endParaRPr b="0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7" name="文本框 243715">
            <a:hlinkClick r:id="rId2" action="ppaction://hlinksldjump"/>
          </p:cNvPr>
          <p:cNvSpPr/>
          <p:nvPr/>
        </p:nvSpPr>
        <p:spPr>
          <a:xfrm>
            <a:off x="6019920" y="59436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                      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8" name="文本框 243716"/>
          <p:cNvSpPr/>
          <p:nvPr/>
        </p:nvSpPr>
        <p:spPr>
          <a:xfrm>
            <a:off x="971640" y="580536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冒</a:t>
            </a:r>
            <a:endParaRPr b="0" lang="en-US" sz="5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44737" descr="荷花4"/>
          <p:cNvPicPr/>
          <p:nvPr/>
        </p:nvPicPr>
        <p:blipFill>
          <a:blip r:embed="rId1">
            <a:lum contrast="-12000"/>
          </a:blip>
          <a:srcRect l="2046" t="3668" r="2046" b="62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620640"/>
            <a:ext cx="8507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挥想象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荷花在这些大圆盘之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冒出来，它们仿佛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28021" descr="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28009"/>
          <p:cNvSpPr/>
          <p:nvPr/>
        </p:nvSpPr>
        <p:spPr>
          <a:xfrm>
            <a:off x="539640" y="404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有的才展开两三片花瓣儿。有的花瓣儿全展开了，露出嫩黄色的小莲蓬。有的还是花骨朵儿，看起来饱胀得马上要破裂似的。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3" name="文本框 128019"/>
          <p:cNvSpPr/>
          <p:nvPr/>
        </p:nvSpPr>
        <p:spPr>
          <a:xfrm>
            <a:off x="539640" y="404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有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才展开两三片花瓣儿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有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花瓣儿全展开了，露出嫩黄色的小莲蓬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有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还是花骨朵儿，看起来饱胀得马上要破裂似的。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201729" descr="两三片花瓣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201730"/>
          <p:cNvSpPr/>
          <p:nvPr/>
        </p:nvSpPr>
        <p:spPr>
          <a:xfrm>
            <a:off x="457200" y="563868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有的才展开两三片花瓣儿。</a:t>
            </a:r>
            <a:endParaRPr b="0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文本框 201731">
            <a:hlinkClick r:id="rId2" action="ppaction://hlinksldjump"/>
          </p:cNvPr>
          <p:cNvSpPr/>
          <p:nvPr/>
        </p:nvSpPr>
        <p:spPr>
          <a:xfrm>
            <a:off x="6934320" y="59436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               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201729" descr="两三片花瓣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202754"/>
          <p:cNvSpPr/>
          <p:nvPr/>
        </p:nvSpPr>
        <p:spPr>
          <a:xfrm>
            <a:off x="304920" y="512136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有的花瓣儿全都展开了，露出嫩黄色的小莲蓬。</a:t>
            </a:r>
            <a:endParaRPr b="0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9" name="文本框 202755">
            <a:hlinkClick r:id="rId2" action="ppaction://hlinksldjump"/>
          </p:cNvPr>
          <p:cNvSpPr/>
          <p:nvPr/>
        </p:nvSpPr>
        <p:spPr>
          <a:xfrm>
            <a:off x="6934320" y="60199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                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203777" descr="花骨朵"/>
          <p:cNvPicPr/>
          <p:nvPr/>
        </p:nvPicPr>
        <p:blipFill>
          <a:blip r:embed="rId1"/>
          <a:srcRect l="4501" t="20957" r="999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203778"/>
          <p:cNvSpPr/>
          <p:nvPr/>
        </p:nvSpPr>
        <p:spPr>
          <a:xfrm>
            <a:off x="380880" y="514980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有的还是花骨朵儿，看起来饱涨得马上要破裂似的。</a:t>
            </a:r>
            <a:endParaRPr b="0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2" name="文本框 203779">
            <a:hlinkClick r:id="rId2" action="ppaction://hlinksldjump"/>
          </p:cNvPr>
          <p:cNvSpPr/>
          <p:nvPr/>
        </p:nvSpPr>
        <p:spPr>
          <a:xfrm>
            <a:off x="7620120" y="59436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          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204801" descr="满池荷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204803"/>
          <p:cNvSpPr/>
          <p:nvPr/>
        </p:nvSpPr>
        <p:spPr>
          <a:xfrm>
            <a:off x="0" y="7650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也能用“有的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的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的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”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句话吗？</a:t>
            </a:r>
            <a:endParaRPr b="0" lang="en-US" sz="6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210949"/>
          <p:cNvSpPr/>
          <p:nvPr/>
        </p:nvSpPr>
        <p:spPr>
          <a:xfrm>
            <a:off x="468360" y="692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荷花已经开了不少了。</a:t>
            </a:r>
            <a:r>
              <a:rPr b="0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荷叶挨挨挤挤的，像一个个碧绿的大圆盘。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6" name="文本框 210950"/>
          <p:cNvSpPr/>
          <p:nvPr/>
        </p:nvSpPr>
        <p:spPr>
          <a:xfrm>
            <a:off x="539640" y="191628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白荷花在这些大圆盘之间冒出来。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" name="文本框 210951"/>
          <p:cNvSpPr/>
          <p:nvPr/>
        </p:nvSpPr>
        <p:spPr>
          <a:xfrm>
            <a:off x="539640" y="263700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有的才展开两三片花瓣儿。有的花瓣儿全都展开了，露出嫩黄色的小莲蓬。有的还是花骨朵儿，看起来饱涨得马上要破裂似的。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18" name="组合 210952"/>
          <p:cNvGrpSpPr/>
          <p:nvPr/>
        </p:nvGrpSpPr>
        <p:grpSpPr>
          <a:xfrm>
            <a:off x="2771640" y="5562720"/>
            <a:ext cx="2198880" cy="1295280"/>
            <a:chOff x="2771640" y="5562720"/>
            <a:chExt cx="2198880" cy="1295280"/>
          </a:xfrm>
        </p:grpSpPr>
        <p:pic>
          <p:nvPicPr>
            <p:cNvPr id="119" name="图片 210953" descr="荷花16">
              <a:hlinkClick r:id="rId1" action="ppaction://hlinksldjump"/>
            </p:cNvPr>
            <p:cNvPicPr/>
            <p:nvPr/>
          </p:nvPicPr>
          <p:blipFill>
            <a:blip r:embed="rId2"/>
            <a:srcRect l="0" t="0" r="0" b="52001"/>
            <a:stretch/>
          </p:blipFill>
          <p:spPr>
            <a:xfrm>
              <a:off x="2771640" y="5562720"/>
              <a:ext cx="21988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文本框 210954">
              <a:hlinkClick r:id="rId3" action="ppaction://hlinksldjump"/>
            </p:cNvPr>
            <p:cNvSpPr/>
            <p:nvPr/>
          </p:nvSpPr>
          <p:spPr>
            <a:xfrm>
              <a:off x="2987640" y="5950080"/>
              <a:ext cx="18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荷叶</a:t>
              </a:r>
              <a:endParaRPr b="0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21" name="组合 210955"/>
          <p:cNvGrpSpPr/>
          <p:nvPr/>
        </p:nvGrpSpPr>
        <p:grpSpPr>
          <a:xfrm>
            <a:off x="6300720" y="4581360"/>
            <a:ext cx="2232000" cy="2276640"/>
            <a:chOff x="6300720" y="4581360"/>
            <a:chExt cx="2232000" cy="2276640"/>
          </a:xfrm>
        </p:grpSpPr>
        <p:pic>
          <p:nvPicPr>
            <p:cNvPr id="122" name="图片 210956" descr="荷花15">
              <a:hlinkClick r:id="rId4" action="ppaction://hlinksldjump"/>
            </p:cNvPr>
            <p:cNvPicPr/>
            <p:nvPr/>
          </p:nvPicPr>
          <p:blipFill>
            <a:blip r:embed="rId5"/>
            <a:srcRect l="12994" t="9880" r="3558" b="0"/>
            <a:stretch/>
          </p:blipFill>
          <p:spPr>
            <a:xfrm>
              <a:off x="6300720" y="4581360"/>
              <a:ext cx="2232000" cy="22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文本框 210957"/>
            <p:cNvSpPr/>
            <p:nvPr/>
          </p:nvSpPr>
          <p:spPr>
            <a:xfrm>
              <a:off x="6996960" y="593892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荷花</a:t>
              </a:r>
              <a:endParaRPr b="0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24" name="椭圆 210958"/>
          <p:cNvSpPr/>
          <p:nvPr/>
        </p:nvSpPr>
        <p:spPr>
          <a:xfrm>
            <a:off x="7885080" y="1268280"/>
            <a:ext cx="73080" cy="73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5" name="椭圆 210959"/>
          <p:cNvSpPr/>
          <p:nvPr/>
        </p:nvSpPr>
        <p:spPr>
          <a:xfrm>
            <a:off x="755640" y="1916280"/>
            <a:ext cx="73080" cy="72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6" name="椭圆 210960"/>
          <p:cNvSpPr/>
          <p:nvPr/>
        </p:nvSpPr>
        <p:spPr>
          <a:xfrm>
            <a:off x="1258920" y="1916280"/>
            <a:ext cx="73080" cy="72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7" name="椭圆 210961"/>
          <p:cNvSpPr/>
          <p:nvPr/>
        </p:nvSpPr>
        <p:spPr>
          <a:xfrm>
            <a:off x="1763640" y="1916280"/>
            <a:ext cx="73080" cy="72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8" name="椭圆 210962"/>
          <p:cNvSpPr/>
          <p:nvPr/>
        </p:nvSpPr>
        <p:spPr>
          <a:xfrm>
            <a:off x="3851280" y="1916280"/>
            <a:ext cx="73080" cy="72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9" name="椭圆 210963"/>
          <p:cNvSpPr/>
          <p:nvPr/>
        </p:nvSpPr>
        <p:spPr>
          <a:xfrm>
            <a:off x="4284720" y="1916280"/>
            <a:ext cx="73080" cy="72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0" name="椭圆 210968"/>
          <p:cNvSpPr/>
          <p:nvPr/>
        </p:nvSpPr>
        <p:spPr>
          <a:xfrm>
            <a:off x="4788000" y="1916280"/>
            <a:ext cx="73080" cy="72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1" name="椭圆 210969"/>
          <p:cNvSpPr/>
          <p:nvPr/>
        </p:nvSpPr>
        <p:spPr>
          <a:xfrm>
            <a:off x="6877080" y="1916280"/>
            <a:ext cx="73080" cy="72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2" name="椭圆 210970"/>
          <p:cNvSpPr/>
          <p:nvPr/>
        </p:nvSpPr>
        <p:spPr>
          <a:xfrm>
            <a:off x="5364000" y="1916280"/>
            <a:ext cx="73080" cy="72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3" name="椭圆 210971"/>
          <p:cNvSpPr/>
          <p:nvPr/>
        </p:nvSpPr>
        <p:spPr>
          <a:xfrm>
            <a:off x="7453440" y="1916280"/>
            <a:ext cx="72720" cy="72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4" name="椭圆 210972"/>
          <p:cNvSpPr/>
          <p:nvPr/>
        </p:nvSpPr>
        <p:spPr>
          <a:xfrm>
            <a:off x="5867280" y="1916280"/>
            <a:ext cx="73080" cy="72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5" name="椭圆 210973"/>
          <p:cNvSpPr/>
          <p:nvPr/>
        </p:nvSpPr>
        <p:spPr>
          <a:xfrm>
            <a:off x="7956720" y="1916280"/>
            <a:ext cx="72720" cy="72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6" name="椭圆 210974"/>
          <p:cNvSpPr/>
          <p:nvPr/>
        </p:nvSpPr>
        <p:spPr>
          <a:xfrm>
            <a:off x="6443640" y="2565360"/>
            <a:ext cx="73080" cy="73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7" name="椭圆 210975"/>
          <p:cNvSpPr/>
          <p:nvPr/>
        </p:nvSpPr>
        <p:spPr>
          <a:xfrm>
            <a:off x="826920" y="3284640"/>
            <a:ext cx="73080" cy="73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椭圆 210979"/>
          <p:cNvSpPr/>
          <p:nvPr/>
        </p:nvSpPr>
        <p:spPr>
          <a:xfrm>
            <a:off x="1332000" y="3284640"/>
            <a:ext cx="73080" cy="73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9" name="椭圆 210980"/>
          <p:cNvSpPr/>
          <p:nvPr/>
        </p:nvSpPr>
        <p:spPr>
          <a:xfrm>
            <a:off x="1908000" y="3284640"/>
            <a:ext cx="73080" cy="73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0" name="椭圆 210981"/>
          <p:cNvSpPr/>
          <p:nvPr/>
        </p:nvSpPr>
        <p:spPr>
          <a:xfrm>
            <a:off x="6948360" y="3284640"/>
            <a:ext cx="73080" cy="73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1" name="椭圆 210982"/>
          <p:cNvSpPr/>
          <p:nvPr/>
        </p:nvSpPr>
        <p:spPr>
          <a:xfrm>
            <a:off x="7451640" y="3284640"/>
            <a:ext cx="73080" cy="73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2" name="椭圆 210983"/>
          <p:cNvSpPr/>
          <p:nvPr/>
        </p:nvSpPr>
        <p:spPr>
          <a:xfrm>
            <a:off x="1835280" y="3860640"/>
            <a:ext cx="72720" cy="73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3" name="椭圆 210984"/>
          <p:cNvSpPr/>
          <p:nvPr/>
        </p:nvSpPr>
        <p:spPr>
          <a:xfrm>
            <a:off x="2411280" y="3860640"/>
            <a:ext cx="73080" cy="73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4" name="椭圆 210985"/>
          <p:cNvSpPr/>
          <p:nvPr/>
        </p:nvSpPr>
        <p:spPr>
          <a:xfrm>
            <a:off x="2411280" y="4508640"/>
            <a:ext cx="73080" cy="72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5" name="椭圆 210986"/>
          <p:cNvSpPr/>
          <p:nvPr/>
        </p:nvSpPr>
        <p:spPr>
          <a:xfrm>
            <a:off x="2987640" y="4508640"/>
            <a:ext cx="73080" cy="72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6" name="椭圆 210988"/>
          <p:cNvSpPr/>
          <p:nvPr/>
        </p:nvSpPr>
        <p:spPr>
          <a:xfrm>
            <a:off x="2340000" y="5084640"/>
            <a:ext cx="73080" cy="73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7" name="椭圆 210989"/>
          <p:cNvSpPr/>
          <p:nvPr/>
        </p:nvSpPr>
        <p:spPr>
          <a:xfrm>
            <a:off x="2843280" y="5084640"/>
            <a:ext cx="73080" cy="73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222209" descr="135461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31073" descr="036b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31075"/>
          <p:cNvSpPr/>
          <p:nvPr/>
        </p:nvSpPr>
        <p:spPr>
          <a:xfrm>
            <a:off x="684360" y="54936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这么多的荷花，一朵有一朵的姿势。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41313" descr="2007-03-05_1637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35169" descr="2007-03-05_1635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206853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0" y="117360"/>
            <a:ext cx="8677440" cy="67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如果把眼前的一池荷花看作一大幅活的画，那画家的本领可真了不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214020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214018"/>
          <p:cNvSpPr/>
          <p:nvPr/>
        </p:nvSpPr>
        <p:spPr>
          <a:xfrm>
            <a:off x="468360" y="3645000"/>
            <a:ext cx="8136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这么多的荷花，一朵有一朵的姿势。看看这一朵，很美；看看那一朵，也很美。如果把眼前的一池荷花看作一大幅活的画，那画家的本领可真了不起。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74091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174090"/>
          <p:cNvSpPr/>
          <p:nvPr/>
        </p:nvSpPr>
        <p:spPr>
          <a:xfrm>
            <a:off x="539640" y="1341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我忽然觉得自己仿佛就是一朵荷花，穿着雪白的衣裳，站在阳光里。一阵微风吹来，我就翩翩起舞，雪白的衣裳随风飘动。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69985" descr="2007-03-05_2017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文本框 169986"/>
          <p:cNvSpPr/>
          <p:nvPr/>
        </p:nvSpPr>
        <p:spPr>
          <a:xfrm>
            <a:off x="468360" y="40464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蜻蜓飞过来，告诉我清早飞行的快乐。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171009" descr="2007-03-05_2017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171011"/>
          <p:cNvSpPr/>
          <p:nvPr/>
        </p:nvSpPr>
        <p:spPr>
          <a:xfrm>
            <a:off x="539640" y="90792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小鱼在脚下游过，告诉我昨晚做的好梦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211970" descr="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211969"/>
          <p:cNvSpPr/>
          <p:nvPr/>
        </p:nvSpPr>
        <p:spPr>
          <a:xfrm>
            <a:off x="539640" y="1125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我忽然觉得自己仿佛就是一朵荷花，穿着雪白的衣裳，站在阳光里。一阵微风吹来，我就翩翩起舞，雪白的衣裳随风飘动。不光是我一朵，一池的荷花都在舞蹈。风过了，我停止了舞蹈，静静地站在那儿。蜻蜓飞过来，告诉我清早飞行的快乐。小鱼在脚下游过，告诉我昨夜做的好梦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64" name="林隆璇-早晨的月亮.mp3" descr=""/>
          <p:cNvPicPr/>
          <p:nvPr/>
        </p:nvPicPr>
        <p:blipFill>
          <a:blip r:embed="rId2"/>
          <a:stretch/>
        </p:blipFill>
        <p:spPr>
          <a:xfrm>
            <a:off x="6516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252134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209923" descr="荷花7"/>
          <p:cNvPicPr/>
          <p:nvPr/>
        </p:nvPicPr>
        <p:blipFill>
          <a:blip r:embed="rId1"/>
          <a:stretch/>
        </p:blipFill>
        <p:spPr>
          <a:xfrm>
            <a:off x="0" y="2371680"/>
            <a:ext cx="6443640" cy="47498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布置：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任选一项完成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画一画：画一幅荷花图，配一首赞美荷花的小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写一写：写一写自己喜欢的一种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背一背：这篇课文写的很美，我要把它背下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办一期有关荷花的小报（可小队合作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223233" descr="2007-03-05_1635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225281" descr="2007-03-05_1636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45409" descr="2007-03-05_1639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145410"/>
          <p:cNvSpPr txBox="1"/>
          <p:nvPr/>
        </p:nvSpPr>
        <p:spPr>
          <a:xfrm>
            <a:off x="1835280" y="1773360"/>
            <a:ext cx="561636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ff66ff"/>
                  </a:solidFill>
                  <a:round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荷 花</a:t>
            </a:r>
            <a:endParaRPr b="1" lang="en-US" sz="9600" spc="1" strike="noStrike">
              <a:ln w="19080">
                <a:solidFill>
                  <a:srgbClr val="ff66ff"/>
                </a:solidFill>
                <a:round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239620" descr="5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227330"/>
          <p:cNvSpPr/>
          <p:nvPr/>
        </p:nvSpPr>
        <p:spPr>
          <a:xfrm>
            <a:off x="1141560" y="431640"/>
            <a:ext cx="678024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莲 蓬   花骨朵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 幅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翩翩起舞     舞 蹈       昨 夜  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饱 胀    碧绿   破 裂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239620" descr="5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8000"/>
            </a:br>
            <a:br>
              <a:rPr sz="8000"/>
            </a:b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76360" y="549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āi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27640" y="47628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hǎo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76360" y="414972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ái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27640" y="422100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hào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2000" y="1197000"/>
            <a:ext cx="4610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挨挨挤挤   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156360" y="119700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好梦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03280" y="4724280"/>
            <a:ext cx="58676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挨打          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292720" y="486900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爱好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241687" descr="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67" name="组合 14"/>
          <p:cNvGrpSpPr/>
          <p:nvPr/>
        </p:nvGrpSpPr>
        <p:grpSpPr>
          <a:xfrm>
            <a:off x="1402560" y="2276640"/>
            <a:ext cx="1577160" cy="2101680"/>
            <a:chOff x="1402560" y="2276640"/>
            <a:chExt cx="1577160" cy="2101680"/>
          </a:xfrm>
        </p:grpSpPr>
        <p:sp>
          <p:nvSpPr>
            <p:cNvPr id="68" name="矩形 15"/>
            <p:cNvSpPr/>
            <p:nvPr/>
          </p:nvSpPr>
          <p:spPr>
            <a:xfrm>
              <a:off x="1403280" y="2276640"/>
              <a:ext cx="1576440" cy="2101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9" name="直接连接符 16"/>
            <p:cNvSpPr/>
            <p:nvPr/>
          </p:nvSpPr>
          <p:spPr>
            <a:xfrm>
              <a:off x="1402560" y="3327480"/>
              <a:ext cx="1576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0" name="直接连接符 17"/>
            <p:cNvSpPr/>
            <p:nvPr/>
          </p:nvSpPr>
          <p:spPr>
            <a:xfrm>
              <a:off x="2191320" y="2276640"/>
              <a:ext cx="0" cy="21016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1" name="组合 14"/>
          <p:cNvGrpSpPr/>
          <p:nvPr/>
        </p:nvGrpSpPr>
        <p:grpSpPr>
          <a:xfrm>
            <a:off x="5076000" y="2205000"/>
            <a:ext cx="1577160" cy="2102040"/>
            <a:chOff x="5076000" y="2205000"/>
            <a:chExt cx="1577160" cy="2102040"/>
          </a:xfrm>
        </p:grpSpPr>
        <p:sp>
          <p:nvSpPr>
            <p:cNvPr id="72" name="矩形 15"/>
            <p:cNvSpPr/>
            <p:nvPr/>
          </p:nvSpPr>
          <p:spPr>
            <a:xfrm>
              <a:off x="5076720" y="2205000"/>
              <a:ext cx="1576440" cy="2102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3" name="直接连接符 16"/>
            <p:cNvSpPr/>
            <p:nvPr/>
          </p:nvSpPr>
          <p:spPr>
            <a:xfrm>
              <a:off x="5076000" y="3256200"/>
              <a:ext cx="1576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4" name="直接连接符 17"/>
            <p:cNvSpPr/>
            <p:nvPr/>
          </p:nvSpPr>
          <p:spPr>
            <a:xfrm>
              <a:off x="5864760" y="2205000"/>
              <a:ext cx="0" cy="21020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75" name="矩形 241683"/>
          <p:cNvSpPr txBox="1"/>
          <p:nvPr/>
        </p:nvSpPr>
        <p:spPr>
          <a:xfrm>
            <a:off x="1547640" y="2708280"/>
            <a:ext cx="122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翩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6" name="矩形 241686"/>
          <p:cNvSpPr txBox="1"/>
          <p:nvPr/>
        </p:nvSpPr>
        <p:spPr>
          <a:xfrm>
            <a:off x="5292720" y="2637000"/>
            <a:ext cx="11509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蹈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无标题.mp4" descr=""/>
          <p:cNvPicPr/>
          <p:nvPr/>
        </p:nvPicPr>
        <p:blipFill>
          <a:blip r:embed="rId1"/>
          <a:stretch/>
        </p:blipFill>
        <p:spPr>
          <a:xfrm>
            <a:off x="-871560" y="0"/>
            <a:ext cx="10944360" cy="6888240"/>
          </a:xfrm>
          <a:prstGeom prst="rect">
            <a:avLst/>
          </a:prstGeom>
          <a:ln w="0">
            <a:noFill/>
          </a:ln>
        </p:spPr>
      </p:pic>
      <p:pic>
        <p:nvPicPr>
          <p:cNvPr id="78" name="新视频.wmv.wmv" descr=""/>
          <p:cNvPicPr/>
          <p:nvPr/>
        </p:nvPicPr>
        <p:blipFill>
          <a:blip r:embed="rId2"/>
          <a:stretch/>
        </p:blipFill>
        <p:spPr>
          <a:xfrm>
            <a:off x="-1523880" y="0"/>
            <a:ext cx="1219176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新视频.wmv.wmv" descr=""/>
          <p:cNvPicPr/>
          <p:nvPr/>
        </p:nvPicPr>
        <p:blipFill>
          <a:blip r:embed="rId3"/>
          <a:stretch/>
        </p:blipFill>
        <p:spPr>
          <a:xfrm>
            <a:off x="-1523880" y="0"/>
            <a:ext cx="12191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952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5200"/>
                            </p:stCondLst>
                            <p:childTnLst>
                              <p:par>
                                <p:cTn id="6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95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cp:keywords/>
  <dc:language>en-US</dc:language>
  <cp:lastModifiedBy>User</cp:lastModifiedBy>
  <dcterms:modified xsi:type="dcterms:W3CDTF">2016-04-13T03:00:29Z</dcterms:modified>
  <cp:revision>2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