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131-40B5-420E-BBF5-6CCE42E0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4B0-AD20-4A8F-A08D-7D1B210C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3C1-82DC-4108-BF23-C20FA56D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BA8-C4ED-4A46-9A15-BB3E2C88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C79-3839-487A-B658-D54C0BCD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BAC-D32C-42A9-B8C1-2E91A0FD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564-9A48-43FD-8405-2CFA92ED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255-EDEF-4A6E-B8FC-D193CC44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639-C38E-4B73-BE83-B1E8524E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365-8288-4637-BE09-C8C8327E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EF9-C845-41BC-8A55-AF0ECB5F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A65-B144-48E0-84B9-C3E55414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32BD-D490-47BA-9105-783B5D79E8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大象表演 5"/>
          <p:cNvPicPr/>
          <p:nvPr/>
        </p:nvPicPr>
        <p:blipFill>
          <a:blip r:embed="rId1"/>
          <a:stretch/>
        </p:blipFill>
        <p:spPr>
          <a:xfrm>
            <a:off x="685800" y="838080"/>
            <a:ext cx="7848720" cy="5140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黑体"/>
              </a:rPr>
              <a:t>精彩的大象表演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049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湘教版三年级语文下册第七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360" y="1447560"/>
            <a:ext cx="7086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ài   xiǎng  què    xū    shàn  rà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泰      享       确     虚      扇     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éng  xiàn cōng  shì   diào  zh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呈        献     聪      试     吊      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360" y="1447560"/>
            <a:ext cx="7086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泰国  泰山    享受  分享      的确  确定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虚心  虚假    扇动  扇风      绕开 绕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呈现 辞呈     献技 奉献      聪明  失聪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比试 考试    吊车 吊桥       柱子  石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细读课文，加深理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由读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然段，说说你知道了什么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方正楷体_GBK"/>
              </a:rPr>
              <a:t>本段点明了观看大象表演的地点是在泰国，并概括写看表演的总体感受是“令人欢乐开怀”的“美妙享受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习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然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找中心句，体会它们在文中的作用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 请同学们自由地读读课文第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然段，找一找中心句，并画上横线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为什么说大象的表演非常精彩？请用你找到的中心句来回答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 齐读这四个中心句，想一想这样写有什么好处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细读、品读，体会大象表演的精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你最喜欢大象表演的哪个节目？找到那一段，并读好那一段。读后，可以和同桌或小组的同学说说喜欢这一段的理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汇报交流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重点学习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自然段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为什么最喜欢大象过人表演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从哪些词句中体会到看大象过人表演让人“提心吊胆”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凝神屏息”是怎样的一种表情？谁来表演？这说明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惊心动魄”的那一刻指的是哪一刻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大象抬起一只脚按在少年的肚子上时，全场为什么突然安静了下来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你当时在场观看，你会怎样想，会有怎样的表现？有惊无险的一幕过去了之后，你的心情又是怎样的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到这里，谁能联系课文说说“提心吊胆、惊心动魄”的意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了这一段，谁能说说，课文是怎样围绕“提心吊胆”来写具体的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大象表演 1"/>
          <p:cNvPicPr/>
          <p:nvPr/>
        </p:nvPicPr>
        <p:blipFill>
          <a:blip r:embed="rId1"/>
          <a:stretch/>
        </p:blipFill>
        <p:spPr>
          <a:xfrm>
            <a:off x="2514600" y="1143000"/>
            <a:ext cx="331632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大象表演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大象表演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认识、会写课文生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有感情地朗读课文；背诵自己喜欢的部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激发对大象的喜爱之情，培养观察和想像能力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练习说写，实际运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请同学们从课文第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然段的举例中任选一个节目，或联系自己的生活经验，想像大象还会表演什么节目，仿照课文先概括说后具体说的方式说一段话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回家后说给爸爸妈妈听，并把这一段话写下来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封面"/>
          <p:cNvPicPr/>
          <p:nvPr/>
        </p:nvPicPr>
        <p:blipFill>
          <a:blip r:embed="rId1"/>
          <a:stretch/>
        </p:blipFill>
        <p:spPr>
          <a:xfrm>
            <a:off x="1752480" y="990720"/>
            <a:ext cx="5791320" cy="50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Calibri"/>
                <a:ea typeface="黑体"/>
              </a:rPr>
              <a:t>谢谢指导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438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方正楷体_GBK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方正楷体_GBK"/>
              </a:rPr>
              <a:t>同学们，你们看过动物表演吗？谁来说说？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方正楷体_GBK"/>
              </a:rPr>
              <a:t>　　　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鹦鹉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鱼"/>
          <p:cNvPicPr/>
          <p:nvPr/>
        </p:nvPicPr>
        <p:blipFill>
          <a:blip r:embed="rId1"/>
          <a:stretch/>
        </p:blipFill>
        <p:spPr>
          <a:xfrm>
            <a:off x="1752480" y="838080"/>
            <a:ext cx="573408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3520" y="2133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大象的表演精彩吗？我们今天就一起来学习第</a:t>
            </a:r>
            <a:r>
              <a:rPr b="1" lang="en-US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4</a:t>
            </a:r>
            <a:r>
              <a:rPr b="1" lang="zh-CN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课</a:t>
            </a:r>
            <a:r>
              <a:rPr b="1" lang="en-US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精彩的大象表演 </a:t>
            </a:r>
            <a:r>
              <a:rPr b="1" lang="en-US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大象表演  该"/>
          <p:cNvPicPr/>
          <p:nvPr/>
        </p:nvPicPr>
        <p:blipFill>
          <a:blip r:embed="rId1"/>
          <a:stretch/>
        </p:blipFill>
        <p:spPr>
          <a:xfrm>
            <a:off x="1295280" y="9144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初读课文，整体感知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读课文，要求读准字音，读通句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默读，说说课文主要写了什么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4T09:22:26Z</dcterms:modified>
  <cp:revision>8</cp:revision>
  <dc:subject/>
  <dc:title>精彩的大象表演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