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391-465C-4ACC-91C6-D834EFBC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1BF-D350-4842-AACA-349AE66F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3A9-FD44-47F9-B572-0720DAA2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77A-C4DA-471F-AF11-5A3BC95F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25C-D99C-49AD-BE07-33D9DD41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5D2-23F6-4901-AE6C-5294CE6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2E0-65F0-43BA-B458-A619BF6A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AB9-8464-441C-B94F-33217AF2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EE6-0A69-44BC-BAE5-35D0429D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52D-99DC-4625-8C2A-9CEC9851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DF3-26D4-4A61-AB5C-AFFB212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444-C08F-4214-AE69-FBB5CFAD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72AD-68B7-4DDE-91CB-CEABB3F70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2,5,&#24187;&#28783;&#29255; 5" TargetMode="External"/><Relationship Id="rId2" Type="http://schemas.openxmlformats.org/officeDocument/2006/relationships/hyperlink" Target="262,5,&#24187;&#28783;&#29255; 5" TargetMode="External"/><Relationship Id="rId3" Type="http://schemas.openxmlformats.org/officeDocument/2006/relationships/hyperlink" Target="262,5,&#24187;&#28783;&#29255; 5" TargetMode="External"/><Relationship Id="rId4" Type="http://schemas.openxmlformats.org/officeDocument/2006/relationships/hyperlink" Target="262,5,&#24187;&#28783;&#29255; 5" TargetMode="External"/><Relationship Id="rId5" Type="http://schemas.openxmlformats.org/officeDocument/2006/relationships/hyperlink" Target="264,6,&#24187;&#28783;&#29255; 6" TargetMode="External"/><Relationship Id="rId6" Type="http://schemas.openxmlformats.org/officeDocument/2006/relationships/hyperlink" Target="268,7,&#24187;&#28783;&#29255; 7" TargetMode="External"/><Relationship Id="rId7" Type="http://schemas.openxmlformats.org/officeDocument/2006/relationships/hyperlink" Target="268,7,&#24187;&#28783;&#29255; 7" TargetMode="External"/><Relationship Id="rId8" Type="http://schemas.openxmlformats.org/officeDocument/2006/relationships/hyperlink" Target="268,7,&#24187;&#28783;&#29255; 7" TargetMode="External"/><Relationship Id="rId9" Type="http://schemas.openxmlformats.org/officeDocument/2006/relationships/hyperlink" Target="268,7,&#24187;&#28783;&#29255; 7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71640" y="1628640"/>
            <a:ext cx="374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卡罗纳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5661000"/>
            <a:ext cx="215892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课文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5589720"/>
            <a:ext cx="2160720" cy="93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生字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5589720"/>
            <a:ext cx="208908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56520" y="0"/>
            <a:ext cx="51732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你从大家的言行中受到什么启发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同学们，确实关爱他人是一种美德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她能给人以春天般的温暖，她能融化一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冰冷的心。在生活中，每个人都会遇到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样或那样的不幸，都会需要亲人、朋友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关爱，可是爱是一种能力，怎样去爱，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要我们学习。可以说，这篇课文记录的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仅是关爱同学的过程，也是“我”学习爱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过程。所以说爱是一种能力，我们大家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─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定──要──学会爱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7653" t="13481" r="4649" b="6721"/>
          <a:stretch/>
        </p:blipFill>
        <p:spPr>
          <a:xfrm>
            <a:off x="1763640" y="549360"/>
            <a:ext cx="7129440" cy="55483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24000" y="692280"/>
            <a:ext cx="1223640" cy="3887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4880" y="836640"/>
            <a:ext cx="6678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走近《爱的教育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24560" y="1020600"/>
            <a:ext cx="551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您给卡罗纳写一封信，给他以春天般的温暖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让他心头的悲伤早日消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您代表卡罗纳，向关爱他的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选取其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一封信，感谢他对卡罗纳的无限关爱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帮助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89000"/>
            <a:ext cx="3024000" cy="12747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写信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341360"/>
            <a:ext cx="9144000" cy="4319640"/>
          </a:xfrm>
          <a:custGeom>
            <a:avLst/>
            <a:gdLst>
              <a:gd name="textAreaLeft" fmla="*/ 2148840 w 9144000"/>
              <a:gd name="textAreaRight" fmla="*/ 6988680 w 9144000"/>
              <a:gd name="textAreaTop" fmla="*/ 507600 h 4319640"/>
              <a:gd name="textAreaBottom" fmla="*/ 2709720 h 431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师  我  同学  我的母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幸… … 幸福… …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33360" y="-20520"/>
            <a:ext cx="507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板书：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3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卡罗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8720" y="1628640"/>
            <a:ext cx="765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我们的现实生活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父母时时处处无微不至地呵护着我们，就像王宏伟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《儿行千里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19280" y="692280"/>
            <a:ext cx="60199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裳再添几件饭菜多吃几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门在外没有妈熬的小米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会儿看看脸一会儿摸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会儿又要嘱咐的话装进儿的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今要到了离开家的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才理解儿行千里母担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里的路啊我还一步没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看见泪水在妈妈眼里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妈妈眼里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172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809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195640" y="549360"/>
            <a:ext cx="5545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我为父母献爱心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1836720" y="3716280"/>
            <a:ext cx="73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请看下面的图片－－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联系自己的实际情况，谈谈父母从我们出生到现在给予了我们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765000"/>
            <a:ext cx="6264360" cy="249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爱是一种能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我们要学会爱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6320" y="792000"/>
            <a:ext cx="5209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齐读：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   关爱他人是一种美德，她能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以春天般的温暖，她能融化一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冰冷的心。我们相信，卡罗纳在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么多爱的笼罩下，心头的悲伤会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渐消退的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爱，让人间充满温馨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80360" y="5734080"/>
            <a:ext cx="1763640" cy="1057320"/>
          </a:xfrm>
          <a:custGeom>
            <a:avLst/>
            <a:gdLst>
              <a:gd name="textAreaLeft" fmla="*/ 414360 w 1763640"/>
              <a:gd name="textAreaRight" fmla="*/ 1347840 w 1763640"/>
              <a:gd name="textAreaTop" fmla="*/ 124200 h 1057320"/>
              <a:gd name="textAreaBottom" fmla="*/ 663120 h 1057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的奉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9900" t="36761" r="44912" b="58271"/>
          <a:stretch/>
        </p:blipFill>
        <p:spPr>
          <a:xfrm>
            <a:off x="2268360" y="620640"/>
            <a:ext cx="4608720" cy="86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1844640"/>
            <a:ext cx="74739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遭到不幸     怜悯      屏息凝视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俯下身来    千叮咛万嘱咐    端详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号啕大哭    目不转睛     恍然大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目不转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885080" y="6351480"/>
            <a:ext cx="1006560" cy="50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956720" y="640080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91520" y="5943600"/>
            <a:ext cx="1006200" cy="50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74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6094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自读课文，说说课文讲了一件什么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1916280"/>
            <a:ext cx="66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课文讲了小男孩卡罗纳在遭遇失去母亲的巨大不幸时，身边的人真诚地理解他，热情地安慰她，默默地关爱他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56000" y="333360"/>
            <a:ext cx="2879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导读提纲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484280"/>
            <a:ext cx="7920000" cy="475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当知道卡罗纳所遭遇的不幸时，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老师是怎么做的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从课文哪些地方可以看出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失去母亲的卡罗纳是万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     伤心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我”和同学们是怎样传达对卡罗纳的关爱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当“我”跑过来扑进母亲的怀抱时，她为什么把“我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     推开呢？“目不转睛”什么意思？你从母亲的“目不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      睛”里读懂了什么？“我”恍然大悟了什么？你从哪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      读出来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692280"/>
            <a:ext cx="77058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卡罗纳要来上学的前一天，细心的老师提前嘱咐孩子们不要开玩笑，要热情地对待卡罗纳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421000"/>
            <a:ext cx="7834320" cy="181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、他面容灰白，眼睛哭红了，两脚站不稳，好像他自己也病了一场似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、他的脑海里一下子闪现出往日的情景。那时候，母亲差不多每天都来接他。要考试了，母亲总是俯下身来向他千叮咛万嘱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、当他看到一幅母亲拉着儿子的手的插图时，突然双手抱住脑袋，趴在桌子上号啕大哭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67640" y="6165720"/>
            <a:ext cx="1006560" cy="506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740720" y="616572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006200" cy="506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67640" y="609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60280"/>
            <a:ext cx="7580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当神情恍惚、面容憔悴的卡罗纳走进学校时，同学们“都屏息凝神地望着他”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当卡罗纳看到书中的母子插图号啕大哭时，</a:t>
            </a: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同桌的“我”也伸出了热情的手，低声地劝慰他。放学时，同学们都“围在他身边，谁都没有说话，只用关切的目光默默地看着他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00360" y="404640"/>
            <a:ext cx="5327640" cy="1368720"/>
          </a:xfrm>
          <a:prstGeom prst="cloudCallout">
            <a:avLst>
              <a:gd name="adj1" fmla="val -53425"/>
              <a:gd name="adj2" fmla="val 9651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692280"/>
            <a:ext cx="32241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注意力高度集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2492280"/>
            <a:ext cx="30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目不转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3357720"/>
            <a:ext cx="758052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接“我”的母亲，因担心勾起卡罗纳的回忆而将“我”推开，目不转睛地望着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4941720"/>
            <a:ext cx="754560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看着悲哀的卡罗纳，“我”恍然大悟，“拉起卡罗纳的手，和他一块儿回家去”。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596360" y="6237360"/>
            <a:ext cx="1152360" cy="620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卡罗纳失去了每天接送他上下学的妈妈，失去了不断鼓励他的妈妈，失去了以他为傲的妈妈，他深深地陷入了无比的哀伤中，身边的人都深切地感受到了他的伤心。他们，都用各自不同的方式，默默关爱着卡罗纳。他们的关爱隐藏在平凡的一句话中，一个动作中，甚至是一个眼神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0120" y="6172200"/>
            <a:ext cx="1006200" cy="50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960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1314360" cy="140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620640"/>
            <a:ext cx="60498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卡罗纳，一个失去了妈妈，遭受了不幸的孩子，如果你就是卡罗纳的同学，他就在你身边，当你看到这样的情景时，你会怎么做，或者怎么说呢？（三选一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54200" y="2276640"/>
            <a:ext cx="4138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课了，当我发现卡罗纳一个人趴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桌子上不出去活动时，我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吃中饭的时候，当我发现卡罗纳面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着饭菜流着泪坐着的时候，我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着作业，卡罗纳又轻声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啜泣起来，我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5229360"/>
            <a:ext cx="3672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言一行总关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2:47:00Z</dcterms:created>
  <dc:creator>Administrator</dc:creator>
  <dc:description/>
  <dc:language>en-US</dc:language>
  <cp:lastModifiedBy/>
  <dcterms:modified xsi:type="dcterms:W3CDTF">2015-08-19T06:12:30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