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D9E-AADF-4725-8F62-D3C829D0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522-9283-4BE3-81A0-6B2F70AA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E06-C693-462E-9DB8-9EE7A3A8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E5D-1D9A-4F96-B7B3-95D768A6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83C0-6CBB-4C36-9BE8-2274A795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5DA0-30B4-4789-9EF6-48624A11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230E-675C-4015-A650-B872DF22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F545-40DF-49A1-B06D-7EAF2CBB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6348-B569-49E3-B1B8-6B9E794B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DC03-FD6C-4120-8727-1ECCDB2F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257D-1D6B-418D-A39E-99AEE68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132-9226-4871-8C04-74926D00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8583-3CC0-462F-9AA7-4572F03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1DDF-D1B6-4DC4-BC6D-57DF8B25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806F-81CB-4B65-9ACE-FDCF37EC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6B43-553E-493C-BA2D-4CBDA906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1556-267D-4A2A-8634-116ED461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4A5-CE6E-462D-9CC3-DDE1AE0C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04F-7783-4EC4-B085-CB819E5E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1AB-5D65-4A03-9E50-944660EB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8CC-BDFC-4225-93E9-9D563526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0BD-63A0-43B0-B64B-A79EAE08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706-04B4-450B-8C1F-63C0919F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26B-029D-4D8D-9D4B-EF829533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5FB4-F4B4-4C9F-9678-6AC2D5F7509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8301-4864-466A-BD56-04143714142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19320" y="1981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比喻没有真才实学而混在行家队伍中凑数的人，或把不好的东西混在好的里面充数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4464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滥竽充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43200" y="9907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刻舟求剑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22096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刻：用刀子雕，这里指用刀子做记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971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求：找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1911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新方法：给自己提问，用自己的话把句子补充完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新宋体"/>
              </a:rPr>
              <a:t>根据方法，自译课文。（自己说一说）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32004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要求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独立尝试，选用恰当的方法，逐句翻译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小组合作，释疑互译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、将自己翻译过程中的疑问提出，在小组内讨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二、指名一人翻译，其他人补充，尤其注意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字翻译到位。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楚人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涉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者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舟中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坠于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水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遽契其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舟，曰：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吾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所从坠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”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止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所契者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入水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求之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舟已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行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矣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剑不行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求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若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此，不亦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惑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乎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!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楷体"/>
                <a:ea typeface="楷体"/>
              </a:rPr>
              <a:t>有个楚国人渡江，他的剑从船上掉到水里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52388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楚人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舟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坠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水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14600"/>
            <a:ext cx="5941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涉：乘船渡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者：……的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其：他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自：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坠：掉下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于：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1680" y="609480"/>
            <a:ext cx="8540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"/>
                <a:ea typeface="楷体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楷体"/>
                <a:ea typeface="楷体"/>
              </a:rPr>
              <a:t>他急忙在那船边上刻下记号，说：“这儿是我的剑掉下去的地方。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25560" y="1828800"/>
            <a:ext cx="41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遽契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舟，曰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所从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438280"/>
            <a:ext cx="8534160" cy="35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遽：立刻，马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契：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其：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是：指示代词，这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之：用在主谓之间，取消句子独立性，无实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所从坠：（剑）掉下去的地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815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"/>
              </a:rPr>
              <a:t>船停了，他从刻记号的地方下水找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5080" y="1523880"/>
            <a:ext cx="330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止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所契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入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求之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362320"/>
            <a:ext cx="6858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止：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其：他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所契者：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指船上刻记号的地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求：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之：指剑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168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楷体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"/>
              </a:rPr>
              <a:t>船已经前进了，但是剑落在江底不会随船前进，像这样找剑，不是很糊涂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76560" y="1981080"/>
            <a:ext cx="50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舟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矣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剑不行，求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若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不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819520"/>
            <a:ext cx="792792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行：前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而，但是，表转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若此：像这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惑：糊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不亦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乎：固定句式，表示反问语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本文讲了一个什么故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15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楚人在剑掉入江中时在船上刻了个记号，在船靠岸后从记号处入江找剑，却找不到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朗读课文，思考问题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3600" y="2209320"/>
            <a:ext cx="82328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仿宋_GB2312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仿宋_GB2312"/>
              </a:rPr>
              <a:t>楚人为什么找不到他的剑，文中哪句话告诉了我们原因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舟已行矣，而剑不行，求剑若此，不亦惑乎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仿宋_GB2312"/>
              </a:rPr>
              <a:t>你觉得楚人是怎样的人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固执己见、不知变通，不懂得根据实际情况采取灵活对策的愚蠢的人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仿宋_GB2312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仿宋_GB2312"/>
              </a:rPr>
              <a:t>这则寓言故事告诉我们一个怎样的道理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我们做事要从实际情况出发，根据不同的情况，采取灵活的对策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1981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比喻倚仗别人的势力来欺压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4464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狐假虎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609120"/>
            <a:ext cx="56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新宋体"/>
              </a:rPr>
              <a:t>根据提示背诵课文：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2187720"/>
            <a:ext cx="82328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楚人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其剑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遽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曰：“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”舟止，从其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舟已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而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求剑若此，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7a77"/>
                </a:solidFill>
                <a:uFillTx/>
                <a:latin typeface="Arial"/>
              </a:rPr>
              <a:t>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05920" y="6172200"/>
            <a:ext cx="533160" cy="38088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255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89160" y="2895480"/>
            <a:ext cx="6940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"/>
              </a:rPr>
              <a:t>如果你是楚国人，你会怎么做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571760"/>
            <a:ext cx="8534160" cy="38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7a77"/>
                </a:solidFill>
                <a:latin typeface="Arial"/>
              </a:rPr>
              <a:t>作业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、练习默写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刻舟求剑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、把这个故事说给家人听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、续写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刻舟求剑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7" name="Picture 6" descr="kezhou1"/>
          <p:cNvPicPr/>
          <p:nvPr/>
        </p:nvPicPr>
        <p:blipFill>
          <a:blip r:embed="rId1"/>
          <a:stretch/>
        </p:blipFill>
        <p:spPr>
          <a:xfrm>
            <a:off x="76320" y="609480"/>
            <a:ext cx="8908920" cy="5791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62520" y="6858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刻舟求剑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《吕氏春秋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410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《吕氏春秋》是在秦国丞相吕不韦主持下，集合门客们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撰的一部黄老道家名著。成书于秦始皇统一中国前夕。此书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道家思想为主干，融合各家学说，吕不韦想以此作为大一统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的意识形态。但后来执政的秦始皇却选择了法家思想，并在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一中国后不久焚书坑儒，使包括道家在内的诸子百家全部受挫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全书共分十二卷，一百六十篇，二十余万字。《吕氏春秋》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为十二纪、八览、六论，注重博采众家学说，以道家黄老思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为主，兼收儒、墨、法、兵、农、纵横和阴阳各先秦诸子百家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言论，所以《汉书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艺文志》等将其列入杂家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字千金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4064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布咸阳市门，悬千金其上，延诸侯游士宾客有能增损一字者予千金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212760"/>
            <a:ext cx="4419360" cy="308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4326120" cy="3070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876920" y="228600"/>
            <a:ext cx="3943080" cy="3003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800600" y="3657600"/>
            <a:ext cx="4222800" cy="2840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8040" y="35100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360" y="380988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86360" y="38088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86360" y="3962520"/>
            <a:ext cx="52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762120"/>
            <a:ext cx="792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读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古文的要求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读准字音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读通句子，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吐字清楚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停顿得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320" y="399960"/>
            <a:ext cx="8915400" cy="6007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76520" y="11430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11430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7524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752480"/>
            <a:ext cx="27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24382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6576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9528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6576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29528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译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古文的方法：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0" y="236232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看注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观插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查字典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联系上下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查资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7T11:56:10Z</dcterms:created>
  <dc:creator/>
  <dc:description/>
  <dc:language>en-US</dc:language>
  <cp:lastModifiedBy>User</cp:lastModifiedBy>
  <dcterms:modified xsi:type="dcterms:W3CDTF">2015-07-09T01:37:0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