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png" ContentType="image/png"/>
  <Override PartName="/ppt/media/image5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9.gif" ContentType="image/gif"/>
  <Override PartName="/ppt/media/image54.wmf" ContentType="image/x-wmf"/>
  <Override PartName="/ppt/media/image58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24.png" ContentType="image/png"/>
  <Override PartName="/ppt/media/image2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1.gif" ContentType="image/gif"/>
  <Override PartName="/ppt/media/image26.png" ContentType="image/png"/>
  <Override PartName="/ppt/media/image60.gif" ContentType="image/gif"/>
  <Override PartName="/ppt/media/image28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5.gif" ContentType="image/gi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6.gif" ContentType="image/gif"/>
  <Override PartName="/ppt/media/image8.png" ContentType="image/png"/>
  <Override PartName="/ppt/media/image38.png" ContentType="image/png"/>
  <Override PartName="/ppt/media/image13.png" ContentType="image/png"/>
  <Override PartName="/ppt/media/image57.gif" ContentType="image/gif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BBB-45AA-4AB7-AC2B-CB4A7847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39B-2105-4A7F-BC14-51542521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4FD-E949-4FCE-8510-FDD4A8DE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593-B9D5-4767-A4A4-ACF42B2C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FDC-A747-4CC6-B32F-F753AE08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D9F-126B-4AC3-B175-A07B4F0F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FBE-FDE8-4C8E-9B42-88DD360C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699-1FB1-4F4C-8998-037CE149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C8F-5800-4F42-8828-C7564455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657-4867-484B-A08A-0168181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C99-2278-4BFF-A70D-7FC24298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D30-23A6-41DB-A8F1-BAF4339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1B51-C4FC-4F2C-9902-53CAA39A3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4495680"/>
            <a:ext cx="9144000" cy="152424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209680" y="251460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  捞铁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2"/>
          <p:cNvSpPr/>
          <p:nvPr/>
        </p:nvSpPr>
        <p:spPr>
          <a:xfrm>
            <a:off x="2286000" y="365760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124080" y="5410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 三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2967120"/>
            <a:ext cx="5410080" cy="20685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09680" y="16765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音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5"/>
          <p:cNvSpPr/>
          <p:nvPr/>
        </p:nvSpPr>
        <p:spPr>
          <a:xfrm>
            <a:off x="304920" y="380880"/>
            <a:ext cx="2819160" cy="762120"/>
          </a:xfrm>
          <a:custGeom>
            <a:avLst/>
            <a:gdLst>
              <a:gd name="textAreaLeft" fmla="*/ 89640 w 2819160"/>
              <a:gd name="textAreaRight" fmla="*/ 2729520 w 28191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798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273" y="21600"/>
                </a:lnTo>
                <a:arcTo wR="3600" hR="3600" stAng="10800000" swAng="5400000"/>
                <a:lnTo>
                  <a:pt x="7987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词语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浮桥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并列的船或筏子上铺上木板造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淤泥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河流、池塘等水底沉积的泥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笨重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庞大沉重，不灵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知道得很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2133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读课文，想一想课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2767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本文是一篇人物故事，讲的是宋代和尚怀丙利用水的浮力打捞铁牛的故事，反映了我国古代的科学技术成就和劳动人民的聪明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5"/>
          <p:cNvSpPr/>
          <p:nvPr/>
        </p:nvSpPr>
        <p:spPr>
          <a:xfrm>
            <a:off x="304920" y="380880"/>
            <a:ext cx="2819160" cy="762120"/>
          </a:xfrm>
          <a:custGeom>
            <a:avLst/>
            <a:gdLst>
              <a:gd name="textAreaLeft" fmla="*/ 89640 w 2819160"/>
              <a:gd name="textAreaRight" fmla="*/ 2729520 w 28191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798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273" y="21600"/>
                </a:lnTo>
                <a:arcTo wR="3600" hR="3600" stAng="10800000" swAng="5400000"/>
                <a:lnTo>
                  <a:pt x="7987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文解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再读课文，想一想课文可以分为几个部分，每个部分讲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9382" t="2905" r="1518" b="0"/>
          <a:stretch/>
        </p:blipFill>
        <p:spPr>
          <a:xfrm>
            <a:off x="2286000" y="2895480"/>
            <a:ext cx="388620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143000"/>
            <a:ext cx="784872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第一部分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讲洪水冲断了浮桥，拴浮桥的铁牛被大水冲走，陷在河底的淤泥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第二部分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讲重修浮桥时，怀丙和尚提出他能把铁牛捞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第三部分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讲打捞铁牛的准备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第四部分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4—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讲怀丙和尚怎样让人们捞出了一只只铁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28800" y="11430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学习第一、二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81080"/>
            <a:ext cx="5257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两部分分别交代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352680"/>
            <a:ext cx="76964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第一部分交代了故事发生的时间和地点，以及铁牛的作用和陷入淤泥的原因，从侧面说明了铁牛之重，暗示要捞出铁牛很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第二部分交代了怀丙和尚想出捞铁牛的办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2743200"/>
            <a:ext cx="8458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了捞铁牛，怀丙和尚做了四项准备工作，是哪四项呢？在课文里找出来，作上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1430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学习第三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6765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怀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先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请熟悉水性的人潜到水底摸，摸清了八只铁牛陷在哪儿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然后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让人准备了两只很大的木船，船舱里装满泥沙，划到铁牛沉没的地方。船停稳了，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再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叫人把两只船 并排栓得紧紧的，用结实的木料搭个架子，跨在两只船上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又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请熟悉水性的人带了很粗的绳子潜到水底，用绳子的一头牢牢地拴住铁牛，把绳子的另一头绑在两只大船之间的架子上。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54240" y="137160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60280" y="342900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8560" y="449568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2286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762120"/>
            <a:ext cx="79261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同学们边读边找出代表先后顺序的字词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5640" y="1965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11440" y="2743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然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55800" y="365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49320" y="4648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98108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摸清铁牛的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33600" y="2849400"/>
            <a:ext cx="37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准备装满沙的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7339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两只船并排拴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6880" y="4678200"/>
            <a:ext cx="44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把船和铁牛拴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62880" y="1943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24200" y="3009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22760" y="4152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22760" y="5372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四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2062080"/>
            <a:ext cx="18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大船装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73800" y="311472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潜水摸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56240" y="427212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粗绳拴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5415120"/>
            <a:ext cx="19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并船搭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2276640"/>
            <a:ext cx="2361960" cy="11430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048120" y="2428920"/>
            <a:ext cx="2514600" cy="9144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4486320"/>
            <a:ext cx="259092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8120" y="4562280"/>
            <a:ext cx="2514600" cy="10666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33920" y="914400"/>
            <a:ext cx="198108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连连看</a:t>
            </a:r>
            <a:endParaRPr b="1" i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5"/>
          <p:cNvSpPr/>
          <p:nvPr/>
        </p:nvSpPr>
        <p:spPr>
          <a:xfrm>
            <a:off x="304920" y="380880"/>
            <a:ext cx="2819160" cy="762120"/>
          </a:xfrm>
          <a:custGeom>
            <a:avLst/>
            <a:gdLst>
              <a:gd name="textAreaLeft" fmla="*/ 89640 w 2819160"/>
              <a:gd name="textAreaRight" fmla="*/ 2729520 w 28191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798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273" y="21600"/>
                </a:lnTo>
                <a:arcTo wR="3600" hR="3600" stAng="10800000" swAng="5400000"/>
                <a:lnTo>
                  <a:pt x="7987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人物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363840" cy="441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1120" y="1828800"/>
            <a:ext cx="4386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黑体"/>
                <a:ea typeface="黑体"/>
              </a:rPr>
              <a:t>怀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00ff"/>
                </a:solidFill>
                <a:latin typeface="黑体"/>
                <a:ea typeface="黑体"/>
              </a:rPr>
              <a:t>宋朝著名的和尚，法名怀丙，北宋真定（今河北正定县）人。据史书记载，怀丙和尚天生聪明善思，曾多次解决当时困难重重的工程难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2743200"/>
            <a:ext cx="8458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做完了四项准备工作后，怀丙和尚又是怎么做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523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学习第四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5289480"/>
            <a:ext cx="23479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30120" y="1219320"/>
            <a:ext cx="4813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准备工作做好了。怀丙请水手们一起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手，把船上的泥沙都铲到黄河里去。船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泥沙渐渐减少，船身也慢慢向上浮起，栓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牛的绳子越绷越紧。船靠着水的浮力，把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牛从淤泥里一点儿一点儿地往上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船上的泥沙铲光了，铁牛也离开了河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怀丙让水手们使劲把船划到岸边，再让许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人一齐用力，把水里的铁牛拖上了岸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6320" y="171936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22920" y="518148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0800" y="5195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▲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　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 rot="5400000">
            <a:off x="-647280" y="3085200"/>
            <a:ext cx="32749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填一填</a:t>
            </a:r>
            <a:endParaRPr b="1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213372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准备工作做好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和尚先让水手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_________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＿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_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再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____________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最后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___________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28240" y="2895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铲沙浮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6280" y="358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划船拖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75760" y="4267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拉牛上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4568760"/>
            <a:ext cx="1979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36232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准备工作做好了。和尚请水手们一起动手，把船上的泥沙</a:t>
            </a:r>
            <a:r>
              <a:rPr b="1" lang="zh-CN" sz="3200" spc="-1" strike="noStrike">
                <a:solidFill>
                  <a:srgbClr val="3399ff"/>
                </a:solidFill>
                <a:latin typeface="黑体"/>
                <a:ea typeface="黑体"/>
              </a:rPr>
              <a:t>铲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撒</a:t>
            </a:r>
            <a:r>
              <a:rPr b="1" lang="zh-CN" sz="3200" spc="-1" strike="noStrike">
                <a:solidFill>
                  <a:srgbClr val="3399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黄河里去。船里的泥沙慢慢地减少，船身慢慢地向上浮，拴住铁牛的绳子越崩越紧。船靠着水的浮力，把铁牛从淤泥里一点儿一点儿地向上</a:t>
            </a:r>
            <a:r>
              <a:rPr b="1" lang="zh-CN" sz="3200" spc="-1" strike="noStrike">
                <a:solidFill>
                  <a:srgbClr val="3399ff"/>
                </a:solidFill>
                <a:latin typeface="黑体"/>
                <a:ea typeface="黑体"/>
              </a:rPr>
              <a:t>拔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拽</a:t>
            </a:r>
            <a:r>
              <a:rPr b="1" lang="zh-CN" sz="3200" spc="-1" strike="noStrike">
                <a:solidFill>
                  <a:srgbClr val="3399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95480" y="129528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读一读  比一比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1523880"/>
            <a:ext cx="8610480" cy="25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船越（    ），装的沙就越（    ），船的重量就越（    ），船身就下沉的越（    ），离铁牛的距离也就越（    ）；铲去黄沙，船身渐渐上（    ），离铁牛的距离越来越（    ），所以绳子越绷越（    ），因此，铁牛被（    ）出了淤泥；最后又将铁牛顺水拖回，这些都是利用了水的（    ）。怀丙和尚不愧是（     ）（       ）工程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733920" y="533520"/>
            <a:ext cx="1752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填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2598480" y="1523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97440" y="1515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568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8280" y="2514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056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55880" y="2971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17240" y="3505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70480" y="3505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36560" y="396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23600" y="441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浮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13840" y="4952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宋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74040" y="4906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出色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2209680"/>
            <a:ext cx="800100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怀丙和尚是个出色的工程家，他打捞铁牛的办法确实好，不过，他捞一只铁牛需要两船泥沙，捞八只铁牛就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船泥沙，以现代的环保观点看，有没有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我们想想，有没有什么办法既能捞出铁牛，又注意了环保？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743400">
            <a:off x="2895120" y="533160"/>
            <a:ext cx="3276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来说：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549360"/>
            <a:ext cx="8893440" cy="6308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152280"/>
            <a:ext cx="43434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示捞铁牛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820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632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920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5"/>
          <p:cNvSpPr/>
          <p:nvPr/>
        </p:nvSpPr>
        <p:spPr>
          <a:xfrm>
            <a:off x="304920" y="380880"/>
            <a:ext cx="2819160" cy="762120"/>
          </a:xfrm>
          <a:custGeom>
            <a:avLst/>
            <a:gdLst>
              <a:gd name="textAreaLeft" fmla="*/ 89640 w 2819160"/>
              <a:gd name="textAreaRight" fmla="*/ 2729520 w 28191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798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273" y="21600"/>
                </a:lnTo>
                <a:arcTo wR="3600" hR="3600" stAng="10800000" swAng="5400000"/>
                <a:lnTo>
                  <a:pt x="7987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相关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71600"/>
            <a:ext cx="8381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大铁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铸造于唐开元年间，作浮桥的锚用。宋末，浮桥被金军烧毁。后来，大铁牛渐被泥沙埋没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8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从黄河古道中挖出四只大铁牛。最轻的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6.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吨。最重的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5.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吨。四只铁牛一只只膘肥体壮、肌肉隆起、圆目怒睁、威风凛凛，相貌彼此相似而又各有差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江泽民总书记到蒲津桥遗址视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并题词留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777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848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280" y="1168560"/>
            <a:ext cx="86504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5"/>
          <p:cNvSpPr/>
          <p:nvPr/>
        </p:nvSpPr>
        <p:spPr>
          <a:xfrm>
            <a:off x="304920" y="380880"/>
            <a:ext cx="2819160" cy="762120"/>
          </a:xfrm>
          <a:custGeom>
            <a:avLst/>
            <a:gdLst>
              <a:gd name="textAreaLeft" fmla="*/ 89640 w 2819160"/>
              <a:gd name="textAreaRight" fmla="*/ 2729520 w 28191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798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273" y="21600"/>
                </a:lnTo>
                <a:arcTo wR="3600" hR="3600" stAng="10800000" swAng="5400000"/>
                <a:lnTo>
                  <a:pt x="7987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生字全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1500"/>
          <a:stretch/>
        </p:blipFill>
        <p:spPr>
          <a:xfrm>
            <a:off x="1285920" y="2133720"/>
            <a:ext cx="990720" cy="118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981360" cy="117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85920" y="5143680"/>
            <a:ext cx="981000" cy="1180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95480" y="2209680"/>
            <a:ext cx="4286520" cy="50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200400" y="2819520"/>
            <a:ext cx="3867120" cy="371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743200" y="3743280"/>
            <a:ext cx="5010120" cy="447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886200" y="4286160"/>
            <a:ext cx="2971800" cy="43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2819520" y="5219640"/>
            <a:ext cx="5343480" cy="495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657600" y="5781600"/>
            <a:ext cx="4314960" cy="466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666880" y="1219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94352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0400" y="2133720"/>
            <a:ext cx="4381560" cy="514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371600" y="1600200"/>
            <a:ext cx="990720" cy="117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371600" y="3124080"/>
            <a:ext cx="990720" cy="116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371600" y="4648320"/>
            <a:ext cx="100008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048120" y="4648320"/>
            <a:ext cx="4419360" cy="571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3276720" y="5257800"/>
            <a:ext cx="4010040" cy="46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2743200" y="3238560"/>
            <a:ext cx="5857920" cy="495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3505320" y="3772080"/>
            <a:ext cx="40194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990360" cy="12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47920" y="3276720"/>
            <a:ext cx="981000" cy="119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447920" y="4762440"/>
            <a:ext cx="990360" cy="1181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76720" y="4809960"/>
            <a:ext cx="3695760" cy="52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124080" y="5486400"/>
            <a:ext cx="3915000" cy="495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895480" y="3333600"/>
            <a:ext cx="4638960" cy="552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3581280" y="3962520"/>
            <a:ext cx="288612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752560" y="1828800"/>
            <a:ext cx="4562640" cy="495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2971800" y="2362320"/>
            <a:ext cx="3952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971640" cy="1171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43200" y="1685880"/>
            <a:ext cx="5638680" cy="523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352680" y="2276640"/>
            <a:ext cx="3962520" cy="466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590920" y="3200400"/>
            <a:ext cx="5257800" cy="533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276720" y="3733920"/>
            <a:ext cx="4000320" cy="419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590920" y="4648320"/>
            <a:ext cx="6010200" cy="514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3505320" y="5181480"/>
            <a:ext cx="4429080" cy="466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rcRect l="0" t="0" r="0" b="907"/>
          <a:stretch/>
        </p:blipFill>
        <p:spPr>
          <a:xfrm>
            <a:off x="1343160" y="3087720"/>
            <a:ext cx="1019160" cy="117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rcRect l="0" t="0" r="0" b="1815"/>
          <a:stretch/>
        </p:blipFill>
        <p:spPr>
          <a:xfrm>
            <a:off x="1371600" y="4546440"/>
            <a:ext cx="9907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5438880" cy="514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9880" y="2514600"/>
            <a:ext cx="3067200" cy="43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4524480" cy="523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3809880"/>
            <a:ext cx="385776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200400" y="4857840"/>
            <a:ext cx="4219560" cy="55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429000" y="5410080"/>
            <a:ext cx="40957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1371600" y="1828800"/>
            <a:ext cx="990720" cy="1162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1380960" y="3276720"/>
            <a:ext cx="981360" cy="1171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1371600" y="4724280"/>
            <a:ext cx="99072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905040" cy="1266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2209680" y="16765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76720" y="2967120"/>
            <a:ext cx="904680" cy="126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2960640"/>
            <a:ext cx="914400" cy="128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276960" y="2940120"/>
            <a:ext cx="885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15:41Z</dcterms:created>
  <dc:creator>Administrator</dc:creator>
  <dc:description/>
  <dc:language>en-US</dc:language>
  <cp:lastModifiedBy/>
  <dcterms:modified xsi:type="dcterms:W3CDTF">2016-04-25T08:15:5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