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9C7-80BD-4855-8313-ADD21CAB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678-16C1-444A-90DB-CBDA838D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A81-108F-42C6-9739-2C27FAC8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6AC-69BC-4828-8330-7497D89C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42A-FE88-4F42-98B5-8ABF10CE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F8D-E109-461E-BB61-92031C4E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092-ED18-4D3A-A966-DC9C578F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7B4-8AD5-4888-9EA4-6C1F501D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059-9170-49F7-BE52-C9123C58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979-D1B6-4356-AECE-839E1502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FE8-F387-4B2D-B37D-A060C26A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AAF-BD3A-4A9D-B163-5DD49712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6F11-9B4F-46C0-9ABB-68AFA6D1A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4800600"/>
            <a:ext cx="9144000" cy="1523880"/>
          </a:xfrm>
          <a:prstGeom prst="rect">
            <a:avLst/>
          </a:prstGeom>
          <a:solidFill>
            <a:srgbClr val="99ff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828800" y="47242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 柳笛和榆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2"/>
          <p:cNvSpPr/>
          <p:nvPr/>
        </p:nvSpPr>
        <p:spPr>
          <a:xfrm>
            <a:off x="2286000" y="56386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581280" y="5715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 三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4100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柳笛声音的高低是由柳管的粗细决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粗笛声音浑厚，呜呜的像牛吼；细笛声音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厉，吱吱的像雏鸡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88620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句话运用比喻的修辞手法，用人们熟知的“牛吼”和“雏鸡叫”来分别比喻粗、细笛发出的声音，形象而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205704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天把自己的歌声藏在柳树的枝叶里，每个孩子都有本事把这歌声找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7339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句话是写聪明可爱的孩子们在柳树那里找到了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1523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阅读第四自然段，体会：这一段写出了什么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2743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一段写出了榆钱的好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3733920"/>
            <a:ext cx="3657600" cy="2732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3353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94920" y="190476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榆钱是榆树的奉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3429000"/>
            <a:ext cx="4724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榆树是无私的，给孩子们带来了鲜美的榆钱，让孩子多了一份童年的享受和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276720"/>
            <a:ext cx="3657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榆钱非常好吃。清晨，露水还浸润着榆钱的时候，它们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亮晶晶、绿莹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，真像一串串晶莹的玉荚。折下一枝，像吃糖葫芦一样吃下去，那滋味真美妙！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343400"/>
            <a:ext cx="5562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通过比喻形象地写出了榆钱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248520" y="4038480"/>
            <a:ext cx="2514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片如果入口欲化，第二片一定稍稍提醒你仔细咀嚼。第三第四片呢，你能尝到露水与榆钱混合后的甜美，尝到土地的芬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42900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几句话形象生动的写出了出露水浸润过的榆钱的甜美感受：榆钱晶莹翠绿，鲜嫩可口，芬芳甜美，细细品来能嗅到大地的气息，令人陶醉。我们可以体会到作者对这种淳朴生活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中的榆钱吃完了，你会把目光停留在更高更密的榆树枝上，然后想方设法爬上墙头，骑着树杈，在枝叶的遮蔽下吃个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809880"/>
            <a:ext cx="487656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爬上墙头”、“骑着树杈”、把榆钱“吃个够”形象生动地写出了儿童对榆钱的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3352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2743200"/>
            <a:ext cx="7924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通过对柳笛和榆钱给孩子们的生活带来了许多欢乐的描写，表达了作者对童年生活的怀念和对农村淳朴生活的热爱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304920" y="45720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文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3880" y="990720"/>
            <a:ext cx="590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2590920"/>
            <a:ext cx="81007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树和榆树给春天里的孩子们带来了很多的乐趣，你知道还有哪些游戏活动给春天增添了色彩，给孩子们带来了欢乐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累文中描写生动的词语或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5"/>
          <p:cNvSpPr/>
          <p:nvPr/>
        </p:nvSpPr>
        <p:spPr>
          <a:xfrm>
            <a:off x="304920" y="45720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7720" y="2209320"/>
            <a:ext cx="7620120" cy="30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我会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亮晶晶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  _______  ___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自在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  _________ 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5"/>
          <p:cNvSpPr/>
          <p:nvPr/>
        </p:nvSpPr>
        <p:spPr>
          <a:xfrm>
            <a:off x="304920" y="45720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当堂训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5"/>
          <p:cNvSpPr/>
          <p:nvPr/>
        </p:nvSpPr>
        <p:spPr>
          <a:xfrm>
            <a:off x="304920" y="45720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新课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133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童年是什么？童年是一串串美味的糖葫芦，酸酸甜甜；童年是一个个美丽的肥皂泡，五彩缤纷。童年是无忧无虑，令人难忘的。这快乐的童年当然离不开各种各样的玩具。城里的孩子有变形金刚、芭比娃娃，那农村的孩子们呢？一起走进课文中看看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仿写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柳树的长发披散开来，自由自在地沐浴在春风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榆树常常把身子探出墙来，向我们招手。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柳笛与榆钱给孩子们带来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欢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孩子们的童年生活更快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柳笛，吹柳笛，吃榆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留下美好的回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5"/>
          <p:cNvSpPr/>
          <p:nvPr/>
        </p:nvSpPr>
        <p:spPr>
          <a:xfrm>
            <a:off x="304920" y="45720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生字全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19160" y="3438360"/>
            <a:ext cx="1324080" cy="1895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0" t="0" r="1331" b="0"/>
          <a:stretch/>
        </p:blipFill>
        <p:spPr>
          <a:xfrm>
            <a:off x="2867040" y="3429000"/>
            <a:ext cx="1335240" cy="1874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24280" y="3429000"/>
            <a:ext cx="132408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505560" y="3429000"/>
            <a:ext cx="1343160" cy="1895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00400" y="2057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45"/>
          <p:cNvSpPr/>
          <p:nvPr/>
        </p:nvSpPr>
        <p:spPr>
          <a:xfrm>
            <a:off x="304920" y="45720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词语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828800"/>
            <a:ext cx="79250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沐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文中比喻润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温顺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温和驯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浑厚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声音）低沉有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浸润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液体）渐渐渗入；滋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晶莹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光亮而透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咀嚼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牙齿磨碎食物；比喻对事物反复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152388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课文主要写了柳笛和榆钱带给孩子们的快乐。先写做柳笛，吹柳笛，后写吃榆钱的快乐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3733920" cy="309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36576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828800"/>
            <a:ext cx="80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阅读第一自然段，想一想：这一段第二句话用了什么修辞手法？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5"/>
          <p:cNvSpPr/>
          <p:nvPr/>
        </p:nvSpPr>
        <p:spPr>
          <a:xfrm>
            <a:off x="304920" y="45720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文解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657600"/>
            <a:ext cx="472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树的长发披散开来，自由自在地沐浴在春风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榆树常常把身子探出墙来，向我们招手</a:t>
            </a:r>
            <a:r>
              <a:rPr b="1" lang="zh-CN" sz="32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05520" y="3192480"/>
            <a:ext cx="373356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5238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一句话运用了拟人的修辞手法。作者把飘逸的柳枝说成“长发披散开来”，把柳树自由自在、充满勃勃生机的景象说成“沐浴在春风里”；而榆树则像顽皮的孩子，“把身子探出墙头，向我们招手”则运用了比喻的手法，简洁、生动而形象地写出了柳树河榆树的秀美和情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7524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阅读第二、三自然段，你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8954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折下一根小手指粗的柳枝，拿小刀切割齐整，然后轻轻拧一拧，使绿色的树皮略略松动，猛一下把它褪出树枝，一管柳笛就温顺地呈现在手中，愿意怎么吹就怎么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1523880"/>
            <a:ext cx="7925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段文字写了如何做柳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折下——切割——拧一拧——褪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3200400"/>
            <a:ext cx="37335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16:21Z</dcterms:created>
  <dc:creator>Administrator</dc:creator>
  <dc:description/>
  <dc:language>en-US</dc:language>
  <cp:lastModifiedBy/>
  <dcterms:modified xsi:type="dcterms:W3CDTF">2016-04-25T08:16:3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