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6AE-DFF4-4672-95BD-293E8A5B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20F-2331-4528-997C-55FBDBF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719-BF09-4AF6-A930-26ED0ABB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2BA-62B5-46B7-8DC7-808577A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AEB-9038-4F4B-A55B-79357D76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870-2E87-4D95-8FA0-A48B588D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8BB-01FB-4A11-A265-45FDE55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384-9012-4D96-BD6E-51C25806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624-C76F-41CF-A80E-62261B5D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DAE-8FF6-4DAB-9F7D-57A53FC1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85F-3C40-4E3E-A213-7A3B42F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C48-5F86-42A6-9CD3-3EE262B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DF2-71AC-4F82-BD3C-B950DC488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8948"/>
          <a:stretch/>
        </p:blipFill>
        <p:spPr>
          <a:xfrm>
            <a:off x="5334120" y="4114800"/>
            <a:ext cx="3733560" cy="2641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429000"/>
            <a:ext cx="9144000" cy="1523880"/>
          </a:xfrm>
          <a:prstGeom prst="rect">
            <a:avLst/>
          </a:prstGeom>
          <a:solidFill>
            <a:srgbClr val="bbe0e3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752480" y="35053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蚂蚁的救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>
            <a:off x="19051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505320" y="4495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1828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课文，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048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题目中的“救助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“蚂蚁的救助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733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救助：救援、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23880"/>
            <a:ext cx="6846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全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819520"/>
            <a:ext cx="6705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讲述了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蚂蚁在遇到危难的时候相互救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故事，表达了作者对自然界生命的敬重之情，从而也告诉人们应该学会关爱动物，关爱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33720"/>
            <a:ext cx="990720" cy="1371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240605"/>
                <a:lnTo>
                  <a:pt x="12594" y="20912"/>
                </a:lnTo>
                <a:lnTo>
                  <a:pt x="21600" y="17280"/>
                </a:lnTo>
                <a:lnTo>
                  <a:pt x="12594" y="12272"/>
                </a:lnTo>
                <a:lnTo>
                  <a:pt x="12594" y="14432"/>
                </a:lnTo>
                <a:arcTo wR="21600" hR="7560" stAng="8559395" swAng="18831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5"/>
          <p:cNvSpPr/>
          <p:nvPr/>
        </p:nvSpPr>
        <p:spPr>
          <a:xfrm>
            <a:off x="304920" y="380880"/>
            <a:ext cx="3124080" cy="762120"/>
          </a:xfrm>
          <a:custGeom>
            <a:avLst/>
            <a:gdLst>
              <a:gd name="textAreaLeft" fmla="*/ 89640 w 3124080"/>
              <a:gd name="textAreaRight" fmla="*/ 3034440 w 3124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85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4911" y="21600"/>
                </a:lnTo>
                <a:arcTo wR="3600" hR="3600" stAng="10800000" swAng="5400000"/>
                <a:lnTo>
                  <a:pt x="8851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读课文，想一想课文可以分为几个部分，每个部分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27672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事情的起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2~4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蚂蚁遇险，相互救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2209680"/>
            <a:ext cx="8153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齐读本段，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你知道事情发生的时间和地点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你知道“我”为什么没有对蚂蚁实施救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 “挣扎、生命力、生灵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4479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一部分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夏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一个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午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我给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阳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的几盆花木浇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5812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时间：夏天的一个午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地点：阳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6002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知道，蚂蚁虽不会游泳，但它们是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生命力极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小生灵。我没有对它们实施救援，因为花盆中的水很快就会渗下去，蚂蚁就可以着陆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1911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因为我知道，蚂蚁虽不会游泳，但它们是生命力极强的小生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20574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挣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力支撑或摆脱困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命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事物具有的生存、发展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灵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有生命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4996"/>
          <a:stretch/>
        </p:blipFill>
        <p:spPr>
          <a:xfrm>
            <a:off x="0" y="5138640"/>
            <a:ext cx="2901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水没有了之后，发生了什么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时，作者的内心是怎样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9907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二部分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819520"/>
            <a:ext cx="7467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几只蚂蚁在湿漉漉的泥土上又恢复了正常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两只蚂蚁被湿泥埋住了半截身子，正努力挣扎，可又爬不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6705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应该救助一下这两个落难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7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7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914400"/>
            <a:ext cx="624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我有没有对蚂蚁实施救助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什么是意想不到的事情？为什么作者觉得这件事情是意想不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</a:rPr>
              <a:t>没有，因为我看到了一件意想不到的事情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72428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</a:rPr>
              <a:t>两只被埋的蚂蚁同时被另外两只同伴救助着——那两只来救助的黄蚂蚁正用力向外拉它们的同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谁能说说我放弃救助蚂蚁的主要原因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谁能 用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.....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说我放弃救助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蚁这件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全班齐读本段，读出我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意想不到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2514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</a:rPr>
              <a:t>因为我被蚂蚁同伴之间互相帮助的这件事情震撼了心灵，我想让蚂蚁自己救助同伴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5"/>
          <p:cNvSpPr/>
          <p:nvPr/>
        </p:nvSpPr>
        <p:spPr>
          <a:xfrm>
            <a:off x="304920" y="380880"/>
            <a:ext cx="3124080" cy="762120"/>
          </a:xfrm>
          <a:custGeom>
            <a:avLst/>
            <a:gdLst>
              <a:gd name="textAreaLeft" fmla="*/ 89640 w 3124080"/>
              <a:gd name="textAreaRight" fmla="*/ 3034440 w 3124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85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4911" y="21600"/>
                </a:lnTo>
                <a:arcTo wR="3600" hR="3600" stAng="10800000" swAng="5400000"/>
                <a:lnTo>
                  <a:pt x="8851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巨大的灾难面前，人们总能互相帮助，共渡难关。他们在相互救助的过程中演绎了无数感人的故事，谱写很多动人的赞歌。人类世界既是如此，动物世界也不例外。不信你看一群蚂蚁在遭遇“洪水”灾难后是如何做的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535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默读课文，思考：蚂蚁救助同伴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怎样的？最后结果怎样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两只被埋住半截身子的蚂蚁是怎样被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出来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457200"/>
            <a:ext cx="624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352680"/>
            <a:ext cx="83818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一只蚂蚁先被同伴救了出来。另一只在同伴的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</a:rPr>
              <a:t>奋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救助下，也从泥土里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</a:rPr>
              <a:t>挣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了身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  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奋力”说明了在救助的过程中并非轻而易举，而是付出了相当的努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 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挣出”说明了被救的蚂蚁在同伴救它的同时自己也在努力地逃离险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2360" y="1125360"/>
            <a:ext cx="8739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我后来为什么又参加了救助？我在救助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内心是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蚂蚁看到同伴被救助后，他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蚂蚁看到同伴被救助后，立即上前去亲吻触抚，并试图将它衔走。感受到了蚂蚁这种乐于助人的精神确实让人感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3623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因为他感到了自己的责任，这场“水灾”是由他造成的，蚂蚁的不幸和他有着直接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1523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作者看到蚂蚁的救助过程是怎样想的？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有什么感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458136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0384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是一种什么样的道德素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说明一点就是自己并不具备有关蚂蚁的生物知识。尽管如此，却从蚂蚁的救助行为中感受到一种高尚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960" y="4876920"/>
            <a:ext cx="77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命之间要有关爱，人们应该懂得关爱他人，学会当别人有了困难甚至面临绝境的时候去奋力相助，甚至不惜牺牲自己的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9907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三部分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5"/>
          <p:cNvSpPr/>
          <p:nvPr/>
        </p:nvSpPr>
        <p:spPr>
          <a:xfrm>
            <a:off x="304920" y="380880"/>
            <a:ext cx="3124080" cy="762120"/>
          </a:xfrm>
          <a:custGeom>
            <a:avLst/>
            <a:gdLst>
              <a:gd name="textAreaLeft" fmla="*/ 89640 w 3124080"/>
              <a:gd name="textAreaRight" fmla="*/ 3034440 w 3124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85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4911" y="21600"/>
                </a:lnTo>
                <a:arcTo wR="3600" hR="3600" stAng="10800000" swAng="5400000"/>
                <a:lnTo>
                  <a:pt x="8851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286000"/>
            <a:ext cx="82296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小蚂蚁虽然弱小，然而在同伴遇到危险时，它们奋力相救，甚至不惜牺牲自己的一切，面对它们，我们怎能不升腾起敬重之情呢？从它们身上，我们也得到了启示，那就是——关爱他人，关爱生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5"/>
          <p:cNvSpPr/>
          <p:nvPr/>
        </p:nvSpPr>
        <p:spPr>
          <a:xfrm>
            <a:off x="304920" y="380880"/>
            <a:ext cx="3124080" cy="762120"/>
          </a:xfrm>
          <a:custGeom>
            <a:avLst/>
            <a:gdLst>
              <a:gd name="textAreaLeft" fmla="*/ 89640 w 3124080"/>
              <a:gd name="textAreaRight" fmla="*/ 3034440 w 3124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85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4911" y="21600"/>
                </a:lnTo>
                <a:arcTo wR="3600" hR="3600" stAng="10800000" swAng="5400000"/>
                <a:lnTo>
                  <a:pt x="8851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5480" y="1962000"/>
            <a:ext cx="1228680" cy="143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00240" y="2114640"/>
            <a:ext cx="439128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86040" y="2800440"/>
            <a:ext cx="224820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95480" y="3562200"/>
            <a:ext cx="1209600" cy="1457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076560" y="3714840"/>
            <a:ext cx="3505320" cy="495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610080" y="4400640"/>
            <a:ext cx="247644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1095480" y="5162400"/>
            <a:ext cx="1238040" cy="14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076560" y="5315040"/>
            <a:ext cx="4124520" cy="49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33760" y="5924520"/>
            <a:ext cx="3371760" cy="40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1143000"/>
            <a:ext cx="2667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121932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4334040" cy="48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1647720" cy="419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38080" y="3048120"/>
            <a:ext cx="1209960" cy="14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4086360" cy="36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352680" y="3886200"/>
            <a:ext cx="239076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838080" y="472428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438280" y="4896000"/>
            <a:ext cx="4572000" cy="514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124080" y="5562720"/>
            <a:ext cx="33148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122868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867120" cy="50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124080" y="2286000"/>
            <a:ext cx="312444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990720" y="3124080"/>
            <a:ext cx="1228680" cy="1486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438280" y="3429000"/>
            <a:ext cx="5238720" cy="48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325764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90720" y="4876920"/>
            <a:ext cx="1238040" cy="146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276720" y="5715000"/>
            <a:ext cx="320976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2362320" y="4952880"/>
            <a:ext cx="50576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1228680" cy="146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3114720" cy="46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352680" y="190512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62080" y="2867040"/>
            <a:ext cx="1228680" cy="147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743200" y="3095640"/>
            <a:ext cx="4400640" cy="48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352680" y="3705120"/>
            <a:ext cx="3314880" cy="40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171440" y="4629240"/>
            <a:ext cx="1229040" cy="146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895480" y="4791240"/>
            <a:ext cx="416268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3352680" y="5477040"/>
            <a:ext cx="33051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1218960" cy="1485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1238040" cy="146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90720" y="5010120"/>
            <a:ext cx="1218960" cy="146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819520" y="5257800"/>
            <a:ext cx="390528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124080" y="5867280"/>
            <a:ext cx="3333960" cy="333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048120" y="3505320"/>
            <a:ext cx="3066840" cy="43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895480" y="4114800"/>
            <a:ext cx="3305160" cy="399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666880" y="1676520"/>
            <a:ext cx="40006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rcRect l="0" t="18646" r="0" b="0"/>
          <a:stretch/>
        </p:blipFill>
        <p:spPr>
          <a:xfrm>
            <a:off x="2971800" y="2362320"/>
            <a:ext cx="334332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600200"/>
            <a:ext cx="266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95480" y="2666880"/>
            <a:ext cx="1342800" cy="1847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3400" y="1600200"/>
            <a:ext cx="266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音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3095640" cy="1190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25909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5"/>
          <p:cNvSpPr/>
          <p:nvPr/>
        </p:nvSpPr>
        <p:spPr>
          <a:xfrm>
            <a:off x="304920" y="380880"/>
            <a:ext cx="3124080" cy="762120"/>
          </a:xfrm>
          <a:custGeom>
            <a:avLst/>
            <a:gdLst>
              <a:gd name="textAreaLeft" fmla="*/ 89640 w 3124080"/>
              <a:gd name="textAreaRight" fmla="*/ 3034440 w 3124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85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4911" y="21600"/>
                </a:lnTo>
                <a:arcTo wR="3600" hR="3600" stAng="10800000" swAng="5400000"/>
                <a:lnTo>
                  <a:pt x="8851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7239240" cy="37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生命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指事物具有的生存、发展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生灵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指有生命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恢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成原来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小心翼翼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现用来形容举动十分谨慎，丝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敢疏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触抚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触动、抚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本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类和动物不学就会的本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16:45Z</dcterms:created>
  <dc:creator>Administrator</dc:creator>
  <dc:description/>
  <dc:language>en-US</dc:language>
  <cp:lastModifiedBy/>
  <dcterms:modified xsi:type="dcterms:W3CDTF">2016-04-25T08:17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