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835-6762-49A5-A168-39D5ED68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FEC-9068-4AC5-BEFB-5D5D52E4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192-F3F0-41BF-A82D-C25410B9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527-9481-4FD5-BDE6-18BC33A5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44A-CD03-4C84-91E5-E22F7A1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9B8-74CC-4B0C-95DD-5D5B5356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14A-CF84-4922-890E-1658246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F21-ED92-4F62-A592-5E9AB1FA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C52-3736-4C7C-9E2C-4727414A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146-119C-4EFF-B04F-1016B79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370-19D7-4850-8AEE-123B1E6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FC9-1120-46CD-A1B2-A07C76C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1ABE-3030-4CDB-8A10-2537360BC5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320" y="2742840"/>
            <a:ext cx="4496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alibri"/>
                <a:ea typeface="黑体"/>
              </a:rPr>
              <a:t>蒙蒙细雨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1219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教版三年级语文下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藏文"/>
          <p:cNvPicPr/>
          <p:nvPr/>
        </p:nvPicPr>
        <p:blipFill>
          <a:blip r:embed="rId1"/>
          <a:stretch/>
        </p:blipFill>
        <p:spPr>
          <a:xfrm>
            <a:off x="2438280" y="914400"/>
            <a:ext cx="35434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小学生2"/>
          <p:cNvPicPr/>
          <p:nvPr/>
        </p:nvPicPr>
        <p:blipFill>
          <a:blip r:embed="rId2"/>
          <a:stretch/>
        </p:blipFill>
        <p:spPr>
          <a:xfrm>
            <a:off x="-73080" y="0"/>
            <a:ext cx="9217080" cy="691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图上画的是什么地方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图上画的是什么人？在干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8"/>
          <p:cNvPicPr/>
          <p:nvPr/>
        </p:nvPicPr>
        <p:blipFill>
          <a:blip r:embed="rId2"/>
          <a:stretch/>
        </p:blipFill>
        <p:spPr>
          <a:xfrm>
            <a:off x="4419720" y="-15840"/>
            <a:ext cx="472428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小学生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1890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课文，体会情感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读读，画画重点词，探究沐浴着蒙蒙细雨的藏族美景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快速默读课文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2·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画出描写自然界春雨的有关句子，读一读，说说自己的感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交流学习心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再读这些句子，体会到作者的用词精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捧着  挂着   戴着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理解重点句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举目望去，春雨中的藏族山村，像一个缀满珍珠宝石的童话世界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这句话把山村比作什么？作者为什么把春雨中的山村如此作比较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同学们找出直接描写图画的自然段。（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然段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老师要请一位同学来读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自然段，其他同学用“”画出直接描写图画的句子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啊！书声琅琅的教室里，不也在下着一场融融春雨吗？那辛勤的藏族女教师，正在播洒着科学文化的雨露，孩子们红扑扑的脸蛋儿，每过雨露中的桃花，清脆的读书声，赛过那云雀的歌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感受到了什么？说给大家听听　。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课堂小结</a:t>
            </a:r>
            <a:br>
              <a:rPr sz="36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知道这位辛勤的藏族女教师是如何播洒科学文化的雨露的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春雨中的藏族山村，不仅景色美，人更美。你们体会得到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学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流利有感情地朗读课文，背诵全文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略藏族山村初春的美丽景色，体会文中蕴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感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828800" y="1600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85840" y="1066680"/>
            <a:ext cx="4876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藏族女教师给孩子们上课，传播着科学文化知识，就像是春雨一样滋润着春天的万物。这场春雨，就是科学文化知识，是一场人们难以察觉的雨，而孩子们红扑扑的脸蛋，美过那雨雾中的桃花，孩子们的清脆的读书声，赛过那云雀的歌声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藏族"/>
          <p:cNvPicPr/>
          <p:nvPr/>
        </p:nvPicPr>
        <p:blipFill>
          <a:blip r:embed="rId1"/>
          <a:stretch/>
        </p:blipFill>
        <p:spPr>
          <a:xfrm>
            <a:off x="609480" y="914400"/>
            <a:ext cx="321804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西藏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120" y="3809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900" spc="-1" strike="noStrike">
                <a:solidFill>
                  <a:srgbClr val="000000"/>
                </a:solidFill>
                <a:latin typeface="Calibri"/>
              </a:rPr>
              <a:t>谢谢指导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春天，是万物复苏、作物生长的季节；春天，更是孩子们沐浴科学雨露的大好时光。老师为了孩子们的健康成长，呕心沥血，默默无闻地奉献，留下了一个个动人的故事。今天，我们就来学习《蒙蒙细雨》这篇文章。看看藏族的孩子们是如何学习的。首先，我们先看几幅图，注意认真观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220968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méng màn   bàn     biàn    dài    zàng    ch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蒙    漫   瓣   辫   戴   藏    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ī   mù  liú  biàn  lù   wù   cu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   幕   留   辨   露   雾   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认识新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漫步　开幕　分辨　融融　清脆　眺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布达拉宫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布达拉宫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布达拉宫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雪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05:43:48Z</dcterms:created>
  <dc:creator/>
  <dc:description/>
  <cp:keywords/>
  <dc:language>en-US</dc:language>
  <cp:lastModifiedBy>Administrator</cp:lastModifiedBy>
  <dcterms:modified xsi:type="dcterms:W3CDTF">2015-04-04T09:34:14Z</dcterms:modified>
  <cp:revision>19</cp:revision>
  <dc:subject/>
  <dc:title>蒙蒙细雨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