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7.png" ContentType="image/png"/>
  <Override PartName="/ppt/media/image22.jpeg" ContentType="image/jpeg"/>
  <Override PartName="/ppt/media/image27.png" ContentType="image/png"/>
  <Override PartName="/ppt/media/image12.wmf" ContentType="image/x-wmf"/>
  <Override PartName="/ppt/media/image8.png" ContentType="image/png"/>
  <Override PartName="/ppt/media/image15.wmf" ContentType="image/x-wmf"/>
  <Override PartName="/ppt/media/image14.jpeg" ContentType="image/jpeg"/>
  <Override PartName="/ppt/media/image28.gif" ContentType="image/gif"/>
  <Override PartName="/ppt/media/image11.jpeg" ContentType="image/jpeg"/>
  <Override PartName="/ppt/media/image9.jpeg" ContentType="image/jpeg"/>
  <Override PartName="/ppt/media/image23.png" ContentType="image/png"/>
  <Override PartName="/ppt/media/image18.gif" ContentType="image/gif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0.jpeg" ContentType="image/jpeg"/>
  <Override PartName="/ppt/media/image25.gif" ContentType="image/gif"/>
  <Override PartName="/ppt/media/image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6.jpeg" ContentType="image/jpeg"/>
  <Override PartName="/ppt/media/image19.jpeg" ContentType="image/jpeg"/>
  <Override PartName="/ppt/media/image26.gif" ContentType="image/gif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E7C-C6BB-48D4-9F68-4B063ADF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CF0-C480-4C98-B9B9-956627C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6ED-6721-42CE-B100-9B71AB27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86E-B3C2-4C8D-8FD5-5501A14E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B799-5FEC-4977-9A09-C33C3F67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C80B-8673-46DB-BD0B-C5690B33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1428-3BD6-44B7-97F4-368BEA44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91AE-D86A-4BFD-93E1-6F975FA1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5B24-4639-417F-9833-5C14C7EC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43F0-E118-42F6-B11F-0CEE6962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D950-2A39-4C41-B416-E33136A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582-10B3-488C-B665-DAC043A4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E2A1-C5AA-4AC8-AD86-D3791564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157A-DF94-4D12-ABFA-2A8C744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8E2B-15E4-478F-86EC-ADB5CE51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DD7C-BCD9-417C-A08D-39780227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F009-9CDE-4559-8CA8-C3049E91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57B7-4D94-4D4A-9BFC-71D56423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ED25-4A18-43D5-B747-9CC3CB28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4801-8758-484D-8A3C-B584E871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0982-87BE-4031-87AF-3FAF0557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7F15-8BCD-455A-8828-93C40FBA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9FE-98DD-48F7-971C-09731BB9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5F92-B453-46A7-8964-28761FFE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3F6A-8B63-47E3-83E4-C060BE8B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327C-6E45-459A-B07A-B80D589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02C4-1160-4BE8-B161-FD98672E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1BF3-005D-4ABA-A94B-C08DFB64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E1C3-3C5D-4A63-88A2-3FF04853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3A390-CF36-4DE0-A5F6-DF70E490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F3EEF-448C-4FE8-BBE2-4BC289E5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3640-DFCF-420E-A811-D95B722A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2CEF-C3D4-4050-A2E1-C2519365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D5F-4068-4EDF-B10E-827BA0F4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8096D-1C72-4FFA-9C0C-18AD22E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D903-1A63-4289-A766-5C79D314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DCD9C-483A-40BA-A36C-F7E60B87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2BCF0-8499-4630-97AC-ED8E1AF0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55038-80DF-4E74-98D5-2C2E3A91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F1A9-6A21-495A-A7BF-3F2A0E3C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5592-22D5-414D-B020-48B116DE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FBA2-34C7-409E-9616-B1159546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94DEB-011D-450E-939E-F93C6F50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620-2DEA-4E88-8AE8-7A5BBCA1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91F-8F79-4A57-AD4C-63F94876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CE2-716B-4B79-9BAE-54B5CC23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31C-4F22-4342-8F01-E5B741AF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EA7-AAD1-41EA-82BB-1BC9B6B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360"/>
                <a:ext cx="3352680" cy="110304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CF45-C422-43FA-B420-EB7C9B3A76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360"/>
                <a:ext cx="3352680" cy="110304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9614-C890-4030-A8FE-04A71E3ADA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64F3-D991-4F9B-8265-74CFEF97EF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200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201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203" name="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3E79-7B32-49C2-8AB2-897415FC3D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4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8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264" name="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268" name="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257,16,&#24187;&#28783;&#29255; 16" TargetMode="Externa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:\&#20154;&#25945;&#29256;&#23567;&#23398;&#19977;&#24180;&#32423;&#35821;&#25991;&#19978;&#20876;&#34588;&#34562;&#25945;&#23398;&#35774;&#35745;&#19982;&#35838;&#20214;\&#34588;&#34562;-&#19977;&#24180;&#32423;&#35821;&#25991;&#19978;&#20876;&#8212;&#24773;&#26223;&#35838;&#20214;.flv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12720" y="1341360"/>
            <a:ext cx="73440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00"/>
                </a:solidFill>
                <a:latin typeface="Arial"/>
                <a:ea typeface="楷体_GB2312"/>
              </a:rPr>
              <a:t>     </a:t>
            </a:r>
            <a:r>
              <a:rPr b="1" lang="zh-CN" sz="9600" spc="-1" strike="noStrike">
                <a:solidFill>
                  <a:srgbClr val="ffcc00"/>
                </a:solidFill>
                <a:latin typeface="Arial"/>
                <a:ea typeface="楷体_GB2312"/>
              </a:rPr>
              <a:t>蜜   蜂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楷体_GB2312"/>
              </a:rPr>
              <a:t>                     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作者：法布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771480" y="1501920"/>
          <a:ext cx="3495600" cy="3450960"/>
        </p:xfrm>
        <a:graphic>
          <a:graphicData uri="http://schemas.openxmlformats.org/drawingml/2006/table">
            <a:tbl>
              <a:tblPr/>
              <a:tblGrid>
                <a:gridCol w="1747800"/>
                <a:gridCol w="1747800"/>
              </a:tblGrid>
              <a:tr h="17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1139760" y="161280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概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50080" y="380880"/>
            <a:ext cx="17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gà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03560" y="5410080"/>
            <a:ext cx="220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大概 概括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808520" y="1330200"/>
          <a:ext cx="3159000" cy="3114720"/>
        </p:xfrm>
        <a:graphic>
          <a:graphicData uri="http://schemas.openxmlformats.org/drawingml/2006/table">
            <a:tbl>
              <a:tblPr/>
              <a:tblGrid>
                <a:gridCol w="1579680"/>
                <a:gridCol w="157932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5257800" y="160020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减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4952880"/>
            <a:ext cx="37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减法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加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47600" y="461880"/>
            <a:ext cx="18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jiǎ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923760" y="1654200"/>
          <a:ext cx="3419640" cy="3451320"/>
        </p:xfrm>
        <a:graphic>
          <a:graphicData uri="http://schemas.openxmlformats.org/drawingml/2006/table">
            <a:tbl>
              <a:tblPr/>
              <a:tblGrid>
                <a:gridCol w="1711440"/>
                <a:gridCol w="17082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阻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47760" y="382680"/>
            <a:ext cx="111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ǔ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54100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阻止 阻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876920" y="1468440"/>
          <a:ext cx="3090600" cy="3114720"/>
        </p:xfrm>
        <a:graphic>
          <a:graphicData uri="http://schemas.openxmlformats.org/drawingml/2006/table">
            <a:tbl>
              <a:tblPr/>
              <a:tblGrid>
                <a:gridCol w="1545840"/>
                <a:gridCol w="154476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5334120" y="175248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测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5410080"/>
            <a:ext cx="370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测验 预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60948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è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923760" y="1654200"/>
          <a:ext cx="3419640" cy="3375000"/>
        </p:xfrm>
        <a:graphic>
          <a:graphicData uri="http://schemas.openxmlformats.org/drawingml/2006/table">
            <a:tbl>
              <a:tblPr/>
              <a:tblGrid>
                <a:gridCol w="1709640"/>
                <a:gridCol w="171000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括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62640" y="574560"/>
            <a:ext cx="17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ku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5410080"/>
            <a:ext cx="354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括号 概括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808520" y="1468440"/>
          <a:ext cx="3090960" cy="3046320"/>
        </p:xfrm>
        <a:graphic>
          <a:graphicData uri="http://schemas.openxmlformats.org/drawingml/2006/table">
            <a:tbl>
              <a:tblPr/>
              <a:tblGrid>
                <a:gridCol w="1549440"/>
                <a:gridCol w="154152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5181480" y="175248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确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5410080"/>
            <a:ext cx="34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准确 确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40840" y="533520"/>
            <a:ext cx="17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qu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923760" y="1654200"/>
          <a:ext cx="3419640" cy="3451320"/>
        </p:xfrm>
        <a:graphic>
          <a:graphicData uri="http://schemas.openxmlformats.org/drawingml/2006/table">
            <a:tbl>
              <a:tblPr/>
              <a:tblGrid>
                <a:gridCol w="1711440"/>
                <a:gridCol w="17082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1219320" y="167652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误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10560" y="609480"/>
            <a:ext cx="16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54100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误会 错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876920" y="1468440"/>
          <a:ext cx="3090600" cy="3114720"/>
        </p:xfrm>
        <a:graphic>
          <a:graphicData uri="http://schemas.openxmlformats.org/drawingml/2006/table">
            <a:tbl>
              <a:tblPr/>
              <a:tblGrid>
                <a:gridCol w="1545840"/>
                <a:gridCol w="154476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5257800" y="175248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途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5410080"/>
            <a:ext cx="35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路途 前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793840" y="609480"/>
            <a:ext cx="13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923760" y="1654200"/>
          <a:ext cx="3495600" cy="3375000"/>
        </p:xfrm>
        <a:graphic>
          <a:graphicData uri="http://schemas.openxmlformats.org/drawingml/2006/table">
            <a:tbl>
              <a:tblPr/>
              <a:tblGrid>
                <a:gridCol w="1749600"/>
                <a:gridCol w="174600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1295280" y="167652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超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45360" y="57456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ā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53341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超越 超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876920" y="1468440"/>
          <a:ext cx="3022560" cy="3046320"/>
        </p:xfrm>
        <a:graphic>
          <a:graphicData uri="http://schemas.openxmlformats.org/drawingml/2006/table">
            <a:tbl>
              <a:tblPr/>
              <a:tblGrid>
                <a:gridCol w="1511280"/>
                <a:gridCol w="1511280"/>
              </a:tblGrid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"/>
          <p:cNvSpPr/>
          <p:nvPr/>
        </p:nvSpPr>
        <p:spPr>
          <a:xfrm>
            <a:off x="5185440" y="2133720"/>
            <a:ext cx="3502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20000" spc="-1" strike="noStrike">
                <a:solidFill>
                  <a:srgbClr val="ffffff"/>
                </a:solidFill>
                <a:latin typeface="Tahoma"/>
              </a:rPr>
              <a:t>袋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87480" y="609480"/>
            <a:ext cx="171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à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08000" y="5334120"/>
            <a:ext cx="220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纸袋 口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295280"/>
            <a:ext cx="0" cy="4953240"/>
          </a:xfrm>
          <a:prstGeom prst="line">
            <a:avLst/>
          </a:prstGeom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791320"/>
            <a:ext cx="701028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410080" y="45720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68580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2286000" y="1371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243828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581280" y="1371600"/>
          <a:ext cx="914400" cy="990720"/>
        </p:xfrm>
        <a:graphic>
          <a:graphicData uri="http://schemas.openxmlformats.org/drawingml/2006/table">
            <a:tbl>
              <a:tblPr/>
              <a:tblGrid>
                <a:gridCol w="492120"/>
                <a:gridCol w="4222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3733920" y="1523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990720" y="1371600"/>
          <a:ext cx="914400" cy="990720"/>
        </p:xfrm>
        <a:graphic>
          <a:graphicData uri="http://schemas.openxmlformats.org/drawingml/2006/table">
            <a:tbl>
              <a:tblPr/>
              <a:tblGrid>
                <a:gridCol w="527040"/>
                <a:gridCol w="387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114300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14479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400800" y="1371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5029200" y="1371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5105520" y="1523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581280" y="2743200"/>
          <a:ext cx="914400" cy="990720"/>
        </p:xfrm>
        <a:graphic>
          <a:graphicData uri="http://schemas.openxmlformats.org/drawingml/2006/table">
            <a:tbl>
              <a:tblPr/>
              <a:tblGrid>
                <a:gridCol w="422280"/>
                <a:gridCol w="4921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/>
          <p:nvPr/>
        </p:nvSpPr>
        <p:spPr>
          <a:xfrm>
            <a:off x="5181480" y="2895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029200" y="27432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286000" y="27432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243828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6400800" y="27432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655308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90720" y="4267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1143000" y="4419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90720" y="27432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3708360" y="4437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286000" y="4267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2362320" y="4419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895480" y="380880"/>
            <a:ext cx="2438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华文中宋"/>
              </a:rPr>
              <a:t>课文生字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6477120" y="4495680"/>
            <a:ext cx="799920" cy="7812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477120" y="1523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47040" y="15238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36960" y="28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564000" y="4221000"/>
          <a:ext cx="936720" cy="98748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3733920" y="28954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932360" y="4221000"/>
          <a:ext cx="936720" cy="93672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5148360" y="429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794320"/>
            <a:ext cx="91440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论  试验  纸袋  证实  飞散  几乎 迷失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概  减少  阻力  遥远   沿途  推测  超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括   检查  准确无误   确确实实   记忆力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042920" y="0"/>
            <a:ext cx="1676520" cy="609480"/>
          </a:xfrm>
          <a:prstGeom prst="flowChartAlternate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课文词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19162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ùn   shí yàn   dài  zhèng  sàn  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3429000"/>
            <a:ext cx="939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gài  jiǎn   zǔ              tú   cè</a:t>
            </a:r>
            <a:r>
              <a:rPr b="0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ā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4437000"/>
            <a:ext cx="89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kuò            què       què què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7543800" y="5791320"/>
            <a:ext cx="685800" cy="58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6108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辨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 无论 试验 证实 闷了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概 飞散 几乎 大概 减少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阻力 遥远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推测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包括 检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迷失 沿途 超常 本能 解释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陌生  </a:t>
            </a:r>
            <a:r>
              <a:rPr b="0" lang="zh-CN" sz="4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"/>
              </a:rPr>
              <a:t>确确实实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准确无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风而飞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5562720" y="43434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 rot="1890000">
            <a:off x="7543440" y="4800600"/>
            <a:ext cx="87156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验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阻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推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沿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途 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陌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超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  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证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</a:t>
            </a:r>
            <a:r>
              <a:rPr b="0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括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625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736560" y="16336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6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1280" y="476280"/>
            <a:ext cx="2801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华文中宋"/>
              </a:rPr>
              <a:t>读一读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ransition>
    <p:blinds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042920" y="1268280"/>
            <a:ext cx="8458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辨认     几乎      大概 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阻力   遥远    迷失   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无误    逆风而飞      确实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超常  解释   本能  窝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0880" y="38088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生字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0" t="0" r="17795" b="8258"/>
          <a:stretch/>
        </p:blipFill>
        <p:spPr>
          <a:xfrm>
            <a:off x="684360" y="189000"/>
            <a:ext cx="369540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rcRect l="5525" t="0" r="0" b="15671"/>
          <a:stretch/>
        </p:blipFill>
        <p:spPr>
          <a:xfrm>
            <a:off x="4861080" y="333360"/>
            <a:ext cx="4317840" cy="26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rcRect l="18935" t="2942" r="8561" b="0"/>
          <a:stretch/>
        </p:blipFill>
        <p:spPr>
          <a:xfrm>
            <a:off x="1333440" y="3357720"/>
            <a:ext cx="2827440" cy="301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4"/>
          <a:srcRect l="0" t="7558" r="14331" b="15049"/>
          <a:stretch/>
        </p:blipFill>
        <p:spPr>
          <a:xfrm>
            <a:off x="4573440" y="3486240"/>
            <a:ext cx="3949920" cy="2795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-36360" y="28526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乎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ī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　几个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jǐ)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管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ǐn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尽力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ìn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闷热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ēn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　纳闷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èn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1628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读一读</a:t>
            </a: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98100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.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些被闷了好久的蜜蜂向四面飞散，好像在寻找回家的方向。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.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时候起风了，蜜蜂飞得很低，几乎要触到地面，大概这样可以减少阻力。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.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尽管它们逆风而飞，沿途都是一些陌生的景物，但他们确确实实飞回来了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9280" y="18900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读一读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921640" cy="61675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39640" y="256536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法国著名昆虫学家（ ），为了证实蜜蜂（ ），做了个试验，得出了（ ）的结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71640" y="193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想一想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填一填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19640" y="836640"/>
            <a:ext cx="51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主要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547640" y="170028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627280" y="2637000"/>
            <a:ext cx="547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课文主要讲了生物学家法布尔提出了蜜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有没有辨认方向的能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这个问题，做了一个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试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来验证，并得出了结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4360" y="9079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文讲了一件什么事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533520" y="6094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听说”一词在这里有什么含义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9640" y="20606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听说的不一定真实可靠，因此这既成为作者做实验的原因，也体现了作者不轻信的求实的科学态度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80880" y="190296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学习第一自然段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读一读。谁愿意把第一自然段读给大家听听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想一想。知道“我”想做个什么试验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说一说。假如是你，你想怎样做这个试 验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13716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362320" y="91440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思考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5410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5812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学习第二自然段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我们来仔细研究一下作者是怎样试验的，请同学们默读第二自然段。画出能表示作者试验做法的词语或句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请哪位同学把画出的语句读给大家听听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7848720" y="990720"/>
            <a:ext cx="685800" cy="58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28600" y="30492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ff"/>
                </a:solidFill>
                <a:latin typeface="Arial"/>
                <a:ea typeface="楷体_GB2312"/>
              </a:rPr>
              <a:t>仔细默读第二段，试验都有哪些环节？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990720" y="990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再次默读课文，看哪些是法布尔观察到的，用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画出来，哪些是他思考的，用“</a:t>
            </a:r>
            <a:r>
              <a:rPr b="0" lang="zh-CN" sz="6000" spc="-1" strike="noStrike">
                <a:solidFill>
                  <a:srgbClr val="ff0000"/>
                </a:solidFill>
                <a:latin typeface="Comic Sans MS"/>
              </a:rPr>
              <a:t>﹏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画出来，结论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5476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410080" y="3416400"/>
            <a:ext cx="2971800" cy="2031840"/>
          </a:xfrm>
          <a:custGeom>
            <a:avLst/>
            <a:gdLst/>
            <a:ahLst/>
            <a:rect l="l" t="t" r="r" b="b"/>
            <a:pathLst>
              <a:path w="1872" h="1280">
                <a:moveTo>
                  <a:pt x="0" y="8"/>
                </a:moveTo>
                <a:cubicBezTo>
                  <a:pt x="200" y="4"/>
                  <a:pt x="400" y="0"/>
                  <a:pt x="432" y="8"/>
                </a:cubicBezTo>
                <a:cubicBezTo>
                  <a:pt x="464" y="16"/>
                  <a:pt x="224" y="16"/>
                  <a:pt x="192" y="56"/>
                </a:cubicBezTo>
                <a:cubicBezTo>
                  <a:pt x="160" y="96"/>
                  <a:pt x="208" y="216"/>
                  <a:pt x="240" y="248"/>
                </a:cubicBezTo>
                <a:cubicBezTo>
                  <a:pt x="272" y="280"/>
                  <a:pt x="328" y="272"/>
                  <a:pt x="384" y="248"/>
                </a:cubicBezTo>
                <a:cubicBezTo>
                  <a:pt x="440" y="224"/>
                  <a:pt x="552" y="128"/>
                  <a:pt x="576" y="104"/>
                </a:cubicBezTo>
                <a:cubicBezTo>
                  <a:pt x="600" y="80"/>
                  <a:pt x="544" y="80"/>
                  <a:pt x="528" y="104"/>
                </a:cubicBezTo>
                <a:cubicBezTo>
                  <a:pt x="512" y="128"/>
                  <a:pt x="528" y="72"/>
                  <a:pt x="480" y="248"/>
                </a:cubicBezTo>
                <a:cubicBezTo>
                  <a:pt x="432" y="424"/>
                  <a:pt x="264" y="1040"/>
                  <a:pt x="240" y="1160"/>
                </a:cubicBezTo>
                <a:cubicBezTo>
                  <a:pt x="216" y="1280"/>
                  <a:pt x="64" y="1000"/>
                  <a:pt x="336" y="968"/>
                </a:cubicBezTo>
                <a:cubicBezTo>
                  <a:pt x="608" y="936"/>
                  <a:pt x="1808" y="928"/>
                  <a:pt x="1872" y="968"/>
                </a:cubicBezTo>
              </a:path>
            </a:pathLst>
          </a:custGeom>
          <a:noFill/>
          <a:ln w="0">
            <a:noFill/>
          </a:ln>
          <a:effectLst>
            <a:outerShdw dist="40186" dir="4303641" blurRad="0" rotWithShape="0">
              <a:srgbClr val="4d4d4d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5960" y="3386160"/>
            <a:ext cx="1163520" cy="245880"/>
          </a:xfrm>
          <a:custGeom>
            <a:avLst/>
            <a:gdLst/>
            <a:ahLst/>
            <a:rect l="l" t="t" r="r" b="b"/>
            <a:pathLst>
              <a:path w="733" h="155">
                <a:moveTo>
                  <a:pt x="0" y="35"/>
                </a:moveTo>
                <a:cubicBezTo>
                  <a:pt x="8" y="38"/>
                  <a:pt x="18" y="37"/>
                  <a:pt x="24" y="43"/>
                </a:cubicBezTo>
                <a:cubicBezTo>
                  <a:pt x="38" y="57"/>
                  <a:pt x="56" y="91"/>
                  <a:pt x="56" y="91"/>
                </a:cubicBezTo>
                <a:cubicBezTo>
                  <a:pt x="85" y="88"/>
                  <a:pt x="116" y="91"/>
                  <a:pt x="144" y="83"/>
                </a:cubicBezTo>
                <a:cubicBezTo>
                  <a:pt x="162" y="78"/>
                  <a:pt x="176" y="62"/>
                  <a:pt x="192" y="51"/>
                </a:cubicBezTo>
                <a:cubicBezTo>
                  <a:pt x="200" y="46"/>
                  <a:pt x="216" y="35"/>
                  <a:pt x="216" y="35"/>
                </a:cubicBezTo>
                <a:cubicBezTo>
                  <a:pt x="226" y="20"/>
                  <a:pt x="232" y="0"/>
                  <a:pt x="256" y="3"/>
                </a:cubicBezTo>
                <a:cubicBezTo>
                  <a:pt x="273" y="5"/>
                  <a:pt x="287" y="18"/>
                  <a:pt x="304" y="19"/>
                </a:cubicBezTo>
                <a:cubicBezTo>
                  <a:pt x="336" y="22"/>
                  <a:pt x="368" y="24"/>
                  <a:pt x="400" y="27"/>
                </a:cubicBezTo>
                <a:cubicBezTo>
                  <a:pt x="429" y="37"/>
                  <a:pt x="459" y="41"/>
                  <a:pt x="488" y="51"/>
                </a:cubicBezTo>
                <a:cubicBezTo>
                  <a:pt x="506" y="106"/>
                  <a:pt x="534" y="69"/>
                  <a:pt x="560" y="43"/>
                </a:cubicBezTo>
                <a:cubicBezTo>
                  <a:pt x="584" y="46"/>
                  <a:pt x="609" y="43"/>
                  <a:pt x="632" y="51"/>
                </a:cubicBezTo>
                <a:cubicBezTo>
                  <a:pt x="641" y="54"/>
                  <a:pt x="642" y="67"/>
                  <a:pt x="648" y="75"/>
                </a:cubicBezTo>
                <a:cubicBezTo>
                  <a:pt x="658" y="89"/>
                  <a:pt x="666" y="105"/>
                  <a:pt x="680" y="115"/>
                </a:cubicBezTo>
                <a:cubicBezTo>
                  <a:pt x="733" y="155"/>
                  <a:pt x="699" y="97"/>
                  <a:pt x="720" y="139"/>
                </a:cubicBezTo>
              </a:path>
            </a:pathLst>
          </a:custGeom>
          <a:noFill/>
          <a:ln w="0">
            <a:noFill/>
          </a:ln>
          <a:effectLst>
            <a:outerShdw dist="40186" dir="4303641" blurRad="0" rotWithShape="0">
              <a:srgbClr val="4d4d4d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38080" y="28954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通过读这些句子，同学们有没有发现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4419720"/>
            <a:ext cx="8763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凭着法布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求实的科学态度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严谨的科学作风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和他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观察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善于思考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最后终于得出了结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11280" y="2133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仿宋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读一读第二自然段，看看法布尔为了试验的成功，做了哪些准备工作？分几步做的？画出相关的语句，给每个歩骤标上序号。可以和你周围的同学交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 rot="5400000">
            <a:off x="572400" y="5267160"/>
            <a:ext cx="689040" cy="7556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 rot="13246200">
            <a:off x="6804000" y="1267560"/>
            <a:ext cx="6890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95280" y="62064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法布尔是怎样做试验的？你从中体会到了什么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350028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9640" y="377964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先————————，再   —————————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然后—————最后————————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76680" y="3625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捉蜜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1996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做记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695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叫女儿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98640" y="4221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走两里路   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658200" cy="5185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78" name=""/>
          <p:cNvGrpSpPr/>
          <p:nvPr/>
        </p:nvGrpSpPr>
        <p:grpSpPr>
          <a:xfrm>
            <a:off x="3809880" y="228600"/>
            <a:ext cx="5334120" cy="2666880"/>
            <a:chOff x="3809880" y="228600"/>
            <a:chExt cx="5334120" cy="2666880"/>
          </a:xfrm>
        </p:grpSpPr>
        <p:sp>
          <p:nvSpPr>
            <p:cNvPr id="479" name=""/>
            <p:cNvSpPr/>
            <p:nvPr/>
          </p:nvSpPr>
          <p:spPr>
            <a:xfrm>
              <a:off x="3809880" y="228600"/>
              <a:ext cx="5334120" cy="2666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90760" y="609480"/>
              <a:ext cx="480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听说蜜蜂有辨认方向的能力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,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无论飞到那里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,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它总可以回到原处。我想做个试验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194800" y="60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听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95280" y="148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步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我在我家花园的蜂窝里做了一些蜜蜂，把它们放在纸袋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5280" y="270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步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我在它们的背上做了白色的记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8360" y="39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步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我叫小女儿在蜂窝旁等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5280" y="49417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四步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自己带着做了记号的二十只蜜蜂，走了两里路，打开纸袋，把他们都放出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55640" y="0"/>
            <a:ext cx="56167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能不能减少一个环节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rcRect l="0" t="4444" r="-1664" b="0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813680" y="762120"/>
            <a:ext cx="2485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楷体_GB2312"/>
              </a:rPr>
              <a:t>在回家的路上我推测蜜蜂可能找不到家了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869000" y="1268280"/>
            <a:ext cx="4275000" cy="44960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52280" y="533520"/>
            <a:ext cx="74678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法布尔这样推测的原因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远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闷在袋子里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起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9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>
            <a:lum bright="12000"/>
          </a:blip>
          <a:srcRect l="0" t="0" r="0" b="44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09480" y="1371600"/>
            <a:ext cx="79250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蜜蜂是在“没等我跨进家门”的时候就已经回来了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这说明了什么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rcRect l="0" t="55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57200" y="99072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6600cc"/>
                </a:solidFill>
                <a:latin typeface="Arial"/>
                <a:ea typeface="楷体_GB2312"/>
              </a:rPr>
              <a:t>这样，二十只蜜蜂中，十七只没有迷失方向，准确无误地回到了家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一天，我在我家花园的蜂窝里捉了一些蜜蜂，把它们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楷体_GB2312"/>
              </a:rPr>
              <a:t>放在纸袋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为了证实飞回花园的蜜蜂是我放飞的，我在它们的背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楷体_GB2312"/>
              </a:rPr>
              <a:t>做了白色的记号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然后，我叫小女儿在蜂窝旁等着，自己带着做了记号的二十只蜜蜂，走了两里多路，打开纸袋，把它们放出来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3657600" y="1295280"/>
            <a:ext cx="2438280" cy="2781360"/>
          </a:xfrm>
          <a:prstGeom prst="borderCallout2">
            <a:avLst>
              <a:gd name="adj1" fmla="val 18750"/>
              <a:gd name="adj2" fmla="val -8333"/>
              <a:gd name="adj3" fmla="val 4111"/>
              <a:gd name="adj4" fmla="val -84504"/>
              <a:gd name="adj5" fmla="val 27967"/>
              <a:gd name="adj6" fmla="val -10110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2209680"/>
            <a:ext cx="4724280" cy="2362320"/>
          </a:xfrm>
          <a:prstGeom prst="leftArrowCallout">
            <a:avLst>
              <a:gd name="adj1" fmla="val 25002"/>
              <a:gd name="adj2" fmla="val 25000"/>
              <a:gd name="adj3" fmla="val 33331"/>
              <a:gd name="adj4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1219320"/>
            <a:ext cx="24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确保蜜蜂被放出后所看到的景物都是陌生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867280" y="2286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证实飞回来的蜜蜂是自己今天放出去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66880" y="54864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做事认真、严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8077320" y="457200"/>
            <a:ext cx="685800" cy="3581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一天，我在我家花园的蜂窝里捉了一些蜜蜂，把它们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楷体_GB2312"/>
              </a:rPr>
              <a:t>放在纸袋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为了证实飞回花园的蜜蜂是我放飞的，我在它们的背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楷体_GB2312"/>
              </a:rPr>
              <a:t>做了白色的记号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然后，我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楷体_GB2312"/>
              </a:rPr>
              <a:t>叫小女儿在蜂窝旁等着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自己带着做了记号的二十只蜜蜂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楷体_GB2312"/>
              </a:rPr>
              <a:t>走了两里多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打开纸袋，把它们放出来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7318080" y="457200"/>
            <a:ext cx="152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试验的科学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zh-CN" sz="4400" spc="-1" strike="noStrike">
                <a:solidFill>
                  <a:srgbClr val="660066"/>
                </a:solidFill>
                <a:latin typeface="Comic Sans MS"/>
                <a:ea typeface="楷体_GB2312"/>
              </a:rPr>
              <a:t>那些被闷了好久的蜜蜂向四面飞散，好像在寻找回家的方向。这时候起风了，蜜蜂飞得很低，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几乎</a:t>
            </a:r>
            <a:r>
              <a:rPr b="1" lang="zh-CN" sz="4400" spc="-1" strike="noStrike">
                <a:solidFill>
                  <a:srgbClr val="660066"/>
                </a:solidFill>
                <a:latin typeface="Comic Sans MS"/>
                <a:ea typeface="楷体_GB2312"/>
              </a:rPr>
              <a:t>要触到地面，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大概</a:t>
            </a:r>
            <a:r>
              <a:rPr b="1" lang="zh-CN" sz="4400" spc="-1" strike="noStrike">
                <a:solidFill>
                  <a:srgbClr val="660066"/>
                </a:solidFill>
                <a:latin typeface="Comic Sans MS"/>
                <a:ea typeface="楷体_GB2312"/>
              </a:rPr>
              <a:t>这样可以减少阻力。我想，它们飞得这么低，怎么能看到遥远的家呢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 rot="1194600">
            <a:off x="4647960" y="304920"/>
            <a:ext cx="3276360" cy="3047760"/>
          </a:xfrm>
          <a:prstGeom prst="cloudCallout">
            <a:avLst>
              <a:gd name="adj1" fmla="val -45638"/>
              <a:gd name="adj2" fmla="val 5824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609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体现作者观察得很仔细；体现了科普说明文用词的准确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1022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验证内容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24000" y="105264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蜜蜂辨认方向的能力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05740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验证过程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71640" y="191628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选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只蜜蜂，做上白色记号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把它们放进纸袋中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②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把蜜蜂带到两里外放 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13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验证结果 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411280" y="314172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只没受伤的蜜蜂中有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只飞回来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36360" y="260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实验报告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4920" y="5086440"/>
            <a:ext cx="1765440" cy="1355760"/>
          </a:xfrm>
          <a:prstGeom prst="rect">
            <a:avLst/>
          </a:prstGeom>
          <a:ln w="0">
            <a:noFill/>
          </a:ln>
        </p:spPr>
      </p:pic>
      <p:grpSp>
        <p:nvGrpSpPr>
          <p:cNvPr id="319" name=""/>
          <p:cNvGrpSpPr/>
          <p:nvPr/>
        </p:nvGrpSpPr>
        <p:grpSpPr>
          <a:xfrm>
            <a:off x="1224000" y="304920"/>
            <a:ext cx="7920000" cy="4680000"/>
            <a:chOff x="1224000" y="304920"/>
            <a:chExt cx="7920000" cy="4680000"/>
          </a:xfrm>
        </p:grpSpPr>
        <p:sp>
          <p:nvSpPr>
            <p:cNvPr id="320" name=""/>
            <p:cNvSpPr/>
            <p:nvPr/>
          </p:nvSpPr>
          <p:spPr>
            <a:xfrm>
              <a:off x="1224000" y="304920"/>
              <a:ext cx="7885080" cy="4680000"/>
            </a:xfrm>
            <a:prstGeom prst="wedgeRoundRectCallout">
              <a:avLst>
                <a:gd name="adj1" fmla="val -41018"/>
                <a:gd name="adj2" fmla="val 54916"/>
                <a:gd name="adj3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55640" y="449280"/>
              <a:ext cx="748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法布尔</a:t>
              </a: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1823—1915)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：法国著名科学家、科普作家。从小生活贫困，</a:t>
              </a: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5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岁考入师范学校，毕业后在初中教数学。一次带学生上户外几何课，忽然，在石块上发现垒筑蜂和蜂窝。从此，“虫心”焕发。他花了一个月的工资，买了一本昆虫学著作，立志做一个为虫子写历史的人。他穷毕生之力深入昆虫世界，在自然环境中对昆虫进行观察和实验，真实的记录下昆虫的本能和习性，写成</a:t>
              </a: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0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册之巨的《昆虫记》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5092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68360" y="1557360"/>
            <a:ext cx="867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、在自家花园里捉了一些蜜蜂，放在纸袋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、在蜜蜂的背上做了白色的记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、让小女儿在蜂窝旁等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、走了两里多路，放蜜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128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试验的准备工作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 rot="14064600">
            <a:off x="8208360" y="4784040"/>
            <a:ext cx="995400" cy="8748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 rot="2993400">
            <a:off x="300960" y="5508360"/>
            <a:ext cx="736560" cy="8636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 rot="18856200">
            <a:off x="7931160" y="5650200"/>
            <a:ext cx="863280" cy="8348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 rot="2047800">
            <a:off x="539280" y="765000"/>
            <a:ext cx="919440" cy="1008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6"/>
          <a:stretch/>
        </p:blipFill>
        <p:spPr>
          <a:xfrm rot="16200000">
            <a:off x="7718400" y="355680"/>
            <a:ext cx="1341360" cy="1008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7"/>
          <a:stretch/>
        </p:blipFill>
        <p:spPr>
          <a:xfrm rot="10800000">
            <a:off x="684360" y="6021000"/>
            <a:ext cx="968400" cy="6066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900000" y="551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从这些做法中，你觉得作者是个怎样的人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56560" y="156204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仿宋_GB2312"/>
              </a:rPr>
              <a:t>便于观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665320" y="23544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仿宋_GB2312"/>
              </a:rPr>
              <a:t>与其他蜜蜂区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46640" y="3429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仿宋_GB2312"/>
              </a:rPr>
              <a:t>掌握蜜蜂飞回来的时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32720" y="371628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49520" y="155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便于观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219640" y="2276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与其他蜜蜂区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67280" y="2997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掌握蜜蜂飞回来的时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089320" y="3716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证明蜜蜂是否认识回家的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450864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仿宋_GB2312"/>
              </a:rPr>
              <a:t>哪个环节比较重要呢？这些环节，能不能去掉其中的某个环节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 rot="799200">
            <a:off x="1332000" y="5778000"/>
            <a:ext cx="919080" cy="1079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 rot="799200">
            <a:off x="395280" y="4797000"/>
            <a:ext cx="919080" cy="1079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 rot="14601000">
            <a:off x="7747920" y="4428000"/>
            <a:ext cx="919080" cy="1079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 rot="19106400">
            <a:off x="7596360" y="5444640"/>
            <a:ext cx="919080" cy="10796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826920" y="162864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那些被闷了好久的蜜蜂向四面飞散，好像在寻找回家的方向。这时候起风了，蜜蜂飞得很低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几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要触到地面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大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这样可以减少阻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6920" y="3716280"/>
            <a:ext cx="73234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我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，它们飞得这么低，怎么能看到遥远的家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在回家的路上，我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推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蜜蜂可能找不到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 rot="5037000">
            <a:off x="764280" y="972360"/>
            <a:ext cx="919080" cy="1079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6"/>
          <a:stretch/>
        </p:blipFill>
        <p:spPr>
          <a:xfrm rot="15970800">
            <a:off x="4723200" y="5364720"/>
            <a:ext cx="919440" cy="10796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7"/>
          <a:stretch/>
        </p:blipFill>
        <p:spPr>
          <a:xfrm rot="13844400">
            <a:off x="6883920" y="395640"/>
            <a:ext cx="919080" cy="10796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8"/>
          <a:stretch/>
        </p:blipFill>
        <p:spPr>
          <a:xfrm rot="4940400">
            <a:off x="2023920" y="504720"/>
            <a:ext cx="919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 rot="3427800">
            <a:off x="468360" y="4580640"/>
            <a:ext cx="919440" cy="11523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 rot="14601000">
            <a:off x="7747560" y="4501080"/>
            <a:ext cx="919440" cy="1079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 flipV="1" rot="10800000">
            <a:off x="1258560" y="141192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我放飞蜜蜂的时候是两点整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也就是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，在四十分钟的时间里，那两只小蜜蜂飞了两里多路，这还包括了采花粉的时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900000" y="1052640"/>
            <a:ext cx="694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没等我跨进家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小女儿就冲过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脸红红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看上去很激动。她高声喊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: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有两只蜜蜂飞回来了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!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它们两点四十分回到蜂窝里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满身都是花粉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 rot="1790400">
            <a:off x="2484000" y="3573360"/>
            <a:ext cx="1944720" cy="15242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 rot="2995800">
            <a:off x="1769040" y="4791600"/>
            <a:ext cx="1944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 rot="1790400">
            <a:off x="2339640" y="1557360"/>
            <a:ext cx="863640" cy="6760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 rot="1790400">
            <a:off x="3557520" y="3135240"/>
            <a:ext cx="273240" cy="2145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 rot="1790400">
            <a:off x="2354400" y="3636720"/>
            <a:ext cx="576000" cy="4521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 rot="1790400">
            <a:off x="2843280" y="4005360"/>
            <a:ext cx="792000" cy="620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 rot="1790400">
            <a:off x="3822480" y="3460680"/>
            <a:ext cx="215640" cy="1699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"/>
          <a:stretch/>
        </p:blipFill>
        <p:spPr>
          <a:xfrm rot="1790400">
            <a:off x="2842920" y="907920"/>
            <a:ext cx="863640" cy="6764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7"/>
          <a:stretch/>
        </p:blipFill>
        <p:spPr>
          <a:xfrm rot="1790400">
            <a:off x="3914640" y="3102120"/>
            <a:ext cx="287640" cy="2253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8"/>
          <a:stretch/>
        </p:blipFill>
        <p:spPr>
          <a:xfrm rot="1790400">
            <a:off x="2627280" y="2997360"/>
            <a:ext cx="719280" cy="5634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9"/>
          <a:stretch/>
        </p:blipFill>
        <p:spPr>
          <a:xfrm rot="1790400">
            <a:off x="1547280" y="620640"/>
            <a:ext cx="936720" cy="7333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0"/>
          <a:stretch/>
        </p:blipFill>
        <p:spPr>
          <a:xfrm rot="1790400">
            <a:off x="2555640" y="5013360"/>
            <a:ext cx="844560" cy="506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11"/>
          <a:stretch/>
        </p:blipFill>
        <p:spPr>
          <a:xfrm rot="1790400">
            <a:off x="4292280" y="2887200"/>
            <a:ext cx="431640" cy="3384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2"/>
          <a:stretch/>
        </p:blipFill>
        <p:spPr>
          <a:xfrm rot="1790400">
            <a:off x="3276360" y="2708280"/>
            <a:ext cx="358560" cy="2811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3"/>
          <a:stretch/>
        </p:blipFill>
        <p:spPr>
          <a:xfrm rot="1790400">
            <a:off x="3492000" y="3573000"/>
            <a:ext cx="216000" cy="1699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4"/>
          <a:stretch/>
        </p:blipFill>
        <p:spPr>
          <a:xfrm rot="1790400">
            <a:off x="3634920" y="3789000"/>
            <a:ext cx="217440" cy="169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5"/>
          <a:stretch/>
        </p:blipFill>
        <p:spPr>
          <a:xfrm rot="1790400">
            <a:off x="3995280" y="2708280"/>
            <a:ext cx="358920" cy="281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971640" y="184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尽管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仿宋_GB2312"/>
              </a:rPr>
              <a:t>它们逆风而飞，沿途都是一些陌生的景物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，但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仿宋_GB2312"/>
              </a:rPr>
              <a:t>它们确确实实飞回来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 rot="5400000">
            <a:off x="3792600" y="3771720"/>
            <a:ext cx="26172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 flipH="1" rot="1010400">
            <a:off x="3492000" y="4365360"/>
            <a:ext cx="360360" cy="3952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 rot="15588000">
            <a:off x="4304520" y="342036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 rot="17614800">
            <a:off x="4827600" y="4562280"/>
            <a:ext cx="295200" cy="324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 rot="19596000">
            <a:off x="4235400" y="4606560"/>
            <a:ext cx="255600" cy="2350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6"/>
          <a:stretch/>
        </p:blipFill>
        <p:spPr>
          <a:xfrm rot="15588000">
            <a:off x="4361040" y="3939840"/>
            <a:ext cx="320400" cy="3175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7"/>
          <a:stretch/>
        </p:blipFill>
        <p:spPr>
          <a:xfrm rot="15588000">
            <a:off x="5291640" y="3934440"/>
            <a:ext cx="200160" cy="1983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8"/>
          <a:stretch/>
        </p:blipFill>
        <p:spPr>
          <a:xfrm rot="15588000">
            <a:off x="3922560" y="4151160"/>
            <a:ext cx="246240" cy="2430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9"/>
          <a:stretch/>
        </p:blipFill>
        <p:spPr>
          <a:xfrm rot="15588000">
            <a:off x="4943880" y="3872160"/>
            <a:ext cx="249480" cy="2476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0"/>
          <a:stretch/>
        </p:blipFill>
        <p:spPr>
          <a:xfrm rot="15588000">
            <a:off x="4390920" y="4871520"/>
            <a:ext cx="287280" cy="2840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1"/>
          <a:stretch/>
        </p:blipFill>
        <p:spPr>
          <a:xfrm rot="15588000">
            <a:off x="4529160" y="3352680"/>
            <a:ext cx="69840" cy="698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12"/>
          <a:stretch/>
        </p:blipFill>
        <p:spPr>
          <a:xfrm rot="15588000">
            <a:off x="4066200" y="3934440"/>
            <a:ext cx="287280" cy="2854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3"/>
          <a:stretch/>
        </p:blipFill>
        <p:spPr>
          <a:xfrm rot="15588000">
            <a:off x="4931640" y="479808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4"/>
          <a:stretch/>
        </p:blipFill>
        <p:spPr>
          <a:xfrm rot="15588000">
            <a:off x="4499640" y="4509360"/>
            <a:ext cx="287280" cy="28548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15"/>
          <a:stretch/>
        </p:blipFill>
        <p:spPr>
          <a:xfrm rot="15588000">
            <a:off x="5076000" y="39344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16"/>
          <a:stretch/>
        </p:blipFill>
        <p:spPr>
          <a:xfrm rot="15588000">
            <a:off x="3923640" y="443772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17"/>
          <a:stretch/>
        </p:blipFill>
        <p:spPr>
          <a:xfrm rot="15588000">
            <a:off x="5076000" y="364572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18"/>
          <a:stretch/>
        </p:blipFill>
        <p:spPr>
          <a:xfrm rot="15588000">
            <a:off x="5292000" y="4653720"/>
            <a:ext cx="287280" cy="2858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611280" y="3068640"/>
            <a:ext cx="79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仿宋_GB2312"/>
              </a:rPr>
              <a:t>蜜蜂靠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不是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仿宋_GB2312"/>
              </a:rPr>
              <a:t>超常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记忆力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而是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仿宋_GB2312"/>
              </a:rPr>
              <a:t>一种我无法解释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本能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332000" y="1700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仿宋_GB2312"/>
              </a:rPr>
              <a:t>蜜蜂有辨别方向的能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717560" y="457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  <a:ea typeface="仿宋_GB2312"/>
              </a:rPr>
              <a:t>得出结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我知道下雨前蚂蚁会搬家，这是蚂蚁的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_____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________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这是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___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的本能。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rcRect l="49316" t="0" r="0" b="-2700"/>
          <a:stretch/>
        </p:blipFill>
        <p:spPr>
          <a:xfrm>
            <a:off x="6324480" y="2819520"/>
            <a:ext cx="2819520" cy="4038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57200" y="99072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在设个结论是中，可以肯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的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无法解释的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28800" y="25146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5334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190512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蜜蜂辨认方向靠的不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超常的记忆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3505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9480" y="3733920"/>
            <a:ext cx="5791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                      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能辨认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向的</a:t>
            </a:r>
            <a:r>
              <a:rPr b="1" lang="zh-CN" sz="4000" spc="-1" strike="noStrike">
                <a:solidFill>
                  <a:srgbClr val="00b200"/>
                </a:solidFill>
                <a:latin typeface="Arial"/>
                <a:ea typeface="楷体_GB2312"/>
              </a:rPr>
              <a:t>本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09880" y="43434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9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24000" y="33336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蜜蜂识途靠的是两种本领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703dff"/>
                </a:solidFill>
                <a:latin typeface="Arial"/>
                <a:ea typeface="黑体"/>
              </a:rPr>
              <a:t>一是“偏光导航”，二是“香气走廊”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偏光就是人眼看不见的紫外线。蜜蜂利用这一点偏光，就能感知太阳，准确地飞回巢去。蜜蜂腹部有一种嗅腺，蜜蜂飞行时腹部收缩，嗅腺分泌出来的香气便留在飞过的地方。后面的蜜蜂沿着得气去采蜜。好么多蜜蜂来来往往，就在蜜源和蜜房之间形成一条“香气走廊”。沿着这条“香气走廊”，蜜蜂采运花粉归家，就不会迷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250920" y="189000"/>
            <a:ext cx="8713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仿宋_GB2312"/>
              </a:rPr>
              <a:t>       </a:t>
            </a:r>
            <a:r>
              <a:rPr b="1" lang="zh-CN" sz="3700" spc="-1" strike="noStrike">
                <a:solidFill>
                  <a:srgbClr val="0000cc"/>
                </a:solidFill>
                <a:latin typeface="Arial"/>
                <a:ea typeface="仿宋_GB2312"/>
              </a:rPr>
              <a:t>动物是凭借什么来辨别方向，认识路线的呢？科学家们利用蜜蜂和鸽子所做的动物导航实验，已经初步揭开了这两种动物导航的秘密。著名的诺贝尔奖金获得者、奥地利生物学家弗里希，曾在</a:t>
            </a:r>
            <a:r>
              <a:rPr b="1" lang="en-US" sz="3700" spc="-1" strike="noStrike">
                <a:solidFill>
                  <a:srgbClr val="0000cc"/>
                </a:solidFill>
                <a:latin typeface="Arial"/>
                <a:ea typeface="仿宋_GB2312"/>
              </a:rPr>
              <a:t>20</a:t>
            </a:r>
            <a:r>
              <a:rPr b="1" lang="zh-CN" sz="3700" spc="-1" strike="noStrike">
                <a:solidFill>
                  <a:srgbClr val="0000cc"/>
                </a:solidFill>
                <a:latin typeface="Arial"/>
                <a:ea typeface="仿宋_GB2312"/>
              </a:rPr>
              <a:t>世纪</a:t>
            </a:r>
            <a:r>
              <a:rPr b="1" lang="en-US" sz="3700" spc="-1" strike="noStrike">
                <a:solidFill>
                  <a:srgbClr val="0000cc"/>
                </a:solidFill>
                <a:latin typeface="Arial"/>
                <a:ea typeface="仿宋_GB2312"/>
              </a:rPr>
              <a:t>40</a:t>
            </a:r>
            <a:r>
              <a:rPr b="1" lang="zh-CN" sz="3700" spc="-1" strike="noStrike">
                <a:solidFill>
                  <a:srgbClr val="0000cc"/>
                </a:solidFill>
                <a:latin typeface="Arial"/>
                <a:ea typeface="仿宋_GB2312"/>
              </a:rPr>
              <a:t>年代，用一系列实验测出了蜜峰的基本导航能力，证明了蜜蜂通常是利用太阳作为罗盘进行导航的，指出蜜蜂就是以太阳作为参照点，通过“舞蹈”告诉其他蜜蜂如何到达它发现的花源地。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  <a:ea typeface="仿宋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>
            <a:hlinkClick r:id="rId1"/>
          </p:cNvPr>
          <p:cNvSpPr/>
          <p:nvPr/>
        </p:nvSpPr>
        <p:spPr>
          <a:xfrm>
            <a:off x="8675640" y="6381720"/>
            <a:ext cx="287280" cy="32220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22200"/>
              <a:gd name="textAreaBottom" fmla="*/ 30456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50" y="22872"/>
                </a:lnTo>
                <a:lnTo>
                  <a:pt x="20250" y="135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350" y="22872"/>
                </a:lnTo>
                <a:lnTo>
                  <a:pt x="20250" y="2287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350" y="1350"/>
                </a:lnTo>
                <a:lnTo>
                  <a:pt x="1350" y="22872"/>
                </a:lnTo>
                <a:close/>
              </a:path>
              <a:path fill="darken" w="21600" h="24222">
                <a:moveTo>
                  <a:pt x="3756" y="8594"/>
                </a:moveTo>
                <a:lnTo>
                  <a:pt x="4675" y="8594"/>
                </a:lnTo>
                <a:lnTo>
                  <a:pt x="5060" y="8961"/>
                </a:lnTo>
                <a:lnTo>
                  <a:pt x="14318" y="8961"/>
                </a:lnTo>
                <a:lnTo>
                  <a:pt x="14878" y="9521"/>
                </a:lnTo>
                <a:lnTo>
                  <a:pt x="14878" y="10072"/>
                </a:lnTo>
                <a:lnTo>
                  <a:pt x="16733" y="10072"/>
                </a:lnTo>
                <a:lnTo>
                  <a:pt x="17100" y="9521"/>
                </a:lnTo>
                <a:lnTo>
                  <a:pt x="17844" y="9521"/>
                </a:lnTo>
                <a:lnTo>
                  <a:pt x="17844" y="14701"/>
                </a:lnTo>
                <a:lnTo>
                  <a:pt x="17100" y="14701"/>
                </a:lnTo>
                <a:lnTo>
                  <a:pt x="16733" y="14150"/>
                </a:lnTo>
                <a:lnTo>
                  <a:pt x="14878" y="14150"/>
                </a:lnTo>
                <a:lnTo>
                  <a:pt x="14878" y="15436"/>
                </a:lnTo>
                <a:lnTo>
                  <a:pt x="5244" y="15436"/>
                </a:lnTo>
                <a:lnTo>
                  <a:pt x="5244" y="11184"/>
                </a:lnTo>
                <a:lnTo>
                  <a:pt x="5060" y="11184"/>
                </a:lnTo>
                <a:lnTo>
                  <a:pt x="4675" y="11551"/>
                </a:lnTo>
                <a:lnTo>
                  <a:pt x="3756" y="1155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2195640" y="5445000"/>
            <a:ext cx="136368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1981080"/>
            <a:ext cx="8991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读准字音，读顺句子，读通               课文，并给每个自然段标上序号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想一想课文讲了一件什么事情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971800" y="762120"/>
            <a:ext cx="3124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阅读要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042920" y="166140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仿宋_GB2312"/>
              </a:rPr>
              <a:t>       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鸽子具有辨别地球磁场变化的器官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鸽子的记忆力和视力都非常好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它有强烈的认巢性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通过太阳或星星的方位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准确地判断回家的方向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无论把它带到几千里之外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仿宋_GB2312"/>
              </a:rPr>
              <a:t>它也能飞回老家。所以古代人用鸽子作为通讯工具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92200" y="18446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鸽子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700" spc="-1" strike="noStrike">
                <a:solidFill>
                  <a:srgbClr val="000000"/>
                </a:solidFill>
                <a:latin typeface="Comic Sans MS"/>
              </a:rPr>
              <a:t>狗</a:t>
            </a:r>
            <a:endParaRPr b="0" lang="en-US" sz="7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6588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Comic Sans MS"/>
              </a:rPr>
              <a:t>狗的嗅觉、听觉非常灵敏</a:t>
            </a: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,</a:t>
            </a:r>
            <a:r>
              <a:rPr b="1" lang="zh-CN" sz="4800" spc="-1" strike="noStrike">
                <a:solidFill>
                  <a:srgbClr val="ff9933"/>
                </a:solidFill>
                <a:latin typeface="Comic Sans MS"/>
              </a:rPr>
              <a:t>记忆力很强</a:t>
            </a: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,</a:t>
            </a:r>
            <a:r>
              <a:rPr b="1" lang="zh-CN" sz="4800" spc="-1" strike="noStrike">
                <a:solidFill>
                  <a:srgbClr val="ff9933"/>
                </a:solidFill>
                <a:latin typeface="Comic Sans MS"/>
              </a:rPr>
              <a:t>凭着这些特殊的能力</a:t>
            </a: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,</a:t>
            </a:r>
            <a:r>
              <a:rPr b="1" lang="zh-CN" sz="4800" spc="-1" strike="noStrike">
                <a:solidFill>
                  <a:srgbClr val="ff9933"/>
                </a:solidFill>
                <a:latin typeface="Comic Sans MS"/>
              </a:rPr>
              <a:t>狗即使离开主人多年</a:t>
            </a: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,</a:t>
            </a:r>
            <a:r>
              <a:rPr b="1" lang="zh-CN" sz="4800" spc="-1" strike="noStrike">
                <a:solidFill>
                  <a:srgbClr val="ff9933"/>
                </a:solidFill>
                <a:latin typeface="Comic Sans MS"/>
              </a:rPr>
              <a:t>重逢时也能相认</a:t>
            </a: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,</a:t>
            </a:r>
            <a:r>
              <a:rPr b="1" lang="zh-CN" sz="4800" spc="-1" strike="noStrike">
                <a:solidFill>
                  <a:srgbClr val="ff9933"/>
                </a:solidFill>
                <a:latin typeface="Comic Sans MS"/>
              </a:rPr>
              <a:t>还能找回自己的家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457200" y="144792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听说蜜蜂有</a:t>
            </a:r>
            <a:r>
              <a:rPr b="1" lang="zh-CN" sz="2400" spc="-1" strike="noStrike" u="sng">
                <a:solidFill>
                  <a:srgbClr val="070709"/>
                </a:solidFill>
                <a:uFillTx/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的能力，无论</a:t>
            </a:r>
            <a:r>
              <a:rPr b="1" lang="zh-CN" sz="2400" spc="-1" strike="noStrike" u="sng">
                <a:solidFill>
                  <a:srgbClr val="070709"/>
                </a:solidFill>
                <a:uFillTx/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，它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是</a:t>
            </a:r>
            <a:r>
              <a:rPr b="1" lang="zh-CN" sz="2400" spc="-1" strike="noStrike" u="sng">
                <a:solidFill>
                  <a:srgbClr val="070709"/>
                </a:solidFill>
                <a:uFillTx/>
                <a:latin typeface="宋体"/>
              </a:rPr>
              <a:t>                </a:t>
            </a:r>
            <a:r>
              <a:rPr b="1" lang="en-US" sz="1800" spc="-1" strike="noStrike" u="sng">
                <a:solidFill>
                  <a:srgbClr val="070709"/>
                </a:solidFill>
                <a:uFillTx/>
                <a:latin typeface="Tahoma"/>
              </a:rPr>
              <a:t>。</a:t>
            </a:r>
            <a:r>
              <a:rPr b="1" lang="zh-CN" sz="1800" spc="-1" strike="noStrike">
                <a:solidFill>
                  <a:srgbClr val="070709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“我”通过实验证了</a:t>
            </a:r>
            <a:r>
              <a:rPr b="1" lang="zh-CN" sz="1800" spc="-1" strike="noStrike">
                <a:solidFill>
                  <a:srgbClr val="070709"/>
                </a:solidFill>
                <a:latin typeface="Tahoma"/>
              </a:rPr>
              <a:t>＿＿＿＿＿＿＿   </a:t>
            </a: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 </a:t>
            </a:r>
            <a:r>
              <a:rPr b="1" lang="zh-CN" sz="2400" spc="-1" strike="noStrike" u="sng">
                <a:solidFill>
                  <a:srgbClr val="070709"/>
                </a:solidFill>
                <a:uFillTx/>
                <a:latin typeface="宋体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蜜蜂这种辨认方向的能力靠的不是</a:t>
            </a:r>
            <a:r>
              <a:rPr b="1" lang="zh-CN" sz="2400" spc="-1" strike="noStrike" u="sng">
                <a:solidFill>
                  <a:srgbClr val="070709"/>
                </a:solidFill>
                <a:uFillTx/>
                <a:latin typeface="宋体"/>
              </a:rPr>
              <a:t>                  </a:t>
            </a: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而是</a:t>
            </a:r>
            <a:r>
              <a:rPr b="1" lang="zh-CN" sz="2400" spc="-1" strike="noStrike" u="sng">
                <a:solidFill>
                  <a:srgbClr val="070709"/>
                </a:solidFill>
                <a:uFillTx/>
                <a:latin typeface="宋体"/>
              </a:rPr>
              <a:t>                       </a:t>
            </a: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70709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14600" y="1371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辨认方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867280" y="1371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飞到哪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1905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可以回到原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905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种说法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2438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超常的记忆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2971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无法解释的本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12621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447920" y="38088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琥珀"/>
              </a:rPr>
              <a:t>我会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380880" y="586728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8077320" y="304920"/>
            <a:ext cx="68580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219320" y="4784760"/>
            <a:ext cx="3276000" cy="1389240"/>
            <a:chOff x="1219320" y="4784760"/>
            <a:chExt cx="3276000" cy="1389240"/>
          </a:xfrm>
        </p:grpSpPr>
        <p:sp>
          <p:nvSpPr>
            <p:cNvPr id="617" name=""/>
            <p:cNvSpPr/>
            <p:nvPr/>
          </p:nvSpPr>
          <p:spPr>
            <a:xfrm>
              <a:off x="1219320" y="4861080"/>
              <a:ext cx="1082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ffff"/>
                  </a:solidFill>
                  <a:latin typeface="Arial"/>
                </a:rPr>
                <a:t>｛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9680" y="4784760"/>
              <a:ext cx="228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测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09680" y="5470560"/>
              <a:ext cx="228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侧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219320" y="3413160"/>
            <a:ext cx="3733200" cy="1389240"/>
            <a:chOff x="1219320" y="3413160"/>
            <a:chExt cx="3733200" cy="1389240"/>
          </a:xfrm>
        </p:grpSpPr>
        <p:sp>
          <p:nvSpPr>
            <p:cNvPr id="621" name=""/>
            <p:cNvSpPr/>
            <p:nvPr/>
          </p:nvSpPr>
          <p:spPr>
            <a:xfrm>
              <a:off x="1219320" y="3489480"/>
              <a:ext cx="1082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ffff"/>
                  </a:solidFill>
                  <a:latin typeface="Arial"/>
                </a:rPr>
                <a:t>｛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285640" y="341316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概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04760" y="4098960"/>
              <a:ext cx="30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慨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295280" y="1965240"/>
            <a:ext cx="3048120" cy="1389240"/>
            <a:chOff x="1295280" y="1965240"/>
            <a:chExt cx="3048120" cy="1389240"/>
          </a:xfrm>
        </p:grpSpPr>
        <p:sp>
          <p:nvSpPr>
            <p:cNvPr id="625" name=""/>
            <p:cNvSpPr/>
            <p:nvPr/>
          </p:nvSpPr>
          <p:spPr>
            <a:xfrm>
              <a:off x="1295280" y="2041560"/>
              <a:ext cx="10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ffff"/>
                  </a:solidFill>
                  <a:latin typeface="Arial"/>
                </a:rPr>
                <a:t>｛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61960" y="196524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验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17760" y="2727360"/>
              <a:ext cx="192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检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199320" y="197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66680" cy="9874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04920" y="1219320"/>
            <a:ext cx="1295280" cy="457200"/>
          </a:xfrm>
          <a:prstGeom prst="flowChartAlternate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形近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301920" y="45720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隶书"/>
              </a:rPr>
              <a:t>形近字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419720" y="3336840"/>
            <a:ext cx="3276000" cy="1389240"/>
            <a:chOff x="4419720" y="3336840"/>
            <a:chExt cx="3276000" cy="1389240"/>
          </a:xfrm>
        </p:grpSpPr>
        <p:sp>
          <p:nvSpPr>
            <p:cNvPr id="633" name=""/>
            <p:cNvSpPr/>
            <p:nvPr/>
          </p:nvSpPr>
          <p:spPr>
            <a:xfrm>
              <a:off x="4419720" y="3413160"/>
              <a:ext cx="1082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ffff"/>
                  </a:solidFill>
                  <a:latin typeface="Arial"/>
                </a:rPr>
                <a:t>｛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10080" y="3336840"/>
              <a:ext cx="228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括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10080" y="4022640"/>
              <a:ext cx="228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话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280040" y="1965240"/>
            <a:ext cx="3733200" cy="1389240"/>
            <a:chOff x="4280040" y="1965240"/>
            <a:chExt cx="3733200" cy="1389240"/>
          </a:xfrm>
        </p:grpSpPr>
        <p:sp>
          <p:nvSpPr>
            <p:cNvPr id="637" name=""/>
            <p:cNvSpPr/>
            <p:nvPr/>
          </p:nvSpPr>
          <p:spPr>
            <a:xfrm>
              <a:off x="4280040" y="2041560"/>
              <a:ext cx="1082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ffff"/>
                  </a:solidFill>
                  <a:latin typeface="Arial"/>
                </a:rPr>
                <a:t>｛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46360" y="196524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超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65480" y="2651040"/>
              <a:ext cx="30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越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  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3289680" y="272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66000" y="3413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366000" y="4098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289680" y="486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推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315240" y="5546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01520" y="1965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超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480" y="265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越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26720" y="334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包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26720" y="402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55640" y="404640"/>
            <a:ext cx="309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拓展延伸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140360" y="189000"/>
            <a:ext cx="1584000" cy="9856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95280" y="299736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</a:rPr>
              <a:t>、课外有兴趣的同学们可以找法布尔的《昆虫记》读一读，多了解学习昆虫方面的知识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3059280" cy="23162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11280" y="1413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仿宋_GB2312"/>
              </a:rPr>
              <a:t>    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仿宋_GB2312"/>
              </a:rPr>
              <a:t>、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仿宋_GB2312"/>
              </a:rPr>
              <a:t>进一步搜集关于蜜蜂的知识和其他具有不同本领的小动物的资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812000" y="404640"/>
            <a:ext cx="115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作业设计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971640" y="5445000"/>
            <a:ext cx="314316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66680" cy="9874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219320" y="28508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篇课文主要写法布尔为了（                         ），做了（        ），得出了（   ）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1219320"/>
            <a:ext cx="1295280" cy="457200"/>
          </a:xfrm>
          <a:prstGeom prst="flowChartAlternate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课文大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76360" y="31417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验证蜜蜂有没有辨别方向的能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79640" y="37180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个试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72360" y="378936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结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828800" y="9907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 证 超 释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验 阻 测 括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 途 陌 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袋 概 减 确 逆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380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ì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è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āo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ì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609480" y="1371600"/>
          <a:ext cx="3495600" cy="3429000"/>
        </p:xfrm>
        <a:graphic>
          <a:graphicData uri="http://schemas.openxmlformats.org/drawingml/2006/table">
            <a:tbl>
              <a:tblPr/>
              <a:tblGrid>
                <a:gridCol w="1747800"/>
                <a:gridCol w="1747800"/>
              </a:tblGrid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990720" y="1460520"/>
            <a:ext cx="2797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论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304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ù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03560" y="5226120"/>
            <a:ext cx="220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讨论 理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933800" y="1773360"/>
          <a:ext cx="3089160" cy="3257280"/>
        </p:xfrm>
        <a:graphic>
          <a:graphicData uri="http://schemas.openxmlformats.org/drawingml/2006/table">
            <a:tbl>
              <a:tblPr/>
              <a:tblGrid>
                <a:gridCol w="1544760"/>
                <a:gridCol w="1544400"/>
              </a:tblGrid>
              <a:tr h="15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5334120" y="137160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试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525780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考试 试题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5000" y="304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hì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771480" y="1501920"/>
          <a:ext cx="3419640" cy="3375000"/>
        </p:xfrm>
        <a:graphic>
          <a:graphicData uri="http://schemas.openxmlformats.org/drawingml/2006/table">
            <a:tbl>
              <a:tblPr/>
              <a:tblGrid>
                <a:gridCol w="1709640"/>
                <a:gridCol w="171000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139760" y="161280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50080" y="380880"/>
            <a:ext cx="18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à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52578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考验 验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876920" y="1260360"/>
          <a:ext cx="3090600" cy="3114720"/>
        </p:xfrm>
        <a:graphic>
          <a:graphicData uri="http://schemas.openxmlformats.org/drawingml/2006/table">
            <a:tbl>
              <a:tblPr/>
              <a:tblGrid>
                <a:gridCol w="1580760"/>
                <a:gridCol w="150984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5257800" y="144792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Arial"/>
              </a:rPr>
              <a:t>证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70640" y="5257800"/>
            <a:ext cx="220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证明 证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93120" y="38592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zhè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8:17:20Z</dcterms:created>
  <dc:creator>Administrator</dc:creator>
  <dc:description/>
  <dc:language>en-US</dc:language>
  <cp:lastModifiedBy/>
  <dcterms:modified xsi:type="dcterms:W3CDTF">2015-08-19T03:58:09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