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590-1FEA-41C3-B114-25E345FA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26A-598B-4B95-B978-8EF96FF6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E7D-8BA1-48BB-8228-68D05688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0FB-3863-4A3D-AE9D-1B535731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554-FC88-4C68-94AF-DECCD338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711-496A-461C-BEBC-3DB21DE5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D55-9920-4405-989C-9873D560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274-CEC6-4FA1-8FB7-B2F0BE1A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8FB-CF47-404C-99CE-4A1AECA7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8FB-661C-4E88-97C1-6B94D2CB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855-B91D-4E28-B8BE-DC5A2B7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F45-E056-4ACA-A72F-EE6CE50D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CF3A-999D-4972-A5D6-C495B39D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hammer.wav" TargetMode="External"/><Relationship Id="rId3" Type="http://schemas.microsoft.com/office/2007/relationships/media" Target="file:///tmp/home/.config/libreoffice/4/user/gallery/hammer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497800" cy="50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92280"/>
            <a:ext cx="57243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历史上的英雄我知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抗倭名将——戚继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精忠报国——岳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万里勤王——秦良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收复新疆——左宗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收复台湾——郑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留取丹心照汗青——文天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765000"/>
            <a:ext cx="741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想一想：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戚继光不但作战英勇，而且很有智谋。”这句话在文中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仿写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卢沟桥不但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，而且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但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，而且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105264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了这篇课文，你有什么体会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191628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收集我国古代爱国英雄的故事读一读，再谈谈自己的感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260280"/>
            <a:ext cx="233352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后拓展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5805360"/>
            <a:ext cx="809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923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108000" y="117360"/>
            <a:ext cx="8820000" cy="661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26920" y="1052640"/>
            <a:ext cx="7704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民族英雄戚继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333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戚继光，字元敬，号南塘，汉族，山东登州人，明代著名抗倭将领、军事家。他率军于浙、闽、粤沿海诸地抗击来犯倭寇，历时十余年，历经大小八十余战，终于扫平倭寇之患，被现代中国誉为民族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3727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19796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：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268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18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民族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76500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民族英雄   海盗    浙江   无恶不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腐败    愤慨      训练     纪律严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斗志倍增     奋不顾身    东逃西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闻风丧胆     智谋    占据     泥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片汪洋     大雨滂沱     歼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千军万马     倭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16360" y="1197000"/>
            <a:ext cx="388764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议一议：戚继光为什么要组建、训练戚家军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哪些地方看出戚继光作战英勇、很有智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256536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5480" y="843120"/>
            <a:ext cx="69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时，有个叫戚继光的将领，看到倭寇横行，百姓受苦，朝廷腐败，非常愤慨。他决心招募农民、矿工，组织军队，抗击倭寇。招兵的布告刚一贴出，就有很多人前来报名。戚继光组建的军队很快就发展到三千多人。这支军队经过戚继光的严格训练，纪律严明，战斗力很强，人称“戚家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50760" y="37152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仗的时候，戚继光总是身先士卒，冲锋在前。士兵们见主将这样勇敢，斗志倍增，奋不顾身，杀得倭寇东逃西窜。有的倭寇一边逃跑，一边抛撒抢来的财宝，想用这个办法阻挡后面的追兵。可是，戚家军官兵对金银珠宝连看都不看一眼，一心杀敌。就这样，戚家军军威大振，令倭寇闻风丧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76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9480" y="660240"/>
            <a:ext cx="750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戚继光不但作战英勇，而且很有智谋。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次，进犯福建的倭寇占据了一个小岛。小岛和海岸之间有一片浅滩。涨潮时，浅滩没入水中，小岛四周一片汪洋；落潮时，水退滩出，又是一片泥泞，人马一踏上去，就会陷阱烂泥里。倭寇以为占据了这样险要的地形，绝对安全。戚继光仔细察看了地形后，命令士兵每人准备一捆干草，在一个大雨滂沱的晚上，坐船来到小岛附近。趁着落潮，他们把准备好的干草扔到烂泥里，铺成了一条路，奋勇冲上小岛，不到半天工夫，就把倭寇全部歼灭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87280" y="76500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一次，正值中秋节，城中主力部队正外出作战，倭寇又趁机进犯。戚继光就让全城百姓，用绳子拖着石头满街穿行。倭寇听到城中轰隆隆作响，以为是千军万马正在调防，吓得掉头就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3:09:54Z</dcterms:created>
  <dc:creator>Administrator</dc:creator>
  <dc:description/>
  <dc:language>en-US</dc:language>
  <cp:lastModifiedBy>F2345.com</cp:lastModifiedBy>
  <dcterms:modified xsi:type="dcterms:W3CDTF">2015-07-09T01:39:38Z</dcterms:modified>
  <cp:revision>8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