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B08-CB78-45DB-AD2D-23A3F800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F4F-6296-4CE0-BBE6-F27B2B8B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2A8-18D0-439E-A4D4-1D608912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4D2-AA78-4204-8B41-A077D40D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145-8FB7-4426-B8E4-1D2C7AF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382-BAB9-41B7-93E0-941F5AA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FF6-D030-4083-AFDD-DB538A4F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1BE-0802-49B1-A62D-6E36E04A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48F-7414-495A-A918-157EA451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71D-815B-4474-A11A-F3EE0C6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68A-288B-4D00-BD8C-91301AE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78E-DFF4-4CB8-B207-E0E0306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03C0-5DE7-4728-A3F2-FF0256B0A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4071de188b56c40d35fa41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-228600" y="5335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皮巧根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象伸直鼻子。小象冲着满是污泥的车身喷起了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邻居们看到了这一家的变化。邻居们也开始粉刷房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11280" y="476280"/>
            <a:ext cx="614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411280" y="1341360"/>
            <a:ext cx="54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把两个句子合并成一句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295280" y="1752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陡    峭          湍  急       朽  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ǒu  qiào      tuān         xi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219320" y="2819520"/>
            <a:ext cx="693396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论       绕道      砍掉        栏杆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混凝土     允许      笔直       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来往往   不声不响   不约而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" dur="123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" dur="123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" dur="123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219320" y="1981080"/>
            <a:ext cx="69339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ǎ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逮住）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便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逮                           便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à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逮捕）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方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752480" y="2362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5181480" y="22860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1066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思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文写了谁的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90720" y="1905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文记叙了皮巧根在爷爷的帮助下，砍倒一颗大柳树，在一条小河上造起一座木桥的事，表现了一个孩子虽然力量有限，却用爱心为人们架设起一座安全方便的桥，受到人们的爱戴和敬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图片1c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990720" y="914400"/>
            <a:ext cx="541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，皮巧根没有谈论这些。他是个不声不响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不声不响”指不出声响，表明皮巧根是个不愿意显示自己的孩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图片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09480" y="60948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课文，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巧根为什么要架桥？怎样架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90720" y="19051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为了能使同学们安全地走近路去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2514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在爷爷的帮助下经过磨偶斧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砍树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把大树架在河上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砍光柳枝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上栏杆等工序，为人们造起了一座又方便、又安全的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图片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09480" y="685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新桥，人们为什么还是那样喜欢叫“皮巧根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85800" y="1828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们还是喜欢叫它的老名字“皮巧根桥”是因为人们不忘最初的皮巧根给大家带来的方便，也表现了人们对皮巧根的无限敬仰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0080229_08ad45666a3166a9be46H1GrYGZb0t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80880" y="1768320"/>
            <a:ext cx="85345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阅读本文作者的小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灰狼的故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骆背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55640" y="162864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58920" y="1125360"/>
            <a:ext cx="63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练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巧根想在水小河上（         ）一座桥。（搭  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桥两边有漂亮的铁（         ）杆。  （栏  拦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7T14:49:01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