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DB0-4B74-4DBB-A365-B4BC4262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32B-9C2B-4496-8A94-2AC4AC9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2BF-7B1E-4974-9675-8D5208CB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5C5-1F48-4880-B861-F4D636A4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DBB-3088-4517-A62E-F1017D83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48C-2957-481A-B8F0-81AB7DFB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40C-C7E7-4312-A3E9-CB6EE8FB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99F-FBCF-4658-A6EF-CC47F54D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9EB-D519-4F3D-9226-4E08BF9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132-58A9-4EDA-9652-291F12D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77B-37C5-4FC0-B53E-748FAB0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239-3B35-44EA-8899-92F7C19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787F-843E-4472-BFDA-40A0A916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61221163310525"/>
          <p:cNvPicPr/>
          <p:nvPr/>
        </p:nvPicPr>
        <p:blipFill>
          <a:blip r:embed="rId1"/>
          <a:stretch/>
        </p:blipFill>
        <p:spPr>
          <a:xfrm>
            <a:off x="179280" y="117360"/>
            <a:ext cx="8498160" cy="5892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700360" y="602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塞下曲  卢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643280" y="5589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lú  l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3bOOOPICe9"/>
          <p:cNvPicPr/>
          <p:nvPr/>
        </p:nvPicPr>
        <p:blipFill>
          <a:blip r:embed="rId1"/>
          <a:stretch/>
        </p:blipFill>
        <p:spPr>
          <a:xfrm>
            <a:off x="-3636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392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011320" y="333360"/>
            <a:ext cx="4576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塞 下 曲（之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唐  卢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2360" y="1989000"/>
            <a:ext cx="51847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黑雁飞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于夜遁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欲将轻骑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雪满弓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843280" y="2492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95640" y="24876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ù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3bOOOPICe9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392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011320" y="333360"/>
            <a:ext cx="4576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塞 下 曲（之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唐  卢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692360" y="1989000"/>
            <a:ext cx="51847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鹫翎金仆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燕尾绣蝥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独立扬新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营共一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984400" y="177336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162320" y="249228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á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626000" y="248760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中国十大名曲 - 平湖秋月古筝.mp3" descr=""/>
          <p:cNvPicPr/>
          <p:nvPr/>
        </p:nvPicPr>
        <p:blipFill>
          <a:blip r:embed="rId2"/>
          <a:stretch/>
        </p:blipFill>
        <p:spPr>
          <a:xfrm>
            <a:off x="8532720" y="5373720"/>
            <a:ext cx="29700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23bOOOPIC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392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011320" y="333360"/>
            <a:ext cx="4576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塞 下 曲（之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唐  卢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692360" y="1989000"/>
            <a:ext cx="518472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野幕敞琼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羌  戎 贺劳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醉和金甲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雷鼓动山川。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548240" y="1773360"/>
            <a:ext cx="62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695680" y="2492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iā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421080" y="2492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ó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3bOOOPIC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392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011320" y="333360"/>
            <a:ext cx="4576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塞 下 曲（之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唐  卢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92360" y="1989000"/>
            <a:ext cx="51847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调箭又呼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俱闻出世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奔狐将 迸 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扫尽古丘陵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067280" y="3284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è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572000" y="3279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h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3bOOOPIC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392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011320" y="333360"/>
            <a:ext cx="4576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塞 下 曲（之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唐  卢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92360" y="1989000"/>
            <a:ext cx="51847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亭亭七叶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荡荡一隅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日题麟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唯应独不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211640" y="249228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23bOOOPIC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392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2556000" y="1413000"/>
            <a:ext cx="4103640" cy="23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20061113202908767"/>
          <p:cNvPicPr/>
          <p:nvPr/>
        </p:nvPicPr>
        <p:blipFill>
          <a:blip r:embed="rId1"/>
          <a:stretch/>
        </p:blipFill>
        <p:spPr>
          <a:xfrm>
            <a:off x="108000" y="108000"/>
            <a:ext cx="6881760" cy="5959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7"/>
          <p:cNvSpPr txBox="1"/>
          <p:nvPr/>
        </p:nvSpPr>
        <p:spPr>
          <a:xfrm rot="5400000">
            <a:off x="6120360" y="2240640"/>
            <a:ext cx="3889080" cy="151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飞将军李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260820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3203640" y="134136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塞下曲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50920" y="2781360"/>
            <a:ext cx="849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古代歌曲名。这类作品多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　描写边境风光和战争生活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5"/>
          <p:cNvSpPr/>
          <p:nvPr/>
        </p:nvSpPr>
        <p:spPr>
          <a:xfrm>
            <a:off x="5192640" y="2878200"/>
            <a:ext cx="4590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2"/>
          <p:cNvSpPr txBox="1"/>
          <p:nvPr/>
        </p:nvSpPr>
        <p:spPr>
          <a:xfrm rot="5400000">
            <a:off x="755280" y="3213000"/>
            <a:ext cx="324036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我先了解</a:t>
            </a:r>
            <a:endParaRPr b="0" i="1" lang="en-US" sz="1800" spc="-1" strike="noStrike">
              <a:ln w="9360">
                <a:solidFill>
                  <a:srgbClr val="333399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3276720" y="2133720"/>
            <a:ext cx="525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卢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48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唐代诗人。字允言，河中蒲（今山西永济）人。为“大历十才子”之一。曾在河中任元帅府判官。善于写景抒情，艺术成就较高。他从军多年，所作边塞诗富有战斗生活气息，雄壮感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640" y="2610000"/>
            <a:ext cx="444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林暗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将军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夜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平明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寻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ò                lé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在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石棱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042920" y="333360"/>
            <a:ext cx="2305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塞下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卢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0051004211328348"/>
          <p:cNvPicPr/>
          <p:nvPr/>
        </p:nvPicPr>
        <p:blipFill>
          <a:blip r:embed="rId1"/>
          <a:srcRect l="28760" t="4290" r="5882" b="5348"/>
          <a:stretch/>
        </p:blipFill>
        <p:spPr>
          <a:xfrm>
            <a:off x="4716360" y="117360"/>
            <a:ext cx="433872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763640" y="189000"/>
            <a:ext cx="705636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塞下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唐</a:t>
            </a:r>
            <a:r>
              <a:rPr b="1" lang="en-US" sz="5400" spc="-1" strike="noStrike">
                <a:solidFill>
                  <a:srgbClr val="cc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卢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林暗草惊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将军夜引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平明寻白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楷体_GB2312"/>
              </a:rPr>
              <a:t>没在石棱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724360" y="17002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惊风：突然被风吹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940360" y="263700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引弓：拉弓，开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84328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Arial"/>
                <a:ea typeface="楷体_GB2312"/>
              </a:rPr>
              <a:t>没：陷入，这里是钻进的意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588000" y="3645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白羽：箭杆后部的白色羽毛，这里指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7640" y="37162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平明：天刚亮的时候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435640" y="573408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石棱：石头的边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411280" y="12927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塞下曲：古代歌曲名。这类作品多是描写边境风光和战争生活的。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2556000" y="189000"/>
            <a:ext cx="3744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塞  下  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卢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60820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908000" y="1557360"/>
            <a:ext cx="567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林暗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将军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夜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平明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寻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在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石棱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572000" y="57340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石棱：石头的边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130560" y="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à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065400" y="349560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52640" y="3495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é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4859280" y="1268280"/>
            <a:ext cx="9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59280" y="198900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3203640" y="3357720"/>
            <a:ext cx="6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924360" y="2852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0" y="4653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惊风：草忽然被一阵风吹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-396720" y="5157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弓：拉弓射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-324000" y="57340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明：早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4356000" y="4653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羽：尾端饰有白色羽毛的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211640" y="522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：射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042920" y="90792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</a:t>
            </a:r>
            <a:r>
              <a:rPr b="0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昏暗的树林里，突然刮起一阵狂风，野草像受惊似的摆动起来，正在这里夜间射猎的将军以为是老虎来袭，连忙开弓射箭。 第二天早晨去寻找昨晚射出的白羽箭，那箭已经深深地陷入巨石棱角中。</a:t>
            </a:r>
            <a:r>
              <a:rPr b="0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26920" y="26028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99"/>
                </a:solidFill>
                <a:latin typeface="Arial"/>
                <a:ea typeface="黑体"/>
              </a:rPr>
              <a:t>诗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95280" y="549360"/>
            <a:ext cx="482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这首边塞小诗，写一位将军射虎的故事，取材于西汉史学家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司马迁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记载当时名将李广事迹的</a:t>
            </a:r>
            <a:r>
              <a:rPr b="1" lang="en-US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李将军列传</a:t>
            </a:r>
            <a:r>
              <a:rPr b="1" lang="en-US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原文是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i="1" lang="zh-CN" sz="32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</a:rPr>
              <a:t>广出猎，见草中石，以为虎而射之中，中（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</a:rPr>
              <a:t>zhòng</a:t>
            </a:r>
            <a:r>
              <a:rPr b="1" i="1" lang="zh-CN" sz="32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</a:rPr>
              <a:t>）石没镞（ｚ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ú</a:t>
            </a:r>
            <a:r>
              <a:rPr b="1" i="1" lang="zh-CN" sz="32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</a:rPr>
              <a:t>箭头），视之，石也。</a:t>
            </a:r>
            <a:r>
              <a:rPr b="1" i="1" lang="zh-CN" sz="3200" spc="-1" strike="noStrike" u="sng">
                <a:solidFill>
                  <a:srgbClr val="003366"/>
                </a:solidFill>
                <a:uFillTx/>
                <a:latin typeface="Arial"/>
                <a:ea typeface="楷体_GB2312"/>
              </a:rPr>
              <a:t>”</a:t>
            </a:r>
            <a:r>
              <a:rPr b="1" i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 flipH="1">
            <a:off x="468360" y="6237360"/>
            <a:ext cx="7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051004211328348"/>
          <p:cNvPicPr/>
          <p:nvPr/>
        </p:nvPicPr>
        <p:blipFill>
          <a:blip r:embed="rId1"/>
          <a:srcRect l="28760" t="4290" r="5882" b="5348"/>
          <a:stretch/>
        </p:blipFill>
        <p:spPr>
          <a:xfrm>
            <a:off x="5148360" y="44280"/>
            <a:ext cx="39988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4:08:15Z</dcterms:created>
  <dc:creator/>
  <dc:description/>
  <dc:language>en-US</dc:language>
  <cp:lastModifiedBy>三年级二班学籍</cp:lastModifiedBy>
  <dcterms:modified xsi:type="dcterms:W3CDTF">2015-07-09T01:41:16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